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66C-06F9-42A4-9A30-98F546BA6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79B-6ECA-48AE-A03B-3DD5285C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0B8-BEB1-4C8B-ACA6-A792889E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F77-DF7C-4B02-B905-6B95C99D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AFE3-E53C-4CE6-ACC5-013B920A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E31-1009-45AB-A5A7-161C8C0D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351D-8989-4521-ACB8-2392F94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DBC-A1CD-4149-B3D6-4E727A7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9F24-D0BF-42CE-AEC4-1E28086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883-FF31-4E39-B2E6-E6A4865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9E47-CFE9-4E7D-B213-90045DC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99B9-85C6-49D4-9287-728456A1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3A5A-BE81-4581-9C51-DF9811A3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29A5-5B10-4ED1-AA2C-7DA0412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24B2-86FE-4C4F-9932-A48336BB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457A-D97A-4E01-A025-7DB014E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2E0F-83F6-4597-8754-901B8EB3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9DB-ABE9-4A0B-8180-A1AAB38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97B-9014-4F45-B611-7D96A0D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7BE-C351-4334-B316-AFB40045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065-AB9F-42C1-8F8F-3D34E203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98A-2275-41B2-93B2-A5D0AD4E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F94-E8A2-4DF7-86F0-67744B10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F4A-6C97-4B2B-9938-7E0808B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08C-310F-4192-BCD6-5AAE225B57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3B5B-8CA6-4F4F-959B-68CD18FB0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5" descr="556c18c110e7d7"/>
          <p:cNvPicPr/>
          <p:nvPr/>
        </p:nvPicPr>
        <p:blipFill>
          <a:blip r:embed="rId1"/>
          <a:stretch/>
        </p:blipFill>
        <p:spPr>
          <a:xfrm>
            <a:off x="0" y="0"/>
            <a:ext cx="914400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J8EX_w8dO7E"/>
          <p:cNvPicPr/>
          <p:nvPr/>
        </p:nvPicPr>
        <p:blipFill>
          <a:blip r:embed="rId1"/>
          <a:stretch/>
        </p:blipFill>
        <p:spPr>
          <a:xfrm>
            <a:off x="155520" y="46080"/>
            <a:ext cx="866448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Главная ошибка родителей в том, что они пытаются воспитывать детей, не воспитывая себя!»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.Н. Толст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15790714_3906024_03"/>
          <p:cNvPicPr/>
          <p:nvPr/>
        </p:nvPicPr>
        <p:blipFill>
          <a:blip r:embed="rId1"/>
          <a:stretch/>
        </p:blipFill>
        <p:spPr>
          <a:xfrm>
            <a:off x="-252360" y="1413000"/>
            <a:ext cx="89884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mg8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лан родительского собр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представление сем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ль родителей и учителей в воспитании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ганизационные вопросы. Интересующие вопро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флексия «Связывающая ни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056360" cy="5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лан самопредставления семь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О родителей, имя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нтересы, увлечения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адиции и обычаи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виз семь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-60336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2011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Яблоко от яблони не далеко падае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Он сын своего отц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Впитал с молоком матер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9"/>
          <p:cNvSpPr/>
          <p:nvPr/>
        </p:nvSpPr>
        <p:spPr>
          <a:xfrm>
            <a:off x="6659640" y="3716280"/>
            <a:ext cx="151272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1116000" y="3716280"/>
            <a:ext cx="1440000" cy="1368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995640" y="907920"/>
            <a:ext cx="1297080" cy="1297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                       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2195640" y="1915920"/>
            <a:ext cx="1871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5219640" y="1844640"/>
            <a:ext cx="1944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556000" y="4581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5323dff825133"/>
          <p:cNvPicPr/>
          <p:nvPr/>
        </p:nvPicPr>
        <p:blipFill>
          <a:blip r:embed="rId1"/>
          <a:stretch/>
        </p:blipFill>
        <p:spPr>
          <a:xfrm>
            <a:off x="1908000" y="0"/>
            <a:ext cx="5400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33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«Когда в товарищах согласья нет, на лад их дело не пойдет, а выйдет из него не дело, только мука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upravlenie-projektami-kompleksniy-podhod"/>
          <p:cNvPicPr/>
          <p:nvPr/>
        </p:nvPicPr>
        <p:blipFill>
          <a:blip r:embed="rId1"/>
          <a:stretch/>
        </p:blipFill>
        <p:spPr>
          <a:xfrm>
            <a:off x="4610160" y="3691080"/>
            <a:ext cx="45338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happy"/>
          <p:cNvPicPr/>
          <p:nvPr/>
        </p:nvPicPr>
        <p:blipFill>
          <a:blip r:embed="rId1"/>
          <a:stretch/>
        </p:blipFill>
        <p:spPr>
          <a:xfrm>
            <a:off x="324000" y="0"/>
            <a:ext cx="84340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3451_html_m393e80c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8T08:23:46Z</dcterms:created>
  <dc:creator>Пользователь Windows</dc:creator>
  <dc:description/>
  <dc:language>en-US</dc:language>
  <cp:lastModifiedBy>hp</cp:lastModifiedBy>
  <dcterms:modified xsi:type="dcterms:W3CDTF">2019-05-01T15:48:21Z</dcterms:modified>
  <cp:revision>9</cp:revision>
  <dc:subject/>
  <dc:title>Слайд 1</dc:title>
</cp:coreProperties>
</file>