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72A-6190-426B-8B74-016B2EAD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04A-4155-49F3-B0D4-FA92EC16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3E9-B94C-46C7-8060-F2737811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F69-139D-4E15-86B6-2765FBCD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ED97-9BAB-4843-AC8C-8F33320E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93CF-8AD6-4026-AE81-158B8FC8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E25A-441A-42AD-B0BA-0E4926E1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499F-93D3-45D2-A970-DEAEE390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9E10-FBC0-4DA6-92AD-EB026A20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6A60-FBE1-412E-A16E-2ECE1F91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9E6D-45C9-4867-9A44-9E439941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98E-EF9C-44A2-94E4-7106DBA9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185E-610B-494E-9619-0E1F6436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8704-2043-4EA9-ADB9-181443D6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BB54-728F-4B7F-8484-78858D0F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D183-A1D4-4DCC-9B30-A767F67D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8120-2210-4B34-BE57-0110388F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F73-37F6-4B56-BDFC-2823B3E4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A72-A1D5-4894-9CE2-ED4F9F74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2EF-43A8-4C03-83AE-651FF76A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A56-1D32-4974-8C17-2FDA923E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A29D-8F27-4A4C-ADF1-9356770B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92E-1F8F-42F1-A845-990238F5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00D-6D17-4E59-91FD-70C34D61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4A58-C920-4805-BA06-5EB0B4B631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FEF0-4FF3-46A0-B27D-10C0A0A8D2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5" descr="556c18c110e7d7"/>
          <p:cNvPicPr/>
          <p:nvPr/>
        </p:nvPicPr>
        <p:blipFill>
          <a:blip r:embed="rId1"/>
          <a:stretch/>
        </p:blipFill>
        <p:spPr>
          <a:xfrm>
            <a:off x="0" y="0"/>
            <a:ext cx="914400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J8EX_w8dO7E"/>
          <p:cNvPicPr/>
          <p:nvPr/>
        </p:nvPicPr>
        <p:blipFill>
          <a:blip r:embed="rId1"/>
          <a:stretch/>
        </p:blipFill>
        <p:spPr>
          <a:xfrm>
            <a:off x="155520" y="46080"/>
            <a:ext cx="86644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Главная ошибка родителей в том, что они пытаются воспитывать детей, не воспитывая себя!»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.Н. Толст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115790714_3906024_03"/>
          <p:cNvPicPr/>
          <p:nvPr/>
        </p:nvPicPr>
        <p:blipFill>
          <a:blip r:embed="rId1"/>
          <a:stretch/>
        </p:blipFill>
        <p:spPr>
          <a:xfrm>
            <a:off x="-252360" y="1413000"/>
            <a:ext cx="89884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img8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лан родительского собр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опредставление сем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ль родителей и учителей в воспитании ребе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рганизационные вопросы. Интересующие вопро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флексия «Связывающая нить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056360" cy="5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лан самопредставления семь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ИО родителей, имя ребе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нтересы, увлечения семь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адиции и обычаи семь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виз семь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60336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2011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Яблоко от яблони не далеко падает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Он сын своего отц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Впитал с молоком матер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9"/>
          <p:cNvSpPr/>
          <p:nvPr/>
        </p:nvSpPr>
        <p:spPr>
          <a:xfrm>
            <a:off x="6659640" y="3716280"/>
            <a:ext cx="1512720" cy="1368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1116000" y="3716280"/>
            <a:ext cx="1440000" cy="1368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995640" y="907920"/>
            <a:ext cx="1297080" cy="1297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                        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10"/>
          <p:cNvSpPr/>
          <p:nvPr/>
        </p:nvSpPr>
        <p:spPr>
          <a:xfrm flipV="1">
            <a:off x="2195640" y="1915920"/>
            <a:ext cx="18716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5219640" y="1844640"/>
            <a:ext cx="194472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2556000" y="458136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5323dff825133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3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«Когда в товарищах согласья нет, на лад их дело не пойдет, а выйдет из него не дело, только мука»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upravlenie-projektami-kompleksniy-podhod"/>
          <p:cNvPicPr/>
          <p:nvPr/>
        </p:nvPicPr>
        <p:blipFill>
          <a:blip r:embed="rId1"/>
          <a:stretch/>
        </p:blipFill>
        <p:spPr>
          <a:xfrm>
            <a:off x="4610160" y="3691080"/>
            <a:ext cx="45338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5" descr="happy"/>
          <p:cNvPicPr/>
          <p:nvPr/>
        </p:nvPicPr>
        <p:blipFill>
          <a:blip r:embed="rId1"/>
          <a:stretch/>
        </p:blipFill>
        <p:spPr>
          <a:xfrm>
            <a:off x="324000" y="0"/>
            <a:ext cx="84340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3451_html_m393e80c0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8T08:23:46Z</dcterms:created>
  <dc:creator>Пользователь Windows</dc:creator>
  <dc:description/>
  <dc:language>en-US</dc:language>
  <cp:lastModifiedBy>hp</cp:lastModifiedBy>
  <dcterms:modified xsi:type="dcterms:W3CDTF">2019-05-01T15:48:21Z</dcterms:modified>
  <cp:revision>9</cp:revision>
  <dc:subject/>
  <dc:title>Слайд 1</dc:title>
</cp:coreProperties>
</file>