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250-E4CB-4EEE-8353-547ED35A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2A5-7D10-4CEA-9F8E-3BE85FFA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5E6-E156-4DEA-9E8B-AC0CF3EC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BA9-771A-47CB-91EA-336EA7D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1B42-06BC-472C-ADBB-D295EE86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682-AD39-49A3-8D29-47278D96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709-15D1-43D9-BAAD-46ED2AAA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F37-35A2-4641-B6B0-2A6BAA52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EDF-E421-4D16-B4BE-2E01DF46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EF7-B2D9-4C16-AB17-9391F17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B12-011A-4053-A3BB-9A93C7B2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C4D-DF05-4C24-9AC2-E7B4A7AF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E8E-4F2C-40DD-A6D2-62B945D2FD7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4;&#1103;&#1091;,%20&#1090;&#1091;&#1082;-&#1090;&#1091;&#1082;%20&#1080;%20&#1090;.&#1076;..pptx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87;&#1072;&#1088;&#1099;%20&#1089;&#1083;&#1086;&#1074;%20(&#1087;&#1072;&#1084;&#1103;&#1090;&#1100;).pdf" TargetMode="External"/><Relationship Id="rId2" Type="http://schemas.openxmlformats.org/officeDocument/2006/relationships/hyperlink" Target="file:///&#1087;&#1072;&#1088;&#1099;%20&#1089;&#1083;&#1086;&#1074;%20(&#1087;&#1072;&#1084;&#1103;&#1090;&#1100;).pdf" TargetMode="External"/><Relationship Id="rId3" Type="http://schemas.openxmlformats.org/officeDocument/2006/relationships/hyperlink" Target="file:///&#1054;&#1073;&#1088;&#1072;&#1079;&#1085;&#1072;&#1103;%20&#1087;&#1072;&#1084;&#1103;&#1090;&#1100;%205.pptx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%20&#1096;&#1091;&#1083;&#1100;&#1090;&#1077;.pptx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4200" y="1412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Сделай свой мозг эффективнее</a:t>
            </a:r>
            <a:br>
              <a:rPr sz="48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убцова М.В.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деля науки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й 2017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БОУ средняя школа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№ 376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375480" y="90792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езентация  на мяу, тук-тук и т.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08000" y="313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слова по первым буквам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598320" y="1028880"/>
            <a:ext cx="3805560" cy="53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6"/>
          <p:cNvSpPr/>
          <p:nvPr/>
        </p:nvSpPr>
        <p:spPr>
          <a:xfrm>
            <a:off x="4698360" y="1125360"/>
            <a:ext cx="1847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р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и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о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3828960" cy="5414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4522320" y="974880"/>
            <a:ext cx="2312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ара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м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у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Шап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rcRect l="0" t="23793" r="58102" b="32015"/>
          <a:stretch/>
        </p:blipFill>
        <p:spPr>
          <a:xfrm>
            <a:off x="1619280" y="369720"/>
            <a:ext cx="4681440" cy="573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Рисунок 2" descr=""/>
          <p:cNvPicPr/>
          <p:nvPr/>
        </p:nvPicPr>
        <p:blipFill>
          <a:blip r:embed="rId2"/>
          <a:srcRect l="0" t="0" r="0" b="77021"/>
          <a:stretch/>
        </p:blipFill>
        <p:spPr>
          <a:xfrm>
            <a:off x="395280" y="189000"/>
            <a:ext cx="7126200" cy="1900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411560" y="404640"/>
            <a:ext cx="445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93200" y="2133720"/>
            <a:ext cx="373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Пары</a:t>
            </a:r>
            <a:r>
              <a:rPr b="0" lang="ru-RU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с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9400" y="3076560"/>
            <a:ext cx="42865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 Образная память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72160" y="404640"/>
            <a:ext cx="69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те слова и запомни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66640" y="2060640"/>
            <a:ext cx="69548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ко  рыба  канат  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л  лес  вера  ст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42080" y="2060640"/>
            <a:ext cx="7365960" cy="173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 второе слово с начала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здесь существительных мужского р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ым с конца было слово ВЕ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ишите слова в которых одна и та же буква повторяется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8 слов начинаются с большой бук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34640" y="404640"/>
            <a:ext cx="62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ка быстроты 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221400" y="2349360"/>
            <a:ext cx="8610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 за 1 минуту 20 слов, оканчивающихся на –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букв в словах не огранич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полнить эту работу рациона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275040" y="549360"/>
            <a:ext cx="71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строта реакции и напря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260280" y="21337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Книга – стр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60280" y="263700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Развивающий ка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95280" y="2133720"/>
            <a:ext cx="2808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ая -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ая    -   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    -  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4730040" y="2039760"/>
            <a:ext cx="24012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тро   -   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ь   -  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чер 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2706840" y="4076640"/>
            <a:ext cx="246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кла  - 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л   -   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тье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rcRect l="0" t="3301" r="0" b="0"/>
          <a:stretch/>
        </p:blipFill>
        <p:spPr>
          <a:xfrm>
            <a:off x="250920" y="189000"/>
            <a:ext cx="6624720" cy="650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62080" y="476280"/>
            <a:ext cx="590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ворите белое в прозрач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АД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57040" y="476280"/>
            <a:ext cx="688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ерите горячее - останется холо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АЙПЯСТОБЕК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320" y="476280"/>
            <a:ext cx="782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Зачеркните ядовитое – оставьте съедоб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ОПГАНЕНОК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675000" y="692280"/>
            <a:ext cx="426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.ШУЛЬ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rcRect l="0" t="0" r="0" b="76534"/>
          <a:stretch/>
        </p:blipFill>
        <p:spPr>
          <a:xfrm>
            <a:off x="611280" y="620640"/>
            <a:ext cx="6476760" cy="928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"/>
          <p:cNvPicPr/>
          <p:nvPr/>
        </p:nvPicPr>
        <p:blipFill>
          <a:blip r:embed="rId2"/>
          <a:srcRect l="0" t="23539" r="52651" b="2867"/>
          <a:stretch/>
        </p:blipFill>
        <p:spPr>
          <a:xfrm>
            <a:off x="1646280" y="2060640"/>
            <a:ext cx="440676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7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36080" y="549360"/>
            <a:ext cx="750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упражнения на улуч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згового кровооб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44600" y="330120"/>
            <a:ext cx="8254800" cy="619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81410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40080" y="333360"/>
            <a:ext cx="58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250920" y="1901880"/>
            <a:ext cx="86994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rcRect l="14328" t="29710" r="13389" b="31964"/>
          <a:stretch/>
        </p:blipFill>
        <p:spPr>
          <a:xfrm>
            <a:off x="155520" y="115920"/>
            <a:ext cx="8807400" cy="38894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rcRect l="0" t="72550" r="26305" b="0"/>
          <a:stretch/>
        </p:blipFill>
        <p:spPr>
          <a:xfrm>
            <a:off x="380880" y="765000"/>
            <a:ext cx="8356680" cy="259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3"/>
          <p:cNvSpPr/>
          <p:nvPr/>
        </p:nvSpPr>
        <p:spPr>
          <a:xfrm>
            <a:off x="763920" y="465300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 Биби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783360" y="51166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ерсе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65160" y="46530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 Ма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560840" y="502272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 Ху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9-05-01T07:27:31Z</dcterms:modified>
  <cp:revision>676</cp:revision>
  <dc:subject/>
  <dc:title>Diapositiva 1</dc:title>
</cp:coreProperties>
</file>