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wmf" ContentType="image/x-wmf"/>
  <Override PartName="/ppt/media/image2.jpeg" ContentType="image/jpeg"/>
  <Override PartName="/ppt/media/image3.wmf" ContentType="image/x-wmf"/>
  <Override PartName="/ppt/media/image8.png" ContentType="image/png"/>
  <Override PartName="/ppt/media/image11.jpeg" ContentType="image/jpeg"/>
  <Override PartName="/ppt/media/image4.png" ContentType="image/png"/>
  <Override PartName="/ppt/media/image12.wmf" ContentType="image/x-wmf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27E-1D6B-4902-8D96-E47478FD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390-75E7-4B9F-8A4B-109ECB08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0FF-8D9F-4659-9AF7-B60C5E5B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E8C-2DF7-4CC9-9579-1E1122F3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EE0-D9FF-4A76-81FC-AC22E215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2BEA-0DA4-4469-9E78-A31866A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A818-A837-41D1-9B46-7EB74D84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1838-6166-4413-A228-AFA6B25D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8470-7E5D-4384-BE80-7456739E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EA5F-5040-48D4-B89B-8CD45BA1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79FB-A522-4ADC-BF68-D6404E69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D83-2116-49B8-A76D-7E4F4886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05CD-6B53-4B24-BCA2-A89A31D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A72D-9FC2-44C6-B608-49CA69DD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5E1A-4C33-422E-9F4C-72C34468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AFA0-5E3A-4CF4-9D95-309ED699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C01B-A469-4040-B53B-3E3AEFCA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284-44D4-40AF-8B9C-4164230A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87D-EFA3-4B5C-AA4F-B54DB0C6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D3D-EA53-4E8A-8C5C-C3D19FDB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1DF-0B55-47CF-AC71-4F17FA17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024-8FF7-4C88-9B02-73757347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CD97-B5D7-468D-AF28-FAC17931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AAB-872B-449A-8AF1-4569586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554-2FB8-484C-8C67-99A498E4DCAF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09CD-6E6B-4EAF-BB5A-72C687F2DC8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C69C-9D74-49F5-B4B5-0978AE1D33F3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FCAD-0FD4-49EB-9E23-0999BC7BB68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YNET099"/>
          <p:cNvPicPr/>
          <p:nvPr/>
        </p:nvPicPr>
        <p:blipFill>
          <a:blip r:embed="rId1"/>
          <a:stretch/>
        </p:blipFill>
        <p:spPr>
          <a:xfrm>
            <a:off x="4141800" y="1844640"/>
            <a:ext cx="3598920" cy="3100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оверка знаний по теме «Файл. Файловая система»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324000" y="51134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ила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пб СУВ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ршинина Л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ано дерево каталогов.              Определите полное имя файла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oc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017440"/>
            <a:ext cx="3672000" cy="22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г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4067280" y="2205000"/>
            <a:ext cx="4681080" cy="4107960"/>
            <a:chOff x="4067280" y="2205000"/>
            <a:chExt cx="4681080" cy="4107960"/>
          </a:xfrm>
        </p:grpSpPr>
        <p:sp>
          <p:nvSpPr>
            <p:cNvPr id="127" name="Text Box 7"/>
            <p:cNvSpPr/>
            <p:nvPr/>
          </p:nvSpPr>
          <p:spPr>
            <a:xfrm>
              <a:off x="4067280" y="2205000"/>
              <a:ext cx="1139040" cy="79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:\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 flipH="1">
              <a:off x="5467680" y="2852640"/>
              <a:ext cx="62640" cy="23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>
              <a:off x="5467680" y="47970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6480720" y="2852640"/>
              <a:ext cx="100080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>
              <a:off x="6948360" y="328428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5579640" y="3284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7504920" y="3932280"/>
              <a:ext cx="1243440" cy="32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6588000" y="4508640"/>
              <a:ext cx="1243440" cy="36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M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 flipH="1">
              <a:off x="6948000" y="3789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7092360" y="551664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7578720" y="6019920"/>
              <a:ext cx="951120" cy="29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Picture 18" descr=""/>
            <p:cNvPicPr/>
            <p:nvPr/>
          </p:nvPicPr>
          <p:blipFill>
            <a:blip r:embed="rId1"/>
            <a:stretch/>
          </p:blipFill>
          <p:spPr>
            <a:xfrm>
              <a:off x="5147280" y="2205000"/>
              <a:ext cx="658080" cy="73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9" descr=""/>
            <p:cNvPicPr/>
            <p:nvPr/>
          </p:nvPicPr>
          <p:blipFill>
            <a:blip r:embed="rId2"/>
            <a:stretch/>
          </p:blipFill>
          <p:spPr>
            <a:xfrm>
              <a:off x="5822280" y="2754360"/>
              <a:ext cx="73080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0" descr=""/>
            <p:cNvPicPr/>
            <p:nvPr/>
          </p:nvPicPr>
          <p:blipFill>
            <a:blip r:embed="rId3"/>
            <a:stretch/>
          </p:blipFill>
          <p:spPr>
            <a:xfrm>
              <a:off x="5896440" y="4292280"/>
              <a:ext cx="730800" cy="86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1" descr=""/>
            <p:cNvPicPr/>
            <p:nvPr/>
          </p:nvPicPr>
          <p:blipFill>
            <a:blip r:embed="rId4"/>
            <a:stretch/>
          </p:blipFill>
          <p:spPr>
            <a:xfrm>
              <a:off x="7504920" y="3122640"/>
              <a:ext cx="8049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2" descr=""/>
            <p:cNvPicPr/>
            <p:nvPr/>
          </p:nvPicPr>
          <p:blipFill>
            <a:blip r:embed="rId5"/>
            <a:stretch/>
          </p:blipFill>
          <p:spPr>
            <a:xfrm>
              <a:off x="7432200" y="5085360"/>
              <a:ext cx="80352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Line 11"/>
            <p:cNvSpPr/>
            <p:nvPr/>
          </p:nvSpPr>
          <p:spPr>
            <a:xfrm>
              <a:off x="7092360" y="4940280"/>
              <a:ext cx="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>
              <a:off x="5457240" y="4797000"/>
              <a:ext cx="4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1052640"/>
            <a:ext cx="75567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ПАПКА – ЭТО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018200" cy="286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средство упорядочения тематически связанных файл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именованная область дис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группа данных на любом носител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E:\рисунки компа\рис3.jpg"/>
          <p:cNvPicPr/>
          <p:nvPr/>
        </p:nvPicPr>
        <p:blipFill>
          <a:blip r:embed="rId1"/>
          <a:stretch/>
        </p:blipFill>
        <p:spPr>
          <a:xfrm>
            <a:off x="6084720" y="189000"/>
            <a:ext cx="27352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В ПАПКЕ МОГУТ ХРАНИТЬСЯ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2160" y="2276280"/>
            <a:ext cx="7772400" cy="21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только файл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) только другие пап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файлы и папк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) только  файлы с одинаковым имен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E:\рисунки компа\i1.jpg"/>
          <p:cNvPicPr/>
          <p:nvPr/>
        </p:nvPicPr>
        <p:blipFill>
          <a:blip r:embed="rId1"/>
          <a:stretch/>
        </p:blipFill>
        <p:spPr>
          <a:xfrm>
            <a:off x="5867280" y="333360"/>
            <a:ext cx="28814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 расширению определите тип файл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2060640"/>
          <a:ext cx="8208720" cy="4556160"/>
        </p:xfrm>
        <a:graphic>
          <a:graphicData uri="http://schemas.openxmlformats.org/drawingml/2006/table">
            <a:tbl>
              <a:tblPr/>
              <a:tblGrid>
                <a:gridCol w="4483080"/>
                <a:gridCol w="372564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, doc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g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g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j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ip, 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56560" cy="40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терфейс – это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внешний вид окна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вид окна файлового менеджера «Проводник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способ взаимодействия пользователя с компьютеро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4" descr="MYNET099"/>
          <p:cNvPicPr/>
          <p:nvPr/>
        </p:nvPicPr>
        <p:blipFill>
          <a:blip r:embed="rId1"/>
          <a:stretch/>
        </p:blipFill>
        <p:spPr>
          <a:xfrm>
            <a:off x="5076720" y="331920"/>
            <a:ext cx="1943280" cy="183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YNET040"/>
          <p:cNvPicPr/>
          <p:nvPr/>
        </p:nvPicPr>
        <p:blipFill>
          <a:blip r:embed="rId2"/>
          <a:stretch/>
        </p:blipFill>
        <p:spPr>
          <a:xfrm flipH="1">
            <a:off x="6948360" y="260280"/>
            <a:ext cx="2014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64000" y="214200"/>
            <a:ext cx="5379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екстное меню – это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56000" y="2017440"/>
            <a:ext cx="439272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строка с надписями «файл», «правка»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список действий и свойств особый для каждого объек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592360" cy="2556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3809880" cy="270504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1692360" y="2637000"/>
            <a:ext cx="2400120" cy="20952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900000" y="69228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ЫПОЛНИТЕ ЗАДАНИЕ НА КОМПЬЮТЕР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971640" y="2276640"/>
            <a:ext cx="727236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На рабочем столе создайте с помощью текстового редактора  файл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крупнейшие озера м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На рабочем столе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йте папку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ЗАДАНИЕ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В папк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ЗАДАНИЕ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йте папку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З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Файл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крупнейшие озера мира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пировать в папку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ЗАД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в папку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ЗЕ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од тем же имен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Выполненную работу предъявить преподавателю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 Дополнительное  задание ( по карточкам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E:\рисунки компа\рис3.jpg"/>
          <p:cNvPicPr/>
          <p:nvPr/>
        </p:nvPicPr>
        <p:blipFill>
          <a:blip r:embed="rId1"/>
          <a:stretch/>
        </p:blipFill>
        <p:spPr>
          <a:xfrm>
            <a:off x="6732720" y="404640"/>
            <a:ext cx="2280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775656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АКТИЧЕСКОЕ ЗАДАНИЕ.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СОЗДАТЬ ФАЙЛ С ПОМОЩЬЮ ТЕКСТОВОГО РЕДАКТОРА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oOff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87280" y="2708280"/>
          <a:ext cx="6985080" cy="2944800"/>
        </p:xfrm>
        <a:graphic>
          <a:graphicData uri="http://schemas.openxmlformats.org/drawingml/2006/table">
            <a:tbl>
              <a:tblPr/>
              <a:tblGrid>
                <a:gridCol w="698760"/>
                <a:gridCol w="1731960"/>
                <a:gridCol w="1385640"/>
                <a:gridCol w="1044720"/>
                <a:gridCol w="21240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звание оз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лощад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тыс.кв.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лубина (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ысота над уровнем мор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айк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аньгань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к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ур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ральское мо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ичиг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1510200" y="2131560"/>
            <a:ext cx="66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Е О КРУПНЕЙШИХ ОЗЕРАХ 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ФАЙЛ – ЭТО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772400" cy="248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единица измерения информаци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) программа в оперативной памя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) текст, напечатанный на принтере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г) программа или данные на диске, имеющие им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E:\рисунки компа\i1.jpg"/>
          <p:cNvPicPr/>
          <p:nvPr/>
        </p:nvPicPr>
        <p:blipFill>
          <a:blip r:embed="rId1"/>
          <a:stretch/>
        </p:blipFill>
        <p:spPr>
          <a:xfrm>
            <a:off x="4051440" y="4221000"/>
            <a:ext cx="2465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920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уществуют ли ограничения на имена файлов в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cos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а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. В именах файлов допустимо использовать только буквы и цифры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б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. Нельзя использовать символы «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/ \ * ? : “ &lt; &gt; ».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в)</a:t>
            </a: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. Имя не должно содержать более 8 символов.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г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. Не существую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COMPUTER"/>
          <p:cNvPicPr/>
          <p:nvPr/>
        </p:nvPicPr>
        <p:blipFill>
          <a:blip r:embed="rId1"/>
          <a:stretch/>
        </p:blipFill>
        <p:spPr>
          <a:xfrm>
            <a:off x="6012000" y="4365720"/>
            <a:ext cx="2406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ие имена файлов составлены правильно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332000" y="191628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3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) пример?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3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) пример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xt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) пример текст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343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) ? пример?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5" descr="fetch.gif"/>
          <p:cNvPicPr/>
          <p:nvPr/>
        </p:nvPicPr>
        <p:blipFill>
          <a:blip r:embed="rId1"/>
          <a:stretch/>
        </p:blipFill>
        <p:spPr>
          <a:xfrm>
            <a:off x="611280" y="4149720"/>
            <a:ext cx="30398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ЗАДАНО ПОЛНОЕ ИМЯ ФАЙЛА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:\\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PROB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EXT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GLAV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XT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КАКОВО ИМЯ ПАПКИ В КОТОРОМ НАХОДИТСЯ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ФАЙЛ?</a:t>
            </a: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33720"/>
            <a:ext cx="6946920" cy="20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\\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X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LAV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3" descr="E:\рисунки компа\рис2.jpg"/>
          <p:cNvPicPr/>
          <p:nvPr/>
        </p:nvPicPr>
        <p:blipFill>
          <a:blip r:embed="rId1"/>
          <a:stretch/>
        </p:blipFill>
        <p:spPr>
          <a:xfrm>
            <a:off x="2556000" y="4414680"/>
            <a:ext cx="36003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2060640"/>
            <a:ext cx="7201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С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indows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Cos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рганизована иерархическая структура папок. Выберите объект, находящийся на верхнем уровне иерарх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) Мой компьютер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б) Рабочий стол;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) Корзина;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г) Мои документы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3" descr="E:\рисунки компа\i2.jpg"/>
          <p:cNvPicPr/>
          <p:nvPr/>
        </p:nvPicPr>
        <p:blipFill>
          <a:blip r:embed="rId1"/>
          <a:stretch/>
        </p:blipFill>
        <p:spPr>
          <a:xfrm>
            <a:off x="3708360" y="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7650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айловая система – это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системная программа;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вложенная структура файлов и папо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прикладная программ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COMPUTER"/>
          <p:cNvPicPr/>
          <p:nvPr/>
        </p:nvPicPr>
        <p:blipFill>
          <a:blip r:embed="rId1"/>
          <a:stretch/>
        </p:blipFill>
        <p:spPr>
          <a:xfrm>
            <a:off x="2771640" y="4076640"/>
            <a:ext cx="30546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828200" cy="18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кажите расширение файла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ystem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isk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oc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at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E:\рисунки компа\i1.jpg"/>
          <p:cNvPicPr/>
          <p:nvPr/>
        </p:nvPicPr>
        <p:blipFill>
          <a:blip r:embed="rId1"/>
          <a:stretch/>
        </p:blipFill>
        <p:spPr>
          <a:xfrm>
            <a:off x="5148360" y="2655720"/>
            <a:ext cx="287964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721836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 полный путь к файлу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: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\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B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XT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аково расширение файла, определяющее его тип?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3141720"/>
            <a:ext cx="634212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\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X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\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X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5" descr="E:\рисунки компа\рис1.jpg"/>
          <p:cNvPicPr/>
          <p:nvPr/>
        </p:nvPicPr>
        <p:blipFill>
          <a:blip r:embed="rId1"/>
          <a:stretch/>
        </p:blipFill>
        <p:spPr>
          <a:xfrm>
            <a:off x="5651640" y="1341360"/>
            <a:ext cx="28810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User</cp:lastModifiedBy>
  <dcterms:modified xsi:type="dcterms:W3CDTF">2019-05-01T17:46:14Z</dcterms:modified>
  <cp:revision>76</cp:revision>
  <dc:subject/>
  <dc:title>Устройство компьютера</dc:title>
</cp:coreProperties>
</file>