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png" ContentType="image/png"/>
  <Override PartName="/ppt/media/image6.jpeg" ContentType="image/jpeg"/>
  <Override PartName="/ppt/media/image15.png" ContentType="image/png"/>
  <Override PartName="/ppt/media/image5.jpeg" ContentType="image/jpeg"/>
  <Override PartName="/ppt/media/image14.png" ContentType="image/png"/>
  <Override PartName="/ppt/media/image9.png" ContentType="image/png"/>
  <Override PartName="/ppt/media/image1.wmf" ContentType="image/x-wmf"/>
  <Override PartName="/ppt/media/image2.jpeg" ContentType="image/jpeg"/>
  <Override PartName="/ppt/media/image3.wmf" ContentType="image/x-wmf"/>
  <Override PartName="/ppt/media/image8.png" ContentType="image/png"/>
  <Override PartName="/ppt/media/image11.jpeg" ContentType="image/jpeg"/>
  <Override PartName="/ppt/media/image4.png" ContentType="image/png"/>
  <Override PartName="/ppt/media/image12.wmf" ContentType="image/x-wmf"/>
  <Override PartName="/ppt/media/image13.png" ContentType="image/pn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8D800-7AEB-4108-BC87-AAE320460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83E57-B34F-4E62-A595-9D0A0E763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96283-095F-4FBF-A9B2-0904B2CDA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081BE-4FDF-4707-9A1D-34D6EB18E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0C734-61DA-4CF6-BA1B-F054E0D79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48B34-FDA3-4D6F-B832-0F7E891FF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BF768-B3B1-4C64-A5AD-13DB6DFA4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5491A-9E7C-496B-ABEA-C0A6D5AC4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7B501-5CDB-42B0-B1E8-6F76E9E5C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5F3DE-4243-4080-8640-1F88368C1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3C283-FECE-48A2-8DB4-DAC738139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67CF0-54EC-4655-8DA3-4D527B498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282DB-9EAC-4DF3-A1D6-C97CD1828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B2759-85BD-4DAB-AF34-98BE85603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32C2D-E198-49E4-A335-024F67DEC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0B4D8-A177-4390-9A66-2F5B144F1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94559-4FA7-47A5-8B3F-528F7BEF0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4C605-4320-439C-A26B-5C835D297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B52B9-B28B-4D68-ACCA-8E0FB023C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F1233-94CF-4F62-97ED-3ADDF765E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BE6B7-9264-43F7-B794-7EF42C5E7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7BC23-B174-49A1-806A-393DA9547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31150-DA00-4125-9586-87B0AAD26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CE943-66A7-4A8F-A35E-88460A6FC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8215C-F67F-40A7-B80B-2F14A2AFCB28}" type="datetime">
              <a:rPr b="0" lang="ru-RU" sz="1400" spc="-1" strike="noStrike">
                <a:solidFill>
                  <a:srgbClr val="000000"/>
                </a:solidFill>
                <a:latin typeface="Tahoma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BB976-8B65-4ABC-97ED-C40A22547F3F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4360" y="2968560"/>
              <a:ext cx="738000" cy="474840"/>
              <a:chOff x="414360" y="2968560"/>
              <a:chExt cx="7380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4440" y="2968560"/>
                <a:ext cx="36792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74560-4B88-46CB-B1C8-AEB4BCD20655}" type="datetime">
              <a:rPr b="0" lang="ru-RU" sz="1400" spc="-1" strike="noStrike">
                <a:solidFill>
                  <a:srgbClr val="1c1c1c"/>
                </a:solidFill>
                <a:latin typeface="Tahoma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E5D26-C36E-49AC-9347-436761D41555}" type="slidenum">
              <a:rPr b="0" lang="ru-RU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4" descr="MYNET099"/>
          <p:cNvPicPr/>
          <p:nvPr/>
        </p:nvPicPr>
        <p:blipFill>
          <a:blip r:embed="rId1"/>
          <a:stretch/>
        </p:blipFill>
        <p:spPr>
          <a:xfrm>
            <a:off x="4141800" y="1844640"/>
            <a:ext cx="3598920" cy="310032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Tahoma"/>
              </a:rPr>
              <a:t>Проверка знаний по теме «Файл. Файловая система».</a:t>
            </a: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Прямоугольник 1"/>
          <p:cNvSpPr/>
          <p:nvPr/>
        </p:nvSpPr>
        <p:spPr>
          <a:xfrm>
            <a:off x="324000" y="5113440"/>
            <a:ext cx="4572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           </a:t>
            </a:r>
            <a:r>
              <a:rPr b="1" i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Подготовила 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            </a:t>
            </a:r>
            <a:r>
              <a:rPr b="1" i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Учитель информатик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     </a:t>
            </a:r>
            <a:r>
              <a:rPr b="1" i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Спб СУВУ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                 </a:t>
            </a:r>
            <a:r>
              <a:rPr b="1" i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Вершинина Л.А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Дано дерево каталогов.              Определите полное имя файла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Doc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3</a:t>
            </a: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179280" y="2017440"/>
            <a:ext cx="3672000" cy="227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:\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OC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б)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:\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OC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\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oc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в)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:\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OC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\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oc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г)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:\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M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\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oc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26" name="Group 6"/>
          <p:cNvGrpSpPr/>
          <p:nvPr/>
        </p:nvGrpSpPr>
        <p:grpSpPr>
          <a:xfrm>
            <a:off x="4067280" y="2205000"/>
            <a:ext cx="4681080" cy="4107960"/>
            <a:chOff x="4067280" y="2205000"/>
            <a:chExt cx="4681080" cy="4107960"/>
          </a:xfrm>
        </p:grpSpPr>
        <p:sp>
          <p:nvSpPr>
            <p:cNvPr id="127" name="Text Box 7"/>
            <p:cNvSpPr/>
            <p:nvPr/>
          </p:nvSpPr>
          <p:spPr>
            <a:xfrm>
              <a:off x="4067280" y="2205000"/>
              <a:ext cx="1139040" cy="79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:\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8"/>
            <p:cNvSpPr/>
            <p:nvPr/>
          </p:nvSpPr>
          <p:spPr>
            <a:xfrm flipH="1">
              <a:off x="5467680" y="2852640"/>
              <a:ext cx="62640" cy="230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9"/>
            <p:cNvSpPr/>
            <p:nvPr/>
          </p:nvSpPr>
          <p:spPr>
            <a:xfrm>
              <a:off x="5467680" y="4797000"/>
              <a:ext cx="66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Text Box 10"/>
            <p:cNvSpPr/>
            <p:nvPr/>
          </p:nvSpPr>
          <p:spPr>
            <a:xfrm>
              <a:off x="6480720" y="2852640"/>
              <a:ext cx="1000800" cy="28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53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OC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1"/>
            <p:cNvSpPr/>
            <p:nvPr/>
          </p:nvSpPr>
          <p:spPr>
            <a:xfrm>
              <a:off x="6948360" y="3284280"/>
              <a:ext cx="0" cy="50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12"/>
            <p:cNvSpPr/>
            <p:nvPr/>
          </p:nvSpPr>
          <p:spPr>
            <a:xfrm>
              <a:off x="5579640" y="328428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Text Box 13"/>
            <p:cNvSpPr/>
            <p:nvPr/>
          </p:nvSpPr>
          <p:spPr>
            <a:xfrm>
              <a:off x="7504920" y="3932280"/>
              <a:ext cx="1243440" cy="32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4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oc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Text Box 14"/>
            <p:cNvSpPr/>
            <p:nvPr/>
          </p:nvSpPr>
          <p:spPr>
            <a:xfrm>
              <a:off x="6588000" y="4508640"/>
              <a:ext cx="1243440" cy="360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3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OM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15"/>
            <p:cNvSpPr/>
            <p:nvPr/>
          </p:nvSpPr>
          <p:spPr>
            <a:xfrm flipH="1">
              <a:off x="6948000" y="3789000"/>
              <a:ext cx="50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16"/>
            <p:cNvSpPr/>
            <p:nvPr/>
          </p:nvSpPr>
          <p:spPr>
            <a:xfrm>
              <a:off x="7092360" y="5516640"/>
              <a:ext cx="355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Text Box 17"/>
            <p:cNvSpPr/>
            <p:nvPr/>
          </p:nvSpPr>
          <p:spPr>
            <a:xfrm>
              <a:off x="7578720" y="6019920"/>
              <a:ext cx="951120" cy="29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3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oc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38" name="Picture 18" descr=""/>
            <p:cNvPicPr/>
            <p:nvPr/>
          </p:nvPicPr>
          <p:blipFill>
            <a:blip r:embed="rId1"/>
            <a:stretch/>
          </p:blipFill>
          <p:spPr>
            <a:xfrm>
              <a:off x="5147280" y="2205000"/>
              <a:ext cx="658080" cy="73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" name="Picture 19" descr=""/>
            <p:cNvPicPr/>
            <p:nvPr/>
          </p:nvPicPr>
          <p:blipFill>
            <a:blip r:embed="rId2"/>
            <a:stretch/>
          </p:blipFill>
          <p:spPr>
            <a:xfrm>
              <a:off x="5822280" y="2754360"/>
              <a:ext cx="730800" cy="83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" name="Picture 20" descr=""/>
            <p:cNvPicPr/>
            <p:nvPr/>
          </p:nvPicPr>
          <p:blipFill>
            <a:blip r:embed="rId3"/>
            <a:stretch/>
          </p:blipFill>
          <p:spPr>
            <a:xfrm>
              <a:off x="5896440" y="4292280"/>
              <a:ext cx="730800" cy="864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" name="Picture 21" descr=""/>
            <p:cNvPicPr/>
            <p:nvPr/>
          </p:nvPicPr>
          <p:blipFill>
            <a:blip r:embed="rId4"/>
            <a:stretch/>
          </p:blipFill>
          <p:spPr>
            <a:xfrm>
              <a:off x="7504920" y="3122640"/>
              <a:ext cx="804960" cy="80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" name="Picture 22" descr=""/>
            <p:cNvPicPr/>
            <p:nvPr/>
          </p:nvPicPr>
          <p:blipFill>
            <a:blip r:embed="rId5"/>
            <a:stretch/>
          </p:blipFill>
          <p:spPr>
            <a:xfrm>
              <a:off x="7432200" y="5085360"/>
              <a:ext cx="803520" cy="88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Line 11"/>
            <p:cNvSpPr/>
            <p:nvPr/>
          </p:nvSpPr>
          <p:spPr>
            <a:xfrm>
              <a:off x="7092360" y="4940280"/>
              <a:ext cx="0" cy="86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9"/>
            <p:cNvSpPr/>
            <p:nvPr/>
          </p:nvSpPr>
          <p:spPr>
            <a:xfrm>
              <a:off x="5457240" y="4797000"/>
              <a:ext cx="438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86920" y="1052640"/>
            <a:ext cx="7556760" cy="6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ahoma"/>
              </a:rPr>
              <a:t>ПАПКА – ЭТО: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4000" y="1988640"/>
            <a:ext cx="7018200" cy="2868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) средство упорядочения тематически связанных файлов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б) именованная область диска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группа данных на любом носителе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7" name="Picture 4" descr="E:\рисунки компа\рис3.jpg"/>
          <p:cNvPicPr/>
          <p:nvPr/>
        </p:nvPicPr>
        <p:blipFill>
          <a:blip r:embed="rId1"/>
          <a:stretch/>
        </p:blipFill>
        <p:spPr>
          <a:xfrm>
            <a:off x="6084720" y="189000"/>
            <a:ext cx="2735280" cy="233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71640" y="47592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Tahoma"/>
              </a:rPr>
              <a:t>В ПАПКЕ МОГУТ ХРАНИТЬСЯ: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722160" y="2276280"/>
            <a:ext cx="7772400" cy="213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а)только файлы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б) только другие папки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в) файлы и папки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г) только  файлы с одинаковым именем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0" name="Picture 4" descr="E:\рисунки компа\i1.jpg"/>
          <p:cNvPicPr/>
          <p:nvPr/>
        </p:nvPicPr>
        <p:blipFill>
          <a:blip r:embed="rId1"/>
          <a:stretch/>
        </p:blipFill>
        <p:spPr>
          <a:xfrm>
            <a:off x="5867280" y="333360"/>
            <a:ext cx="2881440" cy="286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По расширению определите тип файла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684360" y="2060640"/>
          <a:ext cx="8208720" cy="4556160"/>
        </p:xfrm>
        <a:graphic>
          <a:graphicData uri="http://schemas.openxmlformats.org/drawingml/2006/table">
            <a:tbl>
              <a:tblPr/>
              <a:tblGrid>
                <a:gridCol w="4483080"/>
                <a:gridCol w="3725640"/>
              </a:tblGrid>
              <a:tr h="593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ип файл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e4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шире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e4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xe, com,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a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xt, rtf,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oc, doc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mp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if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pg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ng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d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tm, htm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9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av, mp3, midi, kar, og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vi, mpe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75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as, pas, cp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rj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zip, r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16000" y="2276280"/>
            <a:ext cx="7756560" cy="40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Интерфейс – это</a:t>
            </a: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 </a:t>
            </a:r>
            <a:br>
              <a:rPr sz="3200"/>
            </a:br>
            <a:br>
              <a:rPr sz="4000"/>
            </a:b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5981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а)внешний вид окна программ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б) вид окна файлового менеджера «Проводник»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) способ взаимодействия пользователя с компьютером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Picture 4" descr="MYNET099"/>
          <p:cNvPicPr/>
          <p:nvPr/>
        </p:nvPicPr>
        <p:blipFill>
          <a:blip r:embed="rId1"/>
          <a:stretch/>
        </p:blipFill>
        <p:spPr>
          <a:xfrm>
            <a:off x="5076720" y="331920"/>
            <a:ext cx="1943280" cy="18367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5" descr="MYNET040"/>
          <p:cNvPicPr/>
          <p:nvPr/>
        </p:nvPicPr>
        <p:blipFill>
          <a:blip r:embed="rId2"/>
          <a:stretch/>
        </p:blipFill>
        <p:spPr>
          <a:xfrm flipH="1">
            <a:off x="6948360" y="260280"/>
            <a:ext cx="201456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564000" y="214200"/>
            <a:ext cx="537984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Контекстное меню – это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356000" y="2017440"/>
            <a:ext cx="4392720" cy="393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а) строка с надписями «файл», «правка», 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б) список действий и свойств особый для каждого объекта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" name="Picture 6" descr=""/>
          <p:cNvPicPr/>
          <p:nvPr/>
        </p:nvPicPr>
        <p:blipFill>
          <a:blip r:embed="rId1"/>
          <a:stretch/>
        </p:blipFill>
        <p:spPr>
          <a:xfrm>
            <a:off x="250920" y="620640"/>
            <a:ext cx="2592360" cy="2556000"/>
          </a:xfrm>
          <a:prstGeom prst="rect">
            <a:avLst/>
          </a:prstGeom>
          <a:ln w="28440">
            <a:solidFill>
              <a:srgbClr val="808080"/>
            </a:solidFill>
            <a:miter/>
          </a:ln>
        </p:spPr>
      </p:pic>
      <p:pic>
        <p:nvPicPr>
          <p:cNvPr id="160" name="Picture 7" descr=""/>
          <p:cNvPicPr/>
          <p:nvPr/>
        </p:nvPicPr>
        <p:blipFill>
          <a:blip r:embed="rId2"/>
          <a:stretch/>
        </p:blipFill>
        <p:spPr>
          <a:xfrm>
            <a:off x="468360" y="3645000"/>
            <a:ext cx="3809880" cy="2705040"/>
          </a:xfrm>
          <a:prstGeom prst="rect">
            <a:avLst/>
          </a:prstGeom>
          <a:ln w="28440">
            <a:solidFill>
              <a:srgbClr val="808080"/>
            </a:solidFill>
            <a:miter/>
          </a:ln>
        </p:spPr>
      </p:pic>
      <p:pic>
        <p:nvPicPr>
          <p:cNvPr id="161" name="Picture 8" descr=""/>
          <p:cNvPicPr/>
          <p:nvPr/>
        </p:nvPicPr>
        <p:blipFill>
          <a:blip r:embed="rId3"/>
          <a:stretch/>
        </p:blipFill>
        <p:spPr>
          <a:xfrm>
            <a:off x="1692360" y="2637000"/>
            <a:ext cx="2400120" cy="2095200"/>
          </a:xfrm>
          <a:prstGeom prst="rect">
            <a:avLst/>
          </a:prstGeom>
          <a:ln w="28440">
            <a:solidFill>
              <a:srgbClr val="808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Прямоугольник 1"/>
          <p:cNvSpPr/>
          <p:nvPr/>
        </p:nvSpPr>
        <p:spPr>
          <a:xfrm>
            <a:off x="900000" y="692280"/>
            <a:ext cx="568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ВЫПОЛНИТЕ ЗАДАНИЕ НА КОМПЬЮТЕРЕ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Прямоугольник 2"/>
          <p:cNvSpPr/>
          <p:nvPr/>
        </p:nvSpPr>
        <p:spPr>
          <a:xfrm>
            <a:off x="971640" y="2276640"/>
            <a:ext cx="7272360" cy="371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.На рабочем столе создайте с помощью текстового редактора  файл  </a:t>
            </a:r>
            <a:r>
              <a:rPr b="1" lang="ru-RU" sz="2400" spc="-1" strike="noStrike">
                <a:solidFill>
                  <a:srgbClr val="0070c0"/>
                </a:solidFill>
                <a:latin typeface="Times New Roman"/>
              </a:rPr>
              <a:t>крупнейшие озера мира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. На рабочем столе</a:t>
            </a: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оздайте папку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 ЗАДАНИЕ</a:t>
            </a: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3.В папке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ЗАДАНИЕ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оздайте папку 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ОЗЕР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4.Файл</a:t>
            </a: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70c0"/>
                </a:solidFill>
                <a:latin typeface="Times New Roman"/>
              </a:rPr>
              <a:t>крупнейшие озера мира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копировать в папку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ЗАДАНИЕ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и в папку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ОЗЕР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под тем же имене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5.Выполненную работу предъявить преподавателю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6.  Дополнительное  задание ( по карточкам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Picture 4" descr="E:\рисунки компа\рис3.jpg"/>
          <p:cNvPicPr/>
          <p:nvPr/>
        </p:nvPicPr>
        <p:blipFill>
          <a:blip r:embed="rId1"/>
          <a:stretch/>
        </p:blipFill>
        <p:spPr>
          <a:xfrm>
            <a:off x="6732720" y="404640"/>
            <a:ext cx="228096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16000" y="980640"/>
            <a:ext cx="7756560" cy="83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ПРАКТИЧЕСКОЕ ЗАДАНИЕ.</a:t>
            </a:r>
            <a:br>
              <a:rPr sz="3200"/>
            </a:b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 СОЗДАТЬ ФАЙЛ С ПОМОЩЬЮ ТЕКСТОВОГО РЕДАКТОРА 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NeoOffic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1187280" y="2708280"/>
          <a:ext cx="6985080" cy="2944800"/>
        </p:xfrm>
        <a:graphic>
          <a:graphicData uri="http://schemas.openxmlformats.org/drawingml/2006/table">
            <a:tbl>
              <a:tblPr/>
              <a:tblGrid>
                <a:gridCol w="698760"/>
                <a:gridCol w="1731960"/>
                <a:gridCol w="1385640"/>
                <a:gridCol w="1044720"/>
                <a:gridCol w="2124000"/>
              </a:tblGrid>
              <a:tr h="4208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п/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0960"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Название озер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Площад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(тыс.кв.м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Глубина (м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Высота над уровнем мор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80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Байка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1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5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45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08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Таньганьи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47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77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116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Виктор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6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13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80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Гуро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59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7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08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Аральское мор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51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6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08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Мичига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5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8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7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7" name="Rectangle 1"/>
          <p:cNvSpPr/>
          <p:nvPr/>
        </p:nvSpPr>
        <p:spPr>
          <a:xfrm>
            <a:off x="1510200" y="2131560"/>
            <a:ext cx="662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ДАННЫЕ О КРУПНЕЙШИХ ОЗЕРАХ МИР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71640" y="40464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ru-RU" sz="4000" spc="-1" strike="noStrike">
                <a:solidFill>
                  <a:srgbClr val="333399"/>
                </a:solidFill>
                <a:latin typeface="Tahoma"/>
              </a:rPr>
              <a:t>ФАЙЛ – ЭТО:</a:t>
            </a:r>
            <a:br>
              <a:rPr sz="4000"/>
            </a:b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11280" y="2349000"/>
            <a:ext cx="7772400" cy="2489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8000"/>
          </a:bodyPr>
          <a:p>
            <a:pPr marL="597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а) единица измерения информации;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б) программа в оперативной памяти;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в) текст, напечатанный на принтере;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г) программа или данные на диске, имеющие имя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97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Picture 4" descr="E:\рисунки компа\i1.jpg"/>
          <p:cNvPicPr/>
          <p:nvPr/>
        </p:nvPicPr>
        <p:blipFill>
          <a:blip r:embed="rId1"/>
          <a:stretch/>
        </p:blipFill>
        <p:spPr>
          <a:xfrm>
            <a:off x="4051440" y="4221000"/>
            <a:ext cx="246528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684360" y="404280"/>
            <a:ext cx="7920000" cy="568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Существуют ли ограничения на имена файлов в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Windows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и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cos?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Tahoma"/>
              </a:rPr>
              <a:t>     </a:t>
            </a:r>
            <a:r>
              <a:rPr b="0" lang="ru-RU" sz="3200" spc="-1" strike="noStrike">
                <a:solidFill>
                  <a:srgbClr val="0070c0"/>
                </a:solidFill>
                <a:latin typeface="Tahoma"/>
              </a:rPr>
              <a:t>а)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Да. В именах файлов допустимо использовать только буквы и цифры</a:t>
            </a:r>
            <a:br>
              <a:rPr sz="3200"/>
            </a:br>
            <a:r>
              <a:rPr b="0" lang="ru-RU" sz="3200" spc="-1" strike="noStrike">
                <a:solidFill>
                  <a:srgbClr val="0070c0"/>
                </a:solidFill>
                <a:latin typeface="Tahoma"/>
              </a:rPr>
              <a:t>б)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Да. Нельзя использовать символы «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/ \ * ? : “ &lt; &gt; ».</a:t>
            </a:r>
            <a:br>
              <a:rPr sz="3200"/>
            </a:br>
            <a:r>
              <a:rPr b="0" lang="ru-RU" sz="3200" spc="-1" strike="noStrike">
                <a:solidFill>
                  <a:srgbClr val="0070c0"/>
                </a:solidFill>
                <a:latin typeface="Tahoma"/>
              </a:rPr>
              <a:t>в)</a:t>
            </a:r>
            <a:r>
              <a:rPr b="1" lang="ru-RU" sz="3200" spc="-1" strike="noStrike">
                <a:solidFill>
                  <a:srgbClr val="0070c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Да. Имя не должно содержать более 8 символов. </a:t>
            </a:r>
            <a:br>
              <a:rPr sz="3200"/>
            </a:br>
            <a:r>
              <a:rPr b="0" lang="ru-RU" sz="3200" spc="-1" strike="noStrike">
                <a:solidFill>
                  <a:srgbClr val="0070c0"/>
                </a:solidFill>
                <a:latin typeface="Tahoma"/>
              </a:rPr>
              <a:t>г)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Нет. Не существуют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6" name="Picture 4" descr="COMPUTER"/>
          <p:cNvPicPr/>
          <p:nvPr/>
        </p:nvPicPr>
        <p:blipFill>
          <a:blip r:embed="rId1"/>
          <a:stretch/>
        </p:blipFill>
        <p:spPr>
          <a:xfrm>
            <a:off x="6012000" y="4365720"/>
            <a:ext cx="2406600" cy="22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5072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Какие имена файлов составлены правильно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Rectangle 7"/>
          <p:cNvSpPr/>
          <p:nvPr/>
        </p:nvSpPr>
        <p:spPr>
          <a:xfrm>
            <a:off x="1332000" y="1916280"/>
            <a:ext cx="6264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4" marL="1828800">
              <a:lnSpc>
                <a:spcPct val="100000"/>
              </a:lnSpc>
              <a:tabLst>
                <a:tab algn="l" pos="0"/>
                <a:tab algn="l" pos="343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а) пример?.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doc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343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б) пример: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xt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в) пример текст.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do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343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г) ? пример?.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do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Рисунок 5" descr="fetch.gif"/>
          <p:cNvPicPr/>
          <p:nvPr/>
        </p:nvPicPr>
        <p:blipFill>
          <a:blip r:embed="rId1"/>
          <a:stretch/>
        </p:blipFill>
        <p:spPr>
          <a:xfrm>
            <a:off x="611280" y="4149720"/>
            <a:ext cx="3039840" cy="22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71280" y="115560"/>
            <a:ext cx="8172360" cy="187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  <a:ea typeface="Arial"/>
              </a:rPr>
              <a:t>ЗАДАНО ПОЛНОЕ ИМЯ ФАЙЛА</a:t>
            </a:r>
            <a:br>
              <a:rPr sz="2400"/>
            </a:br>
            <a:r>
              <a:rPr b="1" lang="ru-RU" sz="24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C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  <a:ea typeface="Arial"/>
              </a:rPr>
              <a:t>:\\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DOC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  <a:ea typeface="Arial"/>
              </a:rPr>
              <a:t>\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PROBA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  <a:ea typeface="Arial"/>
              </a:rPr>
              <a:t>\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TEXT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  <a:ea typeface="Arial"/>
              </a:rPr>
              <a:t>\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GLAVA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  <a:ea typeface="Arial"/>
              </a:rPr>
              <a:t>.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TXT</a:t>
            </a:r>
            <a:br>
              <a:rPr sz="2400"/>
            </a:br>
            <a:r>
              <a:rPr b="1" lang="ru-RU" sz="2400" spc="-1" strike="noStrike">
                <a:solidFill>
                  <a:srgbClr val="333399"/>
                </a:solidFill>
                <a:latin typeface="Arial"/>
                <a:ea typeface="Arial"/>
              </a:rPr>
              <a:t> КАКОВО ИМЯ ПАПКИ В КОТОРОМ НАХОДИТСЯ</a:t>
            </a:r>
            <a:br>
              <a:rPr sz="2400"/>
            </a:br>
            <a:r>
              <a:rPr b="1" lang="ru-RU" sz="2400" spc="-1" strike="noStrike">
                <a:solidFill>
                  <a:srgbClr val="333399"/>
                </a:solidFill>
                <a:latin typeface="Arial"/>
                <a:ea typeface="Arial"/>
              </a:rPr>
              <a:t> ФАЙЛ?</a:t>
            </a:r>
            <a:br>
              <a:rPr sz="4000"/>
            </a:b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402920" y="2133720"/>
            <a:ext cx="6946920" cy="2087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а)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:\\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OC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\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ROBA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XT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б)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в)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LAVA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г)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2" name="Picture 3" descr="E:\рисунки компа\рис2.jpg"/>
          <p:cNvPicPr/>
          <p:nvPr/>
        </p:nvPicPr>
        <p:blipFill>
          <a:blip r:embed="rId1"/>
          <a:stretch/>
        </p:blipFill>
        <p:spPr>
          <a:xfrm>
            <a:off x="2556000" y="4414680"/>
            <a:ext cx="3600360" cy="24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15640" y="2060640"/>
            <a:ext cx="7201080" cy="374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762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В ОС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Windows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и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MACos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организована иерархическая структура папок. Выберите объект, находящийся на верхнем уровне иерархии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.</a:t>
            </a:r>
            <a:br>
              <a:rPr sz="1800"/>
            </a:br>
            <a:r>
              <a:rPr b="0" lang="en-US" sz="4000" spc="-1" strike="noStrike">
                <a:solidFill>
                  <a:srgbClr val="333399"/>
                </a:solidFill>
                <a:latin typeface="Arial"/>
                <a:ea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а) Мой компьютер;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б) Рабочий стол;   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в) Корзина; 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г) Мои документы.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4" name="Picture 3" descr="E:\рисунки компа\i2.jpg"/>
          <p:cNvPicPr/>
          <p:nvPr/>
        </p:nvPicPr>
        <p:blipFill>
          <a:blip r:embed="rId1"/>
          <a:stretch/>
        </p:blipFill>
        <p:spPr>
          <a:xfrm>
            <a:off x="3708360" y="0"/>
            <a:ext cx="287964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15640" y="7650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Файловая система – это:</a:t>
            </a:r>
            <a:br>
              <a:rPr sz="3200"/>
            </a:br>
            <a:br>
              <a:rPr sz="4000"/>
            </a:b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71640" y="1916280"/>
            <a:ext cx="7772400" cy="223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а) системная программа;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б) вложенная структура файлов и папок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) прикладная программа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7" name="Picture 4" descr="COMPUTER"/>
          <p:cNvPicPr/>
          <p:nvPr/>
        </p:nvPicPr>
        <p:blipFill>
          <a:blip r:embed="rId1"/>
          <a:stretch/>
        </p:blipFill>
        <p:spPr>
          <a:xfrm>
            <a:off x="2771640" y="4076640"/>
            <a:ext cx="305460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42560" y="1267920"/>
            <a:ext cx="7828200" cy="184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Укажите расширение файла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ystem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.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disk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.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doc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.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bat</a:t>
            </a:r>
            <a:br>
              <a:rPr sz="3200"/>
            </a:br>
            <a:br>
              <a:rPr sz="4000"/>
            </a:b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5981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а)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sk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.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б)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at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sk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г)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at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0" name="Picture 4" descr="E:\рисунки компа\i1.jpg"/>
          <p:cNvPicPr/>
          <p:nvPr/>
        </p:nvPicPr>
        <p:blipFill>
          <a:blip r:embed="rId1"/>
          <a:stretch/>
        </p:blipFill>
        <p:spPr>
          <a:xfrm>
            <a:off x="5148360" y="2655720"/>
            <a:ext cx="2879640" cy="286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402920" y="2276640"/>
            <a:ext cx="7218360" cy="596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Задан полный путь к файлу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:\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DOC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\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PROBA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.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TXT</a:t>
            </a:r>
            <a:br>
              <a:rPr sz="2400"/>
            </a:b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Каково расширение файла, определяющее его тип?</a:t>
            </a:r>
            <a:br>
              <a:rPr sz="2400"/>
            </a:br>
            <a:br>
              <a:rPr sz="4000"/>
            </a:b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240" y="3141720"/>
            <a:ext cx="6342120" cy="299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а)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;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б)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:\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\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BA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XT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)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\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BA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XT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;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г)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3" name="Picture 5" descr="E:\рисунки компа\рис1.jpg"/>
          <p:cNvPicPr/>
          <p:nvPr/>
        </p:nvPicPr>
        <p:blipFill>
          <a:blip r:embed="rId1"/>
          <a:stretch/>
        </p:blipFill>
        <p:spPr>
          <a:xfrm>
            <a:off x="5651640" y="1341360"/>
            <a:ext cx="2881080" cy="24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7T14:03:19Z</dcterms:created>
  <dc:creator>bas</dc:creator>
  <dc:description/>
  <dc:language>en-US</dc:language>
  <cp:lastModifiedBy>User</cp:lastModifiedBy>
  <dcterms:modified xsi:type="dcterms:W3CDTF">2019-05-01T17:46:14Z</dcterms:modified>
  <cp:revision>76</cp:revision>
  <dc:subject/>
  <dc:title>Устройство компьютера</dc:title>
</cp:coreProperties>
</file>