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23E-A79B-40DF-A12A-81999478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1A9-813D-4CD9-8FB2-E92D57AE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E8C-FCDF-4814-A0CB-84D8CF00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D1B-6AA1-4B3B-AE1E-8D5DDBE6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F6E-A8BD-4863-A192-8758111D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887-A648-4F0F-8B0F-09C1A9FB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55C-B77E-4EF1-B872-52B16669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69F-0B49-4AF5-853A-2508B3DB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EA6-82B8-4BA2-8761-BE79ECD6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8B7-5D09-4512-8BB9-4A842A96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D10-F2E7-43C4-981C-1DC6D5BE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6AC-7C80-4457-B52C-C0312100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12BD-0090-4EC5-AB43-E57B16558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371600"/>
            <a:ext cx="81536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от праздник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 слезами на глазах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5410080"/>
            <a:ext cx="7238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дготовил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гораева Е.Н.Ю классный руководитель 7 класса МБОУ «Медаев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Чамзинского муниципального район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43240" y="228600"/>
            <a:ext cx="4457520" cy="640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32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55480"/>
            <a:ext cx="8534520" cy="6302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5638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2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518148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лександр Трифонович Твард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Рассказ танки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43200" y="685800"/>
            <a:ext cx="4113360" cy="4114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2120" y="5562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631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7391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10480" cy="5372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71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амятник советскому солдату в Пловдиве                              (Болгар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924680" y="57150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211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флаг победы"/>
          <p:cNvPicPr/>
          <p:nvPr/>
        </p:nvPicPr>
        <p:blipFill>
          <a:blip r:embed="rId2"/>
          <a:stretch/>
        </p:blipFill>
        <p:spPr>
          <a:xfrm>
            <a:off x="1447920" y="762120"/>
            <a:ext cx="647676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621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14400" y="47242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022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828800" y="5486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488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9-05-02T14:30:3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