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727-9C70-4C23-B5D4-4E680ED4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36D-C2A9-45C5-AC22-1ED36CC9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820-688A-48EB-90F4-8FAE20EC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1C0-94AA-4538-BB26-26AE52CE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BB3-75B1-4D2A-82F5-5A71F399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C4E-3848-4DE3-BFED-547D33AC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70F-C8D4-4B87-8541-52BB29A3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CC1-8816-47DE-A6BB-2E6390A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EE3-1689-4182-B9A7-3E94335D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6B4-3184-4FFA-AC5C-D4B029E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236-9E8D-4703-8E92-E7F8573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A46-3CB6-4DDD-B0B7-2AC498F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499F-218A-42E0-8D30-A5EF65BA1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37160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от праздник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 слезами на глазах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5410080"/>
            <a:ext cx="7238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готовил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гораева Е.Н.Ю классный руководитель 7 класса МБОУ «Медаев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Чамзинского муниципального район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43240" y="228600"/>
            <a:ext cx="4457520" cy="640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32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55480"/>
            <a:ext cx="8534520" cy="6302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5638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2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51814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ександр Трифонович 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Рассказ танк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43200" y="685800"/>
            <a:ext cx="411336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631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7391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10480" cy="5372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71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амятник советскому солдату в Пловдиве                              (Болгар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924680" y="57150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211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флаг победы"/>
          <p:cNvPicPr/>
          <p:nvPr/>
        </p:nvPicPr>
        <p:blipFill>
          <a:blip r:embed="rId2"/>
          <a:stretch/>
        </p:blipFill>
        <p:spPr>
          <a:xfrm>
            <a:off x="1447920" y="762120"/>
            <a:ext cx="64767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21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022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28800" y="5486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488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9-05-02T14:30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