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5ED-458A-4733-8750-DA2D4B3C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8A4-C216-41EB-A6D5-4934A57E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4CD-60BB-440E-AE3F-9451F39F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EE9-EA5E-4A06-9106-C8AA22D8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981-052A-4507-BCC7-9B1FE8BA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B68-8FBB-4115-A65D-5BC8706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DAA-1A7C-44F4-B83D-1E59C460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D31-217F-49EA-95F6-9AE5994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230-7C0D-4605-A284-8C0A525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FC5-9B91-4D73-8EEF-0DFAB3C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44D-CC73-4B27-871B-B25971C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84D-41A2-401B-B090-02BE8BA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9D8-3BCA-4FCB-91D4-DFFBD75CE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инар для родителей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о-родительские отнош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актор, оказывающий влияние на эмоциональну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зывчивость детей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: воспитатель Мариненкова Т.Г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и являются «центральным звеном» психической жизни человека, и прежде всего ребе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 Выготск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300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суждайте пословицы и поговорк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добродушии говоря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ый поступок красит человек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ты это понимаеш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злом человеке скажу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 ним водиться, что в крапиву садитьс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так можно сказа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жадном человеке говоря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него снега зимой не выпросишь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 поче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рудолюбивом человеке скажу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него в руках дело огнем горит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значит? (дело огнем горит – быстро и хорошо получается любая работа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ы понимаешь значение пословицы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Любишь кататься, люби и саночки возить»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можешь назвать себя ленивым человеко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авидовал своему другу? У тебя была такая ситуация, про которую можно сказать словами пословицы: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чужой лодке всегда больше рыбк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омство с чувственной стороной жизни человека связано с речевой деятельность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ждайте ребенка делиться своими мыслями, пережи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05975"/>
          <p:cNvPicPr/>
          <p:nvPr/>
        </p:nvPicPr>
        <p:blipFill>
          <a:blip r:embed="rId1"/>
          <a:stretch/>
        </p:blipFill>
        <p:spPr>
          <a:xfrm>
            <a:off x="53172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DSC05976"/>
          <p:cNvPicPr/>
          <p:nvPr/>
        </p:nvPicPr>
        <p:blipFill>
          <a:blip r:embed="rId2"/>
          <a:stretch/>
        </p:blipFill>
        <p:spPr>
          <a:xfrm>
            <a:off x="471816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SC05980"/>
          <p:cNvPicPr/>
          <p:nvPr/>
        </p:nvPicPr>
        <p:blipFill>
          <a:blip r:embed="rId3"/>
          <a:stretch/>
        </p:blipFill>
        <p:spPr>
          <a:xfrm>
            <a:off x="541440" y="3933720"/>
            <a:ext cx="389088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DSC05981"/>
          <p:cNvPicPr/>
          <p:nvPr/>
        </p:nvPicPr>
        <p:blipFill>
          <a:blip r:embed="rId4"/>
          <a:stretch/>
        </p:blipFill>
        <p:spPr>
          <a:xfrm>
            <a:off x="4716360" y="3933720"/>
            <a:ext cx="3891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изируйте речевое общение ребенка, его инициативные высказывания, касающиеся личного опыта и знакомых жизненных ситуаций. Постепенно происходит освоение ребенком основных форм речи – диалога и мон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DSC05987"/>
          <p:cNvPicPr/>
          <p:nvPr/>
        </p:nvPicPr>
        <p:blipFill>
          <a:blip r:embed="rId1"/>
          <a:stretch/>
        </p:blipFill>
        <p:spPr>
          <a:xfrm>
            <a:off x="54288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SC05999"/>
          <p:cNvPicPr/>
          <p:nvPr/>
        </p:nvPicPr>
        <p:blipFill>
          <a:blip r:embed="rId2"/>
          <a:stretch/>
        </p:blipFill>
        <p:spPr>
          <a:xfrm>
            <a:off x="541440" y="3933720"/>
            <a:ext cx="38908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SC05972"/>
          <p:cNvPicPr/>
          <p:nvPr/>
        </p:nvPicPr>
        <p:blipFill>
          <a:blip r:embed="rId3"/>
          <a:stretch/>
        </p:blipFill>
        <p:spPr>
          <a:xfrm>
            <a:off x="471816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DSC06002"/>
          <p:cNvPicPr/>
          <p:nvPr/>
        </p:nvPicPr>
        <p:blipFill>
          <a:blip r:embed="rId4"/>
          <a:stretch/>
        </p:blipFill>
        <p:spPr>
          <a:xfrm>
            <a:off x="4721400" y="3938760"/>
            <a:ext cx="3890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ажаемые родители!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малыш развивался, надо жить вместе с ним эмоционально насыщенной жизнью, что является важным фактором развития эмоционально – личностной сферы детей. Знакомясь с разнообразными чувствами, ребенок овладевает и своими эмоциями, учится ими управл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из ФГОС Д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семинара:</a:t>
            </a:r>
            <a:br>
              <a:rPr sz="32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Повышение компетентности родител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начимости их влияния на развитие эмоциональной отзывчив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 отзывчив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способность человека к сопереживанию другим людям, пониманию их внутреннего состоя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емьи складываются присущие только ей эмоционально-нравственный опыт, убеждения, идеалы, оценки и ценностные ориентиры, отношение к окружающим люд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общение обеспечивает ребенку культурное развитие, т.е. то, чему человек учится, чтобы управлять собственными психическими процессами, своим поведением. Культурный человек – это человек, который умеет управлять самим собой, собственной деятельность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з Федерального государственного стандарта дошкольного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важаемые родители! Предлагаю подумать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акие на ваш взгляд существуют отноше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между детьми и родителями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исследования специалисты выделяют два вида детско-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одительских отношени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стительское отнош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к развивается ребенок, так пусть и буде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монич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(родители стараются быть в курсе всех событ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 жизни ребенка, стараются быть образцом для подражания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факторы влияют на отношения между детьми и родителями?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пециалисты выделяют следующие фактор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отношения между членами семь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щения родителей с ребенко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ая грамотность родителей в вопросах воспитания ребен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ребенка происходит по старинке: «меня так воспитывали, и 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же вырос!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статус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аукнется, так и откликн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легко обидеть челове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ял и бросил фразу злее перца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том порой не хватит 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 вернуть обиженное серд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Э. Аса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часто мы, не умея контролировать св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и, совершаем непредсказуе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упки, произносим необдуманные сл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ранят окружающих, а порой и оч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к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жизни есть многое из того, что выводит н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себя. Чувства, которые мы счит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гативными, всегда можно рассматрива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тивном ключе, все зависит от наш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го отношения к себе и тем, с к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общаем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SC05965"/>
          <p:cNvPicPr/>
          <p:nvPr/>
        </p:nvPicPr>
        <p:blipFill>
          <a:blip r:embed="rId1"/>
          <a:stretch/>
        </p:blipFill>
        <p:spPr>
          <a:xfrm>
            <a:off x="4643280" y="1628640"/>
            <a:ext cx="4181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сматривайте мультфильмы, вызывающие эмоциональну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зывчивость ребенка на чувства геро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те сказки, беседуйте по их содержанию, просите, чтобы ребено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ыражал свое отношение к персонажам сказ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йте проблемные ситуации, которые будут способствова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развитию эмоциональной отзывчивости ребенка на чувства окружающи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сами максимум доброжелательности к окружающим людя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йте иллюстрации с различными эмоциональн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стояниями людей (грустный, веселый, обиженный и т.д.). Задав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прос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то можно изменить, чтобы он перестал грустить, обижаться, плака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бе нравится, когда люди веселые? Как ты думаешь, почему о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селые?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йте в словесные игры «Хорошо-плохо», задавая вопросы по ход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итуации.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ай так, как ты хочешь, чтобы поступал твой ребе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оявление эмоциональной отзывчивости детей зависит о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актического примера взрослог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им образом в игровой форме вы формируете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отношение ребенка к окружа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уждайте ребенка к эмоциональной отзыв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вайте ребенку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смеяться, если твой товари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ал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обижать животных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жно ли делиться игрушками с друг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ьми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драться, если другой ребенок отобрал у тебя игрушку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с высоким уровнем сформиров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 о социальных эмоциях охотно оказы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щь сверстнику, откликается н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ое состоя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со средним уровнем эмоциональ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зывчивости замечают эмоциональн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рстника, но не пытаются его утешить. Начин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ать окружающим с энтузиазмом, но это 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надое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с низким уровнем эмоциональ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зывчивости равнодушно реагируют на успех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дачи других. При обосновании ответов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уются лишь своими жел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SC05962"/>
          <p:cNvPicPr/>
          <p:nvPr/>
        </p:nvPicPr>
        <p:blipFill>
          <a:blip r:embed="rId1"/>
          <a:stretch/>
        </p:blipFill>
        <p:spPr>
          <a:xfrm>
            <a:off x="4427640" y="1413000"/>
            <a:ext cx="4259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уйте педагогические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25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е ребенку закончить рассказан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у ситу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а и Оля играли в «дочки-матери». К ним подошел маленький мальчик и попросил: «Я тоже хочу играть.» «Мы тебя не возьмем, ты еще маленький», - ответила Оля. А Маша сказала … Что сказала Маша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ережа играл с самосвалом. Вдруг к Сереже подошел Дима, выхватил машину и стал с ней играть. Тогда Сережа … Что сделал Сережа? Почем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 улице Саша увидел маленького котенка, который дрожал от холода и жалобно мяукал. Тогда Саша … Что сделал Саша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уя с ребенком, поделитесь собств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оминаниями, пережитыми чувствами. Ребе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знать, что взрослым тоже не ч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живания. Такие минуты откровения очень це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бенка. Они учат его понимать эмоцион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кружающих людей, способств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ю умения адекватно оценивать себ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овать собственное поведение и настро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ают заботиться о близких, помогают обр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DSC05961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йте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йте способность к взаимодейств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обсудите диалог по расска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Д. Ушинского «Худо тому, кто добр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ает ником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уждайте ребенка к ответам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чем попросил мальчик Гриш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он попроси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ак можно было бы еще попрос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слова уместно употреблять в просьб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 ли Гриша просьб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Гриша отказал товарищ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можно назвать ответ- отказ Гриш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ть, если нельзя выполнить просьб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ли уметь отказыв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должен быть отказ, чтобы не обиде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те с ребенком типичные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его общении с другими деть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SC05978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1T15:11:18Z</dcterms:created>
  <dc:creator>Customer</dc:creator>
  <dc:description/>
  <dc:language>en-US</dc:language>
  <cp:lastModifiedBy>Alex</cp:lastModifiedBy>
  <dcterms:modified xsi:type="dcterms:W3CDTF">2019-05-02T10:59:47Z</dcterms:modified>
  <cp:revision>37</cp:revision>
  <dc:subject/>
  <dc:title>Слайд 1</dc:title>
</cp:coreProperties>
</file>