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BD7-2799-461D-A2AA-51D27AFB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4E43-F9B9-49F1-9E06-5BC249F0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5574-1B8C-4CD1-B234-2533BEA4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BF46-99E8-4258-86E5-A3DECD60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247-0137-4203-9883-34774292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B56F-7A65-412F-BC7A-9E3F4A98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F60-1EB4-4D6D-BF4B-5BD9734A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02CB-694A-4DC3-A860-29C5B463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7FD8-232B-459F-AEA1-B2B8EC8B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E03C-FB2E-4A9B-9E6A-FC5317C0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941-4E02-42D5-BEB3-48AD5019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5EA-B655-4283-9E71-BE660D1B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2084-4A62-49B0-AB80-B3798AB50D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51832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инар для родителей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ско-родительские отноше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фактор, оказывающий влияние на эмоциональну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зывчивость детей</a:t>
            </a:r>
            <a:br>
              <a:rPr sz="2400"/>
            </a:b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ила: воспитатель Мариненкова Т.Г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оции являются «центральным звеном» психической жизни человека, и прежде всего ребенк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.С. Выготский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333360"/>
            <a:ext cx="83008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суждайте пословицы и поговорки</a:t>
            </a:r>
            <a:br>
              <a:rPr sz="2800"/>
            </a:b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добродушии говорят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Добрый поступок красит человека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ты это понимаешь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злом человеке скажут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С ним водиться, что в крапиву садиться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так можно сказать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жадном человеке говорят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У него снега зимой не выпросишь»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и почем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трудолюбивом человеке скажут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У него в руках дело огнем горит»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это значит? (дело огнем горит – быстро и хорошо получается любая работа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ты понимаешь значение пословицы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Любишь кататься, люби и саночки возить»?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можешь назвать себя ленивым человеком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завидовал своему другу? У тебя была такая ситуация, про которую можно сказать словами пословицы: 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чужой лодке всегда больше рыбки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комство с чувственной стороной жизни человека связано с речевой деятельностью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буждайте ребенка делиться своими мыслями, пережив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DSC05975"/>
          <p:cNvPicPr/>
          <p:nvPr/>
        </p:nvPicPr>
        <p:blipFill>
          <a:blip r:embed="rId1"/>
          <a:stretch/>
        </p:blipFill>
        <p:spPr>
          <a:xfrm>
            <a:off x="531720" y="1600200"/>
            <a:ext cx="388944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DSC05976"/>
          <p:cNvPicPr/>
          <p:nvPr/>
        </p:nvPicPr>
        <p:blipFill>
          <a:blip r:embed="rId2"/>
          <a:stretch/>
        </p:blipFill>
        <p:spPr>
          <a:xfrm>
            <a:off x="4718160" y="1628640"/>
            <a:ext cx="3889440" cy="2186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DSC05980"/>
          <p:cNvPicPr/>
          <p:nvPr/>
        </p:nvPicPr>
        <p:blipFill>
          <a:blip r:embed="rId3"/>
          <a:stretch/>
        </p:blipFill>
        <p:spPr>
          <a:xfrm>
            <a:off x="541440" y="3933720"/>
            <a:ext cx="3890880" cy="2187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DSC05981"/>
          <p:cNvPicPr/>
          <p:nvPr/>
        </p:nvPicPr>
        <p:blipFill>
          <a:blip r:embed="rId4"/>
          <a:stretch/>
        </p:blipFill>
        <p:spPr>
          <a:xfrm>
            <a:off x="4716360" y="3933720"/>
            <a:ext cx="38912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тивизируйте речевое общение ребенка, его инициативные высказывания, касающиеся личного опыта и знакомых жизненных ситуаций. Постепенно происходит освоение ребенком основных форм речи – диалога и моноло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DSC05987"/>
          <p:cNvPicPr/>
          <p:nvPr/>
        </p:nvPicPr>
        <p:blipFill>
          <a:blip r:embed="rId1"/>
          <a:stretch/>
        </p:blipFill>
        <p:spPr>
          <a:xfrm>
            <a:off x="542880" y="1628640"/>
            <a:ext cx="3889440" cy="218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DSC05999"/>
          <p:cNvPicPr/>
          <p:nvPr/>
        </p:nvPicPr>
        <p:blipFill>
          <a:blip r:embed="rId2"/>
          <a:stretch/>
        </p:blipFill>
        <p:spPr>
          <a:xfrm>
            <a:off x="541440" y="3933720"/>
            <a:ext cx="3890880" cy="2187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DSC05972"/>
          <p:cNvPicPr/>
          <p:nvPr/>
        </p:nvPicPr>
        <p:blipFill>
          <a:blip r:embed="rId3"/>
          <a:stretch/>
        </p:blipFill>
        <p:spPr>
          <a:xfrm>
            <a:off x="4718160" y="1628640"/>
            <a:ext cx="3889440" cy="2186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DSC06002"/>
          <p:cNvPicPr/>
          <p:nvPr/>
        </p:nvPicPr>
        <p:blipFill>
          <a:blip r:embed="rId4"/>
          <a:stretch/>
        </p:blipFill>
        <p:spPr>
          <a:xfrm>
            <a:off x="4721400" y="3938760"/>
            <a:ext cx="38908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ажаемые родители!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малыш развивался, надо жить вместе с ним эмоционально насыщенной жизнью, что является важным фактором развития эмоционально – личностной сферы детей. Знакомясь с разнообразными чувствами, ребенок овладевает и своими эмоциями, учится ими управл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 из ФГОС Д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семинара:</a:t>
            </a:r>
            <a:br>
              <a:rPr sz="32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Повышение компетентности родителе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начимости их влияния на развитие эмоциональной отзывчивости реб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моциональная отзывчив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способность человека к сопереживанию другим людям, пониманию их внутреннего состоя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семьи складываются присущие только ей эмоционально-нравственный опыт, убеждения, идеалы, оценки и ценностные ориентиры, отношение к окружающим людя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нно общение обеспечивает ребенку культурное развитие, т.е. то, чему человек учится, чтобы управлять собственными психическими процессами, своим поведением. Культурный человек – это человек, который умеет управлять самим собой, собственной деятельностью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из Федерального государственного стандарта дошкольного образо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важаемые родители! Предлагаю подумать,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какие на ваш взгляд существуют отношения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между детьми и родителями?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ходе исследования специалисты выделяют два вида детско-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родительских отношений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устительское отнош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ак развивается ребенок, так пусть и будет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монич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(родители стараются быть в курсе всех событ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в жизни ребенка, стараются быть образцом для подражания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ие факторы влияют на отношения между детьми и родителями?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пециалисты выделяют следующие факторы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отношения между членами семь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общения родителей с ребенком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ическая грамотность родителей в вопросах воспитания ребенк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 ребенка происходит по старинке: «меня так воспитывали, и 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же вырос!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ый статус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аукнется, так и откликн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легко обидеть челове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зял и бросил фразу злее перца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потом порой не хватит ве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 вернуть обиженное сердц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Э. Асад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часто мы, не умея контролировать сво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моции, совершаем непредсказуем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упки, произносим необдуманные сло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ые ранят окружающих, а порой и оч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зких люд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жизни есть многое из того, что выводит н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 себя. Чувства, которые мы счита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гативными, всегда можно рассматривать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итивном ключе, все зависит от наш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ственного отношения к себе и тем, с к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общаем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SC05965"/>
          <p:cNvPicPr/>
          <p:nvPr/>
        </p:nvPicPr>
        <p:blipFill>
          <a:blip r:embed="rId1"/>
          <a:stretch/>
        </p:blipFill>
        <p:spPr>
          <a:xfrm>
            <a:off x="4643280" y="1628640"/>
            <a:ext cx="41817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ка для родителей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сматривайте мультфильмы, вызывающие эмоциональную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отзывчивость ребенка на чувства героя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тайте сказки, беседуйте по их содержанию, просите, чтобы ребено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выражал свое отношение к персонажам сказк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вайте проблемные ситуации, которые будут способствова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развитию эмоциональной отзывчивости ребенка на чувства окружающих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йте сами максимум доброжелательности к окружающим людям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атривайте иллюстрации с различными эмоциональны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остояниями людей (грустный, веселый, обиженный и т.д.). Задавайт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вопросы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то можно изменить, чтобы он перестал грустить, обижаться, плакать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бе нравится, когда люди веселые? Как ты думаешь, почему он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селые?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йте в словесные игры «Хорошо-плохо», задавая вопросы по ходу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ситуации.</a:t>
            </a: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упай так, как ты хочешь, чтобы поступал твой ребено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роявление эмоциональной отзывчивости детей зависит от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рактического примера взрослог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аким образом в игровой форме вы формируете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отношение ребенка к окружаю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буждайте ребенка к эмоциональной отзывч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вайте ребенку 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но ли смеяться, если твой товари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ал?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но ли обижать животных?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ужно ли делиться игрушками с друг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ьми?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но ли драться, если другой ребенок отобрал у тебя игрушку?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с высоким уровнем сформирова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 о социальных эмоциях охотно оказыв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щь сверстнику, откликается на е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оциональное состоя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со средним уровнем эмоциональ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зывчивости замечают эмоциональное состо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ерстника, но не пытаются его утешить. Начин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ать окружающим с энтузиазмом, но это 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 надоед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с низким уровнем эмоциональ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зывчивости равнодушно реагируют на успех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дачи других. При обосновании ответов 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уются лишь своими жела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DSC05962"/>
          <p:cNvPicPr/>
          <p:nvPr/>
        </p:nvPicPr>
        <p:blipFill>
          <a:blip r:embed="rId1"/>
          <a:stretch/>
        </p:blipFill>
        <p:spPr>
          <a:xfrm>
            <a:off x="4427640" y="1413000"/>
            <a:ext cx="4259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руйте педагогические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259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ите ребенку закончить рассказанн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му ситуа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ша и Оля играли в «дочки-матери». К ним подошел маленький мальчик и попросил: «Я тоже хочу играть.» «Мы тебя не возьмем, ты еще маленький», - ответила Оля. А Маша сказала … Что сказала Маша?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ережа играл с самосвалом. Вдруг к Сереже подошел Дима, выхватил машину и стал с ней играть. Тогда Сережа … Что сделал Сережа? Почему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а улице Саша увидел маленького котенка, который дрожал от холода и жалобно мяукал. Тогда Саша … Что сделал Саша?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едуя с ребенком, поделитесь собствен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оминаниями, пережитыми чувствами. Ребен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знать, что взрослым тоже не чуж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живания. Такие минуты откровения очень цен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ребенка. Они учат его понимать эмоциональ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окружающих людей, способству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ю умения адекватно оценивать себ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овать собственное поведение и настрое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буждают заботиться о близких, помогают обр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ренность в 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DSC05961"/>
          <p:cNvPicPr/>
          <p:nvPr/>
        </p:nvPicPr>
        <p:blipFill>
          <a:blip r:embed="rId1"/>
          <a:stretch/>
        </p:blipFill>
        <p:spPr>
          <a:xfrm>
            <a:off x="4716360" y="1557360"/>
            <a:ext cx="3959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уйте об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вайте способность к взаимодейств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имер, обсудите диалог по рассказ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.Д. Ушинского «Худо тому, кто добра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лает никому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буждайте ребенка к ответам на вопро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чем попросил мальчик Гриш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он попроси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как можно было бы еще попросит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е слова уместно употреблять в просьб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ил ли Гриша просьб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Гриша отказал товарищ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м можно назвать ответ- отказ Гриш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делать, если нельзя выполнить просьб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о ли уметь отказыват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м должен быть отказ, чтобы не обиде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мотрите с ребенком типичные ситу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его общении с другими деть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DSC05978"/>
          <p:cNvPicPr/>
          <p:nvPr/>
        </p:nvPicPr>
        <p:blipFill>
          <a:blip r:embed="rId1"/>
          <a:stretch/>
        </p:blipFill>
        <p:spPr>
          <a:xfrm>
            <a:off x="4643280" y="1628640"/>
            <a:ext cx="40388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1T15:11:18Z</dcterms:created>
  <dc:creator>Customer</dc:creator>
  <dc:description/>
  <dc:language>en-US</dc:language>
  <cp:lastModifiedBy>Alex</cp:lastModifiedBy>
  <dcterms:modified xsi:type="dcterms:W3CDTF">2019-05-02T10:59:47Z</dcterms:modified>
  <cp:revision>37</cp:revision>
  <dc:subject/>
  <dc:title>Слайд 1</dc:title>
</cp:coreProperties>
</file>