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075-B7EB-48F7-8294-0623545D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5E3-71E7-435B-82F4-85228389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5CA-34BA-43E4-9384-1E9C8B21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C19-6232-4A36-8713-475C2479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6288-D6B3-44B0-A816-FDA52E18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81F5-6BAE-49D5-A7F5-8C379EE3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486-D9C5-4A8E-B694-121DCBE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22FB-7207-4EC5-8B97-4D97E60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869D-C4A1-4634-8519-F092B63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CA3-3B4E-4076-96D0-D8FDECD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75D-F3C9-4E40-9EC4-3601C30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AEA-6542-4804-94DF-C8CEE21B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50B6-B7A2-475C-B96C-F26F1E0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25BC-3D05-4F66-9B72-A2DB112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20FA-009A-4A66-A88F-677B405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44D-8B4E-4BAC-83A0-990B8C83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0FAB-55DC-4AE0-A658-7976577E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DEC-BE2C-4AA2-8CF2-219FF7C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1D7-015E-475F-B3A7-021EA8C2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269-A9FB-4F19-8B22-2D5D454C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E00-2B83-4A98-8E8B-D9A84D6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B03-BC85-40FF-AEA5-241D2D9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DDA-F8ED-4C1D-83AF-BCB0438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55E-6B26-4A9D-9D1E-EE01840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6AB-42EA-4EA5-8E2E-6F5D6D7EC72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ADB-A85A-4BCF-B292-CCF525C2CFE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тинка 101 из 73741"/>
          <p:cNvPicPr/>
          <p:nvPr/>
        </p:nvPicPr>
        <p:blipFill>
          <a:blip r:embed="rId1"/>
          <a:stretch/>
        </p:blipFill>
        <p:spPr>
          <a:xfrm>
            <a:off x="0" y="1212840"/>
            <a:ext cx="2712960" cy="4071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700360" y="234936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-дефектолог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иевой Лилии Амиров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2018 – 2019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imes New Roman"/>
              </a:rPr>
              <a:t>Тема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«Формирование коммуникативных навыков у обучающихся с нарушением опорно – двигательного аппарата через развитие речи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b13f9a"/>
                </a:solidFill>
                <a:latin typeface="Times New Roman"/>
              </a:rPr>
              <a:t>Актуальность темы: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та тема для меня важна, потому что реч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учающихся, воспитанников является ключевым моментом в их развит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спехи обучающихся, воспитанников в связной речи обеспечивают в будущ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в большей мере определяют успех в школе, способствует форм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лноценного навыка чтения и повышению орфографической грамот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не как педагогу это очень импонирует. Ведь работа по развитию речи – э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мение выбирать нужные слова и правильно употреблять их в речи, строи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едложения и связную речь. Как показала практика обучающиес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спитанники очень любят творческий характер, а также самостоятельность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ь самим сочинять и рассказывать друзьям. Я стараюсь, чтоб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учающиеся, воспитанники показали отношения к тому, что они видели, ч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м особенно понравилось, заинтересовало их и почему, какие выводы он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делали. Всё это побудило меня значительно больше уделять вним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звитию связной речи у обучающихся, воспитанник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imes New Roman"/>
              </a:rPr>
              <a:t>Цель: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и развитие коммуникативных навыков свободного общения со взрослыми и деть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ть диалогическую форму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ь связно, последовательно и выразительно пересказ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большие сказки, расска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умение составлять свои рассказы по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Гипотез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я правильно подберу методы и приёмы по формированию коммуникативных навыков у обучающихся, воспитанников с умеренной умственной отсталостью, то повышу свою профессиональную компетен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0040" y="1709280"/>
            <a:ext cx="637092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Ожидаемый результат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работы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бразованию я приобрету следующи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блично предъявлять свой опыт работы по формированию коммуникативных навыков у обучающихся, воспитанников с умеренной умственной отстал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ю методические рекомендации по использованию коррекционно развивающего инструмент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15920"/>
            <a:ext cx="742788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до сделать, чтобы рассказы получились хорошими и интересны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дагог сосредоточивает обучающихся, воспитанников на дета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и картины. Это развивает у них навыки наблю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еся, воспитанники в основном самостоятель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ртину с целью подготовить рассказ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 педагог своими вопросами и указани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чем нужно в первую очередь сказат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чем следует сказать особенно подробн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закончить рассказ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слова нужно припомнить, чтобы о том или ином сказать точнее и интересне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могает им выявить в картинном материале главное, существен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метить последовательность изложения, обдумать выбор слов. 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о сам намечает план построения рассказа и производ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бор словесного материала, но он не спешит сообщить обучающим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нникам готовый вариант, а ориентирует их на самостояте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задачи, учит проявлять инициативу при отборе фактов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каза, при обдумывании последовательности их распо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94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авление рассказа по серии картинок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рассказа Г. 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з называ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еретягивание канат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.AVI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95" name="2.AVI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96" name="3.AVI" descr=""/>
          <p:cNvPicPr/>
          <p:nvPr/>
        </p:nvPicPr>
        <p:blipFill>
          <a:blip r:embed="rId3"/>
          <a:stretch/>
        </p:blipFill>
        <p:spPr>
          <a:xfrm>
            <a:off x="2268360" y="4149720"/>
            <a:ext cx="31305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5"/>
          <p:cNvPicPr/>
          <p:nvPr/>
        </p:nvPicPr>
        <p:blipFill>
          <a:blip r:embed="rId1"/>
          <a:stretch/>
        </p:blipFill>
        <p:spPr>
          <a:xfrm>
            <a:off x="539640" y="82404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95280" y="1125360"/>
            <a:ext cx="354348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люблю составлять рассказы по картин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дорогие друзья понравились мои рассказ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 очень рад с уважением А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6:13:06Z</dcterms:created>
  <dc:creator>Александр</dc:creator>
  <dc:description/>
  <dc:language>en-US</dc:language>
  <cp:lastModifiedBy>lenovo</cp:lastModifiedBy>
  <dcterms:modified xsi:type="dcterms:W3CDTF">2019-05-02T13:25:30Z</dcterms:modified>
  <cp:revision>25</cp:revision>
  <dc:subject/>
  <dc:title>Слайд 1</dc:title>
</cp:coreProperties>
</file>