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A1B-5909-4C8F-B40C-8E5356F1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220-CCA0-48E0-AD2C-40FC0763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9DF-5034-462D-8682-2B2ECC95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CB7-DA86-48AB-BE0B-62BFF468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001E-1026-49F2-B17D-6B6280A6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0DB9-1B5F-46D5-8B25-6B39D07F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AA2D-0AFE-4F1C-821F-431EDECE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5C64-EEB4-4C88-B218-9320F92B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8B83-C14D-4EC7-BB28-AA5D0EEC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7939-9948-4531-B7C3-193E157E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B661-125B-4AFC-8507-9B38D3E5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CEA-8B19-4683-A417-64F9587B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F2A1-760B-4D39-99CD-62C5B851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EEC1-8A24-4935-A021-8BD6368D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A230-498A-4F38-931F-ECD5D0F3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B4F0-A657-4EB5-9519-00BAB106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F4E0-DC73-4AE5-A0B0-98C746D3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02C-9131-4BF2-816D-F0C80D7C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385-1EA5-4BFE-A318-5FADE843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4F7-A717-4EAD-911B-31D9FBB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1E4-550D-4AA7-BA27-B527635E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877-9CA5-4D32-AABB-CF8D8D6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5FA-B2EC-47EE-84C7-C308017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FED-9749-4365-A5DB-8D8E3158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FC21-43C2-478D-984C-9EC12FB94E5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6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2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956B-1AA8-48A2-BE37-2E18F273CB7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артинка 101 из 73741"/>
          <p:cNvPicPr/>
          <p:nvPr/>
        </p:nvPicPr>
        <p:blipFill>
          <a:blip r:embed="rId1"/>
          <a:stretch/>
        </p:blipFill>
        <p:spPr>
          <a:xfrm>
            <a:off x="0" y="1212840"/>
            <a:ext cx="2712960" cy="4071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700360" y="2349360"/>
            <a:ext cx="53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я-дефектолога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миевой Лилии Амиров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2018 – 2019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804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b13f9a"/>
                </a:solidFill>
                <a:latin typeface="Times New Roman"/>
              </a:rPr>
              <a:t>Тема: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«Формирование коммуникативных навыков у обучающихся с нарушением опорно – двигательного аппарата через развитие речи»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b13f9a"/>
                </a:solidFill>
                <a:latin typeface="Times New Roman"/>
              </a:rPr>
              <a:t>Актуальность темы: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та тема для меня важна, потому что реч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бучающихся, воспитанников является ключевым моментом в их развит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спехи обучающихся, воспитанников в связной речи обеспечивают в будущ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 в большей мере определяют успех в школе, способствует форм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олноценного навыка чтения и повышению орфографической грамот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Мне как педагогу это очень импонирует. Ведь работа по развитию речи – э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мение выбирать нужные слова и правильно употреблять их в речи, строи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предложения и связную речь. Как показала практика обучающиес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спитанники очень любят творческий характер, а также самостоятельность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ь самим сочинять и рассказывать друзьям. Я стараюсь, чтоб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бучающиеся, воспитанники показали отношения к тому, что они видели, ч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им особенно понравилось, заинтересовало их и почему, какие выводы он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делали. Всё это побудило меня значительно больше уделять вним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азвитию связной речи у обучающихся, воспитанник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b13f9a"/>
                </a:solidFill>
                <a:latin typeface="Times New Roman"/>
              </a:rPr>
              <a:t>Цель: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и развитие коммуникативных навыков свободного общения со взрослыми и деть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ть диалогическую форму ре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ь связно, последовательно и выразительно пересказы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большие сказки, расска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умение составлять свои рассказы по картин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Гипотеза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я правильно подберу методы и приёмы по формированию коммуникативных навыков у обучающихся, воспитанников с умеренной умственной отсталостью, то повышу свою профессиональную компетен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90040" y="1709280"/>
            <a:ext cx="637092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13f9a"/>
                </a:solidFill>
                <a:latin typeface="Times New Roman"/>
              </a:rPr>
              <a:t>Ожидаемый результат 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работы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образованию я приобрету следующи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блично предъявлять свой опыт работы по формированию коммуникативных навыков у обучающихся, воспитанников с умеренной умственной отстал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лю методические рекомендации по использованию коррекционно развивающего инструмент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15920"/>
            <a:ext cx="742788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про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надо сделать, чтобы рассказы получились хорошими и интересны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дагог сосредоточивает обучающихся, воспитанников на деталь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и картины. Это развивает у них навыки наблю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ающиеся, воспитанники в основном самостоятель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ртину с целью подготовить рассказ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этом педагог своими вопросами и указания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чем нужно в первую очередь сказат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чем следует сказать особенно подробно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закончить рассказ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слова нужно припомнить, чтобы о том или ином сказать точнее и интересне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могает им выявить в картинном материале главное, существенно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метить последовательность изложения, обдумать выбор слов. Педаг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о сам намечает план построения рассказа и производи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бор словесного материала, но он не спешит сообщить обучающим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нникам готовый вариант, а ориентирует их на самостояте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е задачи, учит проявлять инициативу при отборе фактов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каза, при обдумывании последовательности их распо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94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ставление рассказа по серии картинок</a:t>
            </a:r>
            <a:br>
              <a:rPr sz="1600"/>
            </a:b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рассказа Г. 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каз называ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еретягивание канат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1.AVI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128760" cy="2346480"/>
          </a:xfrm>
          <a:prstGeom prst="rect">
            <a:avLst/>
          </a:prstGeom>
          <a:ln w="0">
            <a:noFill/>
          </a:ln>
        </p:spPr>
      </p:pic>
      <p:pic>
        <p:nvPicPr>
          <p:cNvPr id="95" name="2.AVI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3128760" cy="2346480"/>
          </a:xfrm>
          <a:prstGeom prst="rect">
            <a:avLst/>
          </a:prstGeom>
          <a:ln w="0">
            <a:noFill/>
          </a:ln>
        </p:spPr>
      </p:pic>
      <p:pic>
        <p:nvPicPr>
          <p:cNvPr id="96" name="3.AVI" descr=""/>
          <p:cNvPicPr/>
          <p:nvPr/>
        </p:nvPicPr>
        <p:blipFill>
          <a:blip r:embed="rId3"/>
          <a:stretch/>
        </p:blipFill>
        <p:spPr>
          <a:xfrm>
            <a:off x="2268360" y="4149720"/>
            <a:ext cx="31305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9" descr="5"/>
          <p:cNvPicPr/>
          <p:nvPr/>
        </p:nvPicPr>
        <p:blipFill>
          <a:blip r:embed="rId1"/>
          <a:stretch/>
        </p:blipFill>
        <p:spPr>
          <a:xfrm>
            <a:off x="539640" y="824040"/>
            <a:ext cx="3240360" cy="243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995280" y="1125360"/>
            <a:ext cx="354348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Я, люблю составлять рассказы по картинк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дорогие друзья понравились мои рассказ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м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 очень рад с уважением А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6:13:06Z</dcterms:created>
  <dc:creator>Александр</dc:creator>
  <dc:description/>
  <dc:language>en-US</dc:language>
  <cp:lastModifiedBy>lenovo</cp:lastModifiedBy>
  <dcterms:modified xsi:type="dcterms:W3CDTF">2019-05-02T13:25:30Z</dcterms:modified>
  <cp:revision>25</cp:revision>
  <dc:subject/>
  <dc:title>Слайд 1</dc:title>
</cp:coreProperties>
</file>