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62D7-A917-4EAC-A660-ED9D859C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229A-6BAF-4E75-B03B-8C55FD76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E217-1656-43E7-9352-C9A36606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266B-3A65-4C65-82A2-DB17F119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00E6-A1BB-43AF-8553-D81097AD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8FCF-EBA4-42B3-A095-E9A9E5AB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6B70-F0BA-4ADB-B5C8-4D42108B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A349-AEC9-4811-BAC0-F31E83A9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7EA9-1450-4476-82B8-029601F0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3B00-7B17-40B4-92F4-B58C8E12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A100-08BC-4182-9777-146B811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5C06-056C-42D1-A07A-D2BBA741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0BA4-F048-4A85-93A3-F427DD19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9ACF-74AA-4757-8380-02A726A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BB01-AEC6-4721-908F-6F1F702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6EC2-186B-49DC-945C-C096E72B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547F-F120-4D81-9B30-38EC9521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7F4A-1585-4224-9F04-944C72D4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DA06-3BF0-46AF-848E-F95055AB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8E8B-21CC-46F1-9453-20CEFF0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74E3-411A-49A6-B68D-DD044EC9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6383-8AA4-4540-95AF-28E192FE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4DE0-182B-4D8F-A1C4-F108A49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61D5-544F-470C-B999-DEB1907B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6A34-BAFA-44D2-86C3-A3518BD96C5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CF28-6F82-45CE-BB6C-7B31B0E2600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306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МБОУ «Центр образования №21»</a:t>
            </a:r>
            <a:br>
              <a:rPr sz="3200"/>
            </a:b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Старшая группа</a:t>
            </a:r>
            <a:br>
              <a:rPr sz="4800"/>
            </a:br>
            <a:br>
              <a:rPr sz="4800"/>
            </a:br>
            <a:r>
              <a:rPr b="0" lang="ru-RU" sz="4000" spc="-1" strike="noStrike">
                <a:solidFill>
                  <a:srgbClr val="dafae0"/>
                </a:solidFill>
                <a:latin typeface="Times New Roman"/>
              </a:rPr>
              <a:t>Техника нетрадиционного рисова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9528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afae0"/>
                </a:solidFill>
                <a:latin typeface="Times New Roman"/>
              </a:rPr>
              <a:t>Кляксограф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Воспитатель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Нуруллаева Г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dafae0"/>
                </a:solidFill>
                <a:latin typeface="Times New Roman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28600" y="914040"/>
            <a:ext cx="853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afae0"/>
                </a:solidFill>
                <a:latin typeface="Times New Roman"/>
              </a:rPr>
              <a:t>Тема:   </a:t>
            </a:r>
            <a:r>
              <a:rPr b="0" i="1" lang="ru-RU" sz="4000" spc="-1" strike="noStrike">
                <a:solidFill>
                  <a:srgbClr val="dafae0"/>
                </a:solidFill>
                <a:latin typeface="Times New Roman"/>
              </a:rPr>
              <a:t>« Зимний узор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afae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afae0"/>
                </a:solidFill>
                <a:latin typeface="Times New Roman"/>
              </a:rPr>
              <a:t>Цель:  </a:t>
            </a:r>
            <a:r>
              <a:rPr b="0" i="1" lang="ru-RU" sz="4000" spc="-1" strike="noStrike">
                <a:solidFill>
                  <a:srgbClr val="dafae0"/>
                </a:solidFill>
                <a:latin typeface="Times New Roman"/>
              </a:rPr>
              <a:t>Продолжать закреплять умение  выполнять работу в нетрадиционных техника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ограммное содерж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Times New Roman"/>
              </a:rPr>
              <a:t>Художественно – эстетическое  развитие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Познакомить детей с новым видом нетрадиционной техники рисования « кляксография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Познакомить с методом рисования при помощи трубочки и методом дорисовывания при помощи салфет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Формировать умение передавать цветовую гам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Развивать цветовосприятие, чувство компози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Вызвать желание детей передавать свои впечатления от восприятия предметов в изо- деятельности, подводить их к осознанию выразительного обр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6600"/>
                </a:solidFill>
                <a:latin typeface="Times New Roman"/>
              </a:rPr>
              <a:t>Познавательное развит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звивать познавательную и исследовательскую 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звивать воображение, внимание, память и мышл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звивать дыхательную систе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6600"/>
                </a:solidFill>
                <a:latin typeface="Times New Roman"/>
              </a:rPr>
              <a:t>Коммуникативное развит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ть речь как средство общ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ть умение точно характеризовать объект, высказывать предположения и делать простейшие выводы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228600" y="263520"/>
            <a:ext cx="861048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fae0"/>
                </a:solidFill>
                <a:latin typeface="Times New Roman"/>
              </a:rPr>
              <a:t>Предварительная работа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Рассматривание узоров на стекле во время мороз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Рассматривание иллюстраций на тему « Какой мороз». Использование ИКТ-техн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Игры с водой и трубочкой для коктейля                          « морской бо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Выдувание воздуха через трубоч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Изготовление фона в технике «По мокрому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914400" y="685800"/>
            <a:ext cx="62485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fae0"/>
                </a:solidFill>
                <a:latin typeface="Arial"/>
              </a:rPr>
              <a:t>Оборудование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Альбомные  лис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Разведенная гуаш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Акварель, кисть для рисова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Трубочки для коктей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Вода в баноч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Манная крупа на тарелоч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Бумажные салфе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afae0"/>
                </a:solidFill>
                <a:latin typeface="Tahoma"/>
              </a:rPr>
              <a:t>Инструктаж по безопасности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afae0"/>
                </a:solidFill>
                <a:latin typeface="Tahoma"/>
              </a:rPr>
              <a:t>На занятии по изодеятельности надо напомнить детям некоторые прав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Давать ножницы товарищу и ставить их в стакан можно только кольцами вверх, а не острыми конц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Нельзя размахивать кисточками и использовать их как указк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Класть кисточки  только на подстав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Нельзя разбрызгивать краски (гуашь) перед собой (на стол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Нельзя брать рабочие инструменты (материалы) в ро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afae0"/>
                </a:solidFill>
                <a:latin typeface="Times New Roman"/>
              </a:rPr>
              <a:t>Ход занятия:</a:t>
            </a:r>
            <a:br>
              <a:rPr sz="4200"/>
            </a:br>
            <a:r>
              <a:rPr b="0" i="1" lang="ru-RU" sz="4200" spc="-1" strike="noStrike">
                <a:solidFill>
                  <a:srgbClr val="dafae0"/>
                </a:solidFill>
                <a:latin typeface="Times New Roman"/>
              </a:rPr>
              <a:t>Мотивационный этап</a:t>
            </a:r>
            <a:br>
              <a:rPr sz="42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dafae0"/>
                </a:solidFill>
                <a:latin typeface="Times New Roman"/>
              </a:rPr>
              <a:t>Ориентированный этап</a:t>
            </a:r>
            <a:br>
              <a:rPr sz="36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dafae0"/>
                </a:solidFill>
                <a:latin typeface="Times New Roman"/>
              </a:rPr>
              <a:t>Исполнительный этап</a:t>
            </a:r>
            <a:br>
              <a:rPr sz="3600"/>
            </a:br>
            <a:r>
              <a:rPr b="0" i="1" lang="ru-RU" sz="3600" spc="-1" strike="noStrike">
                <a:solidFill>
                  <a:srgbClr val="dafae0"/>
                </a:solidFill>
                <a:latin typeface="Times New Roman"/>
              </a:rPr>
              <a:t>Рефлексивный этап </a:t>
            </a:r>
            <a:br>
              <a:rPr sz="36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dafae0"/>
                </a:solidFill>
                <a:latin typeface="Times New Roman"/>
              </a:rPr>
              <a:t>Перспективный этап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80880" y="373320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:\Users\Khaitov\Desktop\20190115_102122-2.jpg"/>
          <p:cNvPicPr/>
          <p:nvPr/>
        </p:nvPicPr>
        <p:blipFill>
          <a:blip r:embed="rId1"/>
          <a:stretch/>
        </p:blipFill>
        <p:spPr>
          <a:xfrm>
            <a:off x="609480" y="1522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Users\Khaitov\Desktop\20190116_173029.jpg"/>
          <p:cNvPicPr/>
          <p:nvPr/>
        </p:nvPicPr>
        <p:blipFill>
          <a:blip r:embed="rId2"/>
          <a:stretch/>
        </p:blipFill>
        <p:spPr>
          <a:xfrm>
            <a:off x="4952880" y="297180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Users\Khaitov\Desktop\20190115_102531-1.jpg"/>
          <p:cNvPicPr/>
          <p:nvPr/>
        </p:nvPicPr>
        <p:blipFill>
          <a:blip r:embed="rId3"/>
          <a:stretch/>
        </p:blipFill>
        <p:spPr>
          <a:xfrm>
            <a:off x="457200" y="312408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140" name="Объект 13" descr="C:\Users\Khaitov\Desktop\зан мат\20190311_162221.jpg"/>
          <p:cNvPicPr/>
          <p:nvPr/>
        </p:nvPicPr>
        <p:blipFill>
          <a:blip r:embed="rId4"/>
          <a:stretch/>
        </p:blipFill>
        <p:spPr>
          <a:xfrm>
            <a:off x="5029200" y="152280"/>
            <a:ext cx="3581280" cy="26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тог занят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419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Просмотр детских рисунков проводится с заданием выбора выразительных образов: самый необычный, яркий,  узор. Отмечается реалистичность  изображения. У каждого ребенка выясняется, какие материалы и техники он применял.</a:t>
            </a:r>
            <a:r>
              <a:rPr b="0" lang="ru-RU" sz="2400" spc="-1" strike="noStrike">
                <a:solidFill>
                  <a:srgbClr val="dafae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C:\Users\Khaitov\Desktop\20190115_102531-1.jpg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11:45:09Z</dcterms:created>
  <dc:creator>1</dc:creator>
  <dc:description/>
  <dc:language>en-US</dc:language>
  <cp:lastModifiedBy>Khaitov</cp:lastModifiedBy>
  <dcterms:modified xsi:type="dcterms:W3CDTF">2019-04-28T21:07:4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