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C17E-2D29-4306-8A0F-930BF77E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5F28-3E16-4A4D-AE28-B95A820C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3904C-8EF6-4B75-93E3-4A15570E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3F42-AB3A-4B30-9BAC-D7DB2EE0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CD38-F091-4079-BD5A-0E59D4E8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B73-4EB3-4377-A2B5-AB72115F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E1E-76A3-41CF-B8E0-16F890B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3CA-92F6-4479-A787-540CB23B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E5D1-418A-47AB-93D8-E7A98153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C57-E53F-4E21-8284-3B2EF0D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B1A7-C455-464B-9FC5-0853F2C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049F-C6E4-43BE-B92D-0C082E63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CC67-AE81-43DF-A053-05986A1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EE9-F4E1-4896-A40F-301BEDC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D7D-31F6-4A7F-B931-FAE1584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B663-2657-45DE-B0D2-135C9DB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AB40-7061-4006-B531-DCD8C44E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4D17-C1B3-40E5-AB47-43A35D5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18D8-EFEB-4691-8D72-314510E7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78A3-53FC-4A5A-B810-D0E13CF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2DE4-3F37-4AA6-BBC8-D74FB33B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DEE3-005A-4ECB-8D5A-7B83E89D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1C07-7481-4D48-B2A9-BF061DB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34C0B-AFFC-4E6E-8CB2-1B080EC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19A3-3FCB-4F09-95D8-8EDD9D8DF22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991-2969-44B6-AEDD-6F133228200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306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МБОУ «Центр образования №21»</a:t>
            </a:r>
            <a:br>
              <a:rPr sz="3200"/>
            </a:b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Старшая группа</a:t>
            </a:r>
            <a:br>
              <a:rPr sz="4800"/>
            </a:br>
            <a:br>
              <a:rPr sz="4800"/>
            </a:b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Техника нетрадиционного рисова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afae0"/>
                </a:solidFill>
                <a:latin typeface="Times New Roman"/>
              </a:rPr>
              <a:t>Клякс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Воспитател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Нуруллаева Г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dafae0"/>
                </a:solidFill>
                <a:latin typeface="Times New Roman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28600" y="91404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Тема:   </a:t>
            </a:r>
            <a:r>
              <a:rPr b="0" i="1" lang="ru-RU" sz="4000" spc="-1" strike="noStrike">
                <a:solidFill>
                  <a:srgbClr val="dafae0"/>
                </a:solidFill>
                <a:latin typeface="Times New Roman"/>
              </a:rPr>
              <a:t>« Зимний узор"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afae0"/>
                </a:solidFill>
                <a:latin typeface="Times New Roman"/>
              </a:rPr>
              <a:t>Цель:  </a:t>
            </a:r>
            <a:r>
              <a:rPr b="0" i="1" lang="ru-RU" sz="4000" spc="-1" strike="noStrike">
                <a:solidFill>
                  <a:srgbClr val="dafae0"/>
                </a:solidFill>
                <a:latin typeface="Times New Roman"/>
              </a:rPr>
              <a:t>Продолжать закреплять умение  выполнять работу в нетрадиционных техника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ограммное содерж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Художественно – эстетическое  развити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Познакомить детей с новым видом нетрадиционной техники рисования « кляксография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Познакомить с методом рисования при помощи трубочки и методом дорисовывания при помощи салфе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Формировать умение передавать цветовую гам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Развивать цветовосприятие, чувство компози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Вызвать желание детей передавать свои впечатления от восприятия предметов в изо- деятельности, подводить их к осознанию выразительного обра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Познавательное развит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познавательную и исследовательскую 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воображение, внимание, память и мышл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Развивать дыхательную систем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6600"/>
                </a:solidFill>
                <a:latin typeface="Times New Roman"/>
              </a:rPr>
              <a:t>Коммуникативное развити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речь как средство общ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ть умение точно характеризовать объект, высказывать предположения и делать простейшие выводы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228600" y="263520"/>
            <a:ext cx="861048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fae0"/>
                </a:solidFill>
                <a:latin typeface="Times New Roman"/>
              </a:rPr>
              <a:t>Предварительная работа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ссматривание узоров на стекле во время мороз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ссматривание иллюстраций на тему « Какой мороз». Использование ИКТ-технолог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Игры с водой и трубочкой для коктейля                          « морской бо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Выдувание воздуха через трубочк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Изготовление фона в технике «По мокрому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914400" y="685800"/>
            <a:ext cx="62485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fae0"/>
                </a:solidFill>
                <a:latin typeface="Arial"/>
              </a:rPr>
              <a:t>Оборудование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Альбомные  лис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Разведенная гуаш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Акварель, кисть для рисова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Трубочки для коктейл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Вода в баноч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Манная крупа на тарелоч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afae0"/>
                </a:solidFill>
                <a:latin typeface="Times New Roman"/>
              </a:rPr>
              <a:t>Бумажные салфет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afae0"/>
                </a:solidFill>
                <a:latin typeface="Tahoma"/>
              </a:rPr>
              <a:t>Инструктаж по безопасности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afae0"/>
                </a:solidFill>
                <a:latin typeface="Tahoma"/>
              </a:rPr>
              <a:t>На занятии по изодеятельности надо напомнить детям некоторые прав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Давать ножницы товарищу и ставить их в стакан можно только кольцами вверх, а не острыми конц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размахивать кисточками и использовать их как указк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Класть кисточки  только на подстав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разбрызгивать краски (гуашь) перед собой (на стол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Нельзя брать рабочие инструменты (материалы) в ро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dafae0"/>
                </a:solidFill>
                <a:latin typeface="Times New Roman"/>
              </a:rPr>
              <a:t>Ход занятия:</a:t>
            </a:r>
            <a:br>
              <a:rPr sz="4200"/>
            </a:br>
            <a:r>
              <a:rPr b="0" i="1" lang="ru-RU" sz="4200" spc="-1" strike="noStrike">
                <a:solidFill>
                  <a:srgbClr val="dafae0"/>
                </a:solidFill>
                <a:latin typeface="Times New Roman"/>
              </a:rPr>
              <a:t>Мотивационный этап</a:t>
            </a:r>
            <a:br>
              <a:rPr sz="42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Ориентированный этап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Исполнительный этап</a:t>
            </a:r>
            <a:br>
              <a:rPr sz="3600"/>
            </a:b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Рефлексивный этап 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dafae0"/>
                </a:solidFill>
                <a:latin typeface="Times New Roman"/>
              </a:rPr>
              <a:t>Перспективный этап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0880" y="373320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:\Users\Khaitov\Desktop\20190115_102122-2.jpg"/>
          <p:cNvPicPr/>
          <p:nvPr/>
        </p:nvPicPr>
        <p:blipFill>
          <a:blip r:embed="rId1"/>
          <a:stretch/>
        </p:blipFill>
        <p:spPr>
          <a:xfrm>
            <a:off x="609480" y="1522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Khaitov\Desktop\20190116_173029.jpg"/>
          <p:cNvPicPr/>
          <p:nvPr/>
        </p:nvPicPr>
        <p:blipFill>
          <a:blip r:embed="rId2"/>
          <a:stretch/>
        </p:blipFill>
        <p:spPr>
          <a:xfrm>
            <a:off x="4952880" y="2971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Khaitov\Desktop\20190115_102531-1.jpg"/>
          <p:cNvPicPr/>
          <p:nvPr/>
        </p:nvPicPr>
        <p:blipFill>
          <a:blip r:embed="rId3"/>
          <a:stretch/>
        </p:blipFill>
        <p:spPr>
          <a:xfrm>
            <a:off x="457200" y="312408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Объект 13" descr="C:\Users\Khaitov\Desktop\зан мат\20190311_162221.jpg"/>
          <p:cNvPicPr/>
          <p:nvPr/>
        </p:nvPicPr>
        <p:blipFill>
          <a:blip r:embed="rId4"/>
          <a:stretch/>
        </p:blipFill>
        <p:spPr>
          <a:xfrm>
            <a:off x="5029200" y="152280"/>
            <a:ext cx="358128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Итог занят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19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afae0"/>
                </a:solidFill>
                <a:latin typeface="Tahoma"/>
              </a:rPr>
              <a:t>Просмотр детских рисунков проводится с заданием выбора выразительных образов: самый необычный, яркий,  узор. Отмечается реалистичность  изображения. У каждого ребенка выясняется, какие материалы и техники он применял.</a:t>
            </a:r>
            <a:r>
              <a:rPr b="0" lang="ru-RU" sz="2400" spc="-1" strike="noStrike">
                <a:solidFill>
                  <a:srgbClr val="dafae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C:\Users\Khaitov\Desktop\20190115_102531-1.jpg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11:45:09Z</dcterms:created>
  <dc:creator>1</dc:creator>
  <dc:description/>
  <dc:language>en-US</dc:language>
  <cp:lastModifiedBy>Khaitov</cp:lastModifiedBy>
  <dcterms:modified xsi:type="dcterms:W3CDTF">2019-04-28T21:07:4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