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491-F52D-4E72-A706-0B056E0B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7DB-3C2D-4CC1-87E1-8801742F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384-CBD3-4557-B7C0-1EAA460C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4C9-2647-4D64-9843-A564B426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2EC-E3C5-4301-8B82-1604D55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4C2-DEE8-40E6-A040-FBCB238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A54-C58B-46C3-B3F8-F17E79DF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4AA-7365-4523-9457-18C30BA5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F6B-7604-4A39-808C-051640CE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F75-107C-4063-9F6F-673E4AD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0A8-9B9F-416E-9F12-A28C7113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EA68-9E18-47DF-93B4-B0C1BB4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c1c7"/>
            </a:gs>
            <a:gs pos="50000">
              <a:srgbClr val="ccffff"/>
            </a:gs>
            <a:gs pos="100000">
              <a:srgbClr val="77c1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70F-9C16-4D0D-A01B-4B0064AF4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8366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Теорема Варинь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и ее применение.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86080" y="4357800"/>
            <a:ext cx="53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ыполнила: ученица 9Б класса Дорофеева Елизавета Руководитель: учитель математики Покацкая А. 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IMG00159"/>
          <p:cNvPicPr/>
          <p:nvPr/>
        </p:nvPicPr>
        <p:blipFill>
          <a:blip r:embed="rId1"/>
          <a:stretch/>
        </p:blipFill>
        <p:spPr>
          <a:xfrm>
            <a:off x="428760" y="2428920"/>
            <a:ext cx="2279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08000" y="18864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бимедианы  четырехугольника и теоремы Вариньона можно быстро и успешно решать геометрические задачи . В качестве примеров разберём несколько заданий   и решим двумя способами: задачи традиционным способом и с помощью теоремы  Вариньона . Анализируя два способа решения каждой задачи, можно сделать вывод, чт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я и применяя бимедианы  четырехугольника и теоремы Вариньона этот способ гораздо проще. Было подсчитано, что на решение задачи традиционным способом затрачивается времени больше, а зная теорему Вариньона и следствия из нее, доказательство сводится к одному-двум предложениям и занимает 1-2 мин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http://lib2.znate.ru/pars_docs/refs/316/315865/315865_html_218d2a7e.gif"/>
          <p:cNvPicPr/>
          <p:nvPr/>
        </p:nvPicPr>
        <p:blipFill>
          <a:blip r:embed="rId1"/>
          <a:stretch/>
        </p:blipFill>
        <p:spPr>
          <a:xfrm>
            <a:off x="3132000" y="3933720"/>
            <a:ext cx="3086280" cy="17146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"/>
          <p:cNvGrpSpPr/>
          <p:nvPr/>
        </p:nvGrpSpPr>
        <p:grpSpPr>
          <a:xfrm>
            <a:off x="2771640" y="3573360"/>
            <a:ext cx="3835440" cy="2465280"/>
            <a:chOff x="2771640" y="3573360"/>
            <a:chExt cx="3835440" cy="2465280"/>
          </a:xfrm>
        </p:grpSpPr>
        <p:sp>
          <p:nvSpPr>
            <p:cNvPr id="68" name="Text Box 3"/>
            <p:cNvSpPr/>
            <p:nvPr/>
          </p:nvSpPr>
          <p:spPr>
            <a:xfrm>
              <a:off x="2771640" y="56973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4"/>
            <p:cNvSpPr/>
            <p:nvPr/>
          </p:nvSpPr>
          <p:spPr>
            <a:xfrm>
              <a:off x="4400280" y="56973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"/>
            <p:cNvSpPr/>
            <p:nvPr/>
          </p:nvSpPr>
          <p:spPr>
            <a:xfrm>
              <a:off x="6105240" y="56973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2771640" y="460188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2771640" y="3697200"/>
              <a:ext cx="3492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6257880" y="4649760"/>
              <a:ext cx="3492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6257880" y="3697200"/>
              <a:ext cx="3492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4552920" y="3573360"/>
              <a:ext cx="349200" cy="34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3"/>
          <p:cNvSpPr/>
          <p:nvPr/>
        </p:nvSpPr>
        <p:spPr>
          <a:xfrm>
            <a:off x="755640" y="189000"/>
            <a:ext cx="806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р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с использованием теоремы Вариньон и без ее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середины сторон прямоугольника являются вершинами ромб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ьство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1-ый способ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- AC – диагональ. KL - средняя линия треугольника ABC. NM – средняя линия треугольника ADC. Треугольники ABC и ADC равны по третьему признаку равенства треугольников (AB=DC, BC=DC, AC – общая сторона) =&gt; KL=NM. Также KL||NM (AC||NM, AC||KL) =&gt; KLMN- параллелограмм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- из первого следует, что KL=NM. Аналогично можно доказать, что 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. 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- ABCD – прямоугольник =&gt; AC=BD. =&gt; KL=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K=&gt; KLMN – ромб.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2-ой способ 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Диагонали прямоугольника равны, поэтому середины сторон прямоугольника являются вершинами ромба (см.следствие 1, 1, а);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Стороны прямоугольника перпендикулярны, поэтому бимедианы перпендикулярны, тогда середины сторон прямоугольника являются вершинами ромба (см. следствие 1, 1, б)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1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задачи на бимедианы четырехугольника и теорему Вариньона, которые взяты нами с различных математических конкурсов и олимпи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площадь параллелограмма, образованного прямыми, проходящими через вершины выпуклого четырехугольника и параллельными его диагоналям, в два раза больше площади исходного четырех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MOL, MONB, CKON, DKO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 параллелограммы, то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олучаем ,ч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и требовалось доказ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http://www.bestreferat.ru/images/paper/43/73/8717343.gif"/>
          <p:cNvPicPr/>
          <p:nvPr/>
        </p:nvPicPr>
        <p:blipFill>
          <a:blip r:embed="rId1"/>
          <a:stretch/>
        </p:blipFill>
        <p:spPr>
          <a:xfrm>
            <a:off x="6156360" y="3357720"/>
            <a:ext cx="2592360" cy="19033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hello_html_m7e065290.gif"/>
          <p:cNvPicPr/>
          <p:nvPr/>
        </p:nvPicPr>
        <p:blipFill>
          <a:blip r:embed="rId2"/>
          <a:stretch/>
        </p:blipFill>
        <p:spPr>
          <a:xfrm>
            <a:off x="900000" y="4869000"/>
            <a:ext cx="2519640" cy="272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hello_html_m6b31ad24.gif"/>
          <p:cNvPicPr/>
          <p:nvPr/>
        </p:nvPicPr>
        <p:blipFill>
          <a:blip r:embed="rId3"/>
          <a:stretch/>
        </p:blipFill>
        <p:spPr>
          <a:xfrm>
            <a:off x="826920" y="5516640"/>
            <a:ext cx="3240360" cy="272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hello_html_m72c7488f.gif"/>
          <p:cNvPicPr/>
          <p:nvPr/>
        </p:nvPicPr>
        <p:blipFill>
          <a:blip r:embed="rId4"/>
          <a:stretch/>
        </p:blipFill>
        <p:spPr>
          <a:xfrm>
            <a:off x="3635280" y="5950080"/>
            <a:ext cx="115272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333000"/>
            <a:ext cx="8156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зучить теорему Вариньона, исследовать приемы решений планиметрических задач с использованием теоремы Вариньона и следствий из нее и научиться применять ее на практике с наименьшими временными затратам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исследования: 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Изучить теоретический материал: параллелограмм Вариньона, бимедианы четырехугольника, теорема Вариньона и следствия из нее.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Рассмотреть различные приемы решения планиметрических задач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равнить решения одной и той же задачи, применяя теорему Вариньона и традиционный подход.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Выяснить практическое применение данной теоремы в задачах по геометрии школьного курса и в конкурсных задачах. 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Сравнить количество времени, необходимое для решения задач традиционным способом и используя теорему Вариньона.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Показать решение олимпиадных заданий с помощью параллелограмма Вариньона.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зучение литературы, сбор информации о параллелограмме Вариньона, выполнение чертежей к задачам, осмысление собранной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уальность тем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анная тема является дополнением изученных в курсе геометрии свойств.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менение опыта решения планиметрических задач с использованием теоремы Вариньона и следствий из нее помогает повысить уровень логической культур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анная работа может быть использована для подготовки к ОГЭ и ЕГ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учение данной темы поможет подготовиться к успешному участию в математических конкурсах и олимпиад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68360" y="333360"/>
            <a:ext cx="6407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Теорема Вариньона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гура, образованная путем последовательного соединения середин сторон четырехугольника, является параллелограммом, а его площадь равна половине площади данного четырех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4" descr="http://festival.1september.ru/articles/644122/01.gif"/>
          <p:cNvPicPr/>
          <p:nvPr/>
        </p:nvPicPr>
        <p:blipFill>
          <a:blip r:embed="rId1"/>
          <a:stretch/>
        </p:blipFill>
        <p:spPr>
          <a:xfrm>
            <a:off x="4284720" y="3500280"/>
            <a:ext cx="4174920" cy="26514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: ABCD – выпуклый четырехугольник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KLMN – параллел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зательство:1. Рассмотрим одну из сторон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, например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 Так как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является средней линией тре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, то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║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 По тем причинам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║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Следовательно,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║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M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C/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. таким образом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-параллелограмм. Этот параллелограмм называется параллелограммом Вариньона данного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D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редняя линия треугольника отсекает от него треугольник, площадь которого в четыре раза меньше площади исходного треугольника. Поэтому сама сумма площадей первого и третьего треугольников равна четверти площади всего четырехугольника. То же и относительно суммы площадей второго и четвертого треугольников. Поэтому площадь параллелограмм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LM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ставляет половину площади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Следствия из теоре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ллелограмм Вариньона является ромбом тогда и только тогда, когда в исходном четырехуголь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иагонали равны                   б) бимедианы перпендикуля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http://festival.1september.ru/articles/644122/03.gif"/>
          <p:cNvPicPr/>
          <p:nvPr/>
        </p:nvPicPr>
        <p:blipFill>
          <a:blip r:embed="rId1"/>
          <a:stretch/>
        </p:blipFill>
        <p:spPr>
          <a:xfrm>
            <a:off x="684360" y="3429000"/>
            <a:ext cx="3311280" cy="20034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://festival.1september.ru/articles/644122/04.gif"/>
          <p:cNvPicPr/>
          <p:nvPr/>
        </p:nvPicPr>
        <p:blipFill>
          <a:blip r:embed="rId2"/>
          <a:stretch/>
        </p:blipFill>
        <p:spPr>
          <a:xfrm>
            <a:off x="5076720" y="3284640"/>
            <a:ext cx="291492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араллелограмм Вариньона является прямоугольником тогда и только тогда, когда в исходном четырехуголь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иагонали перпендикулярны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имедиан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араллелограмм Вариньона является квадратом тогда и только тогда, когда в исходном четырехугольнике а) диагонали равны и перпендикулярны;  б) бимедианы равны и перпендикуля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http://festival.1september.ru/articles/644122/05.gif"/>
          <p:cNvPicPr/>
          <p:nvPr/>
        </p:nvPicPr>
        <p:blipFill>
          <a:blip r:embed="rId1"/>
          <a:stretch/>
        </p:blipFill>
        <p:spPr>
          <a:xfrm>
            <a:off x="5148360" y="1125360"/>
            <a:ext cx="2808360" cy="17798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://festival.1september.ru/articles/644122/07.gif"/>
          <p:cNvPicPr/>
          <p:nvPr/>
        </p:nvPicPr>
        <p:blipFill>
          <a:blip r:embed="rId2"/>
          <a:stretch/>
        </p:blipFill>
        <p:spPr>
          <a:xfrm>
            <a:off x="2411280" y="4437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http://festival.1september.ru/articles/644122/08.gif"/>
          <p:cNvPicPr/>
          <p:nvPr/>
        </p:nvPicPr>
        <p:blipFill>
          <a:blip r:embed="rId3"/>
          <a:stretch/>
        </p:blipFill>
        <p:spPr>
          <a:xfrm>
            <a:off x="6084720" y="4437000"/>
            <a:ext cx="2303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медианы четырехугольника и отрезок, соединяющий середины диагоналей, пересекаются в одной точке и делятся этой точкой попо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четырехугольника сумма квадратов всех сторон равна сумме квадратов диагоналей плюс учетверённый квадрат отрезка, соединяющего  середины диагоналей, то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http://www.bestreferat.ru/images/paper/26/73/8717326.gif"/>
          <p:cNvPicPr/>
          <p:nvPr/>
        </p:nvPicPr>
        <p:blipFill>
          <a:blip r:embed="rId1"/>
          <a:stretch/>
        </p:blipFill>
        <p:spPr>
          <a:xfrm>
            <a:off x="1116000" y="1484280"/>
            <a:ext cx="2448000" cy="1859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http://www.bestreferat.ru/images/paper/27/73/8717327.gif"/>
          <p:cNvPicPr/>
          <p:nvPr/>
        </p:nvPicPr>
        <p:blipFill>
          <a:blip r:embed="rId2"/>
          <a:stretch/>
        </p:blipFill>
        <p:spPr>
          <a:xfrm>
            <a:off x="4932360" y="1268280"/>
            <a:ext cx="2376360" cy="1997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hello_html_m2eb8dd5a.gif"/>
          <p:cNvPicPr/>
          <p:nvPr/>
        </p:nvPicPr>
        <p:blipFill>
          <a:blip r:embed="rId3"/>
          <a:stretch/>
        </p:blipFill>
        <p:spPr>
          <a:xfrm>
            <a:off x="971640" y="4581360"/>
            <a:ext cx="2952720" cy="271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http://www.bestreferat.ru/images/paper/29/73/8717329.gif"/>
          <p:cNvPicPr/>
          <p:nvPr/>
        </p:nvPicPr>
        <p:blipFill>
          <a:blip r:embed="rId4"/>
          <a:stretch/>
        </p:blipFill>
        <p:spPr>
          <a:xfrm>
            <a:off x="4500720" y="4508640"/>
            <a:ext cx="25621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едствие 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ы площадей накрест лежащих четырехугольников, образованных пересечением бимедиан 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M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уклого четырехугольника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http://www.bestreferat.ru/images/paper/33/73/8717333.gif"/>
          <p:cNvPicPr/>
          <p:nvPr/>
        </p:nvPicPr>
        <p:blipFill>
          <a:blip r:embed="rId1"/>
          <a:stretch/>
        </p:blipFill>
        <p:spPr>
          <a:xfrm>
            <a:off x="1187280" y="1413000"/>
            <a:ext cx="2457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5:32:21Z</dcterms:created>
  <dc:creator>Ruslan</dc:creator>
  <dc:description/>
  <dc:language>en-US</dc:language>
  <cp:lastModifiedBy>Люда</cp:lastModifiedBy>
  <dcterms:modified xsi:type="dcterms:W3CDTF">2019-04-18T10:48:01Z</dcterms:modified>
  <cp:revision>57</cp:revision>
  <dc:subject/>
  <dc:title>Слайд 1</dc:title>
</cp:coreProperties>
</file>