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EFD-8ED8-4DDA-A076-28F611C3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75A-BBD5-4D0A-84D0-000440E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237-2BDB-4FBB-A33F-8F820201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3BB-435C-4C7F-B470-B8095B81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CB6-967D-41A9-AAD9-0E8DB4D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E6F-6AC7-4100-955A-D4D7716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7A2-CD62-4E6B-B7BA-FF3FACC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50A-BFA5-419C-B7F5-2193C7C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307-DC0B-4A2A-8C22-A428DD4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040-1F99-4929-8239-26ECF34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405-2C5E-406E-8402-EFBA6FAB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37D-A082-4156-BE7B-412D41A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c1c7"/>
            </a:gs>
            <a:gs pos="50000">
              <a:srgbClr val="ccffff"/>
            </a:gs>
            <a:gs pos="100000">
              <a:srgbClr val="77c1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F42C-748E-4BF5-86E4-DEEECAC51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83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Теорема Варинь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и ее применение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6080" y="4357800"/>
            <a:ext cx="53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ыполнила: ученица 9Б класса Дорофеева Елизавета Руководитель: учитель математики Покацкая А.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MG00159"/>
          <p:cNvPicPr/>
          <p:nvPr/>
        </p:nvPicPr>
        <p:blipFill>
          <a:blip r:embed="rId1"/>
          <a:stretch/>
        </p:blipFill>
        <p:spPr>
          <a:xfrm>
            <a:off x="428760" y="2428920"/>
            <a:ext cx="227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бимедианы  четырехугольника и теоремы Вариньона можно быстро и успешно решать геометрические задачи . В качестве примеров разберём несколько заданий   и решим двумя способами: задачи традиционным способом и с помощью теоремы  Вариньона . Анализируя два способа решения каждой задачи, можно сделать вывод, ч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и применяя бимедианы  четырехугольника и теоремы Вариньона этот способ гораздо проще. Было подсчитано, что на решение задачи традиционным способом затрачивается времени больше, а зная теорему Вариньона и следствия из нее, доказательство сводится к одному-двум предложениям и занимает 1-2 ми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://lib2.znate.ru/pars_docs/refs/316/315865/315865_html_218d2a7e.gif"/>
          <p:cNvPicPr/>
          <p:nvPr/>
        </p:nvPicPr>
        <p:blipFill>
          <a:blip r:embed="rId1"/>
          <a:stretch/>
        </p:blipFill>
        <p:spPr>
          <a:xfrm>
            <a:off x="3132000" y="3933720"/>
            <a:ext cx="3086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"/>
          <p:cNvGrpSpPr/>
          <p:nvPr/>
        </p:nvGrpSpPr>
        <p:grpSpPr>
          <a:xfrm>
            <a:off x="2771640" y="3573360"/>
            <a:ext cx="3835440" cy="2465280"/>
            <a:chOff x="2771640" y="3573360"/>
            <a:chExt cx="3835440" cy="2465280"/>
          </a:xfrm>
        </p:grpSpPr>
        <p:sp>
          <p:nvSpPr>
            <p:cNvPr id="68" name="Text Box 3"/>
            <p:cNvSpPr/>
            <p:nvPr/>
          </p:nvSpPr>
          <p:spPr>
            <a:xfrm>
              <a:off x="277164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440028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610524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2771640" y="460188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2771640" y="369720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6257880" y="46497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6257880" y="369720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4552920" y="357336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3"/>
          <p:cNvSpPr/>
          <p:nvPr/>
        </p:nvSpPr>
        <p:spPr>
          <a:xfrm>
            <a:off x="755640" y="18900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с использованием теоремы Вариньон и без ее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середины сторон прямоугольника являются вершинами ромб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1-ый способ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- AC – диагональ. KL - средняя линия треугольника ABC. NM – средняя линия треугольника ADC. Треугольники ABC и ADC равны по третьему признаку равенства треугольников (AB=DC, BC=DC, AC – общая сторона) =&gt; KL=NM. Также KL||NM (AC||NM, AC||KL) =&gt; KLMN- параллелограмм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- из первого следует, что KL=NM. Аналогично можно доказать, что 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- ABCD – прямоугольник =&gt; AC=BD. =&gt; KL=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K=&gt; KLMN – ромб.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2-ой способ 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иагонали прямоугольника равны, поэтому середины сторон прямоугольника являются вершинами ромба (см.следствие 1, 1, а);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тороны прямоугольника перпендикулярны, поэтому бимедианы перпендикулярны, тогда середины сторон прямоугольника являются вершинами ромба (см. следствие 1, 1, б)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задачи на бимедианы четырехугольника и теорему Вариньона, которые взяты нами с различных математических конкурсов и олимпи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площадь параллелограмма, образованного прямыми, проходящими через вершины выпуклого четырехугольника и параллельными его диагоналям, в два раза больше площади исходного четырех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MOL, MONB, CKON, DKO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параллелограммы, то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 ,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 требовалось до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http://www.bestreferat.ru/images/paper/43/73/8717343.gif"/>
          <p:cNvPicPr/>
          <p:nvPr/>
        </p:nvPicPr>
        <p:blipFill>
          <a:blip r:embed="rId1"/>
          <a:stretch/>
        </p:blipFill>
        <p:spPr>
          <a:xfrm>
            <a:off x="6156360" y="3357720"/>
            <a:ext cx="2592360" cy="1903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ello_html_m7e065290.gif"/>
          <p:cNvPicPr/>
          <p:nvPr/>
        </p:nvPicPr>
        <p:blipFill>
          <a:blip r:embed="rId2"/>
          <a:stretch/>
        </p:blipFill>
        <p:spPr>
          <a:xfrm>
            <a:off x="900000" y="4869000"/>
            <a:ext cx="2519640" cy="272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hello_html_m6b31ad24.gif"/>
          <p:cNvPicPr/>
          <p:nvPr/>
        </p:nvPicPr>
        <p:blipFill>
          <a:blip r:embed="rId3"/>
          <a:stretch/>
        </p:blipFill>
        <p:spPr>
          <a:xfrm>
            <a:off x="826920" y="5516640"/>
            <a:ext cx="3240360" cy="272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ello_html_m72c7488f.gif"/>
          <p:cNvPicPr/>
          <p:nvPr/>
        </p:nvPicPr>
        <p:blipFill>
          <a:blip r:embed="rId4"/>
          <a:stretch/>
        </p:blipFill>
        <p:spPr>
          <a:xfrm>
            <a:off x="3635280" y="5950080"/>
            <a:ext cx="11527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333000"/>
            <a:ext cx="8156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зучить теорему Вариньона, исследовать приемы решений планиметрических задач с использованием теоремы Вариньона и следствий из нее и научиться применять ее на практике с наименьшими временными затратам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исследования: 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Изучить теоретический материал: параллелограмм Вариньона, бимедианы четырехугольника, теорема Вариньона и следствия из нее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мотреть различные приемы решения планиметрических задач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равнить решения одной и той же задачи, применяя теорему Вариньона и традиционный подход.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Выяснить практическое применение данной теоремы в задачах по геометрии школьного курса и в конкурсных задачах. 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Сравнить количество времени, необходимое для решения задач традиционным способом и используя теорему Вариньона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Показать решение олимпиадных заданий с помощью параллелограмма Вариньона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зучение литературы, сбор информации о параллелограмме Вариньона, выполнение чертежей к задачам, осмысление собранн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ьность те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анная тема является дополнением изученных в курсе геометрии свойств.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менение опыта решения планиметрических задач с использованием теоремы Вариньона и следствий из нее помогает повысить уровень логической культур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анная работа может быть использована для подготовки к ОГЭ и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учение данной темы поможет подготовиться к успешному участию в математических конкурсах и олимпиа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8360" y="333360"/>
            <a:ext cx="6407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Теорема Вариньон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гура, образованная путем последовательного соединения середин сторон четырехугольника, является параллелограммом, а его площадь равна половине площади данного четырех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4" descr="http://festival.1september.ru/articles/644122/01.gif"/>
          <p:cNvPicPr/>
          <p:nvPr/>
        </p:nvPicPr>
        <p:blipFill>
          <a:blip r:embed="rId1"/>
          <a:stretch/>
        </p:blipFill>
        <p:spPr>
          <a:xfrm>
            <a:off x="4284720" y="3500280"/>
            <a:ext cx="4174920" cy="2651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ABCD – выпуклый четырехугольник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KLMN – параллел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1. Рассмотрим одну из сторон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, например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Так ка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является средней линией тре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, то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По тем причина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Следовательно,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таким образом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параллелограмм. Этот параллелограмм называется параллелограммом Вариньона данного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редняя линия треугольника отсекает от него треугольник, площадь которого в четыре раза меньше площади исходного треугольника. Поэтому сама сумма площадей первого и третьего треугольников равна четверти площади всего четырехугольника. То же и относительно суммы площадей второго и четвертого треугольников. Поэтому площадь параллелограмм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авляет половину площади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Следствия из теоре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Вариньона является ромбом тогда и только тогда, когда в исходном четырехуголь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иагонали равны                   б) бимедианы перпендикуля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festival.1september.ru/articles/644122/03.gif"/>
          <p:cNvPicPr/>
          <p:nvPr/>
        </p:nvPicPr>
        <p:blipFill>
          <a:blip r:embed="rId1"/>
          <a:stretch/>
        </p:blipFill>
        <p:spPr>
          <a:xfrm>
            <a:off x="684360" y="3429000"/>
            <a:ext cx="3311280" cy="2003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festival.1september.ru/articles/644122/04.gif"/>
          <p:cNvPicPr/>
          <p:nvPr/>
        </p:nvPicPr>
        <p:blipFill>
          <a:blip r:embed="rId2"/>
          <a:stretch/>
        </p:blipFill>
        <p:spPr>
          <a:xfrm>
            <a:off x="5076720" y="3284640"/>
            <a:ext cx="291492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раллелограмм Вариньона является прямоугольником тогда и только тогда, когда в исходном четырехуголь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иагонали перпендикулярны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имедиа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араллелограмм Вариньона является квадратом тогда и только тогда, когда в исходном четырехугольнике а) диагонали равны и перпендикулярны;  б) бимедианы равны и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http://festival.1september.ru/articles/644122/05.gif"/>
          <p:cNvPicPr/>
          <p:nvPr/>
        </p:nvPicPr>
        <p:blipFill>
          <a:blip r:embed="rId1"/>
          <a:stretch/>
        </p:blipFill>
        <p:spPr>
          <a:xfrm>
            <a:off x="5148360" y="1125360"/>
            <a:ext cx="2808360" cy="1779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festival.1september.ru/articles/644122/07.gif"/>
          <p:cNvPicPr/>
          <p:nvPr/>
        </p:nvPicPr>
        <p:blipFill>
          <a:blip r:embed="rId2"/>
          <a:stretch/>
        </p:blipFill>
        <p:spPr>
          <a:xfrm>
            <a:off x="2411280" y="4437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http://festival.1september.ru/articles/644122/08.gif"/>
          <p:cNvPicPr/>
          <p:nvPr/>
        </p:nvPicPr>
        <p:blipFill>
          <a:blip r:embed="rId3"/>
          <a:stretch/>
        </p:blipFill>
        <p:spPr>
          <a:xfrm>
            <a:off x="6084720" y="4437000"/>
            <a:ext cx="2303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медианы четырехугольника и отрезок, соединяющий середины диагоналей, пересекаются в одной точке и делятся этой точкой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четырехугольника сумма квадратов всех сторон равна сумме квадратов диагоналей плюс учетверённый квадрат отрезка, соединяющего  середины диагоналей, то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http://www.bestreferat.ru/images/paper/26/73/8717326.gif"/>
          <p:cNvPicPr/>
          <p:nvPr/>
        </p:nvPicPr>
        <p:blipFill>
          <a:blip r:embed="rId1"/>
          <a:stretch/>
        </p:blipFill>
        <p:spPr>
          <a:xfrm>
            <a:off x="1116000" y="1484280"/>
            <a:ext cx="2448000" cy="1859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www.bestreferat.ru/images/paper/27/73/8717327.gif"/>
          <p:cNvPicPr/>
          <p:nvPr/>
        </p:nvPicPr>
        <p:blipFill>
          <a:blip r:embed="rId2"/>
          <a:stretch/>
        </p:blipFill>
        <p:spPr>
          <a:xfrm>
            <a:off x="4932360" y="1268280"/>
            <a:ext cx="2376360" cy="1997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hello_html_m2eb8dd5a.gif"/>
          <p:cNvPicPr/>
          <p:nvPr/>
        </p:nvPicPr>
        <p:blipFill>
          <a:blip r:embed="rId3"/>
          <a:stretch/>
        </p:blipFill>
        <p:spPr>
          <a:xfrm>
            <a:off x="971640" y="4581360"/>
            <a:ext cx="2952720" cy="271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http://www.bestreferat.ru/images/paper/29/73/8717329.gif"/>
          <p:cNvPicPr/>
          <p:nvPr/>
        </p:nvPicPr>
        <p:blipFill>
          <a:blip r:embed="rId4"/>
          <a:stretch/>
        </p:blipFill>
        <p:spPr>
          <a:xfrm>
            <a:off x="4500720" y="4508640"/>
            <a:ext cx="25621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ы площадей накрест лежащих четырехугольников, образованных пересечением бимедиан 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M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клого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://www.bestreferat.ru/images/paper/33/73/8717333.gif"/>
          <p:cNvPicPr/>
          <p:nvPr/>
        </p:nvPicPr>
        <p:blipFill>
          <a:blip r:embed="rId1"/>
          <a:stretch/>
        </p:blipFill>
        <p:spPr>
          <a:xfrm>
            <a:off x="1187280" y="1413000"/>
            <a:ext cx="2457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5:32:21Z</dcterms:created>
  <dc:creator>Ruslan</dc:creator>
  <dc:description/>
  <dc:language>en-US</dc:language>
  <cp:lastModifiedBy>Люда</cp:lastModifiedBy>
  <dcterms:modified xsi:type="dcterms:W3CDTF">2019-04-18T10:48:01Z</dcterms:modified>
  <cp:revision>57</cp:revision>
  <dc:subject/>
  <dc:title>Слайд 1</dc:title>
</cp:coreProperties>
</file>