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B301-EB1E-4F9E-BDF3-9B50107432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B7F9-54D4-42F6-BDCA-C216F79E48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FCB-88DB-46FD-BA60-227697B1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06F-F03B-4E3E-9E37-1B9FFEB1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FB7D-5380-44A1-A54F-24925FEC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B17-FD87-49CE-9713-FCEE03A9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382-818E-4AD1-B499-32E266F0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DAD-DFF7-48CF-A897-72860BD6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B3A-6A7C-4C3D-B5A7-284A59FA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5A7-9F54-4775-93A9-9436849B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B7F8-A981-4E91-93A3-D61841C7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EFAD-AD73-402E-8A87-0F4F74F7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38B-7992-44D5-87E6-9BE44775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800-1257-497F-9773-7F346031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792C-F4E0-40F8-A451-C344A9DED55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71480" y="2071800"/>
            <a:ext cx="442908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0a050"/>
                </a:solidFill>
                <a:latin typeface="Arial Narrow"/>
              </a:rPr>
              <a:t>АЗОТ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уговорот азота в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Картинка 15 из 294"/>
          <p:cNvPicPr/>
          <p:nvPr/>
        </p:nvPicPr>
        <p:blipFill>
          <a:blip r:embed="rId1"/>
          <a:stretch/>
        </p:blipFill>
        <p:spPr>
          <a:xfrm>
            <a:off x="9360" y="914400"/>
            <a:ext cx="91346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Картинка 6 из 294"/>
          <p:cNvPicPr/>
          <p:nvPr/>
        </p:nvPicPr>
        <p:blipFill>
          <a:blip r:embed="rId1"/>
          <a:stretch/>
        </p:blipFill>
        <p:spPr>
          <a:xfrm>
            <a:off x="-92160" y="0"/>
            <a:ext cx="923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905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НЕНИЕ АЗ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2920" y="2491920"/>
            <a:ext cx="59580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н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ение аммиака и азотной кисл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о азотных удобр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о взрывчатых ве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дкий азот в медиц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ыщение поверхности стали для повышения проч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Картинка 19 из 6241"/>
          <p:cNvPicPr/>
          <p:nvPr/>
        </p:nvPicPr>
        <p:blipFill>
          <a:blip r:embed="rId1"/>
          <a:stretch/>
        </p:blipFill>
        <p:spPr>
          <a:xfrm>
            <a:off x="6878520" y="4143240"/>
            <a:ext cx="2079720" cy="2714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www.mydoska.com/images/normal/161043_2.jpg"/>
          <p:cNvPicPr/>
          <p:nvPr/>
        </p:nvPicPr>
        <p:blipFill>
          <a:blip r:embed="rId2"/>
          <a:stretch/>
        </p:blipFill>
        <p:spPr>
          <a:xfrm>
            <a:off x="7072200" y="1357200"/>
            <a:ext cx="18576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0a050"/>
                </a:solidFill>
                <a:latin typeface="Calibri"/>
              </a:rPr>
              <a:t>ИСТОРИЯ ОТКРЫ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8244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.Шееле и Г.Кавендиш получили аз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772г. Д.Резерфорд описал получение и свой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787г. Лавуазье предложил название азот – «безжизненный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очисленные названия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чистый газ, удушливый газ,  смертельный газ, нитроген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5520" y="571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a050"/>
                </a:solidFill>
                <a:latin typeface="Calibri"/>
              </a:rPr>
              <a:t>НАХОЖДЕНИЕ В ПРИРОДЕ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в свободном состоянии в атмосфере (78%)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в связанном состоян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14400" y="2362320"/>
          <a:ext cx="6800760" cy="4211640"/>
        </p:xfrm>
        <a:graphic>
          <a:graphicData uri="http://schemas.openxmlformats.org/drawingml/2006/table">
            <a:tbl>
              <a:tblPr/>
              <a:tblGrid>
                <a:gridCol w="4157640"/>
                <a:gridCol w="2643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ная фор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лочка Зем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и аммония и азотной кисл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осфера, гидр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м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 и аммиак вулкан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ия в некоторых видах топлива (нефть, угол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клеиновые кислоты, белковы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сфер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1143000" y="1785960"/>
            <a:ext cx="6400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имвол элемента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 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томный номер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 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ложение в таблице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 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тносительная атомная масса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 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тепени окисления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 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Электронная конфигурация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1214280" y="164304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имвол элемента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 N. 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томный номер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 7.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ложение в таблице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 2-й период, группа - VA (15)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тносительная атомная масса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 14.00674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тепени окисления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 -3,+1,+2,+3,+4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+5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лектронная конфигурация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1s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0a050"/>
                </a:solidFill>
                <a:latin typeface="Calibri"/>
              </a:rPr>
              <a:t>СТРОЕНИЕ МОЛЕК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47560" y="2400480"/>
            <a:ext cx="3352680" cy="1790640"/>
          </a:xfrm>
          <a:prstGeom prst="rect">
            <a:avLst/>
          </a:prstGeom>
          <a:noFill/>
          <a:ln w="38160">
            <a:solidFill>
              <a:srgbClr val="50a05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7440" y="2590920"/>
            <a:ext cx="3429000" cy="1790640"/>
          </a:xfrm>
          <a:prstGeom prst="rect">
            <a:avLst/>
          </a:prstGeom>
          <a:noFill/>
          <a:ln w="38160">
            <a:solidFill>
              <a:srgbClr val="50a05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9320" y="4647960"/>
            <a:ext cx="3581280" cy="1981080"/>
          </a:xfrm>
          <a:prstGeom prst="rect">
            <a:avLst/>
          </a:prstGeom>
          <a:noFill/>
          <a:ln w="38160">
            <a:solidFill>
              <a:srgbClr val="50a05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Ь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КОВАЛЕНТНАЯ НЕПОЛЯРН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ТРОЙНАЯ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ПРОЧ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3760" y="4647960"/>
            <a:ext cx="3314520" cy="2019240"/>
          </a:xfrm>
          <a:prstGeom prst="rect">
            <a:avLst/>
          </a:prstGeom>
          <a:noFill/>
          <a:ln w="38160">
            <a:solidFill>
              <a:srgbClr val="50a05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ЛЕКУЛ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ОЧЕНЬ             УСТОЙЧИВ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НИЗКАЯ РЕАКЦИОННАЯ                     СПОСОБ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BD15276_"/>
          <p:cNvPicPr/>
          <p:nvPr/>
        </p:nvPicPr>
        <p:blipFill>
          <a:blip r:embed="rId1"/>
          <a:stretch/>
        </p:blipFill>
        <p:spPr>
          <a:xfrm>
            <a:off x="2362320" y="2438280"/>
            <a:ext cx="136440" cy="136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BD15276_"/>
          <p:cNvPicPr/>
          <p:nvPr/>
        </p:nvPicPr>
        <p:blipFill>
          <a:blip r:embed="rId2"/>
          <a:stretch/>
        </p:blipFill>
        <p:spPr>
          <a:xfrm>
            <a:off x="2362320" y="2666880"/>
            <a:ext cx="136440" cy="136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BD15276_"/>
          <p:cNvPicPr/>
          <p:nvPr/>
        </p:nvPicPr>
        <p:blipFill>
          <a:blip r:embed="rId3"/>
          <a:stretch/>
        </p:blipFill>
        <p:spPr>
          <a:xfrm>
            <a:off x="2895480" y="2362320"/>
            <a:ext cx="136800" cy="13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BD15276_"/>
          <p:cNvPicPr/>
          <p:nvPr/>
        </p:nvPicPr>
        <p:blipFill>
          <a:blip r:embed="rId4"/>
          <a:stretch/>
        </p:blipFill>
        <p:spPr>
          <a:xfrm>
            <a:off x="2895480" y="2590920"/>
            <a:ext cx="136800" cy="136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BD15276_"/>
          <p:cNvPicPr/>
          <p:nvPr/>
        </p:nvPicPr>
        <p:blipFill>
          <a:blip r:embed="rId5"/>
          <a:stretch/>
        </p:blipFill>
        <p:spPr>
          <a:xfrm>
            <a:off x="2895480" y="2819520"/>
            <a:ext cx="136800" cy="136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BD15276_"/>
          <p:cNvPicPr/>
          <p:nvPr/>
        </p:nvPicPr>
        <p:blipFill>
          <a:blip r:embed="rId6"/>
          <a:stretch/>
        </p:blipFill>
        <p:spPr>
          <a:xfrm>
            <a:off x="3200400" y="28195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BD15276_"/>
          <p:cNvPicPr/>
          <p:nvPr/>
        </p:nvPicPr>
        <p:blipFill>
          <a:blip r:embed="rId7"/>
          <a:stretch/>
        </p:blipFill>
        <p:spPr>
          <a:xfrm>
            <a:off x="3200400" y="25909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BD15276_"/>
          <p:cNvPicPr/>
          <p:nvPr/>
        </p:nvPicPr>
        <p:blipFill>
          <a:blip r:embed="rId8"/>
          <a:stretch/>
        </p:blipFill>
        <p:spPr>
          <a:xfrm>
            <a:off x="3200400" y="2362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BD15276_"/>
          <p:cNvPicPr/>
          <p:nvPr/>
        </p:nvPicPr>
        <p:blipFill>
          <a:blip r:embed="rId9"/>
          <a:stretch/>
        </p:blipFill>
        <p:spPr>
          <a:xfrm>
            <a:off x="3733920" y="2666880"/>
            <a:ext cx="136440" cy="136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BD15276_"/>
          <p:cNvPicPr/>
          <p:nvPr/>
        </p:nvPicPr>
        <p:blipFill>
          <a:blip r:embed="rId10"/>
          <a:stretch/>
        </p:blipFill>
        <p:spPr>
          <a:xfrm>
            <a:off x="3733920" y="2438280"/>
            <a:ext cx="136440" cy="1368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7"/>
          <p:cNvSpPr/>
          <p:nvPr/>
        </p:nvSpPr>
        <p:spPr>
          <a:xfrm>
            <a:off x="1071720" y="2286000"/>
            <a:ext cx="761760" cy="914400"/>
          </a:xfrm>
          <a:prstGeom prst="irregularSeal2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8"/>
          <p:cNvSpPr/>
          <p:nvPr/>
        </p:nvSpPr>
        <p:spPr>
          <a:xfrm>
            <a:off x="785880" y="4714920"/>
            <a:ext cx="761760" cy="914400"/>
          </a:xfrm>
          <a:prstGeom prst="irregularSeal2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0"/>
          <p:cNvSpPr/>
          <p:nvPr/>
        </p:nvSpPr>
        <p:spPr>
          <a:xfrm>
            <a:off x="4857840" y="4500720"/>
            <a:ext cx="761760" cy="914400"/>
          </a:xfrm>
          <a:prstGeom prst="irregularSeal2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7"/>
          <p:cNvSpPr/>
          <p:nvPr/>
        </p:nvSpPr>
        <p:spPr>
          <a:xfrm>
            <a:off x="5334120" y="2666880"/>
            <a:ext cx="761760" cy="914400"/>
          </a:xfrm>
          <a:prstGeom prst="irregularSeal2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ЧЕСКИЕ СВОЙСТ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з без цвета, запаха и вк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охо растворим в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ного легче возд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кип.= -19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е поддерживает дыхание и гор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ИЕ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иду своей значительной инертности азот при обычных условиях реагирует только с литие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Li + 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→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нагревании он реагирует с некоторыми другими металлами и неметаллами, также образуя нитрид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Mg + 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В + 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учение аз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56577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уч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омышленности – из жидкого возд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лаборатории – разложением неустойчивых соединений аз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2:26:31Z</dcterms:created>
  <dc:creator>N</dc:creator>
  <dc:description/>
  <dc:language>en-US</dc:language>
  <cp:lastModifiedBy>Катя</cp:lastModifiedBy>
  <dcterms:modified xsi:type="dcterms:W3CDTF">2018-01-04T05:46:32Z</dcterms:modified>
  <cp:revision>52</cp:revision>
  <dc:subject/>
  <dc:title>НЕМЕТАЛЛЫ</dc:title>
</cp:coreProperties>
</file>