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D06-0C98-4250-99A7-3BB5B34A0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932B-4473-4C56-9FED-37B6DDA1F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63F-7461-4DC3-A2A0-D2317AE3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9F7-3338-4E61-B44C-8FD6904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02E-4A7A-4CF4-ACC5-C68776F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0410-6766-4F60-9E94-404CA72A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2931-E95C-46A3-BE3C-DFC45618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A23-6C00-492A-A120-7E6BA087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49D-A419-4E28-80B4-2F90A52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9F0-5EF2-4EFD-BB19-6D66D17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6E4-E4F2-4A0F-800D-14006453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A71-E4C4-47EB-8C2A-CD4FB22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3F1-7D84-4AE0-A098-F653B970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FC3-DD45-4A1A-8429-2BD07FF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3835-4099-4B4A-8D7A-B59AFB3AB3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480" y="2071800"/>
            <a:ext cx="442908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0a050"/>
                </a:solidFill>
                <a:latin typeface="Arial Narrow"/>
              </a:rPr>
              <a:t>АЗО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оворот азота в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Картинка 15 из 294"/>
          <p:cNvPicPr/>
          <p:nvPr/>
        </p:nvPicPr>
        <p:blipFill>
          <a:blip r:embed="rId1"/>
          <a:stretch/>
        </p:blipFill>
        <p:spPr>
          <a:xfrm>
            <a:off x="9360" y="914400"/>
            <a:ext cx="913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6 из 294"/>
          <p:cNvPicPr/>
          <p:nvPr/>
        </p:nvPicPr>
        <p:blipFill>
          <a:blip r:embed="rId1"/>
          <a:stretch/>
        </p:blipFill>
        <p:spPr>
          <a:xfrm>
            <a:off x="-92160" y="0"/>
            <a:ext cx="923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905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АЗ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2920" y="2491920"/>
            <a:ext cx="5958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ие аммиака и азотной кисл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азотных удобр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взрывчат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дкий азот в медиц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ыщение поверхности стали для повышения про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Картинка 19 из 6241"/>
          <p:cNvPicPr/>
          <p:nvPr/>
        </p:nvPicPr>
        <p:blipFill>
          <a:blip r:embed="rId1"/>
          <a:stretch/>
        </p:blipFill>
        <p:spPr>
          <a:xfrm>
            <a:off x="6878520" y="4143240"/>
            <a:ext cx="2079720" cy="271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mydoska.com/images/normal/161043_2.jpg"/>
          <p:cNvPicPr/>
          <p:nvPr/>
        </p:nvPicPr>
        <p:blipFill>
          <a:blip r:embed="rId2"/>
          <a:stretch/>
        </p:blipFill>
        <p:spPr>
          <a:xfrm>
            <a:off x="7072200" y="1357200"/>
            <a:ext cx="18576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0a050"/>
                </a:solidFill>
                <a:latin typeface="Calibri"/>
              </a:rPr>
              <a:t>ИСТОРИЯ ОТКР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82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Шееле и Г.Кавендиш получили аз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72г. Д.Резерфорд описал получение и сво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87г. Лавуазье предложил название азот – «безжизненный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численные назван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чистый газ, удушливый газ,  смертельный газ, нитроге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520" y="57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a050"/>
                </a:solidFill>
                <a:latin typeface="Calibri"/>
              </a:rPr>
              <a:t>НАХОЖДЕНИЕ В ПРИРОДЕ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в свободном состоянии в атмосфере (78%)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в связанном состоя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2362320"/>
          <a:ext cx="6800760" cy="4211640"/>
        </p:xfrm>
        <a:graphic>
          <a:graphicData uri="http://schemas.openxmlformats.org/drawingml/2006/table">
            <a:tbl>
              <a:tblPr/>
              <a:tblGrid>
                <a:gridCol w="4157640"/>
                <a:gridCol w="264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фор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лочка Зем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 аммония и азот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, гидр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от и аммиак вулка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я в некоторых видах топлива (нефть, уго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клеиновые кислоты, белков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сфе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1143000" y="1785960"/>
            <a:ext cx="640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мвол элемент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томный номер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ение в таблице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носительная атомная масс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епени окисл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Электронная конфигурац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оение ат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1214280" y="164304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мвол элемент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N. 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томный номер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7.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ожение в таблице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2-й период, группа - VA (15)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носительная атомная масса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14.00674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тепени окисления: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 -3,+1,+2,+3,+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+5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лектронная конфигурация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1s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0a050"/>
                </a:solidFill>
                <a:latin typeface="Calibri"/>
              </a:rPr>
              <a:t>СТРОЕНИЕ МОЛЕКУ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47560" y="2400480"/>
            <a:ext cx="3352680" cy="17906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7440" y="2590920"/>
            <a:ext cx="3429000" cy="17906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9320" y="4647960"/>
            <a:ext cx="3581280" cy="198108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ОВАЛЕНТНАЯ НЕПОЛЯРН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ТРОЙНАЯ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ПРОЧ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3760" y="4647960"/>
            <a:ext cx="3314520" cy="2019240"/>
          </a:xfrm>
          <a:prstGeom prst="rect">
            <a:avLst/>
          </a:prstGeom>
          <a:noFill/>
          <a:ln w="38160">
            <a:solidFill>
              <a:srgbClr val="50a05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ЧЕНЬ             УСТОЙЧИВ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ИЗКАЯ РЕАКЦИОННАЯ                     СПОСОБ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BD15276_"/>
          <p:cNvPicPr/>
          <p:nvPr/>
        </p:nvPicPr>
        <p:blipFill>
          <a:blip r:embed="rId1"/>
          <a:stretch/>
        </p:blipFill>
        <p:spPr>
          <a:xfrm>
            <a:off x="2362320" y="24382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D15276_"/>
          <p:cNvPicPr/>
          <p:nvPr/>
        </p:nvPicPr>
        <p:blipFill>
          <a:blip r:embed="rId2"/>
          <a:stretch/>
        </p:blipFill>
        <p:spPr>
          <a:xfrm>
            <a:off x="2362320" y="26668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BD15276_"/>
          <p:cNvPicPr/>
          <p:nvPr/>
        </p:nvPicPr>
        <p:blipFill>
          <a:blip r:embed="rId3"/>
          <a:stretch/>
        </p:blipFill>
        <p:spPr>
          <a:xfrm>
            <a:off x="2895480" y="23623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BD15276_"/>
          <p:cNvPicPr/>
          <p:nvPr/>
        </p:nvPicPr>
        <p:blipFill>
          <a:blip r:embed="rId4"/>
          <a:stretch/>
        </p:blipFill>
        <p:spPr>
          <a:xfrm>
            <a:off x="2895480" y="25909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BD15276_"/>
          <p:cNvPicPr/>
          <p:nvPr/>
        </p:nvPicPr>
        <p:blipFill>
          <a:blip r:embed="rId5"/>
          <a:stretch/>
        </p:blipFill>
        <p:spPr>
          <a:xfrm>
            <a:off x="2895480" y="28195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BD15276_"/>
          <p:cNvPicPr/>
          <p:nvPr/>
        </p:nvPicPr>
        <p:blipFill>
          <a:blip r:embed="rId6"/>
          <a:stretch/>
        </p:blipFill>
        <p:spPr>
          <a:xfrm>
            <a:off x="3200400" y="28195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BD15276_"/>
          <p:cNvPicPr/>
          <p:nvPr/>
        </p:nvPicPr>
        <p:blipFill>
          <a:blip r:embed="rId7"/>
          <a:stretch/>
        </p:blipFill>
        <p:spPr>
          <a:xfrm>
            <a:off x="3200400" y="25909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BD15276_"/>
          <p:cNvPicPr/>
          <p:nvPr/>
        </p:nvPicPr>
        <p:blipFill>
          <a:blip r:embed="rId8"/>
          <a:stretch/>
        </p:blipFill>
        <p:spPr>
          <a:xfrm>
            <a:off x="3200400" y="2362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BD15276_"/>
          <p:cNvPicPr/>
          <p:nvPr/>
        </p:nvPicPr>
        <p:blipFill>
          <a:blip r:embed="rId9"/>
          <a:stretch/>
        </p:blipFill>
        <p:spPr>
          <a:xfrm>
            <a:off x="3733920" y="26668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BD15276_"/>
          <p:cNvPicPr/>
          <p:nvPr/>
        </p:nvPicPr>
        <p:blipFill>
          <a:blip r:embed="rId10"/>
          <a:stretch/>
        </p:blipFill>
        <p:spPr>
          <a:xfrm>
            <a:off x="3733920" y="2438280"/>
            <a:ext cx="136440" cy="136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7"/>
          <p:cNvSpPr/>
          <p:nvPr/>
        </p:nvSpPr>
        <p:spPr>
          <a:xfrm>
            <a:off x="1071720" y="228600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785880" y="471492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4857840" y="450072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5334120" y="2666880"/>
            <a:ext cx="761760" cy="91440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Е СВОЙ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 без цвета, запаха и вк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охо растворим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ного легче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ип.= -19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Не поддерживает дыхание и гор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иду своей значительной инертности азот при обычных условиях реагирует только с литие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Li 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нагревании он реагирует с некоторыми другими металлами и неметаллами, также образуя нитрид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Mg 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В + 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учение аз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657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мышленности – из жидкого во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лаборатории – разложением неустойчивых соединений аз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2:26:31Z</dcterms:created>
  <dc:creator>N</dc:creator>
  <dc:description/>
  <dc:language>en-US</dc:language>
  <cp:lastModifiedBy>Катя</cp:lastModifiedBy>
  <dcterms:modified xsi:type="dcterms:W3CDTF">2018-01-04T05:46:32Z</dcterms:modified>
  <cp:revision>52</cp:revision>
  <dc:subject/>
  <dc:title>НЕМЕТАЛЛЫ</dc:title>
</cp:coreProperties>
</file>