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BF7D-8944-4897-87EF-3FB337CC2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EF95-4F76-4443-98D2-DCE47FFB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CBD7-3248-4CC0-9268-90DF7296F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C23C-0CC3-4CE4-A442-03B6A2673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F403-ED3E-4EE3-8E55-5F848D9F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55BF-2772-4BBD-9D6A-BA992E4C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2BA3-93B3-4D10-8B98-E658BD3C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E5F5-030A-4F5F-A856-1258B8B4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534A-F59E-4CCD-903A-CFE190D1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AAF5-C1ED-45F5-B46B-2456BF87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8D7C-A726-420A-83A7-E6A1F855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9B5D-86C4-49CD-BA9E-F637AF84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14B7-E0AF-49EE-B210-1855C3155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think we will talk about? Justify your answ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651200" y="1600200"/>
          <a:ext cx="4024440" cy="9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0" y="1600200"/>
                    <a:ext cx="402444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468360" y="1413000"/>
            <a:ext cx="4174920" cy="2255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4500720" y="3789360"/>
            <a:ext cx="4174920" cy="2355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4643280" y="1413000"/>
            <a:ext cx="4054680" cy="2473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0" y="3860640"/>
            <a:ext cx="4643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 seq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ask 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atch the video again and s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what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ersion of the crim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what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ersion of the crim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what the evidenc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7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deo Sequence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а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“Silent Viewing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ductive speec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x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ask 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rk in teams. Within 1-2 min get ready to make this sequence sound. Try not to recall the exact words from the scene, but narrate the dialogue and be creati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ther team have to assess the other team’s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157720" y="1844640"/>
            <a:ext cx="3375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ialogue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ve speec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x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eview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en thinking of a detective what fictional character comes across your mind? Describe  his/her appearance  and person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ask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k in pairs. Act out a dialogue between a detective solving a crime and a wit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ssess the work d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148360" y="1662120"/>
            <a:ext cx="353844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Impact"/>
              </a:rPr>
              <a:t>Let’s talk about crime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Gungsuh"/>
                <a:ea typeface="Gungsuh"/>
              </a:rPr>
              <a:t>Conversation card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236000" y="46080"/>
            <a:ext cx="1908000" cy="2158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728720" cy="1971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2205000"/>
            <a:ext cx="3600360" cy="2592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What crimes have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rd about in the new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ntly? Summariz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56000" y="2924280"/>
            <a:ext cx="4788000" cy="453528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Should a poor , hungry m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punished for stealing fo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a supermarket? Can you thin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any other rea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we shouldn’t punis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rimina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59280" y="1125360"/>
            <a:ext cx="4319280" cy="259272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Have you ever b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ic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 crim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k about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627440"/>
            <a:ext cx="5184720" cy="2230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ave you ever a witnessed a crim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 the class what happe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16720" y="1628640"/>
            <a:ext cx="2627280" cy="2880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Is crime a serious probl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you live? What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st common crim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can we do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these crim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hope you’ll never face with crime in your life!!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ve you fullfilled your goals? What are th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 of the les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se vocabulary relating to the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se speaking ablities(e.g. Monologue, dialog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se listen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se assessing the students’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x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/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up your own story in writing with vocabulary on crime( no less than 10 words). Underline these vocabul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me in our neibourh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your objectives of the les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se vocabulary relating to the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se speaking ablities(e.g. monologue, dialog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se listening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se assessing the students’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the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the aims of the le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torm appropriate 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-Spe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/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, Reflex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sk.Complete the Law and Order related sent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lling someone with intention 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aling from someone’s home is called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who attacks people  in the street to steal  is called 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ing fire to something in a criminal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aling something from a store or 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who breaks into houses to st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ing an official to do smth illegal 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g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g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poc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g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irc_mi" descr=""/>
          <p:cNvPicPr/>
          <p:nvPr/>
        </p:nvPicPr>
        <p:blipFill>
          <a:blip r:embed="rId1"/>
          <a:stretch/>
        </p:blipFill>
        <p:spPr>
          <a:xfrm>
            <a:off x="0" y="4365720"/>
            <a:ext cx="2987640" cy="2492280"/>
          </a:xfrm>
          <a:prstGeom prst="rect">
            <a:avLst/>
          </a:prstGeom>
          <a:ln w="0">
            <a:noFill/>
          </a:ln>
        </p:spPr>
      </p:pic>
      <p:pic>
        <p:nvPicPr>
          <p:cNvPr id="60" name="irc_mi" descr=""/>
          <p:cNvPicPr/>
          <p:nvPr/>
        </p:nvPicPr>
        <p:blipFill>
          <a:blip r:embed="rId2"/>
          <a:stretch/>
        </p:blipFill>
        <p:spPr>
          <a:xfrm>
            <a:off x="6012000" y="2349360"/>
            <a:ext cx="3132000" cy="2303640"/>
          </a:xfrm>
          <a:prstGeom prst="rect">
            <a:avLst/>
          </a:prstGeom>
          <a:ln w="0">
            <a:noFill/>
          </a:ln>
        </p:spPr>
      </p:pic>
      <p:pic>
        <p:nvPicPr>
          <p:cNvPr id="61" name="irc_mi" descr=""/>
          <p:cNvPicPr/>
          <p:nvPr/>
        </p:nvPicPr>
        <p:blipFill>
          <a:blip r:embed="rId3"/>
          <a:stretch/>
        </p:blipFill>
        <p:spPr>
          <a:xfrm>
            <a:off x="3492360" y="0"/>
            <a:ext cx="3095640" cy="2924280"/>
          </a:xfrm>
          <a:prstGeom prst="rect">
            <a:avLst/>
          </a:prstGeom>
          <a:ln w="0">
            <a:noFill/>
          </a:ln>
        </p:spPr>
      </p:pic>
      <p:pic>
        <p:nvPicPr>
          <p:cNvPr id="62" name="irc_mi" descr=""/>
          <p:cNvPicPr/>
          <p:nvPr/>
        </p:nvPicPr>
        <p:blipFill>
          <a:blip r:embed="rId4"/>
          <a:stretch/>
        </p:blipFill>
        <p:spPr>
          <a:xfrm>
            <a:off x="5364000" y="4670280"/>
            <a:ext cx="2087640" cy="2187720"/>
          </a:xfrm>
          <a:prstGeom prst="rect">
            <a:avLst/>
          </a:prstGeom>
          <a:ln w="0">
            <a:noFill/>
          </a:ln>
        </p:spPr>
      </p:pic>
      <p:pic>
        <p:nvPicPr>
          <p:cNvPr id="63" name="irc_mi" descr=""/>
          <p:cNvPicPr/>
          <p:nvPr/>
        </p:nvPicPr>
        <p:blipFill>
          <a:blip r:embed="rId5"/>
          <a:stretch/>
        </p:blipFill>
        <p:spPr>
          <a:xfrm>
            <a:off x="3059280" y="3645000"/>
            <a:ext cx="2304720" cy="3213000"/>
          </a:xfrm>
          <a:prstGeom prst="rect">
            <a:avLst/>
          </a:prstGeom>
          <a:ln w="0">
            <a:noFill/>
          </a:ln>
        </p:spPr>
      </p:pic>
      <p:pic>
        <p:nvPicPr>
          <p:cNvPr id="64" name="irc_mi" descr=""/>
          <p:cNvPicPr/>
          <p:nvPr/>
        </p:nvPicPr>
        <p:blipFill>
          <a:blip r:embed="rId6"/>
          <a:stretch/>
        </p:blipFill>
        <p:spPr>
          <a:xfrm>
            <a:off x="1258920" y="0"/>
            <a:ext cx="2305080" cy="3789360"/>
          </a:xfrm>
          <a:prstGeom prst="rect">
            <a:avLst/>
          </a:prstGeom>
          <a:ln w="0">
            <a:noFill/>
          </a:ln>
        </p:spPr>
      </p:pic>
      <p:pic>
        <p:nvPicPr>
          <p:cNvPr id="65" name="irc_mi" descr=""/>
          <p:cNvPicPr/>
          <p:nvPr/>
        </p:nvPicPr>
        <p:blipFill>
          <a:blip r:embed="rId7"/>
          <a:stretch/>
        </p:blipFill>
        <p:spPr>
          <a:xfrm>
            <a:off x="0" y="260280"/>
            <a:ext cx="1432080" cy="3456000"/>
          </a:xfrm>
          <a:prstGeom prst="rect">
            <a:avLst/>
          </a:prstGeom>
          <a:ln w="0">
            <a:noFill/>
          </a:ln>
        </p:spPr>
      </p:pic>
      <p:pic>
        <p:nvPicPr>
          <p:cNvPr id="66" name="irc_mi" descr=""/>
          <p:cNvPicPr/>
          <p:nvPr/>
        </p:nvPicPr>
        <p:blipFill>
          <a:blip r:embed="rId8"/>
          <a:stretch/>
        </p:blipFill>
        <p:spPr>
          <a:xfrm>
            <a:off x="7451640" y="4508640"/>
            <a:ext cx="1692360" cy="2349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443640" y="0"/>
            <a:ext cx="270036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cking H/W-Read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ear guilty of stealing mone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402732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swers(B-preposition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be guilt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take the bea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urt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 protec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- show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-be found guilt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-pa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mth 7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mb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- keep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g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- ru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- the lights g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- look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swers B(True/Fal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-speak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stories with  animals included relating crime do you know? Do you find them ridicul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 Seq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ask 1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the video and s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location(pla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who the character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what they’re d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4T09:46:42Z</dcterms:created>
  <dc:creator>!</dc:creator>
  <dc:description/>
  <dc:language>en-US</dc:language>
  <cp:lastModifiedBy>!</cp:lastModifiedBy>
  <dcterms:modified xsi:type="dcterms:W3CDTF">2016-04-24T20:33:06Z</dcterms:modified>
  <cp:revision>14</cp:revision>
  <dc:subject/>
  <dc:title>What is our theme?</dc:title>
</cp:coreProperties>
</file>