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DB2-5720-4A9D-8F80-2E53A090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4C0-D10C-43BA-BFC4-85CDC4FC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453-1072-43D2-94DF-D9C6266B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044-0003-4EC7-A08E-FA6C4ADF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CEA-EC57-44D8-9BCA-672E4F3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AC4-E0DE-4966-B2EB-2917CB5E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9FE-C25A-4843-B1CA-1DBD9142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3F2-E28F-4290-AF2C-1EAB25E8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EF7-B377-410B-8ED9-99EBDD7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46C-DD66-4CB8-A601-3C423F5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F96-8801-4B62-803B-6E3FFC1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92E-F48D-44AC-A4AB-AD70BAB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A0D-31FF-45E2-96F7-EC87A65F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we will talk about? Justify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51200" y="1600200"/>
          <a:ext cx="40244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244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417492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3789360"/>
            <a:ext cx="4174920" cy="235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43280" y="1413000"/>
            <a:ext cx="4054680" cy="247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860640"/>
            <a:ext cx="464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sk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ch the video again and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of the cr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of the cr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eviden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Sequence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Silent Viewing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spee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sk 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in teams. Within 1-2 min get ready to make this sequence sound. Try not to recall the exact words from the scene, but narrate the dialogue and be cre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team have to assess the other team’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7720" y="1844640"/>
            <a:ext cx="337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e spee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vie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thinking of a detective what fictional character comes across your mind? Describe  his/her appearance  and pers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sk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 in pairs. Act out a dialogue between a detective solving a crime and a w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sess the work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48360" y="1662120"/>
            <a:ext cx="3538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Let’s talk about crim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Gungsuh"/>
                <a:ea typeface="Gungsuh"/>
              </a:rPr>
              <a:t>Conversation car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6000" y="46080"/>
            <a:ext cx="1908000" cy="215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97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205000"/>
            <a:ext cx="3600360" cy="2592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at crimes hav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d about in the n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?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924280"/>
            <a:ext cx="4788000" cy="45352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hould a poor , hungry 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unished for stealing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supermarket? Can you th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ny other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shouldn’t pu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imin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1125360"/>
            <a:ext cx="4319280" cy="2592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ave you ever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cr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27440"/>
            <a:ext cx="5184720" cy="2230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ave you ever a witnessed a crim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class what hap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1628640"/>
            <a:ext cx="2627280" cy="2880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Is crime a serious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you live? What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crim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we do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ese cr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ope you’ll never face with crime in your life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fullfilled your goals?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of the les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vocabulary relating to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speaking ablities(e.g. Monologue, dialo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assessing the students’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/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your own story in writing with vocabulary on crime( no less than 10 words). Underline these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 in our neibour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objectives of the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vocabulary relating to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speaking ablities(e.g. monologue, dialo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assessing the students’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aims of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appropriat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-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, Reflex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k.Complete the Law and Order related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 someone with intention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from someone’s home is called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ttacks people  in the street to steal  is called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fire to something in a crimin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something from a store or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breaks into houses to s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n official to do smth illegal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poc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rc_mi" descr=""/>
          <p:cNvPicPr/>
          <p:nvPr/>
        </p:nvPicPr>
        <p:blipFill>
          <a:blip r:embed="rId1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irc_mi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irc_mi" descr=""/>
          <p:cNvPicPr/>
          <p:nvPr/>
        </p:nvPicPr>
        <p:blipFill>
          <a:blip r:embed="rId3"/>
          <a:stretch/>
        </p:blipFill>
        <p:spPr>
          <a:xfrm>
            <a:off x="3492360" y="0"/>
            <a:ext cx="3095640" cy="2924280"/>
          </a:xfrm>
          <a:prstGeom prst="rect">
            <a:avLst/>
          </a:prstGeom>
          <a:ln w="0">
            <a:noFill/>
          </a:ln>
        </p:spPr>
      </p:pic>
      <p:pic>
        <p:nvPicPr>
          <p:cNvPr id="62" name="irc_mi" descr=""/>
          <p:cNvPicPr/>
          <p:nvPr/>
        </p:nvPicPr>
        <p:blipFill>
          <a:blip r:embed="rId4"/>
          <a:stretch/>
        </p:blipFill>
        <p:spPr>
          <a:xfrm>
            <a:off x="5364000" y="4670280"/>
            <a:ext cx="208764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irc_mi" descr=""/>
          <p:cNvPicPr/>
          <p:nvPr/>
        </p:nvPicPr>
        <p:blipFill>
          <a:blip r:embed="rId5"/>
          <a:stretch/>
        </p:blipFill>
        <p:spPr>
          <a:xfrm>
            <a:off x="3059280" y="3645000"/>
            <a:ext cx="230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irc_mi" descr=""/>
          <p:cNvPicPr/>
          <p:nvPr/>
        </p:nvPicPr>
        <p:blipFill>
          <a:blip r:embed="rId6"/>
          <a:stretch/>
        </p:blipFill>
        <p:spPr>
          <a:xfrm>
            <a:off x="1258920" y="0"/>
            <a:ext cx="2305080" cy="3789360"/>
          </a:xfrm>
          <a:prstGeom prst="rect">
            <a:avLst/>
          </a:prstGeom>
          <a:ln w="0">
            <a:noFill/>
          </a:ln>
        </p:spPr>
      </p:pic>
      <p:pic>
        <p:nvPicPr>
          <p:cNvPr id="65" name="irc_mi" descr=""/>
          <p:cNvPicPr/>
          <p:nvPr/>
        </p:nvPicPr>
        <p:blipFill>
          <a:blip r:embed="rId7"/>
          <a:stretch/>
        </p:blipFill>
        <p:spPr>
          <a:xfrm>
            <a:off x="0" y="260280"/>
            <a:ext cx="14320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irc_mi" descr=""/>
          <p:cNvPicPr/>
          <p:nvPr/>
        </p:nvPicPr>
        <p:blipFill>
          <a:blip r:embed="rId8"/>
          <a:stretch/>
        </p:blipFill>
        <p:spPr>
          <a:xfrm>
            <a:off x="7451640" y="4508640"/>
            <a:ext cx="1692360" cy="234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443640" y="0"/>
            <a:ext cx="2700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H/W-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ar guilty of stealing mone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40273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s(B-preposition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e guil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take the b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rt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prot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sh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be found guil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p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th 7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b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 kee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- r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 the lights 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 l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s B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-spea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stories with  animals included relating crime do you know? Do you find them ridicul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sk 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video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ocation(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o the character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they’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9:46:42Z</dcterms:created>
  <dc:creator>!</dc:creator>
  <dc:description/>
  <dc:language>en-US</dc:language>
  <cp:lastModifiedBy>!</cp:lastModifiedBy>
  <dcterms:modified xsi:type="dcterms:W3CDTF">2016-04-24T20:33:06Z</dcterms:modified>
  <cp:revision>14</cp:revision>
  <dc:subject/>
  <dc:title>What is our theme?</dc:title>
</cp:coreProperties>
</file>