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2C5-E233-4BC1-A713-6C54FCB6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9A8-22EE-4D85-BA22-A48C2336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FA1-3D6C-4074-A53F-AA9D087E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526-1F29-49F4-A274-30BD1D5D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3094-1EA0-42FE-A443-1FF1CAB2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B7E5-DD01-48DA-B8F7-434F019A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36A4-29A4-443D-BBFE-A6320222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6486-EBAB-4F04-A551-22923F0A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7A83-327A-455D-A91A-CDE5081E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3C6A-B8E8-49D9-BD23-4B77DAF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D983-5BBD-4E34-BD4D-F0BEC96D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F80-D195-49F1-923C-970D8E63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2C38-B126-4DA7-AFD3-A86F4998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0769-CCBF-41BD-B35E-61E5C2B6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AC13-868F-4F28-A0A1-C387BF92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1973-892B-427D-ACD5-F6632291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549F-3252-4715-B726-D2B051A7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3A9-3689-4892-B630-E71BA137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1C0-2863-4CB4-8913-A613240E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A14-C443-4B45-8E24-9E3A1EB7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3D9-B717-42CF-9EC5-3D696B49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E07-687C-4286-BB75-7F2C752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48A-1790-4A2C-B455-0E7B932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C49-B1BD-4D5D-AC39-04721CF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BE56-636A-45B1-A5CD-A63787E891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A851-7B76-4FAE-AD0E-4DBAA19AA2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2492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Arial"/>
              </a:rPr>
              <a:t>Картинный словарный дикта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2000" cy="4745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е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гир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111640" cy="504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е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зья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3147" r="0" b="0"/>
          <a:stretch/>
        </p:blipFill>
        <p:spPr>
          <a:xfrm>
            <a:off x="2411280" y="1557360"/>
            <a:ext cx="4764240" cy="508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ябл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804000" cy="510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и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4534" r="0" b="4733"/>
          <a:stretch/>
        </p:blipFill>
        <p:spPr>
          <a:xfrm>
            <a:off x="1476360" y="1916280"/>
            <a:ext cx="6264360" cy="4319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лф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ви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817800" cy="5229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88000" cy="488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ти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476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Arial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1646280"/>
            <a:ext cx="6948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5190840" cy="447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я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34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пу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15209" r="0" b="16441"/>
          <a:stretch/>
        </p:blipFill>
        <p:spPr>
          <a:xfrm>
            <a:off x="1835280" y="1989000"/>
            <a:ext cx="5688000" cy="388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е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565520" cy="5157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по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1663"/>
          <a:stretch/>
        </p:blipFill>
        <p:spPr>
          <a:xfrm>
            <a:off x="1763640" y="2133720"/>
            <a:ext cx="5953320" cy="3662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867280" y="5516640"/>
            <a:ext cx="165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т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нда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89640" cy="508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гуш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905440" cy="4349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ах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8:10:32Z</dcterms:created>
  <dc:creator>Владелец</dc:creator>
  <dc:description/>
  <dc:language>en-US</dc:language>
  <cp:lastModifiedBy>Владелец</cp:lastModifiedBy>
  <dcterms:modified xsi:type="dcterms:W3CDTF">2013-06-11T15:52:37Z</dcterms:modified>
  <cp:revision>4</cp:revision>
  <dc:subject/>
  <dc:title>Слайд 1</dc:title>
</cp:coreProperties>
</file>