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752-5A0B-4F75-AD5D-8BB22DE9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C72-B4A6-416E-82E2-0A8B0C3E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E8F-803E-4B43-AA5B-84F2CCDD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195-74D9-4CF5-9DAB-A8B8157F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585-E4EC-40CD-A5AE-A51F4CE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D57-4961-4F90-A960-56243EC1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773-5268-4A05-83A4-B1837A7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349-0F4D-45C3-9D25-1F1530BB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037-7439-4A69-828D-095D841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DEE-0765-4C04-9C45-2D65800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0C6-C256-45E5-9245-4A67C86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984-8C8E-4115-A8AE-998A65A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E032-01A8-4058-985E-79C81C934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s://ru.wikipedia.org/wiki/&#1052;&#1072;&#1090;&#1077;&#1084;&#1072;&#1090;&#1080;&#1082;&#1072;" TargetMode="External"/><Relationship Id="rId3" Type="http://schemas.openxmlformats.org/officeDocument/2006/relationships/hyperlink" Target="https://ru.wikipedia.org/wiki/&#1052;&#1077;&#1093;&#1072;&#1085;&#1080;&#1082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Приветствую вас на уроке математики в 6 классе</a:t>
            </a:r>
            <a:br>
              <a:rPr sz="6600"/>
            </a:br>
            <a:br>
              <a:rPr sz="4000"/>
            </a:br>
            <a:r>
              <a:rPr b="1" i="1" lang="ru-RU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04_zst"/>
          <p:cNvPicPr/>
          <p:nvPr/>
        </p:nvPicPr>
        <p:blipFill>
          <a:blip r:embed="rId1"/>
          <a:stretch/>
        </p:blipFill>
        <p:spPr>
          <a:xfrm>
            <a:off x="255600" y="3860640"/>
            <a:ext cx="2300400" cy="24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G00215_"/>
          <p:cNvPicPr/>
          <p:nvPr/>
        </p:nvPicPr>
        <p:blipFill>
          <a:blip r:embed="rId2"/>
          <a:stretch/>
        </p:blipFill>
        <p:spPr>
          <a:xfrm>
            <a:off x="6527880" y="4005360"/>
            <a:ext cx="2031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7120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Bookman Old Style"/>
              </a:rPr>
              <a:t>Оцените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ДР:</a:t>
            </a:r>
            <a:br>
              <a:rPr sz="32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се ответы верны и подробн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записано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  решение                         «5»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се ответы верны и подробно записано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 решение, но допущены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ычислительные ошибки               «4»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ы верны,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но решение либо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неполное, либо его нет  совсем      «3»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омашняя работа отсутствует-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«2»                           </a:t>
            </a:r>
            <a:br>
              <a:rPr sz="3200"/>
            </a:br>
            <a:br>
              <a:rPr sz="40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9600"/>
            </a:br>
            <a:br>
              <a:rPr sz="9600"/>
            </a:br>
            <a:br>
              <a:rPr sz="4000"/>
            </a:b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лассная работа.</a:t>
            </a:r>
            <a:br>
              <a:rPr sz="4000"/>
            </a:br>
            <a:br>
              <a:rPr sz="40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Нахожде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ние дроби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 от числа.</a:t>
            </a:r>
            <a:br>
              <a:rPr sz="40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9600"/>
            </a:br>
            <a:br>
              <a:rPr sz="9600"/>
            </a:br>
            <a:br>
              <a:rPr sz="4000"/>
            </a:b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2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83120" y="0"/>
            <a:ext cx="32608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Цели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69228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накомиться с правилом нахождения дроби от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У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иться применять это правило при решении задач и примеров на нахождение дроби от числа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Р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Р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азвивать культуру выражения мыслей в устной и письмен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ook"/>
          <p:cNvPicPr/>
          <p:nvPr/>
        </p:nvPicPr>
        <p:blipFill>
          <a:blip r:embed="rId1"/>
          <a:stretch/>
        </p:blipFill>
        <p:spPr>
          <a:xfrm>
            <a:off x="-181080" y="-387360"/>
            <a:ext cx="140976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Объект 2"/>
          <p:cNvSpPr/>
          <p:nvPr/>
        </p:nvSpPr>
        <p:spPr>
          <a:xfrm>
            <a:off x="204840" y="4292640"/>
            <a:ext cx="892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048360" y="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Девиз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3280" y="48880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24000" y="1224720"/>
            <a:ext cx="84960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05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Bookman Old Style"/>
              </a:rPr>
              <a:t>«Прежде чем решать задачу – прочитай услови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Жак Адама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французски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Bookman Old Style"/>
                <a:hlinkClick r:id="rId2"/>
              </a:rPr>
              <a:t>математик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Bookman Old Style"/>
                <a:hlinkClick r:id="rId3"/>
              </a:rPr>
              <a:t>механик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826920" y="1052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1) Вычисл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3"/>
              <p:cNvSpPr txBox="1"/>
              <p:nvPr/>
            </p:nvSpPr>
            <p:spPr>
              <a:xfrm>
                <a:off x="755640" y="1989000"/>
                <a:ext cx="1527120" cy="37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5148360" y="2133720"/>
                <a:ext cx="1780920" cy="37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826920" y="1052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2) Вычислите квадрат и куб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3"/>
              <p:cNvSpPr txBox="1"/>
              <p:nvPr/>
            </p:nvSpPr>
            <p:spPr>
              <a:xfrm>
                <a:off x="1835280" y="2708280"/>
                <a:ext cx="338436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395280" y="1052640"/>
            <a:ext cx="85694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Bookman Old Styl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Решите зад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Одна птица летит со скоростью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12м/мин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, а другая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12м/с.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акая птица летит быстр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0" y="1052640"/>
            <a:ext cx="896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5) Найдите сум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100+200+…+900+1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дали    этих овощей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3"/>
              <p:cNvSpPr txBox="1"/>
              <p:nvPr/>
            </p:nvSpPr>
            <p:spPr>
              <a:xfrm>
                <a:off x="2627280" y="2852640"/>
                <a:ext cx="6001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0" y="549360"/>
            <a:ext cx="8964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book"/>
          <p:cNvPicPr/>
          <p:nvPr/>
        </p:nvPicPr>
        <p:blipFill>
          <a:blip r:embed="rId1"/>
          <a:stretch/>
        </p:blipFill>
        <p:spPr>
          <a:xfrm>
            <a:off x="-181080" y="-387360"/>
            <a:ext cx="140976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2"/>
          <p:cNvSpPr/>
          <p:nvPr/>
        </p:nvSpPr>
        <p:spPr>
          <a:xfrm>
            <a:off x="204840" y="4292640"/>
            <a:ext cx="892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48360" y="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Прит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03280" y="48880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808200" y="6021360"/>
            <a:ext cx="72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Bookman Old Style"/>
              </a:rPr>
              <a:t>Успешного усвоения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24000" y="583920"/>
            <a:ext cx="8496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05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2b2d"/>
                </a:solidFill>
                <a:latin typeface="Bookman Old Style"/>
                <a:ea typeface="Times New Roman"/>
              </a:rPr>
              <a:t>Все в твоих ру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Давным-давно в старинном городе жил Мастер, окружённый учениками. Самый способный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них однажды задумался: «А есть ли вопрос, на который наш Мастер не смог бы дать ответа?» Он пошёл на цветущий луг, поймал самую красивую бабочку и спрятал её между ладонями. Бабочка цеплялась лапками за его руки, и ученику было щек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Улыбаясь, он подошёл к Мастеру и с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Скажите, какая бабочка у меня в руках: жи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или мёртв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Он крепко держал бабочку в сомкнутых ладоня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был готов в любое мгновение сжать их 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своей ис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Не глядя на руки ученика, Мастер ответ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Всё в твоих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0" y="5493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0" y="5493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2987640" y="4869000"/>
                <a:ext cx="194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2916360" y="4869000"/>
                <a:ext cx="3376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0" y="54936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2124000" y="4437000"/>
                <a:ext cx="3175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Прямая соединительная линия 9"/>
          <p:cNvSpPr/>
          <p:nvPr/>
        </p:nvSpPr>
        <p:spPr>
          <a:xfrm flipH="1">
            <a:off x="385092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 flipH="1">
            <a:off x="4211280" y="515772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3492360" y="4076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0" y="54936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209680" y="4365720"/>
                <a:ext cx="6934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Прямая соединительная линия 9"/>
          <p:cNvSpPr/>
          <p:nvPr/>
        </p:nvSpPr>
        <p:spPr>
          <a:xfrm flipH="1">
            <a:off x="399528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0"/>
          <p:cNvSpPr/>
          <p:nvPr/>
        </p:nvSpPr>
        <p:spPr>
          <a:xfrm flipH="1">
            <a:off x="4140360" y="515772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56400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0" y="549360"/>
            <a:ext cx="89647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Ответ:  25к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2209680" y="4365720"/>
                <a:ext cx="6934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Прямая соединительная линия 9"/>
          <p:cNvSpPr/>
          <p:nvPr/>
        </p:nvSpPr>
        <p:spPr>
          <a:xfrm flipH="1">
            <a:off x="399528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0"/>
          <p:cNvSpPr/>
          <p:nvPr/>
        </p:nvSpPr>
        <p:spPr>
          <a:xfrm flipH="1">
            <a:off x="4140360" y="515772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356400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539640" y="981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§3,п.14, стр.79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539640" y="981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39640" y="260280"/>
            <a:ext cx="8353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з Д.Р № 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man Old Style"/>
              </a:rPr>
              <a:t>§3,п.13. три правила, стр.69,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Стр. 77,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ookman Old Style"/>
              </a:rPr>
              <a:t>472(к,м,п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Bookman Old Style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№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ookman Old Style"/>
              </a:rPr>
              <a:t>47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Стр. 78,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Bookman Old Style"/>
              </a:rPr>
              <a:t>482(б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11280" y="1700280"/>
                <a:ext cx="3273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Месяц 6"/>
          <p:cNvSpPr/>
          <p:nvPr/>
        </p:nvSpPr>
        <p:spPr>
          <a:xfrm rot="16200000">
            <a:off x="2158920" y="1807920"/>
            <a:ext cx="252360" cy="24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вниз 8"/>
          <p:cNvSpPr/>
          <p:nvPr/>
        </p:nvSpPr>
        <p:spPr>
          <a:xfrm>
            <a:off x="1763640" y="3213000"/>
            <a:ext cx="86364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250920" y="393372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Чтобы найти дробь     от числа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2, нужно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число 12 умножить на эту дробь    .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4284720" y="3645000"/>
                <a:ext cx="654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276720" y="5013360"/>
                <a:ext cx="653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324000" y="1700280"/>
                <a:ext cx="4425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Box 11"/>
          <p:cNvSpPr/>
          <p:nvPr/>
        </p:nvSpPr>
        <p:spPr>
          <a:xfrm>
            <a:off x="971640" y="4292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множаем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гнутая вверх стрелка 12"/>
          <p:cNvSpPr/>
          <p:nvPr/>
        </p:nvSpPr>
        <p:spPr>
          <a:xfrm>
            <a:off x="2195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Выгнутая вверх стрелка 14"/>
          <p:cNvSpPr/>
          <p:nvPr/>
        </p:nvSpPr>
        <p:spPr>
          <a:xfrm flipV="1">
            <a:off x="1116000" y="2923920"/>
            <a:ext cx="2951280" cy="57600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79280" y="2781360"/>
                <a:ext cx="87138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Прямая соединительная линия 8"/>
          <p:cNvSpPr/>
          <p:nvPr/>
        </p:nvSpPr>
        <p:spPr>
          <a:xfrm flipV="1">
            <a:off x="4572000" y="2924280"/>
            <a:ext cx="576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 flipV="1">
            <a:off x="4859280" y="357336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435600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292720" y="39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539640" y="465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б,в-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амостоятельно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с последующей проверкой.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ополнительно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3"/>
              <p:cNvSpPr txBox="1"/>
              <p:nvPr/>
            </p:nvSpPr>
            <p:spPr>
              <a:xfrm>
                <a:off x="179280" y="2060640"/>
                <a:ext cx="8236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Прямая соединительная линия 8"/>
          <p:cNvSpPr/>
          <p:nvPr/>
        </p:nvSpPr>
        <p:spPr>
          <a:xfrm flipV="1">
            <a:off x="4356000" y="2637000"/>
            <a:ext cx="576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 flipV="1">
            <a:off x="4067280" y="198900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78000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471636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ыгнутая вверх стрелка 15"/>
          <p:cNvSpPr/>
          <p:nvPr/>
        </p:nvSpPr>
        <p:spPr>
          <a:xfrm flipV="1">
            <a:off x="755640" y="3067920"/>
            <a:ext cx="2952720" cy="576360"/>
          </a:xfrm>
          <a:custGeom>
            <a:avLst/>
            <a:gdLst>
              <a:gd name="textAreaLeft" fmla="*/ 684000 w 2952720"/>
              <a:gd name="textAreaRight" fmla="*/ 2196720 w 2952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0" hR="21600" stAng="10800000" swAng="5400000"/>
                <a:lnTo>
                  <a:pt x="11064" y="0"/>
                </a:lnTo>
                <a:arcTo wR="10010" hR="21600" stAng="-5400000" swAng="2972219"/>
                <a:lnTo>
                  <a:pt x="20899" y="13660"/>
                </a:lnTo>
                <a:lnTo>
                  <a:pt x="20546" y="21600"/>
                </a:lnTo>
                <a:lnTo>
                  <a:pt x="18791" y="13660"/>
                </a:lnTo>
                <a:lnTo>
                  <a:pt x="19318" y="13660"/>
                </a:lnTo>
                <a:arcTo wR="10010" hR="21600" stAng="-2427781" swAng="-2888244"/>
                <a:lnTo>
                  <a:pt x="10537" y="30"/>
                </a:lnTo>
                <a:arcTo wR="10010" hR="21600" stAng="-5483974" swAng="-5316026"/>
                <a:close/>
              </a:path>
              <a:path fill="darkenLess" w="21600" h="21600">
                <a:moveTo>
                  <a:pt x="0" y="21600"/>
                </a:moveTo>
                <a:arcTo wR="10010" hR="21600" stAng="10800000" swAng="5400000"/>
                <a:lnTo>
                  <a:pt x="10010" y="0"/>
                </a:lnTo>
                <a:arcTo wR="10010" hR="21600" stAng="-5400000" swAng="83974"/>
                <a:lnTo>
                  <a:pt x="10537" y="30"/>
                </a:lnTo>
                <a:arcTo wR="10010" hR="21600" stAng="-5483974" swAng="-531602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верх стрелка 16"/>
          <p:cNvSpPr/>
          <p:nvPr/>
        </p:nvSpPr>
        <p:spPr>
          <a:xfrm>
            <a:off x="1763640" y="1916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3"/>
              <p:cNvSpPr txBox="1"/>
              <p:nvPr/>
            </p:nvSpPr>
            <p:spPr>
              <a:xfrm>
                <a:off x="324000" y="2133720"/>
                <a:ext cx="7324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Прямая соединительная линия 8"/>
          <p:cNvSpPr/>
          <p:nvPr/>
        </p:nvSpPr>
        <p:spPr>
          <a:xfrm flipV="1">
            <a:off x="4788000" y="2781000"/>
            <a:ext cx="50472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 flipV="1">
            <a:off x="4284720" y="2133720"/>
            <a:ext cx="5745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1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4932360" y="306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Выгнутая вверх стрелка 15"/>
          <p:cNvSpPr/>
          <p:nvPr/>
        </p:nvSpPr>
        <p:spPr>
          <a:xfrm flipV="1">
            <a:off x="900000" y="3212280"/>
            <a:ext cx="2951280" cy="57636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Выгнутая вверх стрелка 16"/>
          <p:cNvSpPr/>
          <p:nvPr/>
        </p:nvSpPr>
        <p:spPr>
          <a:xfrm>
            <a:off x="1979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95280" y="2133720"/>
                <a:ext cx="8313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Прямая соединительная линия 8"/>
          <p:cNvSpPr/>
          <p:nvPr/>
        </p:nvSpPr>
        <p:spPr>
          <a:xfrm flipV="1">
            <a:off x="5076720" y="2708280"/>
            <a:ext cx="50328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0"/>
          <p:cNvSpPr/>
          <p:nvPr/>
        </p:nvSpPr>
        <p:spPr>
          <a:xfrm flipV="1">
            <a:off x="4427640" y="206064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"/>
          <p:cNvSpPr/>
          <p:nvPr/>
        </p:nvSpPr>
        <p:spPr>
          <a:xfrm>
            <a:off x="41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5292720" y="31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Выгнутая вверх стрелка 15"/>
          <p:cNvSpPr/>
          <p:nvPr/>
        </p:nvSpPr>
        <p:spPr>
          <a:xfrm flipV="1">
            <a:off x="900000" y="3212280"/>
            <a:ext cx="2951280" cy="57636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Выгнутая вверх стрелка 16"/>
          <p:cNvSpPr/>
          <p:nvPr/>
        </p:nvSpPr>
        <p:spPr>
          <a:xfrm>
            <a:off x="1979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5292720" y="198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4140360" y="321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18"/>
          <p:cNvSpPr/>
          <p:nvPr/>
        </p:nvSpPr>
        <p:spPr>
          <a:xfrm flipV="1">
            <a:off x="4932360" y="2133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9"/>
          <p:cNvSpPr/>
          <p:nvPr/>
        </p:nvSpPr>
        <p:spPr>
          <a:xfrm flipV="1">
            <a:off x="4427640" y="2852640"/>
            <a:ext cx="504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179280" y="476280"/>
            <a:ext cx="8785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Bookman Old Style"/>
              </a:rPr>
              <a:t>          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484(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по образцу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395280" y="436572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АМ от </a:t>
            </a:r>
            <a:r>
              <a:rPr b="1" i="1" lang="ru-RU" sz="72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ru-RU" sz="80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468360" y="4508640"/>
                <a:ext cx="6119640" cy="16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б,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5"/>
          <p:cNvSpPr/>
          <p:nvPr/>
        </p:nvSpPr>
        <p:spPr>
          <a:xfrm>
            <a:off x="1547640" y="2781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6"/>
          <p:cNvSpPr/>
          <p:nvPr/>
        </p:nvSpPr>
        <p:spPr>
          <a:xfrm>
            <a:off x="324000" y="4581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М от АС;   АМ от 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79280" y="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472(к,м,п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24000" y="1628640"/>
                <a:ext cx="73976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)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Прямая соединительная линия 5"/>
          <p:cNvSpPr/>
          <p:nvPr/>
        </p:nvSpPr>
        <p:spPr>
          <a:xfrm flipH="1">
            <a:off x="3634920" y="1628640"/>
            <a:ext cx="35892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211640" y="2565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564000" y="126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 flipH="1">
            <a:off x="3924360" y="227664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50920" y="4005360"/>
                <a:ext cx="66913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)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б,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5"/>
          <p:cNvSpPr/>
          <p:nvPr/>
        </p:nvSpPr>
        <p:spPr>
          <a:xfrm>
            <a:off x="1547640" y="2781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0" y="4581360"/>
                <a:ext cx="37288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4245120" y="4653000"/>
                <a:ext cx="4898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г,д,е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есяц 28"/>
          <p:cNvSpPr/>
          <p:nvPr/>
        </p:nvSpPr>
        <p:spPr>
          <a:xfrm rot="5400000">
            <a:off x="2159640" y="1161360"/>
            <a:ext cx="360360" cy="40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9"/>
          <p:cNvSpPr/>
          <p:nvPr/>
        </p:nvSpPr>
        <p:spPr>
          <a:xfrm>
            <a:off x="205092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</a:t>
            </a:r>
            <a:r>
              <a:rPr b="1" i="1" lang="en-US" sz="2800" spc="-1" strike="noStrike">
                <a:solidFill>
                  <a:srgbClr val="17375e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1"/>
          <p:cNvSpPr/>
          <p:nvPr/>
        </p:nvSpPr>
        <p:spPr>
          <a:xfrm>
            <a:off x="324000" y="3357720"/>
            <a:ext cx="4032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8"/>
          <p:cNvSpPr/>
          <p:nvPr/>
        </p:nvSpPr>
        <p:spPr>
          <a:xfrm>
            <a:off x="324000" y="4581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АВ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АС;   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г,д,е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Месяц 28"/>
          <p:cNvSpPr/>
          <p:nvPr/>
        </p:nvSpPr>
        <p:spPr>
          <a:xfrm rot="5400000">
            <a:off x="2159640" y="1161360"/>
            <a:ext cx="360360" cy="40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205092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</a:t>
            </a:r>
            <a:r>
              <a:rPr b="1" i="1" lang="en-US" sz="2800" spc="-1" strike="noStrike">
                <a:solidFill>
                  <a:srgbClr val="17375e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31"/>
          <p:cNvSpPr/>
          <p:nvPr/>
        </p:nvSpPr>
        <p:spPr>
          <a:xfrm>
            <a:off x="324000" y="3357720"/>
            <a:ext cx="4032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50920" y="4365720"/>
                <a:ext cx="4383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4842000" y="4365720"/>
                <a:ext cx="430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2484360" y="5634000"/>
                <a:ext cx="4343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95280" y="836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755640" y="270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250920" y="1125360"/>
            <a:ext cx="83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539640" y="26028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60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539640" y="260280"/>
            <a:ext cx="8280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539640" y="26028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539640" y="260280"/>
            <a:ext cx="82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539640" y="260280"/>
            <a:ext cx="82803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3"/>
              <p:cNvSpPr txBox="1"/>
              <p:nvPr/>
            </p:nvSpPr>
            <p:spPr>
              <a:xfrm>
                <a:off x="369720" y="3573360"/>
                <a:ext cx="4334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539640" y="260280"/>
            <a:ext cx="82803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3"/>
              <p:cNvSpPr txBox="1"/>
              <p:nvPr/>
            </p:nvSpPr>
            <p:spPr>
              <a:xfrm>
                <a:off x="179280" y="3645000"/>
                <a:ext cx="8759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TextBox 10"/>
          <p:cNvSpPr/>
          <p:nvPr/>
        </p:nvSpPr>
        <p:spPr>
          <a:xfrm>
            <a:off x="428472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1"/>
          <p:cNvSpPr/>
          <p:nvPr/>
        </p:nvSpPr>
        <p:spPr>
          <a:xfrm>
            <a:off x="5148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2"/>
          <p:cNvSpPr/>
          <p:nvPr/>
        </p:nvSpPr>
        <p:spPr>
          <a:xfrm flipV="1">
            <a:off x="4500720" y="371628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4"/>
          <p:cNvSpPr/>
          <p:nvPr/>
        </p:nvSpPr>
        <p:spPr>
          <a:xfrm flipV="1">
            <a:off x="4788000" y="443700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79280" y="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472(к,м,п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3"/>
              <p:cNvSpPr txBox="1"/>
              <p:nvPr/>
            </p:nvSpPr>
            <p:spPr>
              <a:xfrm>
                <a:off x="250920" y="2997360"/>
                <a:ext cx="8399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Прямая соединительная линия 23"/>
          <p:cNvSpPr/>
          <p:nvPr/>
        </p:nvSpPr>
        <p:spPr>
          <a:xfrm flipH="1">
            <a:off x="5292360" y="371628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H="1">
            <a:off x="4571640" y="299736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H="1">
            <a:off x="4642920" y="3716280"/>
            <a:ext cx="358920" cy="50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H="1">
            <a:off x="5292360" y="2997360"/>
            <a:ext cx="358920" cy="50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5580000" y="24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356000" y="2492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421164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43564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3"/>
          <p:cNvSpPr/>
          <p:nvPr/>
        </p:nvSpPr>
        <p:spPr>
          <a:xfrm>
            <a:off x="539640" y="260280"/>
            <a:ext cx="8280360" cy="74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: 30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3"/>
              <p:cNvSpPr txBox="1"/>
              <p:nvPr/>
            </p:nvSpPr>
            <p:spPr>
              <a:xfrm>
                <a:off x="179280" y="3645000"/>
                <a:ext cx="875988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Box 10"/>
          <p:cNvSpPr/>
          <p:nvPr/>
        </p:nvSpPr>
        <p:spPr>
          <a:xfrm>
            <a:off x="428472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1"/>
          <p:cNvSpPr/>
          <p:nvPr/>
        </p:nvSpPr>
        <p:spPr>
          <a:xfrm>
            <a:off x="5148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12"/>
          <p:cNvSpPr/>
          <p:nvPr/>
        </p:nvSpPr>
        <p:spPr>
          <a:xfrm flipV="1">
            <a:off x="4500720" y="371628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14"/>
          <p:cNvSpPr/>
          <p:nvPr/>
        </p:nvSpPr>
        <p:spPr>
          <a:xfrm flipV="1">
            <a:off x="4788000" y="443700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539640" y="260280"/>
            <a:ext cx="828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11280" y="0"/>
            <a:ext cx="828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611280" y="0"/>
            <a:ext cx="82818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90·0,3=27(м.)- у б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611280" y="0"/>
            <a:ext cx="8281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·0,3=27(м.)- у б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 – 27=63(м.)- у сест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611280" y="0"/>
            <a:ext cx="8281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611280" y="0"/>
            <a:ext cx="828180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1 –0,3=0,7(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539640" y="260280"/>
            <a:ext cx="8353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з Д.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Стр. 77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6000" spc="-1" strike="noStrike" u="sng">
                <a:solidFill>
                  <a:srgbClr val="000000"/>
                </a:solidFill>
                <a:uFillTx/>
                <a:latin typeface="Bookman Old Style"/>
              </a:rPr>
              <a:t>№ 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Bookman Old Style"/>
              </a:rPr>
              <a:t>476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250920" y="0"/>
            <a:ext cx="889308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1 –0,3=0,7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всех марок)-у 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250920" y="0"/>
            <a:ext cx="8893080" cy="71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 –0,3=0,7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всех марок)-у 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·0,7 =63(м.)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 сес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: 63 м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Повторение изуч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26920" cy="1379520"/>
          </a:xfrm>
          <a:prstGeom prst="rect">
            <a:avLst/>
          </a:prstGeom>
          <a:ln w="0">
            <a:noFill/>
          </a:ln>
        </p:spPr>
      </p:pic>
      <p:sp>
        <p:nvSpPr>
          <p:cNvPr id="596" name="Заголовок 1"/>
          <p:cNvSpPr/>
          <p:nvPr/>
        </p:nvSpPr>
        <p:spPr>
          <a:xfrm>
            <a:off x="971640" y="1197000"/>
            <a:ext cx="741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Стр. 84, № 515 (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стно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тог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26920" cy="1379520"/>
          </a:xfrm>
          <a:prstGeom prst="rect">
            <a:avLst/>
          </a:prstGeom>
          <a:ln w="0">
            <a:noFill/>
          </a:ln>
        </p:spPr>
      </p:pic>
      <p:sp>
        <p:nvSpPr>
          <p:cNvPr id="599" name="Заголовок 1"/>
          <p:cNvSpPr/>
          <p:nvPr/>
        </p:nvSpPr>
        <p:spPr>
          <a:xfrm>
            <a:off x="395280" y="2276640"/>
            <a:ext cx="820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Чему научились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ак найти дробь от чис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5222880" y="64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тог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250920" y="981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Оцените свое настроение по итогам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Группа 19"/>
          <p:cNvGrpSpPr/>
          <p:nvPr/>
        </p:nvGrpSpPr>
        <p:grpSpPr>
          <a:xfrm>
            <a:off x="900000" y="2852640"/>
            <a:ext cx="1727280" cy="1800360"/>
            <a:chOff x="900000" y="2852640"/>
            <a:chExt cx="1727280" cy="1800360"/>
          </a:xfrm>
        </p:grpSpPr>
        <p:sp>
          <p:nvSpPr>
            <p:cNvPr id="603" name="Овал 3"/>
            <p:cNvSpPr/>
            <p:nvPr/>
          </p:nvSpPr>
          <p:spPr>
            <a:xfrm>
              <a:off x="900000" y="2852640"/>
              <a:ext cx="172728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Овал 4"/>
            <p:cNvSpPr/>
            <p:nvPr/>
          </p:nvSpPr>
          <p:spPr>
            <a:xfrm>
              <a:off x="1331640" y="3392280"/>
              <a:ext cx="2584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Месяц 7"/>
            <p:cNvSpPr/>
            <p:nvPr/>
          </p:nvSpPr>
          <p:spPr>
            <a:xfrm rot="16200000">
              <a:off x="1719000" y="3989160"/>
              <a:ext cx="88920" cy="517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Овал 8"/>
            <p:cNvSpPr/>
            <p:nvPr/>
          </p:nvSpPr>
          <p:spPr>
            <a:xfrm>
              <a:off x="1936800" y="3392280"/>
              <a:ext cx="2584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Группа 21"/>
          <p:cNvGrpSpPr/>
          <p:nvPr/>
        </p:nvGrpSpPr>
        <p:grpSpPr>
          <a:xfrm>
            <a:off x="6588000" y="2781360"/>
            <a:ext cx="2016360" cy="1800000"/>
            <a:chOff x="6588000" y="2781360"/>
            <a:chExt cx="2016360" cy="1800000"/>
          </a:xfrm>
        </p:grpSpPr>
        <p:sp>
          <p:nvSpPr>
            <p:cNvPr id="608" name="Овал 13"/>
            <p:cNvSpPr/>
            <p:nvPr/>
          </p:nvSpPr>
          <p:spPr>
            <a:xfrm>
              <a:off x="6588000" y="2781360"/>
              <a:ext cx="2016360" cy="180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Овал 14"/>
            <p:cNvSpPr/>
            <p:nvPr/>
          </p:nvSpPr>
          <p:spPr>
            <a:xfrm>
              <a:off x="7046640" y="3321000"/>
              <a:ext cx="2746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Овал 15"/>
            <p:cNvSpPr/>
            <p:nvPr/>
          </p:nvSpPr>
          <p:spPr>
            <a:xfrm>
              <a:off x="7871040" y="3321000"/>
              <a:ext cx="2746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Месяц 16"/>
            <p:cNvSpPr/>
            <p:nvPr/>
          </p:nvSpPr>
          <p:spPr>
            <a:xfrm rot="5400000">
              <a:off x="7551360" y="3809520"/>
              <a:ext cx="88560" cy="73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0"/>
          <p:cNvGrpSpPr/>
          <p:nvPr/>
        </p:nvGrpSpPr>
        <p:grpSpPr>
          <a:xfrm>
            <a:off x="3708360" y="2852640"/>
            <a:ext cx="1943280" cy="1800360"/>
            <a:chOff x="3708360" y="2852640"/>
            <a:chExt cx="1943280" cy="1800360"/>
          </a:xfrm>
        </p:grpSpPr>
        <p:sp>
          <p:nvSpPr>
            <p:cNvPr id="613" name="Овал 10"/>
            <p:cNvSpPr/>
            <p:nvPr/>
          </p:nvSpPr>
          <p:spPr>
            <a:xfrm>
              <a:off x="3708360" y="2852640"/>
              <a:ext cx="194328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Овал 11"/>
            <p:cNvSpPr/>
            <p:nvPr/>
          </p:nvSpPr>
          <p:spPr>
            <a:xfrm>
              <a:off x="5034240" y="3392280"/>
              <a:ext cx="26352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12"/>
            <p:cNvSpPr/>
            <p:nvPr/>
          </p:nvSpPr>
          <p:spPr>
            <a:xfrm>
              <a:off x="4149720" y="3392280"/>
              <a:ext cx="26496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Прямая соединительная линия 18"/>
            <p:cNvSpPr/>
            <p:nvPr/>
          </p:nvSpPr>
          <p:spPr>
            <a:xfrm>
              <a:off x="4414680" y="4203720"/>
              <a:ext cx="619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Box 3"/>
          <p:cNvSpPr/>
          <p:nvPr/>
        </p:nvSpPr>
        <p:spPr>
          <a:xfrm>
            <a:off x="4859280" y="404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тог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1332000" y="5049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179280" y="1484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сем 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а работу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Итоговая комплексная проверочная работа для 1 класса Pandia.…"/>
          <p:cNvPicPr/>
          <p:nvPr/>
        </p:nvPicPr>
        <p:blipFill>
          <a:blip r:embed="rId1"/>
          <a:stretch/>
        </p:blipFill>
        <p:spPr>
          <a:xfrm>
            <a:off x="324000" y="3573360"/>
            <a:ext cx="26985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3"/>
          <p:cNvSpPr/>
          <p:nvPr/>
        </p:nvSpPr>
        <p:spPr>
          <a:xfrm>
            <a:off x="179280" y="260280"/>
            <a:ext cx="896472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.Р № 39,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на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13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.11.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§3,п.13,14, правила, стр.69,70,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р.77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478(а,б)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Bookman Old Style"/>
              </a:rPr>
              <a:t>,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р.81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492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Стр.84,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№ 523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Стр.86,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№ 53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5"/>
          <p:cNvSpPr/>
          <p:nvPr/>
        </p:nvSpPr>
        <p:spPr>
          <a:xfrm>
            <a:off x="4284720" y="2349360"/>
            <a:ext cx="934920" cy="1224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2916360" y="2349360"/>
            <a:ext cx="79200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79280" y="260280"/>
            <a:ext cx="8713800" cy="9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476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68360" y="1125360"/>
                <a:ext cx="835164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8"/>
          <p:cNvSpPr/>
          <p:nvPr/>
        </p:nvSpPr>
        <p:spPr>
          <a:xfrm>
            <a:off x="1403280" y="2349360"/>
            <a:ext cx="647640" cy="115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2916360" y="2349360"/>
            <a:ext cx="79200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79280" y="260280"/>
            <a:ext cx="8713800" cy="9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476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95280" y="2421000"/>
                <a:ext cx="8748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556000" y="4437000"/>
                <a:ext cx="12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53964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тр. 78, №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482(б)      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79280" y="1125360"/>
            <a:ext cx="871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)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1,3у –(9,7у –0,8у)+7,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1,3у –8,9у+7,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+ 7,4 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= 17 – 4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= 1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 = 12,3 :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 = 5,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Ответ: у = 5,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8:21:08Z</dcterms:created>
  <dc:creator>1</dc:creator>
  <dc:description/>
  <dc:language>en-US</dc:language>
  <cp:lastModifiedBy>Курумкан</cp:lastModifiedBy>
  <dcterms:modified xsi:type="dcterms:W3CDTF">2019-05-03T14:34:44Z</dcterms:modified>
  <cp:revision>2172</cp:revision>
  <dc:subject/>
  <dc:title>Тема урока…</dc:title>
</cp:coreProperties>
</file>