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DE0-E0BA-4DA8-8539-58DAD361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E6D-1B2B-4BE1-8D74-A4CDF06D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CBD6-7514-4E4A-B725-E396E257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3C3-7E57-4633-B74E-46FB00E0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F31-C2BD-4CF3-A9D3-99B6B075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7E42-4D28-4032-875F-25F9D1D8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C17-6D47-44F2-93B8-5CD2252E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203-0CD4-43A2-A63C-223DDD89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092-A6E3-455A-8E92-C69920CF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E80-B704-4B1C-9228-35FF7E5C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13A-E37E-4960-993C-44F9C412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675-3965-4BF9-849D-7E698D3C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CB9B-E5CB-4E1C-A103-280C0CB0E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s://ru.wikipedia.org/wiki/&#1052;&#1072;&#1090;&#1077;&#1084;&#1072;&#1090;&#1080;&#1082;&#1072;" TargetMode="External"/><Relationship Id="rId3" Type="http://schemas.openxmlformats.org/officeDocument/2006/relationships/hyperlink" Target="https://ru.wikipedia.org/wiki/&#1052;&#1077;&#1093;&#1072;&#1085;&#1080;&#1082;&#1072;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Приветствую вас на уроке математики в 6 классе</a:t>
            </a:r>
            <a:br>
              <a:rPr sz="6600"/>
            </a:br>
            <a:br>
              <a:rPr sz="4000"/>
            </a:br>
            <a:r>
              <a:rPr b="1" i="1" lang="ru-RU" sz="3200" spc="-1" strike="noStrike">
                <a:solidFill>
                  <a:srgbClr val="00b050"/>
                </a:solidFill>
                <a:latin typeface="Bookman Old Style"/>
              </a:rPr>
              <a:t>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04_zst"/>
          <p:cNvPicPr/>
          <p:nvPr/>
        </p:nvPicPr>
        <p:blipFill>
          <a:blip r:embed="rId1"/>
          <a:stretch/>
        </p:blipFill>
        <p:spPr>
          <a:xfrm>
            <a:off x="255600" y="3860640"/>
            <a:ext cx="2300400" cy="24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G00215_"/>
          <p:cNvPicPr/>
          <p:nvPr/>
        </p:nvPicPr>
        <p:blipFill>
          <a:blip r:embed="rId2"/>
          <a:stretch/>
        </p:blipFill>
        <p:spPr>
          <a:xfrm>
            <a:off x="6527880" y="4005360"/>
            <a:ext cx="2031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71200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Bookman Old Style"/>
              </a:rPr>
              <a:t>Оцените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ДР:</a:t>
            </a:r>
            <a:br>
              <a:rPr sz="3200"/>
            </a:b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се ответы верны и подробно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записано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  решение                         «5»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се ответы верны и подробно записано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  решение, но допущены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вычислительные ошибки               «4»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тветы верны,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но решение либо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неполное, либо его нет  совсем      «3»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-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домашняя работа отсутствует-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«2»                           </a:t>
            </a:r>
            <a:br>
              <a:rPr sz="3200"/>
            </a:br>
            <a:br>
              <a:rPr sz="4000"/>
            </a:b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9600"/>
            </a:br>
            <a:br>
              <a:rPr sz="9600"/>
            </a:br>
            <a:br>
              <a:rPr sz="4000"/>
            </a:br>
            <a:br>
              <a:rPr sz="40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                       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    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лассная работа.</a:t>
            </a:r>
            <a:br>
              <a:rPr sz="4000"/>
            </a:br>
            <a:br>
              <a:rPr sz="4000"/>
            </a:b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Нахожде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ние дроби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 от числа.</a:t>
            </a:r>
            <a:br>
              <a:rPr sz="4000"/>
            </a:b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9600"/>
            </a:br>
            <a:br>
              <a:rPr sz="9600"/>
            </a:br>
            <a:br>
              <a:rPr sz="4000"/>
            </a:br>
            <a:br>
              <a:rPr sz="40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4" descr="bbede0006c530d485ca772fc67e59d7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3320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83120" y="0"/>
            <a:ext cx="326088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Цели уро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0560" y="69228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080" indent="10080">
              <a:lnSpc>
                <a:spcPct val="100000"/>
              </a:lnSpc>
              <a:buClr>
                <a:srgbClr val="ff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накомиться с правилом нахождения дроби от чис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" indent="10080">
              <a:lnSpc>
                <a:spcPct val="100000"/>
              </a:lnSpc>
              <a:buClr>
                <a:srgbClr val="ff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У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иться применять это правило при решении задач и примеров на нахождение дроби от числа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080" indent="10080">
              <a:lnSpc>
                <a:spcPct val="100000"/>
              </a:lnSpc>
              <a:buClr>
                <a:srgbClr val="ff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Р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азвивать интерес к предме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80" indent="10080">
              <a:lnSpc>
                <a:spcPct val="100000"/>
              </a:lnSpc>
              <a:buClr>
                <a:srgbClr val="ff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Р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азвивать культуру выражения мыслей в устной и письменной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19280" y="4320"/>
            <a:ext cx="3683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book"/>
          <p:cNvPicPr/>
          <p:nvPr/>
        </p:nvPicPr>
        <p:blipFill>
          <a:blip r:embed="rId1"/>
          <a:stretch/>
        </p:blipFill>
        <p:spPr>
          <a:xfrm>
            <a:off x="-181080" y="-387360"/>
            <a:ext cx="140976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Объект 2"/>
          <p:cNvSpPr/>
          <p:nvPr/>
        </p:nvSpPr>
        <p:spPr>
          <a:xfrm>
            <a:off x="204840" y="4292640"/>
            <a:ext cx="8929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6048360" y="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Девиз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3280" y="488808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24000" y="1224720"/>
            <a:ext cx="849600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05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Bookman Old Style"/>
              </a:rPr>
              <a:t>«Прежде чем решать задачу – прочитай услови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Жак Адама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французский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Bookman Old Style"/>
                <a:hlinkClick r:id="rId2"/>
              </a:rPr>
              <a:t>математик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Bookman Old Style"/>
                <a:hlinkClick r:id="rId3"/>
              </a:rPr>
              <a:t>механик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Уст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826920" y="105264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1) Вычисли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3"/>
              <p:cNvSpPr txBox="1"/>
              <p:nvPr/>
            </p:nvSpPr>
            <p:spPr>
              <a:xfrm>
                <a:off x="755640" y="1989000"/>
                <a:ext cx="1527120" cy="37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9"/>
              <p:cNvSpPr txBox="1"/>
              <p:nvPr/>
            </p:nvSpPr>
            <p:spPr>
              <a:xfrm>
                <a:off x="5148360" y="2133720"/>
                <a:ext cx="1780920" cy="37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г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д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е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Уст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826920" y="1052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2) Вычислите квадрат и куб чис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3"/>
              <p:cNvSpPr txBox="1"/>
              <p:nvPr/>
            </p:nvSpPr>
            <p:spPr>
              <a:xfrm>
                <a:off x="1835280" y="2708280"/>
                <a:ext cx="338436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Уст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395280" y="1052640"/>
            <a:ext cx="856944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Bookman Old Style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Решите задач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Одна птица летит со скоростью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12м/мин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, а другая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12м/с.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Какая птица летит быстре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696000" y="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Устный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0" y="1052640"/>
            <a:ext cx="8964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5) Найдите сум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100+200+…+900+1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0" y="549360"/>
            <a:ext cx="89647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продали    этих овощей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3"/>
              <p:cNvSpPr txBox="1"/>
              <p:nvPr/>
            </p:nvSpPr>
            <p:spPr>
              <a:xfrm>
                <a:off x="2627280" y="2852640"/>
                <a:ext cx="6001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0" y="549360"/>
            <a:ext cx="8964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19280" y="4320"/>
            <a:ext cx="3683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book"/>
          <p:cNvPicPr/>
          <p:nvPr/>
        </p:nvPicPr>
        <p:blipFill>
          <a:blip r:embed="rId1"/>
          <a:stretch/>
        </p:blipFill>
        <p:spPr>
          <a:xfrm>
            <a:off x="-181080" y="-387360"/>
            <a:ext cx="140976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Объект 2"/>
          <p:cNvSpPr/>
          <p:nvPr/>
        </p:nvSpPr>
        <p:spPr>
          <a:xfrm>
            <a:off x="204840" y="4292640"/>
            <a:ext cx="8929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048360" y="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Притч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03280" y="488808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808200" y="6021360"/>
            <a:ext cx="72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Bookman Old Style"/>
              </a:rPr>
              <a:t>Успешного усвоения нов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24000" y="583920"/>
            <a:ext cx="84960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05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2b2d"/>
                </a:solidFill>
                <a:latin typeface="Bookman Old Style"/>
                <a:ea typeface="Times New Roman"/>
              </a:rPr>
              <a:t>Все в твоих ру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Давным-давно в старинном городе жил Мастер, окружённый учениками. Самый способный 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них однажды задумался: «А есть ли вопрос, на который наш Мастер не смог бы дать ответа?» Он пошёл на цветущий луг, поймал самую красивую бабочку и спрятал её между ладонями. Бабочка цеплялась лапками за его руки, и ученику было щеко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Улыбаясь, он подошёл к Мастеру и спрос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— </a:t>
            </a: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Скажите, какая бабочка у меня в руках: жи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или мёртв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Он крепко держал бабочку в сомкнутых ладоня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был готов в любое мгновение сжать их р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своей ист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Не глядя на руки ученика, Мастер ответ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— </a:t>
            </a:r>
            <a:r>
              <a:rPr b="1" i="1" lang="ru-RU" sz="2000" spc="-1" strike="noStrike">
                <a:solidFill>
                  <a:srgbClr val="1a0603"/>
                </a:solidFill>
                <a:latin typeface="Bookman Old Style"/>
                <a:ea typeface="Times New Roman"/>
              </a:rPr>
              <a:t>Всё в твоих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0" y="5493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0" y="549360"/>
            <a:ext cx="8964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0" y="549360"/>
            <a:ext cx="89647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0" y="549360"/>
            <a:ext cx="89647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2987640" y="4869000"/>
                <a:ext cx="1944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0" y="549360"/>
            <a:ext cx="89647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3"/>
              <p:cNvSpPr txBox="1"/>
              <p:nvPr/>
            </p:nvSpPr>
            <p:spPr>
              <a:xfrm>
                <a:off x="6084720" y="1700280"/>
                <a:ext cx="600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2916360" y="4869000"/>
                <a:ext cx="3376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0" y="549360"/>
            <a:ext cx="8964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3"/>
              <p:cNvSpPr txBox="1"/>
              <p:nvPr/>
            </p:nvSpPr>
            <p:spPr>
              <a:xfrm>
                <a:off x="4932360" y="1773360"/>
                <a:ext cx="600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2124000" y="4437000"/>
                <a:ext cx="3175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Прямая соединительная линия 9"/>
          <p:cNvSpPr/>
          <p:nvPr/>
        </p:nvSpPr>
        <p:spPr>
          <a:xfrm flipH="1">
            <a:off x="3850920" y="443700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10"/>
          <p:cNvSpPr/>
          <p:nvPr/>
        </p:nvSpPr>
        <p:spPr>
          <a:xfrm flipH="1">
            <a:off x="4211280" y="515772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3492360" y="4076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4427640" y="54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0" y="549360"/>
            <a:ext cx="8964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2 спосо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4932360" y="1773360"/>
                <a:ext cx="600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2209680" y="4365720"/>
                <a:ext cx="69343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Прямая соединительная линия 9"/>
          <p:cNvSpPr/>
          <p:nvPr/>
        </p:nvSpPr>
        <p:spPr>
          <a:xfrm flipH="1">
            <a:off x="3995280" y="443700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0"/>
          <p:cNvSpPr/>
          <p:nvPr/>
        </p:nvSpPr>
        <p:spPr>
          <a:xfrm flipH="1">
            <a:off x="4140360" y="5157720"/>
            <a:ext cx="3585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3564000" y="414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2"/>
          <p:cNvSpPr/>
          <p:nvPr/>
        </p:nvSpPr>
        <p:spPr>
          <a:xfrm>
            <a:off x="4427640" y="54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Письменно в тет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0" y="549360"/>
            <a:ext cx="896472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Решите задачу 2 способ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За два дня продали 40 кг овощей. В первый день продали     этих овощей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колько  килограммов овощей продали в первы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1 способ: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40:8·5= 25(кг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Ответ:  25к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4932360" y="1773360"/>
                <a:ext cx="6001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2209680" y="4365720"/>
                <a:ext cx="69343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Прямая соединительная линия 9"/>
          <p:cNvSpPr/>
          <p:nvPr/>
        </p:nvSpPr>
        <p:spPr>
          <a:xfrm flipH="1">
            <a:off x="3995280" y="443700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0"/>
          <p:cNvSpPr/>
          <p:nvPr/>
        </p:nvSpPr>
        <p:spPr>
          <a:xfrm flipH="1">
            <a:off x="4140360" y="5157720"/>
            <a:ext cx="3585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3564000" y="4149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2"/>
          <p:cNvSpPr/>
          <p:nvPr/>
        </p:nvSpPr>
        <p:spPr>
          <a:xfrm>
            <a:off x="4427640" y="54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539640" y="98100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§3,п.14, стр.79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правило нахождения дроби от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539640" y="981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39640" y="260280"/>
            <a:ext cx="835344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з Д.Р № 3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Bookman Old Style"/>
              </a:rPr>
              <a:t>§3,п.13. три правила, стр.69,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Стр. 77,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№ </a:t>
            </a: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ookman Old Style"/>
              </a:rPr>
              <a:t>472(к,м,п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Bookman Old Style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 № </a:t>
            </a: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ookman Old Style"/>
              </a:rPr>
              <a:t>47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Стр. 78,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№ 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Bookman Old Style"/>
              </a:rPr>
              <a:t>482(б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611280" y="1700280"/>
                <a:ext cx="3273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Месяц 6"/>
          <p:cNvSpPr/>
          <p:nvPr/>
        </p:nvSpPr>
        <p:spPr>
          <a:xfrm rot="16200000">
            <a:off x="2158920" y="1807920"/>
            <a:ext cx="252360" cy="24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трелка вниз 8"/>
          <p:cNvSpPr/>
          <p:nvPr/>
        </p:nvSpPr>
        <p:spPr>
          <a:xfrm>
            <a:off x="1763640" y="3213000"/>
            <a:ext cx="86364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250920" y="3933720"/>
            <a:ext cx="856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Чтобы найти дробь     от числа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2, нужно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число 12 умножить на эту дробь    .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4284720" y="3645000"/>
                <a:ext cx="654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3276720" y="5013360"/>
                <a:ext cx="653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3"/>
              <p:cNvSpPr txBox="1"/>
              <p:nvPr/>
            </p:nvSpPr>
            <p:spPr>
              <a:xfrm>
                <a:off x="324000" y="1700280"/>
                <a:ext cx="44258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TextBox 11"/>
          <p:cNvSpPr/>
          <p:nvPr/>
        </p:nvSpPr>
        <p:spPr>
          <a:xfrm>
            <a:off x="971640" y="4292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Умножаем самостоя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гнутая вверх стрелка 12"/>
          <p:cNvSpPr/>
          <p:nvPr/>
        </p:nvSpPr>
        <p:spPr>
          <a:xfrm>
            <a:off x="2195640" y="1700280"/>
            <a:ext cx="1224000" cy="504720"/>
          </a:xfrm>
          <a:custGeom>
            <a:avLst/>
            <a:gdLst>
              <a:gd name="textAreaLeft" fmla="*/ 258480 w 1224000"/>
              <a:gd name="textAreaRight" fmla="*/ 902520 w 12240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8" y="0"/>
                </a:lnTo>
                <a:arcTo wR="9130" hR="21600" stAng="-5400000" swAng="2815101"/>
                <a:lnTo>
                  <a:pt x="20961" y="13660"/>
                </a:lnTo>
                <a:lnTo>
                  <a:pt x="19373" y="21600"/>
                </a:lnTo>
                <a:lnTo>
                  <a:pt x="16507" y="13660"/>
                </a:lnTo>
                <a:lnTo>
                  <a:pt x="17620" y="13660"/>
                </a:lnTo>
                <a:arcTo wR="9130" hR="21600" stAng="-2584899" swAng="-2636628"/>
                <a:lnTo>
                  <a:pt x="10244" y="161"/>
                </a:lnTo>
                <a:arcTo wR="9130" hR="21600" stAng="-5578473" swAng="-5221527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473"/>
                <a:lnTo>
                  <a:pt x="10244" y="161"/>
                </a:lnTo>
                <a:arcTo wR="9130" hR="21600" stAng="-5578473" swAng="-52215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Выгнутая вверх стрелка 14"/>
          <p:cNvSpPr/>
          <p:nvPr/>
        </p:nvSpPr>
        <p:spPr>
          <a:xfrm flipV="1">
            <a:off x="1116000" y="2923920"/>
            <a:ext cx="2951280" cy="576000"/>
          </a:xfrm>
          <a:custGeom>
            <a:avLst/>
            <a:gdLst>
              <a:gd name="textAreaLeft" fmla="*/ 683640 w 2951280"/>
              <a:gd name="textAreaRight" fmla="*/ 2195640 w 295128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09" hR="21600" stAng="10800000" swAng="5400000"/>
                <a:lnTo>
                  <a:pt x="11064" y="0"/>
                </a:lnTo>
                <a:arcTo wR="10009" hR="21600" stAng="-5400000" swAng="2972134"/>
                <a:lnTo>
                  <a:pt x="20899" y="13660"/>
                </a:lnTo>
                <a:lnTo>
                  <a:pt x="20546" y="21600"/>
                </a:lnTo>
                <a:lnTo>
                  <a:pt x="18790" y="13660"/>
                </a:lnTo>
                <a:lnTo>
                  <a:pt x="19317" y="13660"/>
                </a:lnTo>
                <a:arcTo wR="10009" hR="21600" stAng="-2427866" swAng="-2888080"/>
                <a:lnTo>
                  <a:pt x="10537" y="30"/>
                </a:lnTo>
                <a:arcTo wR="10009" hR="21600" stAng="-5484054" swAng="-5315946"/>
                <a:close/>
              </a:path>
              <a:path fill="darkenLess" w="21600" h="21600">
                <a:moveTo>
                  <a:pt x="0" y="21600"/>
                </a:moveTo>
                <a:arcTo wR="10009" hR="21600" stAng="10800000" swAng="5400000"/>
                <a:lnTo>
                  <a:pt x="10009" y="0"/>
                </a:lnTo>
                <a:arcTo wR="10009" hR="21600" stAng="-5400000" swAng="84054"/>
                <a:lnTo>
                  <a:pt x="10537" y="30"/>
                </a:lnTo>
                <a:arcTo wR="10009" hR="21600" stAng="-5484054" swAng="-5315946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3"/>
              <p:cNvSpPr txBox="1"/>
              <p:nvPr/>
            </p:nvSpPr>
            <p:spPr>
              <a:xfrm>
                <a:off x="179280" y="2781360"/>
                <a:ext cx="87138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Прямая соединительная линия 8"/>
          <p:cNvSpPr/>
          <p:nvPr/>
        </p:nvSpPr>
        <p:spPr>
          <a:xfrm flipV="1">
            <a:off x="4572000" y="2924280"/>
            <a:ext cx="57636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 flipV="1">
            <a:off x="4859280" y="3573360"/>
            <a:ext cx="5763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435600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292720" y="393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539640" y="465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б,в-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самостоятельно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 с последующей проверкой.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ополнительно 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3"/>
              <p:cNvSpPr txBox="1"/>
              <p:nvPr/>
            </p:nvSpPr>
            <p:spPr>
              <a:xfrm>
                <a:off x="179280" y="2060640"/>
                <a:ext cx="8236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Прямая соединительная линия 8"/>
          <p:cNvSpPr/>
          <p:nvPr/>
        </p:nvSpPr>
        <p:spPr>
          <a:xfrm flipV="1">
            <a:off x="4356000" y="2637000"/>
            <a:ext cx="57636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10"/>
          <p:cNvSpPr/>
          <p:nvPr/>
        </p:nvSpPr>
        <p:spPr>
          <a:xfrm flipV="1">
            <a:off x="4067280" y="198900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78000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471636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ыгнутая вверх стрелка 15"/>
          <p:cNvSpPr/>
          <p:nvPr/>
        </p:nvSpPr>
        <p:spPr>
          <a:xfrm flipV="1">
            <a:off x="755640" y="3067920"/>
            <a:ext cx="2952720" cy="576360"/>
          </a:xfrm>
          <a:custGeom>
            <a:avLst/>
            <a:gdLst>
              <a:gd name="textAreaLeft" fmla="*/ 684000 w 2952720"/>
              <a:gd name="textAreaRight" fmla="*/ 2196720 w 2952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10" hR="21600" stAng="10800000" swAng="5400000"/>
                <a:lnTo>
                  <a:pt x="11064" y="0"/>
                </a:lnTo>
                <a:arcTo wR="10010" hR="21600" stAng="-5400000" swAng="2972219"/>
                <a:lnTo>
                  <a:pt x="20899" y="13660"/>
                </a:lnTo>
                <a:lnTo>
                  <a:pt x="20546" y="21600"/>
                </a:lnTo>
                <a:lnTo>
                  <a:pt x="18791" y="13660"/>
                </a:lnTo>
                <a:lnTo>
                  <a:pt x="19318" y="13660"/>
                </a:lnTo>
                <a:arcTo wR="10010" hR="21600" stAng="-2427781" swAng="-2888244"/>
                <a:lnTo>
                  <a:pt x="10537" y="30"/>
                </a:lnTo>
                <a:arcTo wR="10010" hR="21600" stAng="-5483974" swAng="-5316026"/>
                <a:close/>
              </a:path>
              <a:path fill="darkenLess" w="21600" h="21600">
                <a:moveTo>
                  <a:pt x="0" y="21600"/>
                </a:moveTo>
                <a:arcTo wR="10010" hR="21600" stAng="10800000" swAng="5400000"/>
                <a:lnTo>
                  <a:pt x="10010" y="0"/>
                </a:lnTo>
                <a:arcTo wR="10010" hR="21600" stAng="-5400000" swAng="83974"/>
                <a:lnTo>
                  <a:pt x="10537" y="30"/>
                </a:lnTo>
                <a:arcTo wR="10010" hR="21600" stAng="-5483974" swAng="-5316026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Выгнутая вверх стрелка 16"/>
          <p:cNvSpPr/>
          <p:nvPr/>
        </p:nvSpPr>
        <p:spPr>
          <a:xfrm>
            <a:off x="1763640" y="1916280"/>
            <a:ext cx="1224000" cy="504720"/>
          </a:xfrm>
          <a:custGeom>
            <a:avLst/>
            <a:gdLst>
              <a:gd name="textAreaLeft" fmla="*/ 258480 w 1224000"/>
              <a:gd name="textAreaRight" fmla="*/ 902520 w 12240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8" y="0"/>
                </a:lnTo>
                <a:arcTo wR="9130" hR="21600" stAng="-5400000" swAng="2815101"/>
                <a:lnTo>
                  <a:pt x="20961" y="13660"/>
                </a:lnTo>
                <a:lnTo>
                  <a:pt x="19373" y="21600"/>
                </a:lnTo>
                <a:lnTo>
                  <a:pt x="16507" y="13660"/>
                </a:lnTo>
                <a:lnTo>
                  <a:pt x="17620" y="13660"/>
                </a:lnTo>
                <a:arcTo wR="9130" hR="21600" stAng="-2584899" swAng="-2636628"/>
                <a:lnTo>
                  <a:pt x="10244" y="161"/>
                </a:lnTo>
                <a:arcTo wR="9130" hR="21600" stAng="-5578473" swAng="-5221527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473"/>
                <a:lnTo>
                  <a:pt x="10244" y="161"/>
                </a:lnTo>
                <a:arcTo wR="9130" hR="21600" stAng="-5578473" swAng="-52215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а-в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3"/>
              <p:cNvSpPr txBox="1"/>
              <p:nvPr/>
            </p:nvSpPr>
            <p:spPr>
              <a:xfrm>
                <a:off x="324000" y="2133720"/>
                <a:ext cx="73245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Прямая соединительная линия 8"/>
          <p:cNvSpPr/>
          <p:nvPr/>
        </p:nvSpPr>
        <p:spPr>
          <a:xfrm flipV="1">
            <a:off x="4788000" y="2781000"/>
            <a:ext cx="50472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0"/>
          <p:cNvSpPr/>
          <p:nvPr/>
        </p:nvSpPr>
        <p:spPr>
          <a:xfrm flipV="1">
            <a:off x="4284720" y="2133720"/>
            <a:ext cx="57456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4140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4932360" y="306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Выгнутая вверх стрелка 15"/>
          <p:cNvSpPr/>
          <p:nvPr/>
        </p:nvSpPr>
        <p:spPr>
          <a:xfrm flipV="1">
            <a:off x="900000" y="3212280"/>
            <a:ext cx="2951280" cy="576360"/>
          </a:xfrm>
          <a:custGeom>
            <a:avLst/>
            <a:gdLst>
              <a:gd name="textAreaLeft" fmla="*/ 683640 w 2951280"/>
              <a:gd name="textAreaRight" fmla="*/ 2195640 w 295128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09" hR="21600" stAng="10800000" swAng="5400000"/>
                <a:lnTo>
                  <a:pt x="11064" y="0"/>
                </a:lnTo>
                <a:arcTo wR="10009" hR="21600" stAng="-5400000" swAng="2972134"/>
                <a:lnTo>
                  <a:pt x="20899" y="13660"/>
                </a:lnTo>
                <a:lnTo>
                  <a:pt x="20546" y="21600"/>
                </a:lnTo>
                <a:lnTo>
                  <a:pt x="18790" y="13660"/>
                </a:lnTo>
                <a:lnTo>
                  <a:pt x="19317" y="13660"/>
                </a:lnTo>
                <a:arcTo wR="10009" hR="21600" stAng="-2427866" swAng="-2888080"/>
                <a:lnTo>
                  <a:pt x="10537" y="30"/>
                </a:lnTo>
                <a:arcTo wR="10009" hR="21600" stAng="-5484054" swAng="-5315946"/>
                <a:close/>
              </a:path>
              <a:path fill="darkenLess" w="21600" h="21600">
                <a:moveTo>
                  <a:pt x="0" y="21600"/>
                </a:moveTo>
                <a:arcTo wR="10009" hR="21600" stAng="10800000" swAng="5400000"/>
                <a:lnTo>
                  <a:pt x="10009" y="0"/>
                </a:lnTo>
                <a:arcTo wR="10009" hR="21600" stAng="-5400000" swAng="84054"/>
                <a:lnTo>
                  <a:pt x="10537" y="30"/>
                </a:lnTo>
                <a:arcTo wR="10009" hR="21600" stAng="-5484054" swAng="-5315946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Выгнутая вверх стрелка 16"/>
          <p:cNvSpPr/>
          <p:nvPr/>
        </p:nvSpPr>
        <p:spPr>
          <a:xfrm>
            <a:off x="1979640" y="1700280"/>
            <a:ext cx="1224000" cy="504720"/>
          </a:xfrm>
          <a:custGeom>
            <a:avLst/>
            <a:gdLst>
              <a:gd name="textAreaLeft" fmla="*/ 258480 w 1224000"/>
              <a:gd name="textAreaRight" fmla="*/ 902520 w 12240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8" y="0"/>
                </a:lnTo>
                <a:arcTo wR="9130" hR="21600" stAng="-5400000" swAng="2815101"/>
                <a:lnTo>
                  <a:pt x="20961" y="13660"/>
                </a:lnTo>
                <a:lnTo>
                  <a:pt x="19373" y="21600"/>
                </a:lnTo>
                <a:lnTo>
                  <a:pt x="16507" y="13660"/>
                </a:lnTo>
                <a:lnTo>
                  <a:pt x="17620" y="13660"/>
                </a:lnTo>
                <a:arcTo wR="9130" hR="21600" stAng="-2584899" swAng="-2636628"/>
                <a:lnTo>
                  <a:pt x="10244" y="161"/>
                </a:lnTo>
                <a:arcTo wR="9130" hR="21600" stAng="-5578473" swAng="-5221527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473"/>
                <a:lnTo>
                  <a:pt x="10244" y="161"/>
                </a:lnTo>
                <a:arcTo wR="9130" hR="21600" stAng="-5578473" swAng="-52215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863640" y="333360"/>
            <a:ext cx="7021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486(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395280" y="2133720"/>
                <a:ext cx="8313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Прямая соединительная линия 8"/>
          <p:cNvSpPr/>
          <p:nvPr/>
        </p:nvSpPr>
        <p:spPr>
          <a:xfrm flipV="1">
            <a:off x="5076720" y="2708280"/>
            <a:ext cx="50328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0"/>
          <p:cNvSpPr/>
          <p:nvPr/>
        </p:nvSpPr>
        <p:spPr>
          <a:xfrm flipV="1">
            <a:off x="4427640" y="206064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1"/>
          <p:cNvSpPr/>
          <p:nvPr/>
        </p:nvSpPr>
        <p:spPr>
          <a:xfrm>
            <a:off x="4140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5292720" y="31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Выгнутая вверх стрелка 15"/>
          <p:cNvSpPr/>
          <p:nvPr/>
        </p:nvSpPr>
        <p:spPr>
          <a:xfrm flipV="1">
            <a:off x="900000" y="3212280"/>
            <a:ext cx="2951280" cy="576360"/>
          </a:xfrm>
          <a:custGeom>
            <a:avLst/>
            <a:gdLst>
              <a:gd name="textAreaLeft" fmla="*/ 683640 w 2951280"/>
              <a:gd name="textAreaRight" fmla="*/ 2195640 w 295128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09" hR="21600" stAng="10800000" swAng="5400000"/>
                <a:lnTo>
                  <a:pt x="11064" y="0"/>
                </a:lnTo>
                <a:arcTo wR="10009" hR="21600" stAng="-5400000" swAng="2972134"/>
                <a:lnTo>
                  <a:pt x="20899" y="13660"/>
                </a:lnTo>
                <a:lnTo>
                  <a:pt x="20546" y="21600"/>
                </a:lnTo>
                <a:lnTo>
                  <a:pt x="18790" y="13660"/>
                </a:lnTo>
                <a:lnTo>
                  <a:pt x="19317" y="13660"/>
                </a:lnTo>
                <a:arcTo wR="10009" hR="21600" stAng="-2427866" swAng="-2888080"/>
                <a:lnTo>
                  <a:pt x="10537" y="30"/>
                </a:lnTo>
                <a:arcTo wR="10009" hR="21600" stAng="-5484054" swAng="-5315946"/>
                <a:close/>
              </a:path>
              <a:path fill="darkenLess" w="21600" h="21600">
                <a:moveTo>
                  <a:pt x="0" y="21600"/>
                </a:moveTo>
                <a:arcTo wR="10009" hR="21600" stAng="10800000" swAng="5400000"/>
                <a:lnTo>
                  <a:pt x="10009" y="0"/>
                </a:lnTo>
                <a:arcTo wR="10009" hR="21600" stAng="-5400000" swAng="84054"/>
                <a:lnTo>
                  <a:pt x="10537" y="30"/>
                </a:lnTo>
                <a:arcTo wR="10009" hR="21600" stAng="-5484054" swAng="-5315946"/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Выгнутая вверх стрелка 16"/>
          <p:cNvSpPr/>
          <p:nvPr/>
        </p:nvSpPr>
        <p:spPr>
          <a:xfrm>
            <a:off x="1979640" y="1700280"/>
            <a:ext cx="1224000" cy="504720"/>
          </a:xfrm>
          <a:custGeom>
            <a:avLst/>
            <a:gdLst>
              <a:gd name="textAreaLeft" fmla="*/ 258480 w 1224000"/>
              <a:gd name="textAreaRight" fmla="*/ 902520 w 12240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30" hR="21600" stAng="10800000" swAng="5400000"/>
                <a:lnTo>
                  <a:pt x="11358" y="0"/>
                </a:lnTo>
                <a:arcTo wR="9130" hR="21600" stAng="-5400000" swAng="2815101"/>
                <a:lnTo>
                  <a:pt x="20961" y="13660"/>
                </a:lnTo>
                <a:lnTo>
                  <a:pt x="19373" y="21600"/>
                </a:lnTo>
                <a:lnTo>
                  <a:pt x="16507" y="13660"/>
                </a:lnTo>
                <a:lnTo>
                  <a:pt x="17620" y="13660"/>
                </a:lnTo>
                <a:arcTo wR="9130" hR="21600" stAng="-2584899" swAng="-2636628"/>
                <a:lnTo>
                  <a:pt x="10244" y="161"/>
                </a:lnTo>
                <a:arcTo wR="9130" hR="21600" stAng="-5578473" swAng="-5221527"/>
                <a:close/>
              </a:path>
              <a:path fill="darkenLess" w="21600" h="21600">
                <a:moveTo>
                  <a:pt x="0" y="21600"/>
                </a:moveTo>
                <a:arcTo wR="9130" hR="21600" stAng="10800000" swAng="5400000"/>
                <a:lnTo>
                  <a:pt x="9130" y="0"/>
                </a:lnTo>
                <a:arcTo wR="9130" hR="21600" stAng="-5400000" swAng="178473"/>
                <a:lnTo>
                  <a:pt x="10244" y="161"/>
                </a:lnTo>
                <a:arcTo wR="9130" hR="21600" stAng="-5578473" swAng="-522152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5292720" y="198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7"/>
          <p:cNvSpPr/>
          <p:nvPr/>
        </p:nvSpPr>
        <p:spPr>
          <a:xfrm>
            <a:off x="4140360" y="321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18"/>
          <p:cNvSpPr/>
          <p:nvPr/>
        </p:nvSpPr>
        <p:spPr>
          <a:xfrm flipV="1">
            <a:off x="4932360" y="2133360"/>
            <a:ext cx="50328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ая соединительная линия 19"/>
          <p:cNvSpPr/>
          <p:nvPr/>
        </p:nvSpPr>
        <p:spPr>
          <a:xfrm flipV="1">
            <a:off x="4427640" y="2852640"/>
            <a:ext cx="50472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179280" y="476280"/>
            <a:ext cx="87854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Bookman Old Style"/>
              </a:rPr>
              <a:t>          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484(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по образцу</a:t>
            </a: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а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есяц 28"/>
          <p:cNvSpPr/>
          <p:nvPr/>
        </p:nvSpPr>
        <p:spPr>
          <a:xfrm rot="5400000">
            <a:off x="791280" y="2529720"/>
            <a:ext cx="360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9"/>
          <p:cNvSpPr/>
          <p:nvPr/>
        </p:nvSpPr>
        <p:spPr>
          <a:xfrm>
            <a:off x="684360" y="2421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31"/>
          <p:cNvSpPr/>
          <p:nvPr/>
        </p:nvSpPr>
        <p:spPr>
          <a:xfrm>
            <a:off x="324000" y="3357720"/>
            <a:ext cx="129528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7"/>
          <p:cNvSpPr/>
          <p:nvPr/>
        </p:nvSpPr>
        <p:spPr>
          <a:xfrm>
            <a:off x="395280" y="436572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ookman Old Style"/>
              </a:rPr>
              <a:t>АМ от </a:t>
            </a:r>
            <a:r>
              <a:rPr b="1" i="1" lang="ru-RU" sz="7200" spc="-1" strike="noStrike">
                <a:solidFill>
                  <a:srgbClr val="000000"/>
                </a:solidFill>
                <a:latin typeface="Bookman Old Style"/>
              </a:rPr>
              <a:t>А</a:t>
            </a:r>
            <a:r>
              <a:rPr b="1" i="1" lang="ru-RU" sz="80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а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468360" y="4508640"/>
                <a:ext cx="6119640" cy="16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Месяц 28"/>
          <p:cNvSpPr/>
          <p:nvPr/>
        </p:nvSpPr>
        <p:spPr>
          <a:xfrm rot="5400000">
            <a:off x="791280" y="2529720"/>
            <a:ext cx="360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684360" y="2421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31"/>
          <p:cNvSpPr/>
          <p:nvPr/>
        </p:nvSpPr>
        <p:spPr>
          <a:xfrm>
            <a:off x="324000" y="3357720"/>
            <a:ext cx="129528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б,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есяц 28"/>
          <p:cNvSpPr/>
          <p:nvPr/>
        </p:nvSpPr>
        <p:spPr>
          <a:xfrm rot="5400000">
            <a:off x="791280" y="2529720"/>
            <a:ext cx="360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9"/>
          <p:cNvSpPr/>
          <p:nvPr/>
        </p:nvSpPr>
        <p:spPr>
          <a:xfrm>
            <a:off x="684360" y="2421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31"/>
          <p:cNvSpPr/>
          <p:nvPr/>
        </p:nvSpPr>
        <p:spPr>
          <a:xfrm>
            <a:off x="324000" y="3357720"/>
            <a:ext cx="129528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0"/>
          <p:cNvSpPr/>
          <p:nvPr/>
        </p:nvSpPr>
        <p:spPr>
          <a:xfrm>
            <a:off x="630072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32"/>
          <p:cNvSpPr/>
          <p:nvPr/>
        </p:nvSpPr>
        <p:spPr>
          <a:xfrm>
            <a:off x="8317080" y="2708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3"/>
          <p:cNvSpPr/>
          <p:nvPr/>
        </p:nvSpPr>
        <p:spPr>
          <a:xfrm>
            <a:off x="421164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35"/>
          <p:cNvSpPr/>
          <p:nvPr/>
        </p:nvSpPr>
        <p:spPr>
          <a:xfrm>
            <a:off x="1547640" y="2781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36"/>
          <p:cNvSpPr/>
          <p:nvPr/>
        </p:nvSpPr>
        <p:spPr>
          <a:xfrm>
            <a:off x="324000" y="4581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АМ от АС;   АМ от 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79280" y="0"/>
            <a:ext cx="8713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Из Д.Р № 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тр. 77, №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472(к,м,п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324000" y="1628640"/>
                <a:ext cx="73976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)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Прямая соединительная линия 5"/>
          <p:cNvSpPr/>
          <p:nvPr/>
        </p:nvSpPr>
        <p:spPr>
          <a:xfrm flipH="1">
            <a:off x="3634920" y="1628640"/>
            <a:ext cx="35892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211640" y="2565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564000" y="12682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1"/>
          <p:cNvSpPr/>
          <p:nvPr/>
        </p:nvSpPr>
        <p:spPr>
          <a:xfrm flipH="1">
            <a:off x="3924360" y="2276640"/>
            <a:ext cx="3585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50920" y="4005360"/>
                <a:ext cx="66913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)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б,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есяц 28"/>
          <p:cNvSpPr/>
          <p:nvPr/>
        </p:nvSpPr>
        <p:spPr>
          <a:xfrm rot="5400000">
            <a:off x="791280" y="2529720"/>
            <a:ext cx="36036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9"/>
          <p:cNvSpPr/>
          <p:nvPr/>
        </p:nvSpPr>
        <p:spPr>
          <a:xfrm>
            <a:off x="684360" y="2421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31"/>
          <p:cNvSpPr/>
          <p:nvPr/>
        </p:nvSpPr>
        <p:spPr>
          <a:xfrm>
            <a:off x="324000" y="3357720"/>
            <a:ext cx="129528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0"/>
          <p:cNvSpPr/>
          <p:nvPr/>
        </p:nvSpPr>
        <p:spPr>
          <a:xfrm>
            <a:off x="630072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2"/>
          <p:cNvSpPr/>
          <p:nvPr/>
        </p:nvSpPr>
        <p:spPr>
          <a:xfrm>
            <a:off x="8317080" y="2708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3"/>
          <p:cNvSpPr/>
          <p:nvPr/>
        </p:nvSpPr>
        <p:spPr>
          <a:xfrm>
            <a:off x="421164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5"/>
          <p:cNvSpPr/>
          <p:nvPr/>
        </p:nvSpPr>
        <p:spPr>
          <a:xfrm>
            <a:off x="1547640" y="2781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2"/>
              <p:cNvSpPr txBox="1"/>
              <p:nvPr/>
            </p:nvSpPr>
            <p:spPr>
              <a:xfrm>
                <a:off x="0" y="4581360"/>
                <a:ext cx="37288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4245120" y="4653000"/>
                <a:ext cx="48988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г,д,е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есяц 28"/>
          <p:cNvSpPr/>
          <p:nvPr/>
        </p:nvSpPr>
        <p:spPr>
          <a:xfrm rot="5400000">
            <a:off x="2159640" y="1161360"/>
            <a:ext cx="360360" cy="40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9"/>
          <p:cNvSpPr/>
          <p:nvPr/>
        </p:nvSpPr>
        <p:spPr>
          <a:xfrm>
            <a:off x="2050920" y="242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</a:t>
            </a:r>
            <a:r>
              <a:rPr b="1" i="1" lang="en-US" sz="2800" spc="-1" strike="noStrike">
                <a:solidFill>
                  <a:srgbClr val="17375e"/>
                </a:solidFill>
                <a:latin typeface="Bookman Old Style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31"/>
          <p:cNvSpPr/>
          <p:nvPr/>
        </p:nvSpPr>
        <p:spPr>
          <a:xfrm>
            <a:off x="324000" y="3357720"/>
            <a:ext cx="403200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30"/>
          <p:cNvSpPr/>
          <p:nvPr/>
        </p:nvSpPr>
        <p:spPr>
          <a:xfrm>
            <a:off x="630072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2"/>
          <p:cNvSpPr/>
          <p:nvPr/>
        </p:nvSpPr>
        <p:spPr>
          <a:xfrm>
            <a:off x="8317080" y="2708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3"/>
          <p:cNvSpPr/>
          <p:nvPr/>
        </p:nvSpPr>
        <p:spPr>
          <a:xfrm>
            <a:off x="421164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38"/>
          <p:cNvSpPr/>
          <p:nvPr/>
        </p:nvSpPr>
        <p:spPr>
          <a:xfrm>
            <a:off x="324000" y="4581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А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 от АВ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А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 от АС;   А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 от </a:t>
            </a:r>
            <a:r>
              <a:rPr b="1" i="1" lang="en-US" sz="5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с учеб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684360" y="476280"/>
            <a:ext cx="82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§3,п.14, стр.8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</a:t>
            </a: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484(г,д,е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6"/>
          <p:cNvSpPr/>
          <p:nvPr/>
        </p:nvSpPr>
        <p:spPr>
          <a:xfrm flipV="1">
            <a:off x="324000" y="3357720"/>
            <a:ext cx="849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9"/>
          <p:cNvSpPr/>
          <p:nvPr/>
        </p:nvSpPr>
        <p:spPr>
          <a:xfrm>
            <a:off x="324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0"/>
          <p:cNvSpPr/>
          <p:nvPr/>
        </p:nvSpPr>
        <p:spPr>
          <a:xfrm>
            <a:off x="971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1"/>
          <p:cNvSpPr/>
          <p:nvPr/>
        </p:nvSpPr>
        <p:spPr>
          <a:xfrm>
            <a:off x="161928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2"/>
          <p:cNvSpPr/>
          <p:nvPr/>
        </p:nvSpPr>
        <p:spPr>
          <a:xfrm>
            <a:off x="2987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4"/>
          <p:cNvSpPr/>
          <p:nvPr/>
        </p:nvSpPr>
        <p:spPr>
          <a:xfrm>
            <a:off x="370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5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6"/>
          <p:cNvSpPr/>
          <p:nvPr/>
        </p:nvSpPr>
        <p:spPr>
          <a:xfrm>
            <a:off x="2268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7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>
            <a:off x="8820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19"/>
          <p:cNvSpPr/>
          <p:nvPr/>
        </p:nvSpPr>
        <p:spPr>
          <a:xfrm>
            <a:off x="500364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20"/>
          <p:cNvSpPr/>
          <p:nvPr/>
        </p:nvSpPr>
        <p:spPr>
          <a:xfrm>
            <a:off x="5724360" y="3284640"/>
            <a:ext cx="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21"/>
          <p:cNvSpPr/>
          <p:nvPr/>
        </p:nvSpPr>
        <p:spPr>
          <a:xfrm>
            <a:off x="7236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22"/>
          <p:cNvSpPr/>
          <p:nvPr/>
        </p:nvSpPr>
        <p:spPr>
          <a:xfrm>
            <a:off x="8028000" y="321300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3"/>
          <p:cNvSpPr/>
          <p:nvPr/>
        </p:nvSpPr>
        <p:spPr>
          <a:xfrm>
            <a:off x="179280" y="3500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4"/>
          <p:cNvSpPr/>
          <p:nvPr/>
        </p:nvSpPr>
        <p:spPr>
          <a:xfrm>
            <a:off x="1332000" y="35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5"/>
          <p:cNvSpPr/>
          <p:nvPr/>
        </p:nvSpPr>
        <p:spPr>
          <a:xfrm>
            <a:off x="4067280" y="3573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26"/>
          <p:cNvSpPr/>
          <p:nvPr/>
        </p:nvSpPr>
        <p:spPr>
          <a:xfrm>
            <a:off x="608472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8639280" y="3500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Месяц 28"/>
          <p:cNvSpPr/>
          <p:nvPr/>
        </p:nvSpPr>
        <p:spPr>
          <a:xfrm rot="5400000">
            <a:off x="2159640" y="1161360"/>
            <a:ext cx="360360" cy="40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73" y="457"/>
                  <a:pt x="2546" y="5080"/>
                  <a:pt x="2546" y="10800"/>
                </a:cubicBezTo>
                <a:cubicBezTo>
                  <a:pt x="2546" y="16520"/>
                  <a:pt x="12073" y="2114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2050920" y="242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Bookman Old Style"/>
              </a:rPr>
              <a:t>А</a:t>
            </a:r>
            <a:r>
              <a:rPr b="1" i="1" lang="en-US" sz="2800" spc="-1" strike="noStrike">
                <a:solidFill>
                  <a:srgbClr val="17375e"/>
                </a:solidFill>
                <a:latin typeface="Bookman Old Style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31"/>
          <p:cNvSpPr/>
          <p:nvPr/>
        </p:nvSpPr>
        <p:spPr>
          <a:xfrm>
            <a:off x="324000" y="3357720"/>
            <a:ext cx="4032000" cy="0"/>
          </a:xfrm>
          <a:prstGeom prst="line">
            <a:avLst/>
          </a:prstGeom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34"/>
          <p:cNvSpPr/>
          <p:nvPr/>
        </p:nvSpPr>
        <p:spPr>
          <a:xfrm flipV="1">
            <a:off x="324000" y="3429000"/>
            <a:ext cx="8496000" cy="7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30"/>
          <p:cNvSpPr/>
          <p:nvPr/>
        </p:nvSpPr>
        <p:spPr>
          <a:xfrm>
            <a:off x="6300720" y="278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2"/>
          <p:cNvSpPr/>
          <p:nvPr/>
        </p:nvSpPr>
        <p:spPr>
          <a:xfrm>
            <a:off x="8317080" y="2708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3"/>
          <p:cNvSpPr/>
          <p:nvPr/>
        </p:nvSpPr>
        <p:spPr>
          <a:xfrm>
            <a:off x="4211640" y="2852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50920" y="4365720"/>
                <a:ext cx="4383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4842000" y="4365720"/>
                <a:ext cx="4302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2484360" y="5634000"/>
                <a:ext cx="4343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219280" y="4320"/>
            <a:ext cx="3683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5"/>
          <p:cNvSpPr/>
          <p:nvPr/>
        </p:nvSpPr>
        <p:spPr>
          <a:xfrm>
            <a:off x="395280" y="836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"/>
          <p:cNvSpPr/>
          <p:nvPr/>
        </p:nvSpPr>
        <p:spPr>
          <a:xfrm>
            <a:off x="755640" y="2708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Физкульт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250920" y="1125360"/>
            <a:ext cx="838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60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539640" y="26028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60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539640" y="260280"/>
            <a:ext cx="8280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539640" y="260280"/>
            <a:ext cx="8280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13"/>
          <p:cNvSpPr/>
          <p:nvPr/>
        </p:nvSpPr>
        <p:spPr>
          <a:xfrm>
            <a:off x="539640" y="260280"/>
            <a:ext cx="82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8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авая фигурная скобка 8"/>
          <p:cNvSpPr/>
          <p:nvPr/>
        </p:nvSpPr>
        <p:spPr>
          <a:xfrm>
            <a:off x="6300720" y="1125360"/>
            <a:ext cx="432000" cy="129564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640"/>
              <a:gd name="textAreaBottom" fmla="*/ 12844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6804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539640" y="260280"/>
            <a:ext cx="828036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авая фигурная скобка 8"/>
          <p:cNvSpPr/>
          <p:nvPr/>
        </p:nvSpPr>
        <p:spPr>
          <a:xfrm>
            <a:off x="6300720" y="1125360"/>
            <a:ext cx="432000" cy="129564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640"/>
              <a:gd name="textAreaBottom" fmla="*/ 12844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6804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3"/>
              <p:cNvSpPr txBox="1"/>
              <p:nvPr/>
            </p:nvSpPr>
            <p:spPr>
              <a:xfrm>
                <a:off x="369720" y="3573360"/>
                <a:ext cx="43340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3"/>
          <p:cNvSpPr/>
          <p:nvPr/>
        </p:nvSpPr>
        <p:spPr>
          <a:xfrm>
            <a:off x="539640" y="260280"/>
            <a:ext cx="828036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5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авая фигурная скобка 8"/>
          <p:cNvSpPr/>
          <p:nvPr/>
        </p:nvSpPr>
        <p:spPr>
          <a:xfrm>
            <a:off x="6300720" y="1125360"/>
            <a:ext cx="432000" cy="129564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640"/>
              <a:gd name="textAreaBottom" fmla="*/ 12844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9"/>
          <p:cNvSpPr/>
          <p:nvPr/>
        </p:nvSpPr>
        <p:spPr>
          <a:xfrm>
            <a:off x="6804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23"/>
              <p:cNvSpPr txBox="1"/>
              <p:nvPr/>
            </p:nvSpPr>
            <p:spPr>
              <a:xfrm>
                <a:off x="179280" y="3645000"/>
                <a:ext cx="87598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9" name="TextBox 10"/>
          <p:cNvSpPr/>
          <p:nvPr/>
        </p:nvSpPr>
        <p:spPr>
          <a:xfrm>
            <a:off x="428472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11"/>
          <p:cNvSpPr/>
          <p:nvPr/>
        </p:nvSpPr>
        <p:spPr>
          <a:xfrm>
            <a:off x="514836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12"/>
          <p:cNvSpPr/>
          <p:nvPr/>
        </p:nvSpPr>
        <p:spPr>
          <a:xfrm flipV="1">
            <a:off x="4500720" y="371628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14"/>
          <p:cNvSpPr/>
          <p:nvPr/>
        </p:nvSpPr>
        <p:spPr>
          <a:xfrm flipV="1">
            <a:off x="4788000" y="443700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79280" y="0"/>
            <a:ext cx="87138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Из Д.Р № 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тр. 77, №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472(к,м,п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3"/>
              <p:cNvSpPr txBox="1"/>
              <p:nvPr/>
            </p:nvSpPr>
            <p:spPr>
              <a:xfrm>
                <a:off x="250920" y="2997360"/>
                <a:ext cx="83995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п</m:t>
                    </m:r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Прямая соединительная линия 23"/>
          <p:cNvSpPr/>
          <p:nvPr/>
        </p:nvSpPr>
        <p:spPr>
          <a:xfrm flipH="1">
            <a:off x="5292360" y="371628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4"/>
          <p:cNvSpPr/>
          <p:nvPr/>
        </p:nvSpPr>
        <p:spPr>
          <a:xfrm flipH="1">
            <a:off x="4571640" y="2997360"/>
            <a:ext cx="358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25"/>
          <p:cNvSpPr/>
          <p:nvPr/>
        </p:nvSpPr>
        <p:spPr>
          <a:xfrm flipH="1">
            <a:off x="4642920" y="3716280"/>
            <a:ext cx="358920" cy="504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6"/>
          <p:cNvSpPr/>
          <p:nvPr/>
        </p:nvSpPr>
        <p:spPr>
          <a:xfrm flipH="1">
            <a:off x="5292360" y="2997360"/>
            <a:ext cx="358920" cy="504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5580000" y="24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Bookman Old Styl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356000" y="24922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4211640" y="4149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435640" y="42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3"/>
          <p:cNvSpPr/>
          <p:nvPr/>
        </p:nvSpPr>
        <p:spPr>
          <a:xfrm>
            <a:off x="539640" y="260280"/>
            <a:ext cx="8280360" cy="74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№ 4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1 комната –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1 м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 комнат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твет: 30м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2"/>
              <p:cNvSpPr txBox="1"/>
              <p:nvPr/>
            </p:nvSpPr>
            <p:spPr>
              <a:xfrm>
                <a:off x="4067280" y="1700280"/>
                <a:ext cx="79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8" name="Круговая стрелка 6"/>
          <p:cNvSpPr/>
          <p:nvPr/>
        </p:nvSpPr>
        <p:spPr>
          <a:xfrm flipV="1" rot="18272400">
            <a:off x="4572720" y="952560"/>
            <a:ext cx="1422360" cy="1836720"/>
          </a:xfrm>
          <a:custGeom>
            <a:avLst/>
            <a:gdLst>
              <a:gd name="textAreaLeft" fmla="*/ 271080 w 1422360"/>
              <a:gd name="textAreaRight" fmla="*/ 1151280 w 1422360"/>
              <a:gd name="textAreaTop" fmla="*/ 331560 h 1836720"/>
              <a:gd name="textAreaBottom" fmla="*/ 1505160 h 1836720"/>
            </a:gdLst>
            <a:ahLst/>
            <a:rect l="textAreaLeft" t="textAreaTop" r="textAreaRight" b="textAreaBottom"/>
            <a:pathLst>
              <a:path w="1422400" h="1836738">
                <a:moveTo>
                  <a:pt x="88900" y="918368"/>
                </a:moveTo>
                <a:lnTo>
                  <a:pt x="88900" y="918368"/>
                </a:lnTo>
                <a:arcTo wR="622300" hR="829469" stAng="-10799994" swAng="9817167"/>
                <a:lnTo>
                  <a:pt x="1406651" y="739738"/>
                </a:lnTo>
                <a:lnTo>
                  <a:pt x="1244600" y="918370"/>
                </a:lnTo>
                <a:lnTo>
                  <a:pt x="1051051" y="739738"/>
                </a:lnTo>
                <a:lnTo>
                  <a:pt x="1138674" y="739738"/>
                </a:lnTo>
                <a:lnTo>
                  <a:pt x="1138674" y="739738"/>
                </a:lnTo>
                <a:arcTo wR="444500" hR="651669" stAng="-1360722" swAng="-94392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авая фигурная скобка 8"/>
          <p:cNvSpPr/>
          <p:nvPr/>
        </p:nvSpPr>
        <p:spPr>
          <a:xfrm>
            <a:off x="6300720" y="1125360"/>
            <a:ext cx="432000" cy="129564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640"/>
              <a:gd name="textAreaBottom" fmla="*/ 12844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9"/>
          <p:cNvSpPr/>
          <p:nvPr/>
        </p:nvSpPr>
        <p:spPr>
          <a:xfrm>
            <a:off x="6804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3"/>
              <p:cNvSpPr txBox="1"/>
              <p:nvPr/>
            </p:nvSpPr>
            <p:spPr>
              <a:xfrm>
                <a:off x="179280" y="3645000"/>
                <a:ext cx="8759880" cy="22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от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Box 10"/>
          <p:cNvSpPr/>
          <p:nvPr/>
        </p:nvSpPr>
        <p:spPr>
          <a:xfrm>
            <a:off x="428472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1"/>
          <p:cNvSpPr/>
          <p:nvPr/>
        </p:nvSpPr>
        <p:spPr>
          <a:xfrm>
            <a:off x="514836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12"/>
          <p:cNvSpPr/>
          <p:nvPr/>
        </p:nvSpPr>
        <p:spPr>
          <a:xfrm flipV="1">
            <a:off x="4500720" y="371628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14"/>
          <p:cNvSpPr/>
          <p:nvPr/>
        </p:nvSpPr>
        <p:spPr>
          <a:xfrm flipV="1">
            <a:off x="4788000" y="4437000"/>
            <a:ext cx="57600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539640" y="260280"/>
            <a:ext cx="8280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6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3"/>
          <p:cNvSpPr/>
          <p:nvPr/>
        </p:nvSpPr>
        <p:spPr>
          <a:xfrm>
            <a:off x="611280" y="0"/>
            <a:ext cx="8281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11280" y="0"/>
            <a:ext cx="8281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611280" y="0"/>
            <a:ext cx="82818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611280" y="0"/>
            <a:ext cx="828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1 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3"/>
          <p:cNvSpPr/>
          <p:nvPr/>
        </p:nvSpPr>
        <p:spPr>
          <a:xfrm>
            <a:off x="611280" y="0"/>
            <a:ext cx="82818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) 90·0,3=27(м.)- у б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3"/>
          <p:cNvSpPr/>
          <p:nvPr/>
        </p:nvSpPr>
        <p:spPr>
          <a:xfrm>
            <a:off x="611280" y="0"/>
            <a:ext cx="82818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90·0,3=27(м.)- у б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90 – 27=63(м.)- у сест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3"/>
          <p:cNvSpPr/>
          <p:nvPr/>
        </p:nvSpPr>
        <p:spPr>
          <a:xfrm>
            <a:off x="611280" y="0"/>
            <a:ext cx="82818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Все марки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3"/>
          <p:cNvSpPr/>
          <p:nvPr/>
        </p:nvSpPr>
        <p:spPr>
          <a:xfrm>
            <a:off x="611280" y="0"/>
            <a:ext cx="828180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Все марки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) 1 –0,3=0,7(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539640" y="260280"/>
            <a:ext cx="835344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з Д.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Bookman Old Style"/>
              </a:rPr>
              <a:t>Стр. 77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6000" spc="-1" strike="noStrike" u="sng">
                <a:solidFill>
                  <a:srgbClr val="000000"/>
                </a:solidFill>
                <a:uFillTx/>
                <a:latin typeface="Bookman Old Style"/>
              </a:rPr>
              <a:t>№  </a:t>
            </a:r>
            <a:r>
              <a:rPr b="1" i="1" lang="ru-RU" sz="7200" spc="-1" strike="noStrike" u="sng">
                <a:solidFill>
                  <a:srgbClr val="ff0000"/>
                </a:solidFill>
                <a:uFillTx/>
                <a:latin typeface="Bookman Old Style"/>
              </a:rPr>
              <a:t>476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3"/>
          <p:cNvSpPr/>
          <p:nvPr/>
        </p:nvSpPr>
        <p:spPr>
          <a:xfrm>
            <a:off x="250920" y="0"/>
            <a:ext cx="889308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Все марки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) 1 –0,3=0,7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(всех марок)-у 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095480" cy="100836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5580000" y="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       </a:t>
            </a: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Работа над зад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250920" y="0"/>
            <a:ext cx="8893080" cy="71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стр.80, </a:t>
            </a: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№ 4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Брат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0,3 всех 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Сестра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2 спосо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Все марки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 –0,3=0,7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(всех марок)-у 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90·0,7 =63(м.)-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у сес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Ответ: 63 ма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Круговая стрелка 6"/>
          <p:cNvSpPr/>
          <p:nvPr/>
        </p:nvSpPr>
        <p:spPr>
          <a:xfrm rot="3180600">
            <a:off x="3429000" y="575280"/>
            <a:ext cx="1067040" cy="1639800"/>
          </a:xfrm>
          <a:custGeom>
            <a:avLst/>
            <a:gdLst>
              <a:gd name="textAreaLeft" fmla="*/ 250200 w 1067040"/>
              <a:gd name="textAreaRight" fmla="*/ 816840 w 1067040"/>
              <a:gd name="textAreaTop" fmla="*/ 334080 h 1639800"/>
              <a:gd name="textAreaBottom" fmla="*/ 1305720 h 1639800"/>
            </a:gdLst>
            <a:ahLst/>
            <a:rect l="textAreaLeft" t="textAreaTop" r="textAreaRight" b="textAreaBottom"/>
            <a:pathLst>
              <a:path w="1066800" h="1639888">
                <a:moveTo>
                  <a:pt x="132865" y="819944"/>
                </a:moveTo>
                <a:lnTo>
                  <a:pt x="132865" y="819944"/>
                </a:lnTo>
                <a:arcTo wR="400535" hR="687079" stAng="10800000" swAng="9432383"/>
                <a:lnTo>
                  <a:pt x="1055009" y="647707"/>
                </a:lnTo>
                <a:lnTo>
                  <a:pt x="933154" y="793556"/>
                </a:lnTo>
                <a:lnTo>
                  <a:pt x="788888" y="665274"/>
                </a:lnTo>
                <a:lnTo>
                  <a:pt x="921465" y="656523"/>
                </a:lnTo>
                <a:lnTo>
                  <a:pt x="921465" y="656523"/>
                </a:lnTo>
                <a:arcTo wR="399565" hR="686109" stAng="-1370198" swAng="-94298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авая фигурная скобка 8"/>
          <p:cNvSpPr/>
          <p:nvPr/>
        </p:nvSpPr>
        <p:spPr>
          <a:xfrm>
            <a:off x="2627280" y="1197000"/>
            <a:ext cx="432000" cy="1295280"/>
          </a:xfrm>
          <a:custGeom>
            <a:avLst/>
            <a:gdLst>
              <a:gd name="textAreaLeft" fmla="*/ 0 w 432000"/>
              <a:gd name="textAreaRight" fmla="*/ 155880 w 432000"/>
              <a:gd name="textAreaTop" fmla="*/ 11160 h 1295280"/>
              <a:gd name="textAreaBottom" fmla="*/ 12841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2916360" y="1268280"/>
            <a:ext cx="1655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90 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ма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5076720" y="162864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Bookman Old Style"/>
              </a:rPr>
              <a:t>?</a:t>
            </a: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м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Повторение изучен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Picture 24" descr="bbede0006c530d485ca772fc67e59d7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26920" cy="1379520"/>
          </a:xfrm>
          <a:prstGeom prst="rect">
            <a:avLst/>
          </a:prstGeom>
          <a:ln w="0">
            <a:noFill/>
          </a:ln>
        </p:spPr>
      </p:pic>
      <p:sp>
        <p:nvSpPr>
          <p:cNvPr id="596" name="Заголовок 1"/>
          <p:cNvSpPr/>
          <p:nvPr/>
        </p:nvSpPr>
        <p:spPr>
          <a:xfrm>
            <a:off x="971640" y="1197000"/>
            <a:ext cx="741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Стр. 84, № 515 (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Устно</a:t>
            </a: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Bookman Old Style"/>
              </a:rPr>
              <a:t>Итог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24" descr="bbede0006c530d485ca772fc67e59d7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26920" cy="1379520"/>
          </a:xfrm>
          <a:prstGeom prst="rect">
            <a:avLst/>
          </a:prstGeom>
          <a:ln w="0">
            <a:noFill/>
          </a:ln>
        </p:spPr>
      </p:pic>
      <p:sp>
        <p:nvSpPr>
          <p:cNvPr id="599" name="Заголовок 1"/>
          <p:cNvSpPr/>
          <p:nvPr/>
        </p:nvSpPr>
        <p:spPr>
          <a:xfrm>
            <a:off x="395280" y="2276640"/>
            <a:ext cx="8207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Чему научились на урок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Как найти дробь от числ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Box 3"/>
          <p:cNvSpPr/>
          <p:nvPr/>
        </p:nvSpPr>
        <p:spPr>
          <a:xfrm>
            <a:off x="5222880" y="64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Итоги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6"/>
          <p:cNvSpPr/>
          <p:nvPr/>
        </p:nvSpPr>
        <p:spPr>
          <a:xfrm>
            <a:off x="250920" y="981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Оцените свое настроение по итогам уро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Группа 19"/>
          <p:cNvGrpSpPr/>
          <p:nvPr/>
        </p:nvGrpSpPr>
        <p:grpSpPr>
          <a:xfrm>
            <a:off x="900000" y="2852640"/>
            <a:ext cx="1727280" cy="1800360"/>
            <a:chOff x="900000" y="2852640"/>
            <a:chExt cx="1727280" cy="1800360"/>
          </a:xfrm>
        </p:grpSpPr>
        <p:sp>
          <p:nvSpPr>
            <p:cNvPr id="603" name="Овал 3"/>
            <p:cNvSpPr/>
            <p:nvPr/>
          </p:nvSpPr>
          <p:spPr>
            <a:xfrm>
              <a:off x="900000" y="2852640"/>
              <a:ext cx="1727280" cy="180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Овал 4"/>
            <p:cNvSpPr/>
            <p:nvPr/>
          </p:nvSpPr>
          <p:spPr>
            <a:xfrm>
              <a:off x="1331640" y="3392280"/>
              <a:ext cx="25848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Месяц 7"/>
            <p:cNvSpPr/>
            <p:nvPr/>
          </p:nvSpPr>
          <p:spPr>
            <a:xfrm rot="16200000">
              <a:off x="1719000" y="3989160"/>
              <a:ext cx="88920" cy="517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Овал 8"/>
            <p:cNvSpPr/>
            <p:nvPr/>
          </p:nvSpPr>
          <p:spPr>
            <a:xfrm>
              <a:off x="1936800" y="3392280"/>
              <a:ext cx="25848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Группа 21"/>
          <p:cNvGrpSpPr/>
          <p:nvPr/>
        </p:nvGrpSpPr>
        <p:grpSpPr>
          <a:xfrm>
            <a:off x="6588000" y="2781360"/>
            <a:ext cx="2016360" cy="1800000"/>
            <a:chOff x="6588000" y="2781360"/>
            <a:chExt cx="2016360" cy="1800000"/>
          </a:xfrm>
        </p:grpSpPr>
        <p:sp>
          <p:nvSpPr>
            <p:cNvPr id="608" name="Овал 13"/>
            <p:cNvSpPr/>
            <p:nvPr/>
          </p:nvSpPr>
          <p:spPr>
            <a:xfrm>
              <a:off x="6588000" y="2781360"/>
              <a:ext cx="2016360" cy="180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Овал 14"/>
            <p:cNvSpPr/>
            <p:nvPr/>
          </p:nvSpPr>
          <p:spPr>
            <a:xfrm>
              <a:off x="7046640" y="3321000"/>
              <a:ext cx="27468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Овал 15"/>
            <p:cNvSpPr/>
            <p:nvPr/>
          </p:nvSpPr>
          <p:spPr>
            <a:xfrm>
              <a:off x="7871040" y="3321000"/>
              <a:ext cx="27468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Месяц 16"/>
            <p:cNvSpPr/>
            <p:nvPr/>
          </p:nvSpPr>
          <p:spPr>
            <a:xfrm rot="5400000">
              <a:off x="7551360" y="3809520"/>
              <a:ext cx="88560" cy="73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Группа 20"/>
          <p:cNvGrpSpPr/>
          <p:nvPr/>
        </p:nvGrpSpPr>
        <p:grpSpPr>
          <a:xfrm>
            <a:off x="3708360" y="2852640"/>
            <a:ext cx="1943280" cy="1800360"/>
            <a:chOff x="3708360" y="2852640"/>
            <a:chExt cx="1943280" cy="1800360"/>
          </a:xfrm>
        </p:grpSpPr>
        <p:sp>
          <p:nvSpPr>
            <p:cNvPr id="613" name="Овал 10"/>
            <p:cNvSpPr/>
            <p:nvPr/>
          </p:nvSpPr>
          <p:spPr>
            <a:xfrm>
              <a:off x="3708360" y="2852640"/>
              <a:ext cx="1943280" cy="1800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Овал 11"/>
            <p:cNvSpPr/>
            <p:nvPr/>
          </p:nvSpPr>
          <p:spPr>
            <a:xfrm>
              <a:off x="5034240" y="3392280"/>
              <a:ext cx="26352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Овал 12"/>
            <p:cNvSpPr/>
            <p:nvPr/>
          </p:nvSpPr>
          <p:spPr>
            <a:xfrm>
              <a:off x="4149720" y="3392280"/>
              <a:ext cx="264960" cy="269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Прямая соединительная линия 18"/>
            <p:cNvSpPr/>
            <p:nvPr/>
          </p:nvSpPr>
          <p:spPr>
            <a:xfrm>
              <a:off x="4414680" y="4203720"/>
              <a:ext cx="619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Box 3"/>
          <p:cNvSpPr/>
          <p:nvPr/>
        </p:nvSpPr>
        <p:spPr>
          <a:xfrm>
            <a:off x="4859280" y="40464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Итог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1332000" y="504972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7"/>
          <p:cNvSpPr/>
          <p:nvPr/>
        </p:nvSpPr>
        <p:spPr>
          <a:xfrm>
            <a:off x="179280" y="14842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Всем 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за работу на уро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Итоговая комплексная проверочная работа для 1 класса Pandia.…"/>
          <p:cNvPicPr/>
          <p:nvPr/>
        </p:nvPicPr>
        <p:blipFill>
          <a:blip r:embed="rId1"/>
          <a:stretch/>
        </p:blipFill>
        <p:spPr>
          <a:xfrm>
            <a:off x="324000" y="3573360"/>
            <a:ext cx="26985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3"/>
          <p:cNvSpPr/>
          <p:nvPr/>
        </p:nvSpPr>
        <p:spPr>
          <a:xfrm>
            <a:off x="179280" y="260280"/>
            <a:ext cx="896472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Д.Р № 39,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на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13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.11.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§3,п.13,14, правила, стр.69,70,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тр.77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№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478(а,б)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Bookman Old Style"/>
              </a:rPr>
              <a:t>,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тр.81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Bookman Old Style"/>
              </a:rPr>
              <a:t>№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492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Bookman Old Style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Стр.84,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№ 523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man Old Style"/>
              </a:rPr>
              <a:t>Стр.86, </a:t>
            </a: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Bookman Old Style"/>
              </a:rPr>
              <a:t>№ 534(а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5"/>
          <p:cNvSpPr/>
          <p:nvPr/>
        </p:nvSpPr>
        <p:spPr>
          <a:xfrm>
            <a:off x="4284720" y="2349360"/>
            <a:ext cx="934920" cy="1224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2916360" y="2349360"/>
            <a:ext cx="792000" cy="122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79280" y="260280"/>
            <a:ext cx="8713800" cy="9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77, №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476 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з Д.Р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468360" y="1125360"/>
                <a:ext cx="8351640" cy="23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дм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8"/>
          <p:cNvSpPr/>
          <p:nvPr/>
        </p:nvSpPr>
        <p:spPr>
          <a:xfrm>
            <a:off x="1403280" y="2349360"/>
            <a:ext cx="647640" cy="115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4"/>
          <p:cNvSpPr/>
          <p:nvPr/>
        </p:nvSpPr>
        <p:spPr>
          <a:xfrm>
            <a:off x="2916360" y="2349360"/>
            <a:ext cx="792000" cy="1224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179280" y="260280"/>
            <a:ext cx="8713800" cy="9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77, №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476 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з Д.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Отв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395280" y="2421000"/>
                <a:ext cx="87487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556000" y="4437000"/>
                <a:ext cx="12589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1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book"/>
          <p:cNvPicPr/>
          <p:nvPr/>
        </p:nvPicPr>
        <p:blipFill>
          <a:blip r:embed="rId1"/>
          <a:stretch/>
        </p:blipFill>
        <p:spPr>
          <a:xfrm>
            <a:off x="-108000" y="-316080"/>
            <a:ext cx="1332000" cy="1225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324000" y="907920"/>
            <a:ext cx="18396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539640" y="260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тр. 78, №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482(б)       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з Д.Р №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79280" y="1125360"/>
            <a:ext cx="8713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б)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1,3у –(9,7у –0,8у)+7,4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11,3у –8,9у+7,4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,4у + 7,4 =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,4у = 17 – 4,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2,4у = 12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 = 12,3 : 2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 = 5,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Ответ: у = 5,1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8:21:08Z</dcterms:created>
  <dc:creator>1</dc:creator>
  <dc:description/>
  <dc:language>en-US</dc:language>
  <cp:lastModifiedBy>Курумкан</cp:lastModifiedBy>
  <dcterms:modified xsi:type="dcterms:W3CDTF">2019-05-03T14:34:44Z</dcterms:modified>
  <cp:revision>2172</cp:revision>
  <dc:subject/>
  <dc:title>Тема урока…</dc:title>
</cp:coreProperties>
</file>