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8CE5-9EB9-49CB-A860-F0A6C76AA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59DC-CAA9-45E5-ABF5-7C3916B28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D00-F882-4396-B97F-EC2DF8DD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920" y="364788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6D3-B48D-4B07-B6F7-6D26998E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568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0DE-7B91-4212-819C-4FC3F695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640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1352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92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640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1352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61C-A294-4452-A8FC-4DD30D52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0F34-5AC2-46C2-BFC9-45E5DC55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342D-1212-4534-A8A8-F415BB4A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B7DA-742B-47FA-B3EE-8FA06FBB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D1E6-BA8C-4341-9587-4B1C0671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98C6-E1B9-4AE0-9E5F-9E99976F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1795-2D43-4BFB-A5CF-3EAFB08A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A552-2931-40AD-8336-8836323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59B-7838-48AF-8D7A-E76F58FD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568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6C86-3E9A-493D-ABEC-3BF20C4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D99E-3EA0-4FE5-B21B-E585ECDF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8920" y="364788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C0A8-BF76-4591-AF7C-294F1A4F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568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3E2E-2F2F-49C9-AC87-CF71CFA8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640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1352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892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640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1352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931B-9F1A-4312-9862-D0299955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296-602A-4355-BA6A-42FBFB12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564-7C77-44D5-A3A3-34660470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E69-DD66-4A65-88AD-921135DC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4E6-6A3F-4309-A80B-49C08D91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443-71BA-4D07-999A-55E9F813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568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A4E-58F1-4417-AB84-CC94B0BB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64B-BBB9-4825-B3A0-6FCEA53D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95280" y="189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55640" y="54936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50920" y="83664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9640" y="7650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79280" y="5493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39640" y="33336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95280" y="9810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50920" y="6243480"/>
            <a:ext cx="172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December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123640" y="6243480"/>
            <a:ext cx="504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er  The Growing Importance of Quality As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08360" y="6243480"/>
            <a:ext cx="16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E05F-9350-4329-8696-167A6638C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324000" y="6237360"/>
            <a:ext cx="180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8 December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26836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eber  The Growing Importance of Quality As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740720" y="6248520"/>
            <a:ext cx="102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D4B8-EF87-480C-A9ED-FD3EEE61323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3240" y="476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0dbf"/>
                </a:solidFill>
                <a:latin typeface="Tahoma"/>
              </a:rPr>
              <a:t>ИГРОВЫЕ ТЕХНОЛОГИ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Рисунок 3" descr="Игра Никитина Уникуб: эти универсальные кубики вводят малыша в мир&#10;трехмерного пространства"/>
          <p:cNvPicPr/>
          <p:nvPr/>
        </p:nvPicPr>
        <p:blipFill>
          <a:blip r:embed="rId1"/>
          <a:stretch/>
        </p:blipFill>
        <p:spPr>
          <a:xfrm>
            <a:off x="324000" y="4014720"/>
            <a:ext cx="2232000" cy="23526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Игра Никитина Сложи узор"/>
          <p:cNvPicPr/>
          <p:nvPr/>
        </p:nvPicPr>
        <p:blipFill>
          <a:blip r:embed="rId2"/>
          <a:stretch/>
        </p:blipFill>
        <p:spPr>
          <a:xfrm>
            <a:off x="6804000" y="3816360"/>
            <a:ext cx="1871640" cy="2556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Игра Сложи квадрат представлена тремя вариантами различной степени сложности"/>
          <p:cNvPicPr/>
          <p:nvPr/>
        </p:nvPicPr>
        <p:blipFill>
          <a:blip r:embed="rId3"/>
          <a:stretch/>
        </p:blipFill>
        <p:spPr>
          <a:xfrm>
            <a:off x="3203640" y="4110120"/>
            <a:ext cx="2808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гра «Сложи квадрат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Объект 4" descr="Игра Сложи квадрат представлена тремя вариантами различной степени сложности"/>
          <p:cNvPicPr/>
          <p:nvPr/>
        </p:nvPicPr>
        <p:blipFill>
          <a:blip r:embed="rId1"/>
          <a:stretch/>
        </p:blipFill>
        <p:spPr>
          <a:xfrm>
            <a:off x="899280" y="1700280"/>
            <a:ext cx="2838600" cy="4222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4140360" y="981000"/>
            <a:ext cx="4572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Складывая квадраты из разноцветных кусочков различной формы, ребенок выполняет несколько видов работ, неодинаковых по содержанию и степени сложности. Все детали необходимо перевернуть на лицевую сторону и сообразить, как из кусочков одного цвета сложить квадрат. В процессе игры ребенок знакомится с сенсорными эталонами цвета и формы, соотношением целого и части.. Выполнение игровых заданий способствует развитию сообразительности, пространственного воображения, логического мышления, математических и творческих способностей детей дошкольного возраст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гра «Уникуб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7308720" y="624348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7D03-C877-4968-822E-A1C58541CE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Объект 4" descr="Игра Никитина Уникуб: эти универсальные кубики вводят малыша в мир&#10;трехмерного пространства"/>
          <p:cNvPicPr/>
          <p:nvPr/>
        </p:nvPicPr>
        <p:blipFill>
          <a:blip r:embed="rId1"/>
          <a:stretch/>
        </p:blipFill>
        <p:spPr>
          <a:xfrm>
            <a:off x="324000" y="1916280"/>
            <a:ext cx="3671640" cy="3889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4211640" y="1557360"/>
            <a:ext cx="432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ниверсальные кубики "Уникуба" вводят малыша в мир трехмерного пространства. Развитие пространственного мышления позволит ребенку в будущем овладевать черчением, стереометрией, начертательной геометрией. Широкий диапазон заданий "Уникуба" может увлекать детей от 2 до 15 лет. Игра дает огромные возможности для развития детей. Ребенок может анализировать закономерности окраски куби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гра «Кубики для всех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1640" y="134136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а в "Кубики для всех" учит мыслить пространственными образами (объемными фигурами), умению их комбинировать и является значительно более сложной, чем игры с обычными кубиками, развивает способности к комбинаторике и пространственному мышлению, учит мыслить "объемными фигурами". Игра помогает овладеть графической грамотностью, понимать уже до школы план, карту, чертеж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Рисунок 4" descr="Игра Никитина Кубики для всех"/>
          <p:cNvPicPr/>
          <p:nvPr/>
        </p:nvPicPr>
        <p:blipFill>
          <a:blip r:embed="rId1"/>
          <a:stretch/>
        </p:blipFill>
        <p:spPr>
          <a:xfrm>
            <a:off x="1247760" y="3495600"/>
            <a:ext cx="2536920" cy="2886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Кубики для всех: от простого к сложному"/>
          <p:cNvPicPr/>
          <p:nvPr/>
        </p:nvPicPr>
        <p:blipFill>
          <a:blip r:embed="rId2"/>
          <a:stretch/>
        </p:blipFill>
        <p:spPr>
          <a:xfrm>
            <a:off x="611280" y="1557360"/>
            <a:ext cx="21603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761184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нтеллектуальные развивающие игры </a:t>
            </a:r>
            <a:br>
              <a:rPr sz="2400"/>
            </a:b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Б. П. Никитина:  «Дроби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7308720" y="624348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1C79-259A-4B1F-B21E-92A4D54292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Объект 4" descr="Игра Никитина Дроби"/>
          <p:cNvPicPr/>
          <p:nvPr/>
        </p:nvPicPr>
        <p:blipFill>
          <a:blip r:embed="rId1"/>
          <a:stretch/>
        </p:blipFill>
        <p:spPr>
          <a:xfrm>
            <a:off x="395280" y="1844640"/>
            <a:ext cx="3960720" cy="3672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4535640" y="1074600"/>
            <a:ext cx="3798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дставление о дроби, как части целого, может сформироваться у малыша рано. Ведь в жизни он видит, например, половину яблока или его четверть. На равные части можно разрезать пирог или круглый тор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зделить или раздробить целый круг оказалось удобным и для игры. А пользуясь в игре целым кругом и его частями, малыши приобретают и многие представления о дробях, об их соотнош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684360" y="5661000"/>
            <a:ext cx="324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110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0dbf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6920" y="1628280"/>
            <a:ext cx="74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ю состави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ател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ДОУ «СКАЗК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. Лабытнан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0dbf"/>
                </a:solidFill>
                <a:latin typeface="Tahoma"/>
              </a:rPr>
              <a:t>Шайгардано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0dbf"/>
                </a:solidFill>
                <a:latin typeface="Tahoma"/>
              </a:rPr>
              <a:t>Гульдар Расихов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7308720" y="624348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81FF-17DF-4545-A1CB-062762136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Технология развивающих игр Б.П.Никитина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280" y="148392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грушки, игр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одно из самых сильных воспитательных средств в руках общества. Игру принято называть основным видом деятельности ребенка. Именно в игре проявляются и развиваются разные стороны его личности, удовлетворяются многие интеллектуальные и эмоциональные потребности, складывается характер. Вы думаете, что вы просто покупаете игрушку? Нет, вы проектируете при этом человеческую личность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.П.Никит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115560"/>
            <a:ext cx="7929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Творческие развивающие игры Никитина для детей обладают характерными особенностям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3560" y="1413000"/>
            <a:ext cx="8353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ая игра Никитина представляет собой набор задач, которые ребенок решает с помощью кубиков, кирпичиков, квадратов из дерева или пластика, деталей конструктора-механика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даются ребенку в различной форме: в виде модели, плоского рисунка, рисунка в изометрии, чертежа, письменной или устной инструкции и т.п., и таким образом знакомят его с разными способам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расположены примерно в порядке возрастания сложности, т.е. в них использован принцип народных игр: от простого к сложном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имеют очень широкий диапазон трудностей: от доступных иногда 2-3-летнему малышу до непосильных среднему взрослому. Поэтому игры Никитина могут возбуждать интерес в течение многих лет (до взрослост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31680"/>
            <a:ext cx="7956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Творческие развивающие игры Никитина для детей обладают характерными особенностям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00000" y="1413000"/>
            <a:ext cx="7848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епенное возрастание трудности задач в играх Никитина позволяет ребенку идти вперед и совершенствоваться самостоятельно, т.е. развивать свои творческие способности, в отличие от обучения, где все объясняется и где формируются только исполнительские черты в ребен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льзя поэтому объяснять ребенку способ и порядок решения задач и нельзя подсказывать ни словом, ни жестом, ни взглядом. Строя модель, осуществляя решение практически, ребенок учится все брать сам из реальной действи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льзя требовать и добиваться, чтобы с первой попытки ребенок решил задачу. Он, возможно, еще не дорос, не созрел, и надо подождать день, неделю, месяц или даже больш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00000" y="134100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шение задачи предстает перед ребенком не в абстрактной форме ответа математической задачи, а в виде рисунка, узора или сооружения из кубиков, кирпичиков, деталей конструктора, т.е. в виде видимых и осязаемых вещей. Это позволяет сопоставлять наглядно "задание" с "решением" и самому проверять точность выполнения зад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ьшинство творческих развивающих игр Никитина не исчерпывается предлагаемыми заданиями, а позволяет детям и родителям составлять новые варианты заданий и даже придумывать новые развивающие игры, т.е. заниматься творческой деятельностью более высокого поряд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ы Никитина позволяют каждому подняться до "потолка" своих возможностей, где развитие идет наиболее успеш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115560"/>
            <a:ext cx="7929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Творческие развивающие игры Никитина для детей обладают характерными особенностям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58560" y="3716280"/>
            <a:ext cx="72738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азвивающих творческих играх Никитина - удалось объединить один из основных принципов обуче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"от простого к сложному"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очень важным принципом творческой деятельности -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"самостоятельно по способностям".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Рисунок 3" descr="Игры Никитина для развития&#10;творческих сторон интеллекта"/>
          <p:cNvPicPr/>
          <p:nvPr/>
        </p:nvPicPr>
        <p:blipFill>
          <a:blip r:embed="rId1"/>
          <a:stretch/>
        </p:blipFill>
        <p:spPr>
          <a:xfrm>
            <a:off x="2916360" y="601560"/>
            <a:ext cx="2447640" cy="2664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Один из основных принципов обучения по играм Никитина - от простого к сложному"/>
          <p:cNvPicPr/>
          <p:nvPr/>
        </p:nvPicPr>
        <p:blipFill>
          <a:blip r:embed="rId2"/>
          <a:stretch/>
        </p:blipFill>
        <p:spPr>
          <a:xfrm>
            <a:off x="5805360" y="836640"/>
            <a:ext cx="244800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Игры Никитина способствуют развитию интеллектуальных и творческих способностей ребенка"/>
          <p:cNvPicPr/>
          <p:nvPr/>
        </p:nvPicPr>
        <p:blipFill>
          <a:blip r:embed="rId3"/>
          <a:stretch/>
        </p:blipFill>
        <p:spPr>
          <a:xfrm>
            <a:off x="1332000" y="404640"/>
            <a:ext cx="2016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1080" y="259920"/>
            <a:ext cx="710856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Развитие творческих способностей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42920" y="1267920"/>
            <a:ext cx="756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ы Никитина могут стимулировать развитие творческих способностей с самого раннего возра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я-ступеньки игр Никитина всегда создают условия, опережающие развитие способнос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бенок развивается наиболее успешно, если он каждый раз самостоятельно пытается решить максимально сложные для него задач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ы Никитина могут быть очень разнообразны по своему содержанию и, кроме того, как и любые игры, они не терпят принуждения и создают атмосферу свободного и радостного творчес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ая в игры Никитина со своими детьми, мамы и папы незаметно для себя приобретают очень важное умение - сдерживаться, не мешать малышу самому размышлять и принимать решения, не делать за него то, что он может и должен сделать с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13840"/>
            <a:ext cx="75614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гры Б.П. Никитина развивают </a:t>
            </a:r>
            <a:br>
              <a:rPr sz="2400"/>
            </a:b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разные интеллектуальные качества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197000"/>
            <a:ext cx="7845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им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амять, особенно зрительну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ие находить зависимости и закономер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ассифицировать и систематизировать матери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собность к комбинированию, т.е. умение создавать новые комбинации из имеющихся элементов, деталей, предме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ие находить ошибки и недостат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странственное представление и воображ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собность предвидеть результаты своих действ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образите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обретате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ворческий склад мыш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гра "Сложи узор"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Объект 4" descr="Игра Никитина Сложи узор"/>
          <p:cNvPicPr/>
          <p:nvPr/>
        </p:nvPicPr>
        <p:blipFill>
          <a:blip r:embed="rId1"/>
          <a:stretch/>
        </p:blipFill>
        <p:spPr>
          <a:xfrm>
            <a:off x="611280" y="1628640"/>
            <a:ext cx="3384360" cy="43214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5"/>
          <p:cNvSpPr/>
          <p:nvPr/>
        </p:nvSpPr>
        <p:spPr>
          <a:xfrm>
            <a:off x="4540320" y="1413000"/>
            <a:ext cx="385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а "Сложи узор" состоит из 16 одинаковых кубиков. Все 6 граней каждого кубика окрашены различно, в 4 цвета. Это позволяет составлять из них 1, 2, 3- и даже 4-цветные узоры в громадном количестве вариантов. Эти узоры напоминают контуры различных предметов, картин, которым дети любят давать названия. В игре с кубиками дети выполняют три разных вида зада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9:59:33Z</dcterms:created>
  <dc:creator>Luc E. Weber</dc:creator>
  <dc:description/>
  <dc:language>en-US</dc:language>
  <cp:lastModifiedBy>Toshiba 17</cp:lastModifiedBy>
  <dcterms:modified xsi:type="dcterms:W3CDTF">2016-01-14T15:21:37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