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898A-0B56-4421-BFA3-0EEF1DD9E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236D-56E9-4BED-925F-8872BF016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E4D-CCFC-4A46-89B6-46AB5D2F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75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920" y="3647880"/>
            <a:ext cx="8775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B540-1FC7-482A-8797-AB5F117C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568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920" y="364788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5680" y="364788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F651-B5E3-45C2-B137-57C2B47D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46400" y="105264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13520" y="105264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920" y="364788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46400" y="364788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13520" y="364788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1A44-6CBF-42B4-842C-541454FA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6842-192B-4A32-B502-87C01038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78920" y="1052640"/>
            <a:ext cx="8775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4469-4CEE-4C75-B150-8777405E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75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AC06-008D-4699-8AE1-67835684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82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680" y="1052640"/>
            <a:ext cx="4282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CFD7-BD36-4073-830D-0CB38E9B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CD8D-579D-4736-B5C6-34A50EB5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CA22-02E2-418A-B40E-02CDD821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5680" y="1052640"/>
            <a:ext cx="4282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8920" y="364788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AD58-62B2-4F1F-B247-2618A0C0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920" y="1052640"/>
            <a:ext cx="8775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6B3F-52F6-488D-AE2E-A82DE1BA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82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568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5680" y="364788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1AD7-ECD6-447F-A09A-476F9754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568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8920" y="3647880"/>
            <a:ext cx="8775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BD1D-B625-46DC-ADB4-45D01435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75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78920" y="3647880"/>
            <a:ext cx="8775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E02C-0A2A-4EBE-B907-22997835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568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8920" y="364788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5680" y="364788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DA6A-1A81-432E-94AD-959B8453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46400" y="105264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13520" y="105264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8920" y="364788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46400" y="364788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13520" y="3647880"/>
            <a:ext cx="2825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357D-9F02-41CC-926C-33F52858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75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805-22A9-445B-9BED-70D400F6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82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052640"/>
            <a:ext cx="4282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24E1-4332-49F5-9BEC-1ABB3036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09B-784F-4890-9671-69D39E14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AB8-DF5B-449C-B778-D3F00913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052640"/>
            <a:ext cx="4282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920" y="364788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0AFC-6B6D-4F40-B627-5BE2F5B0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822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5680" y="364788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FBE-6E6E-4E4F-97E7-F1524012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72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052640"/>
            <a:ext cx="42822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920" y="3647880"/>
            <a:ext cx="8775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5A0E-6F91-4C12-B54A-A0D29FE3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95280" y="189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55640" y="54936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50920" y="83664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9640" y="7650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79280" y="54936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39640" y="333360"/>
            <a:ext cx="3204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395280" y="98100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78920" y="1052640"/>
            <a:ext cx="8775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50920" y="6243480"/>
            <a:ext cx="172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December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123640" y="6243480"/>
            <a:ext cx="504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ber  The Growing Importance of Quality Assu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308360" y="6243480"/>
            <a:ext cx="163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19E6-A250-4280-A062-20C0EE670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78920" y="1052640"/>
            <a:ext cx="8775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324000" y="6237360"/>
            <a:ext cx="180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8 December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226836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eber  The Growing Importance of Quality Assu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740720" y="6248520"/>
            <a:ext cx="102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CDDC-50EB-4C0C-9F00-6E83DC595D8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3240" y="476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0dbf"/>
                </a:solidFill>
                <a:latin typeface="Tahoma"/>
              </a:rPr>
              <a:t>ИГРОВЫЕ ТЕХНОЛОГИИ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Рисунок 3" descr="Игра Никитина Уникуб: эти универсальные кубики вводят малыша в мир&#10;трехмерного пространства"/>
          <p:cNvPicPr/>
          <p:nvPr/>
        </p:nvPicPr>
        <p:blipFill>
          <a:blip r:embed="rId1"/>
          <a:stretch/>
        </p:blipFill>
        <p:spPr>
          <a:xfrm>
            <a:off x="324000" y="4014720"/>
            <a:ext cx="2232000" cy="23526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Игра Никитина Сложи узор"/>
          <p:cNvPicPr/>
          <p:nvPr/>
        </p:nvPicPr>
        <p:blipFill>
          <a:blip r:embed="rId2"/>
          <a:stretch/>
        </p:blipFill>
        <p:spPr>
          <a:xfrm>
            <a:off x="6804000" y="3816360"/>
            <a:ext cx="1871640" cy="2556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Игра Сложи квадрат представлена тремя вариантами различной степени сложности"/>
          <p:cNvPicPr/>
          <p:nvPr/>
        </p:nvPicPr>
        <p:blipFill>
          <a:blip r:embed="rId3"/>
          <a:stretch/>
        </p:blipFill>
        <p:spPr>
          <a:xfrm>
            <a:off x="3203640" y="4110120"/>
            <a:ext cx="2808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Игра «Сложи квадрат»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Объект 4" descr="Игра Сложи квадрат представлена тремя вариантами различной степени сложности"/>
          <p:cNvPicPr/>
          <p:nvPr/>
        </p:nvPicPr>
        <p:blipFill>
          <a:blip r:embed="rId1"/>
          <a:stretch/>
        </p:blipFill>
        <p:spPr>
          <a:xfrm>
            <a:off x="899280" y="1700280"/>
            <a:ext cx="2838600" cy="42228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4140360" y="981000"/>
            <a:ext cx="4572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Складывая квадраты из разноцветных кусочков различной формы, ребенок выполняет несколько видов работ, неодинаковых по содержанию и степени сложности. Все детали необходимо перевернуть на лицевую сторону и сообразить, как из кусочков одного цвета сложить квадрат. В процессе игры ребенок знакомится с сенсорными эталонами цвета и формы, соотношением целого и части.. Выполнение игровых заданий способствует развитию сообразительности, пространственного воображения, логического мышления, математических и творческих способностей детей дошкольного возраста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Игра «Уникуб»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7308720" y="6243480"/>
            <a:ext cx="163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119D-0DA3-482F-A04F-F819D286A4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Объект 4" descr="Игра Никитина Уникуб: эти универсальные кубики вводят малыша в мир&#10;трехмерного пространства"/>
          <p:cNvPicPr/>
          <p:nvPr/>
        </p:nvPicPr>
        <p:blipFill>
          <a:blip r:embed="rId1"/>
          <a:stretch/>
        </p:blipFill>
        <p:spPr>
          <a:xfrm>
            <a:off x="324000" y="1916280"/>
            <a:ext cx="3671640" cy="38890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4211640" y="1557360"/>
            <a:ext cx="432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ниверсальные кубики "Уникуба" вводят малыша в мир трехмерного пространства. Развитие пространственного мышления позволит ребенку в будущем овладевать черчением, стереометрией, начертательной геометрией. Широкий диапазон заданий "Уникуба" может увлекать детей от 2 до 15 лет. Игра дает огромные возможности для развития детей. Ребенок может анализировать закономерности окраски куби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Игра «Кубики для всех»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1640" y="134136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гра в "Кубики для всех" учит мыслить пространственными образами (объемными фигурами), умению их комбинировать и является значительно более сложной, чем игры с обычными кубиками, развивает способности к комбинаторике и пространственному мышлению, учит мыслить "объемными фигурами". Игра помогает овладеть графической грамотностью, понимать уже до школы план, карту, чертеж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Рисунок 4" descr="Игра Никитина Кубики для всех"/>
          <p:cNvPicPr/>
          <p:nvPr/>
        </p:nvPicPr>
        <p:blipFill>
          <a:blip r:embed="rId1"/>
          <a:stretch/>
        </p:blipFill>
        <p:spPr>
          <a:xfrm>
            <a:off x="1247760" y="3495600"/>
            <a:ext cx="2536920" cy="28861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Кубики для всех: от простого к сложному"/>
          <p:cNvPicPr/>
          <p:nvPr/>
        </p:nvPicPr>
        <p:blipFill>
          <a:blip r:embed="rId2"/>
          <a:stretch/>
        </p:blipFill>
        <p:spPr>
          <a:xfrm>
            <a:off x="611280" y="1557360"/>
            <a:ext cx="21603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2000" y="213840"/>
            <a:ext cx="761184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Интеллектуальные развивающие игры </a:t>
            </a:r>
            <a:br>
              <a:rPr sz="2400"/>
            </a:b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Б. П. Никитина:  «Дроби»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7308720" y="6243480"/>
            <a:ext cx="163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EDA9-D7A5-4D97-8342-15178CBB46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Объект 4" descr="Игра Никитина Дроби"/>
          <p:cNvPicPr/>
          <p:nvPr/>
        </p:nvPicPr>
        <p:blipFill>
          <a:blip r:embed="rId1"/>
          <a:stretch/>
        </p:blipFill>
        <p:spPr>
          <a:xfrm>
            <a:off x="395280" y="1844640"/>
            <a:ext cx="3960720" cy="3672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Прямоугольник 9"/>
          <p:cNvSpPr/>
          <p:nvPr/>
        </p:nvSpPr>
        <p:spPr>
          <a:xfrm>
            <a:off x="4535640" y="1074600"/>
            <a:ext cx="3798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дставление о дроби, как части целого, может сформироваться у малыша рано. Ведь в жизни он видит, например, половину яблока или его четверть. На равные части можно разрезать пирог или круглый тор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Разделить или раздробить целый круг оказалось удобным и для игры. А пользуясь в игре целым кругом и его частями, малыши приобретают и многие представления о дробях, об их соотношения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Прямоугольник 10"/>
          <p:cNvSpPr/>
          <p:nvPr/>
        </p:nvSpPr>
        <p:spPr>
          <a:xfrm>
            <a:off x="684360" y="5661000"/>
            <a:ext cx="3240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1103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0dbf"/>
                </a:solidFill>
                <a:latin typeface="Tahoma"/>
              </a:rPr>
              <a:t>Спасибо за внимание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86920" y="1628280"/>
            <a:ext cx="74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зентацию состави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спитател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ДОУ «СКАЗКА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. Лабытнанг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0dbf"/>
                </a:solidFill>
                <a:latin typeface="Tahoma"/>
              </a:rPr>
              <a:t>Шайгарданов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0dbf"/>
                </a:solidFill>
                <a:latin typeface="Tahoma"/>
              </a:rPr>
              <a:t>Гульдар Расиховн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7308720" y="6243480"/>
            <a:ext cx="163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74A3-BB9A-4E1A-9538-DBD14C5B54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Технология развивающих игр Б.П.Никитина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55280" y="1483920"/>
            <a:ext cx="7993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грушки, игр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одно из самых сильных воспитательных средств в руках общества. Игру принято называть основным видом деятельности ребенка. Именно в игре проявляются и развиваются разные стороны его личности, удовлетворяются многие интеллектуальные и эмоциональные потребности, складывается характер. Вы думаете, что вы просто покупаете игрушку? Нет, вы проектируете при этом человеческую личность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.П.Никити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6920" y="115560"/>
            <a:ext cx="79297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Творческие развивающие игры Никитина для детей обладают характерными особенностями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3560" y="1413000"/>
            <a:ext cx="8353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ждая игра Никитина представляет собой набор задач, которые ребенок решает с помощью кубиков, кирпичиков, квадратов из дерева или пластика, деталей конструктора-механика и т.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чи даются ребенку в различной форме: в виде модели, плоского рисунка, рисунка в изометрии, чертежа, письменной или устной инструкции и т.п., и таким образом знакомят его с разными способами передачи информ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чи расположены примерно в порядке возрастания сложности, т.е. в них использован принцип народных игр: от простого к сложном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чи имеют очень широкий диапазон трудностей: от доступных иногда 2-3-летнему малышу до непосильных среднему взрослому. Поэтому игры Никитина могут возбуждать интерес в течение многих лет (до взрослости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7280" y="31680"/>
            <a:ext cx="79567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Творческие развивающие игры Никитина для детей обладают характерными особенностями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00000" y="1413000"/>
            <a:ext cx="7848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тепенное возрастание трудности задач в играх Никитина позволяет ребенку идти вперед и совершенствоваться самостоятельно, т.е. развивать свои творческие способности, в отличие от обучения, где все объясняется и где формируются только исполнительские черты в ребенк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льзя поэтому объяснять ребенку способ и порядок решения задач и нельзя подсказывать ни словом, ни жестом, ни взглядом. Строя модель, осуществляя решение практически, ребенок учится все брать сам из реальной действи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льзя требовать и добиваться, чтобы с первой попытки ребенок решил задачу. Он, возможно, еще не дорос, не созрел, и надо подождать день, неделю, месяц или даже больш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900000" y="1341000"/>
            <a:ext cx="76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шение задачи предстает перед ребенком не в абстрактной форме ответа математической задачи, а в виде рисунка, узора или сооружения из кубиков, кирпичиков, деталей конструктора, т.е. в виде видимых и осязаемых вещей. Это позволяет сопоставлять наглядно "задание" с "решением" и самому проверять точность выполнения зад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льшинство творческих развивающих игр Никитина не исчерпывается предлагаемыми заданиями, а позволяет детям и родителям составлять новые варианты заданий и даже придумывать новые развивающие игры, т.е. заниматься творческой деятельностью более высокого поряд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гры Никитина позволяют каждому подняться до "потолка" своих возможностей, где развитие идет наиболее успешн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6920" y="115560"/>
            <a:ext cx="79297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Творческие развивающие игры Никитина для детей обладают характерными особенностями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58560" y="3716280"/>
            <a:ext cx="72738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развивающих творческих играх Никитина - удалось объединить один из основных принципов обучени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"от простого к сложному"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очень важным принципом творческой деятельности -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"самостоятельно по способностям".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Рисунок 3" descr="Игры Никитина для развития&#10;творческих сторон интеллекта"/>
          <p:cNvPicPr/>
          <p:nvPr/>
        </p:nvPicPr>
        <p:blipFill>
          <a:blip r:embed="rId1"/>
          <a:stretch/>
        </p:blipFill>
        <p:spPr>
          <a:xfrm>
            <a:off x="2916360" y="601560"/>
            <a:ext cx="2447640" cy="2664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Один из основных принципов обучения по играм Никитина - от простого к сложному"/>
          <p:cNvPicPr/>
          <p:nvPr/>
        </p:nvPicPr>
        <p:blipFill>
          <a:blip r:embed="rId2"/>
          <a:stretch/>
        </p:blipFill>
        <p:spPr>
          <a:xfrm>
            <a:off x="5805360" y="836640"/>
            <a:ext cx="2448000" cy="21938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Игры Никитина способствуют развитию интеллектуальных и творческих способностей ребенка"/>
          <p:cNvPicPr/>
          <p:nvPr/>
        </p:nvPicPr>
        <p:blipFill>
          <a:blip r:embed="rId3"/>
          <a:stretch/>
        </p:blipFill>
        <p:spPr>
          <a:xfrm>
            <a:off x="1332000" y="404640"/>
            <a:ext cx="2016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51080" y="259920"/>
            <a:ext cx="710856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Развитие творческих способностей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42920" y="1267920"/>
            <a:ext cx="756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гры Никитина могут стимулировать развитие творческих способностей с самого раннего возрас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ния-ступеньки игр Никитина всегда создают условия, опережающие развитие способнос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бенок развивается наиболее успешно, если он каждый раз самостоятельно пытается решить максимально сложные для него задач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гры Никитина могут быть очень разнообразны по своему содержанию и, кроме того, как и любые игры, они не терпят принуждения и создают атмосферу свободного и радостного творчест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грая в игры Никитина со своими детьми, мамы и папы незаметно для себя приобретают очень важное умение - сдерживаться, не мешать малышу самому размышлять и принимать решения, не делать за него то, что он может и должен сделать с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13840"/>
            <a:ext cx="75614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Игры Б.П. Никитина развивают </a:t>
            </a:r>
            <a:br>
              <a:rPr sz="2400"/>
            </a:b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разные интеллектуальные качества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71280" y="1197000"/>
            <a:ext cx="7845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нима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амять, особенно зрительну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мение находить зависимости и закономер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лассифицировать и систематизировать материа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особность к комбинированию, т.е. умение создавать новые комбинации из имеющихся элементов, деталей, предме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мение находить ошибки и недостат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странственное представление и воображ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особность предвидеть результаты своих действ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образите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обретате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ворческий склад мышл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62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0dbf"/>
                </a:solidFill>
                <a:latin typeface="Tahoma"/>
              </a:rPr>
              <a:t>Игра "Сложи узор"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Объект 4" descr="Игра Никитина Сложи узор"/>
          <p:cNvPicPr/>
          <p:nvPr/>
        </p:nvPicPr>
        <p:blipFill>
          <a:blip r:embed="rId1"/>
          <a:stretch/>
        </p:blipFill>
        <p:spPr>
          <a:xfrm>
            <a:off x="611280" y="1628640"/>
            <a:ext cx="3384360" cy="432144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5"/>
          <p:cNvSpPr/>
          <p:nvPr/>
        </p:nvSpPr>
        <p:spPr>
          <a:xfrm>
            <a:off x="4540320" y="1413000"/>
            <a:ext cx="3852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гра "Сложи узор" состоит из 16 одинаковых кубиков. Все 6 граней каждого кубика окрашены различно, в 4 цвета. Это позволяет составлять из них 1, 2, 3- и даже 4-цветные узоры в громадном количестве вариантов. Эти узоры напоминают контуры различных предметов, картин, которым дети любят давать названия. В игре с кубиками дети выполняют три разных вида зада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9:59:33Z</dcterms:created>
  <dc:creator>Luc E. Weber</dc:creator>
  <dc:description/>
  <dc:language>en-US</dc:language>
  <cp:lastModifiedBy>Toshiba 17</cp:lastModifiedBy>
  <dcterms:modified xsi:type="dcterms:W3CDTF">2016-01-14T15:21:37Z</dcterms:modified>
  <cp:revision>1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