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A93E-89A7-4C1F-B751-6D6006D94B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80D3-8BEC-46EC-86B7-0ACDA443D2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5106-4FF2-4428-8363-EF6477AD67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A024-A18B-41FA-B920-8C45853CC2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1F4A-5ACF-43CB-8841-3B4D5FC930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DAB3-A660-44EF-8199-76153C8B5F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FF83-7B06-4C91-9495-F62F10F100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2FEE-959E-4FED-A1AC-8FD5C204D9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03DE-386A-427A-9858-767A79C117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7992-BF44-454B-A952-4057D0CC33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A4CF-0AA5-4DE1-81CB-BF3D84AAE1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8364-A21E-4C19-AE31-82DFAD6B67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514-C5FD-427A-89D8-0865A3A6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350-9928-443F-BC18-6B7F6EC5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BDA-1972-4D26-932E-8A13C3A2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5EB-0CB9-46E5-961F-0F15F6BE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A2E-245E-4811-942E-5B739A04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127-4705-4E1D-931E-C526A287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CFA-B622-4D1F-BF73-FCBA6C11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664-58C3-4BE2-B8C2-9C2E9D42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F54-506F-4A03-984A-2CB7FD9F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6A5-061C-4B27-9941-0636F1F9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258-572F-4B33-A2E6-EAE57762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63D-A08C-4603-A856-23C8FC57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22ED-11AF-454A-80A6-A0010C125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2025720" y="1773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Режим дн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ервокласс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629080" y="3500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430720" y="494172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МЕНОВ ДМИТРИЙ  1  А КЛАС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2"/>
          <p:cNvSpPr/>
          <p:nvPr/>
        </p:nvSpPr>
        <p:spPr>
          <a:xfrm>
            <a:off x="152280" y="152280"/>
            <a:ext cx="83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ыполнение домашнего задания16.00-16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5340240" cy="4005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2411280" y="5373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 домашние задан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уду четко выпол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4267080" y="175248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814400" y="152280"/>
            <a:ext cx="64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вободное время 17.00-21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800600" y="609480"/>
            <a:ext cx="403848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жин вкусный мы съед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елевизор погляд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ли в игры поигра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ли книжку почит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1620720" y="90792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"/>
          <p:cNvPicPr/>
          <p:nvPr/>
        </p:nvPicPr>
        <p:blipFill>
          <a:blip r:embed="rId2"/>
          <a:stretch/>
        </p:blipFill>
        <p:spPr>
          <a:xfrm>
            <a:off x="395280" y="3105000"/>
            <a:ext cx="3313080" cy="2484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3"/>
          <a:stretch/>
        </p:blipFill>
        <p:spPr>
          <a:xfrm>
            <a:off x="5651640" y="3017880"/>
            <a:ext cx="3313080" cy="24843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3059280" y="5805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играю, отдыхаю,  маме с папой помогае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7"/>
          <p:cNvSpPr/>
          <p:nvPr/>
        </p:nvSpPr>
        <p:spPr>
          <a:xfrm>
            <a:off x="4890960" y="472284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Чай попить и спать - в крова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втра рано мне встав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505320" y="228600"/>
            <a:ext cx="38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н 21.30-6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5003640" cy="37544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835200" y="5545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Я люблю свой режим д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н - помощник  для ме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030"/>
          <p:cNvSpPr/>
          <p:nvPr/>
        </p:nvSpPr>
        <p:spPr>
          <a:xfrm>
            <a:off x="2590920" y="228600"/>
            <a:ext cx="24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дъём 6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32"/>
          <p:cNvSpPr/>
          <p:nvPr/>
        </p:nvSpPr>
        <p:spPr>
          <a:xfrm>
            <a:off x="5003640" y="1420920"/>
            <a:ext cx="3657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но я встаю с ут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школу мне идти по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304920" y="1341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1"/>
          <p:cNvSpPr/>
          <p:nvPr/>
        </p:nvSpPr>
        <p:spPr>
          <a:xfrm>
            <a:off x="6084720" y="260280"/>
            <a:ext cx="252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арядка 6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029200" y="129528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111"/>
                </a:solidFill>
                <a:latin typeface="Monotype Corsiva"/>
              </a:rPr>
              <a:t>Занимаюсь я зарядкой,</a:t>
            </a:r>
            <a:br>
              <a:rPr sz="2400"/>
            </a:br>
            <a:r>
              <a:rPr b="1" lang="ru-RU" sz="2400" spc="-1" strike="noStrike">
                <a:solidFill>
                  <a:srgbClr val="111111"/>
                </a:solidFill>
                <a:latin typeface="Monotype Corsiva"/>
              </a:rPr>
              <a:t>По утрам, по вечерам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5"/>
          <p:cNvSpPr/>
          <p:nvPr/>
        </p:nvSpPr>
        <p:spPr>
          <a:xfrm>
            <a:off x="5638680" y="152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одные процедуры 7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6"/>
          <p:cNvSpPr/>
          <p:nvPr/>
        </p:nvSpPr>
        <p:spPr>
          <a:xfrm>
            <a:off x="5076720" y="1268280"/>
            <a:ext cx="358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 встаю и умываю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тихоньку собираю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08000" y="988920"/>
            <a:ext cx="4763880" cy="35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3"/>
          <p:cNvSpPr/>
          <p:nvPr/>
        </p:nvSpPr>
        <p:spPr>
          <a:xfrm>
            <a:off x="6400800" y="3808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втрак  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4"/>
          <p:cNvSpPr/>
          <p:nvPr/>
        </p:nvSpPr>
        <p:spPr>
          <a:xfrm>
            <a:off x="541440" y="955800"/>
            <a:ext cx="4111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ъел я завтрак, попроща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 погоде одевался.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38012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1"/>
          <p:cNvSpPr/>
          <p:nvPr/>
        </p:nvSpPr>
        <p:spPr>
          <a:xfrm>
            <a:off x="762120" y="152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орога в школу   7.15-7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0" y="2205000"/>
            <a:ext cx="4067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 дороге в школ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вежим воздухом дыш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924360" y="1046160"/>
            <a:ext cx="5148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4"/>
          <p:cNvSpPr/>
          <p:nvPr/>
        </p:nvSpPr>
        <p:spPr>
          <a:xfrm>
            <a:off x="4419720" y="762120"/>
            <a:ext cx="44956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т опять звенит зво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очно в срок идёт урок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1447920" y="152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роки 8.00-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l1_sociol_o"/>
          <p:cNvPicPr/>
          <p:nvPr/>
        </p:nvPicPr>
        <p:blipFill>
          <a:blip r:embed="rId1"/>
          <a:stretch/>
        </p:blipFill>
        <p:spPr>
          <a:xfrm>
            <a:off x="6629400" y="3006720"/>
            <a:ext cx="2228760" cy="3749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8"/>
          <p:cNvSpPr/>
          <p:nvPr/>
        </p:nvSpPr>
        <p:spPr>
          <a:xfrm>
            <a:off x="380880" y="4724280"/>
            <a:ext cx="6019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108000" y="76212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4038480" y="2286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бед    11.30-12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5003640" y="3284640"/>
            <a:ext cx="387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асибо нашим поварам, что очень вкусно варят 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379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4"/>
          <p:cNvSpPr/>
          <p:nvPr/>
        </p:nvSpPr>
        <p:spPr>
          <a:xfrm>
            <a:off x="304920" y="762120"/>
            <a:ext cx="45720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з портфеля мы до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вой учебник и тетрад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5"/>
          <p:cNvSpPr/>
          <p:nvPr/>
        </p:nvSpPr>
        <p:spPr>
          <a:xfrm>
            <a:off x="468360" y="15228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нятия в музыкальной школе13.00-15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7" descr="девиз"/>
          <p:cNvPicPr/>
          <p:nvPr/>
        </p:nvPicPr>
        <p:blipFill>
          <a:blip r:embed="rId1"/>
          <a:stretch/>
        </p:blipFill>
        <p:spPr>
          <a:xfrm>
            <a:off x="4932360" y="974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0" descr="4b482ecf9e64t"/>
          <p:cNvPicPr/>
          <p:nvPr/>
        </p:nvPicPr>
        <p:blipFill>
          <a:blip r:embed="rId2"/>
          <a:stretch/>
        </p:blipFill>
        <p:spPr>
          <a:xfrm>
            <a:off x="5796000" y="4606920"/>
            <a:ext cx="1905120" cy="186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1" descr="53f2c2f77d9at"/>
          <p:cNvPicPr/>
          <p:nvPr/>
        </p:nvPicPr>
        <p:blipFill>
          <a:blip r:embed="rId3"/>
          <a:stretch/>
        </p:blipFill>
        <p:spPr>
          <a:xfrm>
            <a:off x="2468520" y="4265640"/>
            <a:ext cx="1676520" cy="217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7:31:08Z</dcterms:created>
  <dc:creator>user</dc:creator>
  <dc:description/>
  <dc:language>en-US</dc:language>
  <cp:lastModifiedBy>ВАЛЕНТИНА</cp:lastModifiedBy>
  <dcterms:modified xsi:type="dcterms:W3CDTF">2019-05-03T10:07:21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