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FC02-C72C-4D48-B255-4554ABCEDB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AF9F-6DE1-4665-B117-012430F1CE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A9AE-D0CB-4E18-81FF-AC48E38580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4D3D-452D-4CAE-ADE3-6A45E117CA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F6A8-1AA0-4C6D-A6F8-59CD092033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7968-870F-4891-A48A-079AE5980B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589A-4BCA-4405-8BCB-FA855661FC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B2F3-188F-4BF4-9D8C-8E476885A6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27DA-D926-420C-A9FC-688FC18178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2738-38C5-436A-AC06-659714EB93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1679-C7EE-461A-9332-3C41AAB3FF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CC8D-A8AB-4DA2-9DD6-FEE2578069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BB2-948F-4454-85EB-1E3ED1F0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C5E-6302-48F6-96A0-6A834F82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269-D3A3-436E-A315-290E4180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237-F4B9-4956-9BFE-248D16A9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0A2-BFD9-443D-A1D8-614812A0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E97-6749-4FFF-926D-DBDF5D47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97B-0CC2-48EC-8AA1-C560C0D5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D9BC-6AF0-4EAC-844B-729221CF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025-C32C-4136-B83D-67339127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6C3-B08C-4B5C-B8AC-ADA3AC70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686-C1C0-4460-8C28-3647BB11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BF9-60B6-4531-950A-6E1164CC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6A49-6138-4C90-995C-1AFDB3A27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2025720" y="177336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Режим дн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первокласс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629080" y="3500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430720" y="494172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МЕНОВ ДМИТРИЙ  1  А КЛАС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2"/>
          <p:cNvSpPr/>
          <p:nvPr/>
        </p:nvSpPr>
        <p:spPr>
          <a:xfrm>
            <a:off x="152280" y="152280"/>
            <a:ext cx="838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ыполнение домашнего задания16.00-16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5340240" cy="4005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2411280" y="5373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 домашние задан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уду четко выпол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4267080" y="175248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814400" y="152280"/>
            <a:ext cx="64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вободное время 17.00-21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800600" y="609480"/>
            <a:ext cx="403848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жин вкусный мы съед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елевизор погляд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ли в игры поигра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ли книжку почит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1620720" y="90792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"/>
          <p:cNvPicPr/>
          <p:nvPr/>
        </p:nvPicPr>
        <p:blipFill>
          <a:blip r:embed="rId2"/>
          <a:stretch/>
        </p:blipFill>
        <p:spPr>
          <a:xfrm>
            <a:off x="395280" y="3105000"/>
            <a:ext cx="3313080" cy="2484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3"/>
          <a:stretch/>
        </p:blipFill>
        <p:spPr>
          <a:xfrm>
            <a:off x="5651640" y="3017880"/>
            <a:ext cx="3313080" cy="24843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4"/>
          <p:cNvSpPr/>
          <p:nvPr/>
        </p:nvSpPr>
        <p:spPr>
          <a:xfrm>
            <a:off x="3059280" y="5805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 играю, отдыхаю,  маме с папой помогае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7"/>
          <p:cNvSpPr/>
          <p:nvPr/>
        </p:nvSpPr>
        <p:spPr>
          <a:xfrm>
            <a:off x="4890960" y="472284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Чай попить и спать - в крова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втра рано мне встав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505320" y="228600"/>
            <a:ext cx="38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н 21.30-6.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5003640" cy="37544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835200" y="55450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Я люблю свой режим д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н - помощник  для ме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030"/>
          <p:cNvSpPr/>
          <p:nvPr/>
        </p:nvSpPr>
        <p:spPr>
          <a:xfrm>
            <a:off x="2590920" y="228600"/>
            <a:ext cx="24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дъём 6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32"/>
          <p:cNvSpPr/>
          <p:nvPr/>
        </p:nvSpPr>
        <p:spPr>
          <a:xfrm>
            <a:off x="5003640" y="1420920"/>
            <a:ext cx="3657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но я встаю с ут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школу мне идти по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304920" y="1341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1"/>
          <p:cNvSpPr/>
          <p:nvPr/>
        </p:nvSpPr>
        <p:spPr>
          <a:xfrm>
            <a:off x="6084720" y="260280"/>
            <a:ext cx="252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арядка 6.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5029200" y="1295280"/>
            <a:ext cx="36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111"/>
                </a:solidFill>
                <a:latin typeface="Monotype Corsiva"/>
              </a:rPr>
              <a:t>Занимаюсь я зарядкой,</a:t>
            </a:r>
            <a:br>
              <a:rPr sz="2400"/>
            </a:br>
            <a:r>
              <a:rPr b="1" lang="ru-RU" sz="2400" spc="-1" strike="noStrike">
                <a:solidFill>
                  <a:srgbClr val="111111"/>
                </a:solidFill>
                <a:latin typeface="Monotype Corsiva"/>
              </a:rPr>
              <a:t>По утрам, по вечерам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608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5"/>
          <p:cNvSpPr/>
          <p:nvPr/>
        </p:nvSpPr>
        <p:spPr>
          <a:xfrm>
            <a:off x="5638680" y="15228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одные процедуры 7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6"/>
          <p:cNvSpPr/>
          <p:nvPr/>
        </p:nvSpPr>
        <p:spPr>
          <a:xfrm>
            <a:off x="5076720" y="1268280"/>
            <a:ext cx="358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Я встаю и умываю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тихоньку собираю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08000" y="988920"/>
            <a:ext cx="4763880" cy="35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3"/>
          <p:cNvSpPr/>
          <p:nvPr/>
        </p:nvSpPr>
        <p:spPr>
          <a:xfrm>
            <a:off x="6400800" y="3808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втрак  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4"/>
          <p:cNvSpPr/>
          <p:nvPr/>
        </p:nvSpPr>
        <p:spPr>
          <a:xfrm>
            <a:off x="541440" y="955800"/>
            <a:ext cx="4111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ъел я завтрак, попроща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 погоде одевался.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38012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1"/>
          <p:cNvSpPr/>
          <p:nvPr/>
        </p:nvSpPr>
        <p:spPr>
          <a:xfrm>
            <a:off x="762120" y="152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орога в школу   7.15-7.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0" y="2205000"/>
            <a:ext cx="4067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 дороге в школ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вежим воздухом дыш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924360" y="1046160"/>
            <a:ext cx="5148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4"/>
          <p:cNvSpPr/>
          <p:nvPr/>
        </p:nvSpPr>
        <p:spPr>
          <a:xfrm>
            <a:off x="4419720" y="762120"/>
            <a:ext cx="44956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т опять звенит зво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очно в срок идёт урок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1447920" y="152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роки 8.00-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l1_sociol_o"/>
          <p:cNvPicPr/>
          <p:nvPr/>
        </p:nvPicPr>
        <p:blipFill>
          <a:blip r:embed="rId1"/>
          <a:stretch/>
        </p:blipFill>
        <p:spPr>
          <a:xfrm>
            <a:off x="6629400" y="3006720"/>
            <a:ext cx="2228760" cy="3749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8"/>
          <p:cNvSpPr/>
          <p:nvPr/>
        </p:nvSpPr>
        <p:spPr>
          <a:xfrm>
            <a:off x="380880" y="4724280"/>
            <a:ext cx="6019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108000" y="76212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4038480" y="2286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бед    11.30-12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5003640" y="3284640"/>
            <a:ext cx="387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асибо нашим поварам, что очень вкусно варят 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379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4"/>
          <p:cNvSpPr/>
          <p:nvPr/>
        </p:nvSpPr>
        <p:spPr>
          <a:xfrm>
            <a:off x="304920" y="762120"/>
            <a:ext cx="45720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з портфеля мы до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вой учебник и тетрад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5"/>
          <p:cNvSpPr/>
          <p:nvPr/>
        </p:nvSpPr>
        <p:spPr>
          <a:xfrm>
            <a:off x="468360" y="15228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нятия в музыкальной школе13.00-15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7" descr="девиз"/>
          <p:cNvPicPr/>
          <p:nvPr/>
        </p:nvPicPr>
        <p:blipFill>
          <a:blip r:embed="rId1"/>
          <a:stretch/>
        </p:blipFill>
        <p:spPr>
          <a:xfrm>
            <a:off x="4932360" y="97488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0" descr="4b482ecf9e64t"/>
          <p:cNvPicPr/>
          <p:nvPr/>
        </p:nvPicPr>
        <p:blipFill>
          <a:blip r:embed="rId2"/>
          <a:stretch/>
        </p:blipFill>
        <p:spPr>
          <a:xfrm>
            <a:off x="5796000" y="4606920"/>
            <a:ext cx="1905120" cy="186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1" descr="53f2c2f77d9at"/>
          <p:cNvPicPr/>
          <p:nvPr/>
        </p:nvPicPr>
        <p:blipFill>
          <a:blip r:embed="rId3"/>
          <a:stretch/>
        </p:blipFill>
        <p:spPr>
          <a:xfrm>
            <a:off x="2468520" y="4265640"/>
            <a:ext cx="1676520" cy="217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7:31:08Z</dcterms:created>
  <dc:creator>user</dc:creator>
  <dc:description/>
  <dc:language>en-US</dc:language>
  <cp:lastModifiedBy>ВАЛЕНТИНА</cp:lastModifiedBy>
  <dcterms:modified xsi:type="dcterms:W3CDTF">2019-05-03T10:07:21Z</dcterms:modified>
  <cp:revision>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