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3F2-0F71-4BD4-98F9-A2604163A9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383-BE6B-449D-A4A0-7488EBA819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6A7-5D11-46B6-A905-032D74DE3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CDB-9137-4776-A950-0EF29041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0A9-4CC6-466D-8AA3-ECA06C13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233-6B99-4AFC-8297-3BD76B03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2D1-4604-463E-8877-0B811E8F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76F-B38B-45A5-A562-3D955513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BB6-C337-4FE8-B1D5-231202CC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FF-A7E1-4EED-84D4-E29CDD6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93D-202C-4435-99D0-66C1D22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E4D-3991-42DF-A34E-5CA499D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227-0020-4022-A363-CFA8FE8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830-CADE-4305-885B-6985546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356-0FF0-499F-B285-3CA53D1F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96B-EF9C-44F0-8F26-3705E54D1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кие живот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има в л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nature kartinki na mobilnyi telefon  55.jpg"/>
          <p:cNvPicPr/>
          <p:nvPr/>
        </p:nvPicPr>
        <p:blipFill>
          <a:blip r:embed="rId1"/>
          <a:stretch/>
        </p:blipFill>
        <p:spPr>
          <a:xfrm>
            <a:off x="1714680" y="214200"/>
            <a:ext cx="5500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лчье лого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g864792153.jpg"/>
          <p:cNvPicPr/>
          <p:nvPr/>
        </p:nvPicPr>
        <p:blipFill>
          <a:blip r:embed="rId1"/>
          <a:stretch/>
        </p:blipFill>
        <p:spPr>
          <a:xfrm>
            <a:off x="2500200" y="1057320"/>
            <a:ext cx="5722920" cy="5800680"/>
          </a:xfrm>
          <a:prstGeom prst="rect">
            <a:avLst/>
          </a:prstGeom>
          <a:ln w="0">
            <a:noFill/>
          </a:ln>
        </p:spPr>
      </p:pic>
      <p:pic>
        <p:nvPicPr>
          <p:cNvPr id="53" name="C96_Групповой вой пары с четырьмя детенышами и пары из соседней клетк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09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сья н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751882db7716.jpg"/>
          <p:cNvPicPr/>
          <p:nvPr/>
        </p:nvPicPr>
        <p:blipFill>
          <a:blip r:embed="rId1"/>
          <a:stretch/>
        </p:blipFill>
        <p:spPr>
          <a:xfrm>
            <a:off x="571680" y="1200240"/>
            <a:ext cx="8001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ячья ле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are_form.jpg"/>
          <p:cNvPicPr/>
          <p:nvPr/>
        </p:nvPicPr>
        <p:blipFill>
          <a:blip r:embed="rId1"/>
          <a:stretch/>
        </p:blipFill>
        <p:spPr>
          <a:xfrm>
            <a:off x="3643200" y="1357200"/>
            <a:ext cx="3373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двежья берло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0_85c56_e3c2db72_XL.jpg"/>
          <p:cNvPicPr/>
          <p:nvPr/>
        </p:nvPicPr>
        <p:blipFill>
          <a:blip r:embed="rId1"/>
          <a:stretch/>
        </p:blipFill>
        <p:spPr>
          <a:xfrm>
            <a:off x="1147680" y="1214280"/>
            <a:ext cx="6000840" cy="4786560"/>
          </a:xfrm>
          <a:prstGeom prst="rect">
            <a:avLst/>
          </a:prstGeom>
          <a:ln w="0">
            <a:noFill/>
          </a:ln>
        </p:spPr>
      </p:pic>
      <p:pic>
        <p:nvPicPr>
          <p:cNvPr id="60" name="Medved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3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личье дупл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e6556c7ea9ce0e008a1551ba4a34b8.jpg"/>
          <p:cNvPicPr/>
          <p:nvPr/>
        </p:nvPicPr>
        <p:blipFill>
          <a:blip r:embed="rId1"/>
          <a:stretch/>
        </p:blipFill>
        <p:spPr>
          <a:xfrm>
            <a:off x="958680" y="1428840"/>
            <a:ext cx="6859800" cy="51433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6:50:38Z</dcterms:created>
  <dc:creator>rulezzz</dc:creator>
  <dc:description/>
  <dc:language>en-US</dc:language>
  <cp:lastModifiedBy>Home</cp:lastModifiedBy>
  <dcterms:modified xsi:type="dcterms:W3CDTF">2019-01-16T02:05:42Z</dcterms:modified>
  <cp:revision>8</cp:revision>
  <dc:subject/>
  <dc:title>Дикие животные</dc:title>
</cp:coreProperties>
</file>