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E95-99BF-4873-AFBF-FBB3F48CFB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7177-CC31-47D9-B859-773556E659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352E-10E6-478E-A5BA-AE2F957C0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786-B405-4F11-815C-88E8E872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137-7456-45C9-B953-D028683E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61D-E582-4301-A4F6-9C322830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838-CC58-4AB1-96C2-0CA73AC4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355-C272-47B1-9F5E-8298B743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B98-F502-46AC-9CE6-F34FC53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D06-D3CB-4AF9-86BB-4BDE2ABA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551-CFF9-4812-ACBA-1F60B31F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153-581B-4239-8E6E-D81B67C8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B70-22B9-45AA-A14B-DFD460F2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957-A49A-40A1-B0B1-0F2D0E0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B195-9B45-464C-B55A-25A67834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576F-F4E0-4A75-B285-84882EC05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кие живот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Зима в ле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nature kartinki na mobilnyi telefon  55.jpg"/>
          <p:cNvPicPr/>
          <p:nvPr/>
        </p:nvPicPr>
        <p:blipFill>
          <a:blip r:embed="rId1"/>
          <a:stretch/>
        </p:blipFill>
        <p:spPr>
          <a:xfrm>
            <a:off x="1714680" y="214200"/>
            <a:ext cx="55004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лчье лого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img864792153.jpg"/>
          <p:cNvPicPr/>
          <p:nvPr/>
        </p:nvPicPr>
        <p:blipFill>
          <a:blip r:embed="rId1"/>
          <a:stretch/>
        </p:blipFill>
        <p:spPr>
          <a:xfrm>
            <a:off x="2500200" y="1057320"/>
            <a:ext cx="5722920" cy="5800680"/>
          </a:xfrm>
          <a:prstGeom prst="rect">
            <a:avLst/>
          </a:prstGeom>
          <a:ln w="0">
            <a:noFill/>
          </a:ln>
        </p:spPr>
      </p:pic>
      <p:pic>
        <p:nvPicPr>
          <p:cNvPr id="53" name="C96_Групповой вой пары с четырьмя детенышами и пары из соседней клетк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09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сья но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751882db7716.jpg"/>
          <p:cNvPicPr/>
          <p:nvPr/>
        </p:nvPicPr>
        <p:blipFill>
          <a:blip r:embed="rId1"/>
          <a:stretch/>
        </p:blipFill>
        <p:spPr>
          <a:xfrm>
            <a:off x="571680" y="1200240"/>
            <a:ext cx="80010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ячья леж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are_form.jpg"/>
          <p:cNvPicPr/>
          <p:nvPr/>
        </p:nvPicPr>
        <p:blipFill>
          <a:blip r:embed="rId1"/>
          <a:stretch/>
        </p:blipFill>
        <p:spPr>
          <a:xfrm>
            <a:off x="3643200" y="1357200"/>
            <a:ext cx="33735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двежья берлог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0_85c56_e3c2db72_XL.jpg"/>
          <p:cNvPicPr/>
          <p:nvPr/>
        </p:nvPicPr>
        <p:blipFill>
          <a:blip r:embed="rId1"/>
          <a:stretch/>
        </p:blipFill>
        <p:spPr>
          <a:xfrm>
            <a:off x="1147680" y="1214280"/>
            <a:ext cx="6000840" cy="4786560"/>
          </a:xfrm>
          <a:prstGeom prst="rect">
            <a:avLst/>
          </a:prstGeom>
          <a:ln w="0">
            <a:noFill/>
          </a:ln>
        </p:spPr>
      </p:pic>
      <p:pic>
        <p:nvPicPr>
          <p:cNvPr id="60" name="Medved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93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личье дупл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39e6556c7ea9ce0e008a1551ba4a34b8.jpg"/>
          <p:cNvPicPr/>
          <p:nvPr/>
        </p:nvPicPr>
        <p:blipFill>
          <a:blip r:embed="rId1"/>
          <a:stretch/>
        </p:blipFill>
        <p:spPr>
          <a:xfrm>
            <a:off x="958680" y="1428840"/>
            <a:ext cx="6859800" cy="51433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6:50:38Z</dcterms:created>
  <dc:creator>rulezzz</dc:creator>
  <dc:description/>
  <dc:language>en-US</dc:language>
  <cp:lastModifiedBy>Home</cp:lastModifiedBy>
  <dcterms:modified xsi:type="dcterms:W3CDTF">2019-01-16T02:05:42Z</dcterms:modified>
  <cp:revision>8</cp:revision>
  <dc:subject/>
  <dc:title>Дикие животные</dc:title>
</cp:coreProperties>
</file>