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5.jpeg" ContentType="image/jpeg"/>
  <Override PartName="/ppt/media/image32.png" ContentType="image/png"/>
  <Override PartName="/ppt/media/image36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589D3-0970-4390-A89B-5F9E1D20D0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95585-C2F8-4F97-8FD7-0B1729F357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4EC5B-CB06-4BEF-889A-2CB3E35976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A918A-0448-4C07-8E77-4C6F169DAA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B0E49-33AB-4B97-8B9B-8590BFCAA0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7262B-09F4-4373-8460-E0E598236D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6794D-3575-4CF3-99C1-6AEF53EE8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E786A-1E38-4BBF-B5A4-5A43623DD6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42C0F-0AD7-48F8-9CE7-42B0F4474E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06F6-B921-46E5-94FE-2FEAF271D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97848-B94A-451B-8490-F3EF66EA04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BDC90-6E5A-4ABF-8351-6FEDB7398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D343-A286-4B6D-9649-FBCE509FF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AB38-7410-4C59-8BDE-47354C4DE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6ABBE-AE49-489D-AED2-41F887C60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BE282-D08F-4E10-8799-1E847EEAC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9C19-F9CC-498F-A4FC-75B90D83B5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D62-65E8-472D-8C5D-28FD3577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B40-4B27-4681-AF93-60A95C9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B4B-74B9-4B9B-8B1F-58773152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C76-D80A-4502-8C1F-3FA66210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BA4-E755-48A3-9B8E-52C2794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7C4-5677-40CC-9C76-A589B443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67-48D3-45BC-A986-2E0F592E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452-3F73-400C-9AD6-CB492DEF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8720"/>
            <a:ext cx="906768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E46-C42A-4F9D-BA2F-2A712B06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5D-491C-4A01-886F-F5E1BF7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D07-6798-4BD6-8196-1308BA8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3D4-4EE6-497E-98C7-F7C41B0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F80B3C-9849-4214-AEB4-1D36478893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92000"/>
            <a:ext cx="8569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d0d0d"/>
                </a:solidFill>
                <a:latin typeface="Arial"/>
              </a:rPr>
              <a:t>Мастер-класс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Геометрия бумажного лист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4282560"/>
            <a:ext cx="96487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Autofit/>
          </a:bodyPr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 математики МБОУ «Джидинская РВОШ» Джидин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ннатовой Надежды Рафик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65880"/>
            <a:ext cx="9067680" cy="17312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иригами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допускается использование ножниц и разрезание бумаги в процессе изготовления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64274" r="63624" b="6339"/>
          <a:stretch/>
        </p:blipFill>
        <p:spPr>
          <a:xfrm>
            <a:off x="7896240" y="2028960"/>
            <a:ext cx="1908000" cy="185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rcRect l="35395" t="72097" r="32413" b="0"/>
          <a:stretch/>
        </p:blipFill>
        <p:spPr>
          <a:xfrm>
            <a:off x="5616720" y="1955880"/>
            <a:ext cx="1857240" cy="193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6647040" y="4273560"/>
            <a:ext cx="2500200" cy="243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4"/>
          <a:stretch/>
        </p:blipFill>
        <p:spPr>
          <a:xfrm>
            <a:off x="870120" y="1941480"/>
            <a:ext cx="3574800" cy="2479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3156120" y="4911840"/>
            <a:ext cx="2576520" cy="23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6"/>
          <a:stretch/>
        </p:blipFill>
        <p:spPr>
          <a:xfrm>
            <a:off x="198360" y="4938840"/>
            <a:ext cx="250056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00" y="-175320"/>
            <a:ext cx="9720000" cy="37778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усудама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 — бумажная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модель, которая обычно (но не всегда) формируется сшиванием вместе концов множества одинаковых пирамидальных модулей (обычно это стилизованные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цветы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сложенные из квадратного листа бумаги), так что получается тело шарообразной формы. Как вариант, отдельные компоненты могут быть склеены вместе. Иногда, как украшение, снизу прикрепляется кист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3920" y="4186080"/>
            <a:ext cx="2160360" cy="268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2668680" y="3571920"/>
            <a:ext cx="201600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7"/>
          <p:cNvSpPr/>
          <p:nvPr/>
        </p:nvSpPr>
        <p:spPr>
          <a:xfrm>
            <a:off x="5465880" y="3571920"/>
            <a:ext cx="411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усудамы-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многогран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8" descr=""/>
          <p:cNvPicPr/>
          <p:nvPr/>
        </p:nvPicPr>
        <p:blipFill>
          <a:blip r:embed="rId3"/>
          <a:stretch/>
        </p:blipFill>
        <p:spPr>
          <a:xfrm>
            <a:off x="8280360" y="4186080"/>
            <a:ext cx="1523880" cy="151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" descr=""/>
          <p:cNvPicPr/>
          <p:nvPr/>
        </p:nvPicPr>
        <p:blipFill>
          <a:blip r:embed="rId4"/>
          <a:stretch/>
        </p:blipFill>
        <p:spPr>
          <a:xfrm>
            <a:off x="5467320" y="4173480"/>
            <a:ext cx="15750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0" descr=""/>
          <p:cNvPicPr/>
          <p:nvPr/>
        </p:nvPicPr>
        <p:blipFill>
          <a:blip r:embed="rId5"/>
          <a:stretch/>
        </p:blipFill>
        <p:spPr>
          <a:xfrm>
            <a:off x="6912000" y="5940360"/>
            <a:ext cx="16002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41440" y="0"/>
            <a:ext cx="9359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Базовые фор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480" y="1042920"/>
            <a:ext cx="4500360" cy="521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30600" y="1065240"/>
            <a:ext cx="5400720" cy="5219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79280" y="6480000"/>
            <a:ext cx="9901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стые поделки оригами из бумаги для начинающих   делаются из базовой ф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6119640" cy="414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659640" y="2519280"/>
            <a:ext cx="324000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роб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9280" y="4859280"/>
            <a:ext cx="9539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 помощи конструирования по типу оригами можно изготовить множество игрушек, украшений, различные компози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52440" y="395280"/>
            <a:ext cx="918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юльп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44520" y="1424160"/>
            <a:ext cx="4319640" cy="50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943520" y="1417680"/>
            <a:ext cx="251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7058160" y="4140360"/>
            <a:ext cx="28796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5040360" y="360360"/>
            <a:ext cx="4859280" cy="684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431964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уравл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160" y="0"/>
            <a:ext cx="90709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аботы учащих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16000" y="882720"/>
            <a:ext cx="441792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3960720" y="3854520"/>
            <a:ext cx="5295960" cy="3671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3"/>
          <a:stretch/>
        </p:blipFill>
        <p:spPr>
          <a:xfrm>
            <a:off x="5707080" y="82872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F:\hello_html_637ae516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:\img14.jpg"/>
          <p:cNvPicPr/>
          <p:nvPr/>
        </p:nvPicPr>
        <p:blipFill>
          <a:blip r:embed="rId1"/>
          <a:stretch/>
        </p:blipFill>
        <p:spPr>
          <a:xfrm>
            <a:off x="0" y="0"/>
            <a:ext cx="10153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F:\img13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280" y="482400"/>
            <a:ext cx="950616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методикой использования оригами как средства пластического моделирования направленного на развитие творческой личност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и исследовательского потенциала учителей и учащимися средствами использования технологии конструирования из бумаги методом ори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опыта путём прямого и комментированного показа последовательности действий, методов, приёмов и форм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отработка методических методов и приёмов, поставленных в программе мастер-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профессионального мастерства всеми участниками мастер-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2484360"/>
            <a:ext cx="90676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39640" y="301680"/>
            <a:ext cx="90360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80099"/>
                </a:solidFill>
                <a:latin typeface="Monotype Corsiva"/>
              </a:rPr>
              <a:t>Геометрия и орига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679920" y="1152360"/>
            <a:ext cx="611964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Monotype Corsiva"/>
              </a:rPr>
              <a:t>«Попробуй простую фигурку слож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Monotype Corsiva"/>
              </a:rPr>
              <a:t>И вмиг увлечёт интересное дело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192720" y="3132000"/>
            <a:ext cx="3597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 algn="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dc2300"/>
                </a:solidFill>
                <a:latin typeface="Monotype Corsiva"/>
              </a:rPr>
              <a:t>   </a:t>
            </a:r>
            <a:r>
              <a:rPr b="1" lang="ru-RU" sz="2200" spc="-1" strike="noStrike">
                <a:solidFill>
                  <a:srgbClr val="dc2300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dc2300"/>
                </a:solidFill>
                <a:latin typeface="Monotype Corsiva"/>
              </a:rPr>
              <a:t>Японская мудр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6120" y="1093680"/>
            <a:ext cx="3016440" cy="283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03280" y="1152360"/>
            <a:ext cx="9069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99280" y="4065480"/>
            <a:ext cx="3384360" cy="270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2016000" y="4065480"/>
            <a:ext cx="365940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4857840" y="2697120"/>
            <a:ext cx="4573440" cy="441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74560" y="2711520"/>
            <a:ext cx="4140360" cy="4470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8920" y="179280"/>
            <a:ext cx="93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Геометрия</a:t>
            </a:r>
            <a:r>
              <a:rPr b="0" lang="ru-RU" sz="3200" spc="-1" strike="noStrike">
                <a:solidFill>
                  <a:srgbClr val="5e11a6"/>
                </a:solidFill>
                <a:latin typeface="Monotype Corsiva"/>
                <a:ea typeface="Times New Roman"/>
              </a:rPr>
              <a:t> является одним из самых сложных предметов в школе, так как мир школьной геометрии требует постоянного обращения к образам, но образная деятельность сложна, многогранна и трудно поддается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63440" y="3564000"/>
            <a:ext cx="304164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907320" y="4846680"/>
            <a:ext cx="2666880" cy="2500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3205080" y="644400"/>
            <a:ext cx="65944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Изучение превращений квадратного листа бумаги, возможно, - один из наиболее интересных путей создания образов плоских и объемных геометрических фигур и накопления практического опыта работы с ними, изучения серьезных вопросов  геометрии. И не тольк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55440" y="131760"/>
            <a:ext cx="2922840" cy="25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3670200" y="460836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60360" y="324000"/>
            <a:ext cx="928836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ригами </a:t>
            </a:r>
            <a:r>
              <a:rPr b="0" lang="ru-RU" sz="2800" spc="-1" strike="noStrike">
                <a:solidFill>
                  <a:srgbClr val="262626"/>
                </a:solidFill>
                <a:latin typeface="Monotype Corsiva"/>
              </a:rPr>
              <a:t>– древнее искусство складывания фигурок из бумаги. Оригами побуждает изучать геометрию вместе с арифметикой. В этом случае занятия оригами будут иметь смысл и цель: геометрические фигуры станут объектом исследования, а числа – его средством.  Соединение математики с оригами приводит к идее совместного изучения планиметрии и стереометрии.</a:t>
            </a:r>
            <a:r>
              <a:rPr b="0" lang="ru-RU" sz="2800" spc="-1" strike="noStrike">
                <a:solidFill>
                  <a:srgbClr val="262626"/>
                </a:solidFill>
                <a:latin typeface="Monotype Corsiva"/>
                <a:ea typeface="Times New Roman"/>
              </a:rPr>
              <a:t> Технология оригами требует точности в работе, аккуратности, учит планировать последовательность действий, целенаправленно идти к результату, развивает эстетический вкус и, вместе с тем, дает большие возможности для проявления фантазии ребенка. Оригами – это конструктор, в котором из одной только детали (квадратного листа бумаги) складываются сотни и тысячи разнообразных фиг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978440" y="5724360"/>
            <a:ext cx="439272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440000" y="365040"/>
            <a:ext cx="693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3366ff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зновидности оригами </a:t>
            </a:r>
            <a:endParaRPr b="1" lang="en-US" sz="1800" spc="1" strike="noStrike">
              <a:ln cap="sq" w="12600">
                <a:solidFill>
                  <a:srgbClr val="3366ff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31640" y="3635280"/>
            <a:ext cx="2291040" cy="5814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лассика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87280" y="1303200"/>
            <a:ext cx="2435400" cy="11912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остые ориг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346560" y="1308240"/>
            <a:ext cx="2124000" cy="1643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861160" y="1308240"/>
            <a:ext cx="174132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7993080" y="1305000"/>
            <a:ext cx="1962000" cy="164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595440" y="4673520"/>
            <a:ext cx="2735280" cy="21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>
            <a:off x="7343640" y="4673520"/>
            <a:ext cx="2611440" cy="214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6"/>
          <a:stretch/>
        </p:blipFill>
        <p:spPr>
          <a:xfrm>
            <a:off x="3887640" y="4673520"/>
            <a:ext cx="298944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3280" y="34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008000" y="3995640"/>
            <a:ext cx="2506680" cy="314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rcRect l="0" t="0" r="7504" b="0"/>
          <a:stretch/>
        </p:blipFill>
        <p:spPr>
          <a:xfrm>
            <a:off x="7161120" y="1562040"/>
            <a:ext cx="250344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9520" y="515880"/>
            <a:ext cx="9299520" cy="9126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одульное оригами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используются 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44600" y="1562040"/>
            <a:ext cx="1666800" cy="15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2519280" y="1560600"/>
            <a:ext cx="1701720" cy="1550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5"/>
          <a:stretch/>
        </p:blipFill>
        <p:spPr>
          <a:xfrm>
            <a:off x="4222800" y="3376440"/>
            <a:ext cx="248904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323640"/>
            <a:ext cx="90712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9520" y="515880"/>
            <a:ext cx="9299520" cy="9126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одульное оригами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используются 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F:\28b25c3088f6b9ea506021f5345d1f49.jpg"/>
          <p:cNvPicPr/>
          <p:nvPr/>
        </p:nvPicPr>
        <p:blipFill>
          <a:blip r:embed="rId1"/>
          <a:stretch/>
        </p:blipFill>
        <p:spPr>
          <a:xfrm>
            <a:off x="360360" y="1258920"/>
            <a:ext cx="9360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40:33Z</dcterms:created>
  <dc:creator>Людмила</dc:creator>
  <dc:description/>
  <dc:language>en-US</dc:language>
  <cp:lastModifiedBy>админ дырестуй</cp:lastModifiedBy>
  <dcterms:modified xsi:type="dcterms:W3CDTF">2019-05-04T07:49:27Z</dcterms:modified>
  <cp:revision>44</cp:revision>
  <dc:subject/>
  <dc:title>Слайд 1</dc:title>
</cp:coreProperties>
</file>