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5.jpeg" ContentType="image/jpeg"/>
  <Override PartName="/ppt/media/image32.png" ContentType="image/png"/>
  <Override PartName="/ppt/media/image36.png" ContentType="image/png"/>
  <Override PartName="/ppt/media/image34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20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A9C45-BB74-4E4E-9CE6-D5F7820A01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490F5-254A-46FB-9BAF-4ECEAF2D56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A1A8E-762E-4EFB-9786-EE62B363FF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983C3-0339-4958-8031-A863D34B6C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AE52B-52A1-4576-A811-907BA16D97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256C9-ABA1-496D-A1E7-7D68EE48D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F61A4-A07F-41DD-B240-7D55931552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4447B-7869-46BA-A02F-DD76F00963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34DD4-0DDC-486C-AB90-F4FE41ECD0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C0283-6909-4E3E-A256-6A9BB55638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90CD4-3282-4555-8D90-BCEEAE93E0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F3323-E3DF-47F6-9521-3FCACA536F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4F07A-6B07-49CC-B324-9ECBE05F27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632BA-0ED9-461D-B247-D2BABD4CA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510A2-93FB-4C38-B887-1EEA3725C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FA410-14CD-42E1-A679-42AF92FD6E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B9372-9257-46CF-ABAF-D292F08201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357-D15A-46BC-B6F7-39B9E441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6FF-3A5C-456A-8A6F-95C04019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3AC-9BCE-4EF9-A173-B83CFE8F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0B5-FAB8-4731-8614-41C7A1AB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410-34AE-4410-981E-BEABD812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40E-0EB2-4AF7-8C2F-C07BAC96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699-348D-44D4-96EE-173FC9DE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C65-87C0-4BDA-A993-0596026B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88720"/>
            <a:ext cx="9067680" cy="59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CD2-0D20-4C37-BA43-0B6C9917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368-8C2F-4E1D-A3F5-4EDF438B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B4A-9204-4351-BF08-A6A71951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AE7-0EB4-4A3C-9DFE-AAA370A7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88720"/>
            <a:ext cx="90676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marL="343080" indent="-3430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91D607-C9BE-4F7F-B46F-2DE3C7C432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92000"/>
            <a:ext cx="856944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d0d0d"/>
                </a:solidFill>
                <a:latin typeface="Arial"/>
              </a:rPr>
              <a:t>Мастер-класс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«Геометрия бумажного лист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7280" y="4282560"/>
            <a:ext cx="964872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Autofit/>
          </a:bodyPr>
          <a:p>
            <a:pPr indent="0" algn="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я математики МБОУ «Джидинская РВОШ» Джидин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иннатовой Надежды Рафико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65880"/>
            <a:ext cx="9067680" cy="173124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Киригами</a:t>
            </a:r>
            <a:r>
              <a:rPr b="1" lang="ru-RU" sz="2800" spc="-1" strike="noStrike">
                <a:solidFill>
                  <a:srgbClr val="cc33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вид оригами, в котором допускается использование ножниц и разрезание бумаги в процессе изготовления мо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0" t="64274" r="63624" b="6339"/>
          <a:stretch/>
        </p:blipFill>
        <p:spPr>
          <a:xfrm>
            <a:off x="7896240" y="2028960"/>
            <a:ext cx="1908000" cy="1854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rcRect l="35395" t="72097" r="32413" b="0"/>
          <a:stretch/>
        </p:blipFill>
        <p:spPr>
          <a:xfrm>
            <a:off x="5616720" y="1955880"/>
            <a:ext cx="1857240" cy="193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6647040" y="4273560"/>
            <a:ext cx="2500200" cy="243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"/>
          <p:cNvPicPr/>
          <p:nvPr/>
        </p:nvPicPr>
        <p:blipFill>
          <a:blip r:embed="rId4"/>
          <a:stretch/>
        </p:blipFill>
        <p:spPr>
          <a:xfrm>
            <a:off x="870120" y="1941480"/>
            <a:ext cx="3574800" cy="2479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5"/>
          <a:stretch/>
        </p:blipFill>
        <p:spPr>
          <a:xfrm>
            <a:off x="3156120" y="4911840"/>
            <a:ext cx="2576520" cy="2303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6"/>
          <a:stretch/>
        </p:blipFill>
        <p:spPr>
          <a:xfrm>
            <a:off x="198360" y="4938840"/>
            <a:ext cx="250056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6000" y="-175320"/>
            <a:ext cx="9720000" cy="377784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9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усудама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 — бумажная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модель, которая обычно (но не всегда) формируется сшиванием вместе концов множества одинаковых пирамидальных модулей (обычно это стилизованные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цветы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сложенные из квадратного листа бумаги), так что получается тело шарообразной формы. Как вариант, отдельные компоненты могут быть склеены вместе. Иногда, как украшение, снизу прикрепляется кисто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23920" y="4186080"/>
            <a:ext cx="2160360" cy="2686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2668680" y="3571920"/>
            <a:ext cx="201600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7"/>
          <p:cNvSpPr/>
          <p:nvPr/>
        </p:nvSpPr>
        <p:spPr>
          <a:xfrm>
            <a:off x="5465880" y="3571920"/>
            <a:ext cx="4111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Кусудамы-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многогран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8" descr=""/>
          <p:cNvPicPr/>
          <p:nvPr/>
        </p:nvPicPr>
        <p:blipFill>
          <a:blip r:embed="rId3"/>
          <a:stretch/>
        </p:blipFill>
        <p:spPr>
          <a:xfrm>
            <a:off x="8280360" y="4186080"/>
            <a:ext cx="1523880" cy="151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9" descr=""/>
          <p:cNvPicPr/>
          <p:nvPr/>
        </p:nvPicPr>
        <p:blipFill>
          <a:blip r:embed="rId4"/>
          <a:stretch/>
        </p:blipFill>
        <p:spPr>
          <a:xfrm>
            <a:off x="5467320" y="4173480"/>
            <a:ext cx="15750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0" descr=""/>
          <p:cNvPicPr/>
          <p:nvPr/>
        </p:nvPicPr>
        <p:blipFill>
          <a:blip r:embed="rId5"/>
          <a:stretch/>
        </p:blipFill>
        <p:spPr>
          <a:xfrm>
            <a:off x="6912000" y="5940360"/>
            <a:ext cx="16002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541440" y="0"/>
            <a:ext cx="9359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Arial"/>
              </a:rPr>
              <a:t>Базовые фор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0480" y="1042920"/>
            <a:ext cx="4500360" cy="521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30600" y="1065240"/>
            <a:ext cx="5400720" cy="5219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179280" y="6480000"/>
            <a:ext cx="99014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стые поделки оригами из бумаги для начинающих   делаются из базовой ф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360360" y="539640"/>
            <a:ext cx="6119640" cy="414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659640" y="2519280"/>
            <a:ext cx="3240000" cy="2879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робоч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79280" y="4859280"/>
            <a:ext cx="95392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 помощи конструирования по типу оригами можно изготовить множество игрушек, украшений, различные компози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352440" y="395280"/>
            <a:ext cx="9180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0" bIns="45000" anchor="t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Тюльпа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44520" y="1424160"/>
            <a:ext cx="4319640" cy="504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943520" y="1417680"/>
            <a:ext cx="2519280" cy="395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7058160" y="4140360"/>
            <a:ext cx="287964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5040360" y="360360"/>
            <a:ext cx="4859280" cy="684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431964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Журавл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9160" y="0"/>
            <a:ext cx="90709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Работы учащих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78000" y="5276880"/>
            <a:ext cx="8820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ctr">
            <a:noAutofit/>
          </a:bodyPr>
          <a:p>
            <a:pPr algn="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216000" y="882720"/>
            <a:ext cx="4417920" cy="3622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"/>
          <p:cNvPicPr/>
          <p:nvPr/>
        </p:nvPicPr>
        <p:blipFill>
          <a:blip r:embed="rId2"/>
          <a:stretch/>
        </p:blipFill>
        <p:spPr>
          <a:xfrm>
            <a:off x="3960720" y="3854520"/>
            <a:ext cx="5295960" cy="36716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3"/>
          <a:stretch/>
        </p:blipFill>
        <p:spPr>
          <a:xfrm>
            <a:off x="5707080" y="828720"/>
            <a:ext cx="403236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3" descr="F:\hello_html_637ae516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F:\img14.jpg"/>
          <p:cNvPicPr/>
          <p:nvPr/>
        </p:nvPicPr>
        <p:blipFill>
          <a:blip r:embed="rId1"/>
          <a:stretch/>
        </p:blipFill>
        <p:spPr>
          <a:xfrm>
            <a:off x="0" y="0"/>
            <a:ext cx="101538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2" descr="F:\img13.jpg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7280" y="482400"/>
            <a:ext cx="950616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методикой использования оригами как средства пластического моделирования направленного на развитие творческой личност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16200" bIns="0" anchor="t">
            <a:normAutofit/>
          </a:bodyPr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и исследовательского потенциала учителей и учащимися средствами использования технологии конструирования из бумаги методом ори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опыта путём прямого и комментированного показа последовательности действий, методов, приёмов и форм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отработка методических методов и приёмов, поставленных в программе мастер-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6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профессионального мастерства всеми участниками мастер-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5720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79280" y="3959280"/>
            <a:ext cx="9394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2484360"/>
            <a:ext cx="90676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39640" y="301680"/>
            <a:ext cx="90360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280099"/>
                </a:solidFill>
                <a:latin typeface="Monotype Corsiva"/>
              </a:rPr>
              <a:t>Геометрия и оригам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679920" y="1152360"/>
            <a:ext cx="611964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Monotype Corsiva"/>
              </a:rPr>
              <a:t>«Попробуй простую фигурку слож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dc2300"/>
                </a:solidFill>
                <a:latin typeface="Monotype Corsiva"/>
              </a:rPr>
              <a:t>И вмиг увлечёт интересное дело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dc23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192720" y="3132000"/>
            <a:ext cx="3597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 algn="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ru-RU" sz="2400" spc="-1" strike="noStrike">
                <a:solidFill>
                  <a:srgbClr val="dc2300"/>
                </a:solidFill>
                <a:latin typeface="Monotype Corsiva"/>
              </a:rPr>
              <a:t>   </a:t>
            </a:r>
            <a:r>
              <a:rPr b="1" lang="ru-RU" sz="2200" spc="-1" strike="noStrike">
                <a:solidFill>
                  <a:srgbClr val="dc2300"/>
                </a:solidFill>
                <a:latin typeface="Monotype Corsiva"/>
              </a:rPr>
              <a:t> </a:t>
            </a:r>
            <a:r>
              <a:rPr b="1" lang="ru-RU" sz="2200" spc="-1" strike="noStrike">
                <a:solidFill>
                  <a:srgbClr val="dc2300"/>
                </a:solidFill>
                <a:latin typeface="Monotype Corsiva"/>
              </a:rPr>
              <a:t>Японская мудр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76120" y="1093680"/>
            <a:ext cx="3016440" cy="2836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503280" y="1152360"/>
            <a:ext cx="9069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299280" y="4065480"/>
            <a:ext cx="3384360" cy="270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2016000" y="4065480"/>
            <a:ext cx="3659400" cy="27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4857840" y="2697120"/>
            <a:ext cx="4573440" cy="441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74560" y="2711520"/>
            <a:ext cx="4140360" cy="4470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ctr">
            <a:noAutofit/>
          </a:bodyPr>
          <a:p>
            <a:pPr algn="ct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58920" y="179280"/>
            <a:ext cx="93596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200" bIns="0" anchor="t">
            <a:noAutofit/>
          </a:bodyPr>
          <a:p>
            <a:pPr algn="just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Геометрия</a:t>
            </a:r>
            <a:r>
              <a:rPr b="0" lang="ru-RU" sz="3200" spc="-1" strike="noStrike">
                <a:solidFill>
                  <a:srgbClr val="5e11a6"/>
                </a:solidFill>
                <a:latin typeface="Monotype Corsiva"/>
                <a:ea typeface="Times New Roman"/>
              </a:rPr>
              <a:t> является одним из самых сложных предметов в школе, так как мир школьной геометрии требует постоянного обращения к образам, но образная деятельность сложна, многогранна и трудно поддается обучен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32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63440" y="3564000"/>
            <a:ext cx="3041640" cy="267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6907320" y="4846680"/>
            <a:ext cx="2666880" cy="2500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3205080" y="644400"/>
            <a:ext cx="659448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Изучение превращений квадратного листа бумаги, возможно, - один из наиболее интересных путей создания образов плоских и объемных геометрических фигур и накопления практического опыта работы с ними, изучения серьезных вопросов  геометрии. И не тольк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55440" y="131760"/>
            <a:ext cx="2922840" cy="25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3670200" y="4608360"/>
            <a:ext cx="2737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60360" y="324000"/>
            <a:ext cx="9288360" cy="55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Оригами </a:t>
            </a:r>
            <a:r>
              <a:rPr b="0" lang="ru-RU" sz="2800" spc="-1" strike="noStrike">
                <a:solidFill>
                  <a:srgbClr val="262626"/>
                </a:solidFill>
                <a:latin typeface="Monotype Corsiva"/>
              </a:rPr>
              <a:t>– древнее искусство складывания фигурок из бумаги. Оригами побуждает изучать геометрию вместе с арифметикой. В этом случае занятия оригами будут иметь смысл и цель: геометрические фигуры станут объектом исследования, а числа – его средством.  Соединение математики с оригами приводит к идее совместного изучения планиметрии и стереометрии.</a:t>
            </a:r>
            <a:r>
              <a:rPr b="0" lang="ru-RU" sz="2800" spc="-1" strike="noStrike">
                <a:solidFill>
                  <a:srgbClr val="262626"/>
                </a:solidFill>
                <a:latin typeface="Monotype Corsiva"/>
                <a:ea typeface="Times New Roman"/>
              </a:rPr>
              <a:t> Технология оригами требует точности в работе, аккуратности, учит планировать последовательность действий, целенаправленно идти к результату, развивает эстетический вкус и, вместе с тем, дает большие возможности для проявления фантазии ребенка. Оригами – это конструктор, в котором из одной только детали (квадратного листа бумаги) складываются сотни и тысячи разнообразных фигу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978440" y="5724360"/>
            <a:ext cx="4392720" cy="15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440000" y="365040"/>
            <a:ext cx="6932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3366ff"/>
                  </a:solidFill>
                  <a:miter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Разновидности оригами </a:t>
            </a:r>
            <a:endParaRPr b="1" lang="en-US" sz="1800" spc="1" strike="noStrike">
              <a:ln cap="sq" w="12600">
                <a:solidFill>
                  <a:srgbClr val="3366ff"/>
                </a:solidFill>
                <a:miter/>
              </a:ln>
              <a:solidFill>
                <a:srgbClr val="7030a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31640" y="3635280"/>
            <a:ext cx="2291040" cy="58140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лассика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87280" y="1303200"/>
            <a:ext cx="2435400" cy="119124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ростые ориг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3346560" y="1308240"/>
            <a:ext cx="2124000" cy="1643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861160" y="1308240"/>
            <a:ext cx="1741320" cy="16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7993080" y="1305000"/>
            <a:ext cx="1962000" cy="164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4"/>
          <a:stretch/>
        </p:blipFill>
        <p:spPr>
          <a:xfrm>
            <a:off x="595440" y="4673520"/>
            <a:ext cx="2735280" cy="21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5"/>
          <a:stretch/>
        </p:blipFill>
        <p:spPr>
          <a:xfrm>
            <a:off x="7343640" y="4673520"/>
            <a:ext cx="2611440" cy="2146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6"/>
          <a:stretch/>
        </p:blipFill>
        <p:spPr>
          <a:xfrm>
            <a:off x="3887640" y="4673520"/>
            <a:ext cx="298944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3280" y="341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278000" y="5276880"/>
            <a:ext cx="8820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ctr">
            <a:noAutofit/>
          </a:bodyPr>
          <a:p>
            <a:pPr algn="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1008000" y="3995640"/>
            <a:ext cx="2506680" cy="314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rcRect l="0" t="0" r="7504" b="0"/>
          <a:stretch/>
        </p:blipFill>
        <p:spPr>
          <a:xfrm>
            <a:off x="7161120" y="1562040"/>
            <a:ext cx="2503440" cy="3097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9520" y="515880"/>
            <a:ext cx="9299520" cy="91260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одульное оригами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вид оригами, в котором используются моду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444600" y="1562040"/>
            <a:ext cx="1666800" cy="1552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>
            <a:off x="2519280" y="1560600"/>
            <a:ext cx="1701720" cy="15508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5"/>
          <a:stretch/>
        </p:blipFill>
        <p:spPr>
          <a:xfrm>
            <a:off x="4222800" y="3376440"/>
            <a:ext cx="248904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323640"/>
            <a:ext cx="907128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32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278000" y="5276880"/>
            <a:ext cx="8820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ctr">
            <a:noAutofit/>
          </a:bodyPr>
          <a:p>
            <a:pPr algn="r">
              <a:lnSpc>
                <a:spcPct val="96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9520" y="515880"/>
            <a:ext cx="9299520" cy="912600"/>
          </a:xfrm>
          <a:prstGeom prst="rect">
            <a:avLst/>
          </a:prstGeom>
          <a:gradFill rotWithShape="0">
            <a:gsLst>
              <a:gs pos="0">
                <a:srgbClr val="ffcdb3"/>
              </a:gs>
              <a:gs pos="100000">
                <a:srgbClr val="ffece2"/>
              </a:gs>
            </a:gsLst>
            <a:lin ang="5400000"/>
          </a:gradFill>
          <a:ln cap="sq" w="11520">
            <a:solidFill>
              <a:srgbClr val="fa8d3d"/>
            </a:solidFill>
            <a:miter/>
          </a:ln>
          <a:effectLst>
            <a:outerShdw dist="76164" dir="1142066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одульное оригами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</a:rPr>
              <a:t>вид оригами, в котором используются моду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F:\28b25c3088f6b9ea506021f5345d1f49.jpg"/>
          <p:cNvPicPr/>
          <p:nvPr/>
        </p:nvPicPr>
        <p:blipFill>
          <a:blip r:embed="rId1"/>
          <a:stretch/>
        </p:blipFill>
        <p:spPr>
          <a:xfrm>
            <a:off x="360360" y="1258920"/>
            <a:ext cx="9360000" cy="59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6:40:33Z</dcterms:created>
  <dc:creator>Людмила</dc:creator>
  <dc:description/>
  <dc:language>en-US</dc:language>
  <cp:lastModifiedBy>админ дырестуй</cp:lastModifiedBy>
  <dcterms:modified xsi:type="dcterms:W3CDTF">2019-05-04T07:49:27Z</dcterms:modified>
  <cp:revision>44</cp:revision>
  <dc:subject/>
  <dc:title>Слайд 1</dc:title>
</cp:coreProperties>
</file>