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D234-AFE8-4751-AFAF-94ABCEEB96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B7C6-4BA7-4DFB-9F7B-4642E4DC53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5F96-6FFE-4CC7-91BB-1552E2E0B6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1F4F-DE6E-4108-90B4-8C023D17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333F-6EEE-49F7-9446-A9E74ED2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F347-8237-4E48-956E-80613298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DF75-936E-4727-BE15-CA25A044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643D-70EB-41ED-BD40-A9EA158F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3E86-B9EC-4E5D-B14B-0F58AE7A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E9C5-2EB7-48C9-83BA-D2B13565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5677-E84A-489A-8E8B-DF6E131E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B6A3-F861-44AE-BCC3-6BF29A28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985B-7072-4E8B-B4B2-DB5A986A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2B8E-3B49-4FA0-80DB-B1D24C53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9E50-3210-43DB-9AEC-A8CB9851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B59C-9AAF-43BD-B14E-8C4ECEF6B0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wmf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762948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менение игровых технологий на уроках литературного чтения. </a:t>
            </a:r>
            <a:br>
              <a:rPr sz="54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л: учитель начальных классов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льжинимаева Сэсэг Бадмадоржиевна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Кижингинская СОШ им. Х. Намсараев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900000" y="333360"/>
            <a:ext cx="72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гра «Шифров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III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ариан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480960" y="16509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 слова и узнаете цель нашего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4"/>
          <p:cNvSpPr/>
          <p:nvPr/>
        </p:nvSpPr>
        <p:spPr>
          <a:xfrm>
            <a:off x="755640" y="2417760"/>
            <a:ext cx="966960" cy="474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576600" y="2309760"/>
            <a:ext cx="630360" cy="668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4349880" y="2309760"/>
            <a:ext cx="811080" cy="615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998640" y="3289320"/>
            <a:ext cx="1079280" cy="426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4"/>
          <a:stretch/>
        </p:blipFill>
        <p:spPr>
          <a:xfrm>
            <a:off x="2276640" y="3129120"/>
            <a:ext cx="582480" cy="587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5"/>
          <a:stretch/>
        </p:blipFill>
        <p:spPr>
          <a:xfrm>
            <a:off x="2803680" y="2320920"/>
            <a:ext cx="585720" cy="592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6"/>
          <a:stretch/>
        </p:blipFill>
        <p:spPr>
          <a:xfrm>
            <a:off x="1755720" y="2320920"/>
            <a:ext cx="811440" cy="615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7"/>
          <a:stretch/>
        </p:blipFill>
        <p:spPr>
          <a:xfrm>
            <a:off x="4092480" y="3289320"/>
            <a:ext cx="987480" cy="493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8"/>
          <a:stretch/>
        </p:blipFill>
        <p:spPr>
          <a:xfrm>
            <a:off x="2992320" y="3289320"/>
            <a:ext cx="987480" cy="493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9"/>
          <a:stretch/>
        </p:blipFill>
        <p:spPr>
          <a:xfrm>
            <a:off x="5160960" y="3195720"/>
            <a:ext cx="811080" cy="615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"/>
          <p:cNvPicPr/>
          <p:nvPr/>
        </p:nvPicPr>
        <p:blipFill>
          <a:blip r:embed="rId10"/>
          <a:stretch/>
        </p:blipFill>
        <p:spPr>
          <a:xfrm>
            <a:off x="6156360" y="3219480"/>
            <a:ext cx="585720" cy="592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"/>
          <p:cNvPicPr/>
          <p:nvPr/>
        </p:nvPicPr>
        <p:blipFill>
          <a:blip r:embed="rId11"/>
          <a:stretch/>
        </p:blipFill>
        <p:spPr>
          <a:xfrm>
            <a:off x="6948360" y="3179880"/>
            <a:ext cx="628920" cy="669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"/>
          <p:cNvPicPr/>
          <p:nvPr/>
        </p:nvPicPr>
        <p:blipFill>
          <a:blip r:embed="rId12"/>
          <a:stretch/>
        </p:blipFill>
        <p:spPr>
          <a:xfrm>
            <a:off x="49320" y="4202280"/>
            <a:ext cx="9520200" cy="492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"/>
          <p:cNvPicPr/>
          <p:nvPr/>
        </p:nvPicPr>
        <p:blipFill>
          <a:blip r:embed="rId13"/>
          <a:stretch/>
        </p:blipFill>
        <p:spPr>
          <a:xfrm>
            <a:off x="2448000" y="4135320"/>
            <a:ext cx="349200" cy="365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"/>
          <p:cNvPicPr/>
          <p:nvPr/>
        </p:nvPicPr>
        <p:blipFill>
          <a:blip r:embed="rId14"/>
          <a:stretch/>
        </p:blipFill>
        <p:spPr>
          <a:xfrm>
            <a:off x="5716440" y="4145040"/>
            <a:ext cx="513000" cy="39996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982800" y="4941720"/>
            <a:ext cx="6594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зка, расска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8" descr=""/>
          <p:cNvPicPr/>
          <p:nvPr/>
        </p:nvPicPr>
        <p:blipFill>
          <a:blip r:embed="rId15"/>
          <a:stretch/>
        </p:blipFill>
        <p:spPr>
          <a:xfrm>
            <a:off x="5273640" y="2344680"/>
            <a:ext cx="58572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324000" y="260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гра     «Литературное  лот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39640" y="2317680"/>
          <a:ext cx="8136000" cy="1301760"/>
        </p:xfrm>
        <a:graphic>
          <a:graphicData uri="http://schemas.openxmlformats.org/drawingml/2006/table">
            <a:tbl>
              <a:tblPr/>
              <a:tblGrid>
                <a:gridCol w="2525760"/>
                <a:gridCol w="2805120"/>
                <a:gridCol w="2805120"/>
              </a:tblGrid>
              <a:tr h="65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 Бальмо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Box 3"/>
          <p:cNvSpPr/>
          <p:nvPr/>
        </p:nvSpPr>
        <p:spPr>
          <a:xfrm>
            <a:off x="5867280" y="2965320"/>
            <a:ext cx="280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Тютч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5867280" y="2255760"/>
            <a:ext cx="280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Бу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3059280" y="2255760"/>
            <a:ext cx="2808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Есе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539640" y="2924280"/>
            <a:ext cx="251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Пу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539640" y="2266920"/>
            <a:ext cx="251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Лермо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755640" y="10047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му из поэтов принадлежат следующие строчки?  Отметьте правильные отв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324000" y="0"/>
            <a:ext cx="88200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гровой приём «Характер геро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 с колесом.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Крив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 нашему брату колесу. Всю жизнь трясись по дорогам, а попробуй только перевести дух, такую получишь накач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, спуску не да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, не дают! Да еще того и гляди – под машину угодишь. Вот что глав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машину? Разве ты не под машиной работаеш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е чего придумаете! Я пятое колесо, запасно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179280" y="4429080"/>
            <a:ext cx="8964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 из списка эмоций те, которые испытывало колесо (не более четырех): </a:t>
            </a:r>
            <a:r>
              <a:rPr b="1" i="1" lang="ru-RU" sz="2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страх, усталость, боязнь, ужас, желание сочувствия, гордость, отчаяние, тревога, смущение, высокомерие, любов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основную черту характера можно обнаружить у колес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250920" y="11592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гровой приём «Фантазёр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1692360" y="1079640"/>
            <a:ext cx="6767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думай сказку по вопрос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это бы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гляде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да поше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о встрети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ему сказа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н ответи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ему сдела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была его реакц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вся история закончила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или мора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684360" y="260280"/>
            <a:ext cx="784836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гровой приём  «Собери стихотвор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авь строки в стихотворении в нужном поряд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сматой его бород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щит по замерзлой вод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ёт - по деревьям, шаг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яркое солнце игр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А. Некр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2"/>
          <p:cNvSpPr/>
          <p:nvPr/>
        </p:nvSpPr>
        <p:spPr>
          <a:xfrm>
            <a:off x="709560" y="476280"/>
            <a:ext cx="6624720" cy="7336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гадай кроссвор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324000" y="3429000"/>
            <a:ext cx="8496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й, который получил от нимф чудесный мешок и шлем невидимку. (Персе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чь эфиопского царя, которую спас Персей.(Андроме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 матери Персея (Дан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-громовержец. (Зев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иня  мудрости и справедливости, подарившая  Персею щит. (Аф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а- чудовище, голова которой обращала всех смотрящих на неё в камень. (Горго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ject 10" descr=""/>
          <p:cNvPicPr/>
          <p:nvPr/>
        </p:nvPicPr>
        <p:blipFill>
          <a:blip r:embed="rId1"/>
          <a:stretch/>
        </p:blipFill>
        <p:spPr>
          <a:xfrm>
            <a:off x="2143080" y="1071720"/>
            <a:ext cx="458172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73080" y="39600"/>
            <a:ext cx="8640720" cy="67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сстановите  пословиц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мила, в, земля, своя, горе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, стороне, и, чужой, не, весна, кра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оскажите   поговор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         Делу время, потехе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чен день до вечера, кол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оставьте палинд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из слов  составьте два палиндр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ОТУ ЧЕМОДАН ТАЩАТ НА УТОК ДО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ту тащат уток.  Чемодан на дом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356840"/>
            <a:ext cx="8104320" cy="364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Какая бывает роса на траве»</a:t>
            </a:r>
            <a:br>
              <a:rPr sz="20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мазы видны, траве в, полях на то, лес в пойдёшь летом утро солнечное в когда. Синим и, красным и, жёлтым и- цветами разными переливаются и блестят эти алмазы все. Солнце на блестят и травы листах треугольных в собрались росы капли это что, увидишь то, такое это что, разглядишь и ближе подойдёшь когда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Бархат как, пушист и мохнат внутри травы этой листок. Его мочат не и листку по катаются капли и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бля мимо проскользнёт как, увидишь не и светлый шарик как, скатится капелька то, росинкой с листок сорвёшь неосторожно когда. Кажется напитка всякого вкуснее эта росинка и, росинку выпьешь и рту ко поднесёшь потихоньку, чашечку такую сорвёшь, бывало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Н.Толстой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Calibri"/>
              </a:rPr>
              <a:t>Мышонок Пик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илаксуп по екер кораблики. Тарб вырезал хи ножиком зи хытслот кусков йовонсос коры. Акнёртсес прилаживала асурап из кечопярт. На йымас большой килбарок понадобилась яаннилд мачта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Биа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Calibri"/>
              </a:rPr>
              <a:t>«Лев и собач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ондоне _____  диких зверей и за ______ брали деньгами или собаками и кошками на _______ диким зверям.</a:t>
            </a:r>
            <a:br>
              <a:rPr sz="2700"/>
            </a:b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му _______ захотелось поглядеть ______: он ухватил на улице собачонку и принёс её в ________. Его _______ смотреть, а собачонку взяли и _____ в клетку ко льву на _______.</a:t>
            </a:r>
            <a:br>
              <a:rPr sz="2700"/>
            </a:b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ачонка поджала _______ и прижалась в угол ______. _____ подошёл к ней и ________ её. Собачонка легла на _______, подняла ________ и стала, махать ________.</a:t>
            </a:r>
            <a:br>
              <a:rPr sz="2700"/>
            </a:b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Н.Толсто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евала тучка зОлОтАя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руди УТЁСА-великана;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ом в путь она умчалась РАНО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лАзУрИ весело играя;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остался вЛаЖнЫй след в морщине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ого утеса. Одиноко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тОит, задумался гЛуБоКо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ихонько плачет он в пустын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Ю.Лермо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Calibri"/>
              </a:rPr>
              <a:t>«Акул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3840" y="1143000"/>
            <a:ext cx="8929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 корабль стоял на якоре                              но потом стал отстав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мальчик сначала перегнал товарища,                              два мальч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закатом солнца                                                        и побежал к пушк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рабле с нами было                                     жёлтое брюхо мёртвой акул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орвался с места                                                                 у берегов Афри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лнам колыхалось                                              капитан вышел на палуб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Н.Толст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иск в тексте заданных слов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13840" y="1143000"/>
            <a:ext cx="8929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не было двенадцать лет, и я учился в школе. Раз на перемене подходит ко мне товарищ мой Юхименко и говорит: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- Хочешь, я теб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безьянку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а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Я не поверил - думал, он мне сейчас штуку какую-нибудь устроит, так что искры из глаз посыплются, и скажет: вот это и есть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"обезьянк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". Не таковский я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- Ладно, - говорю, - знаем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- Нет, - говорит, - в самом деле. Живую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безьянку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 Она хорошая. Её Яшкой зовут. А папа сердится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- На кого?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- Да на нас с Яшкой. Убирай, говорит, куда знаешь. Я думаю, что к тебе всего лучш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900000" y="130320"/>
            <a:ext cx="712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гра «Шифровка»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 название  произве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556000" y="1628640"/>
          <a:ext cx="3995640" cy="3657600"/>
        </p:xfrm>
        <a:graphic>
          <a:graphicData uri="http://schemas.openxmlformats.org/drawingml/2006/table">
            <a:tbl>
              <a:tblPr/>
              <a:tblGrid>
                <a:gridCol w="798480"/>
                <a:gridCol w="799920"/>
                <a:gridCol w="798480"/>
                <a:gridCol w="800280"/>
                <a:gridCol w="798480"/>
              </a:tblGrid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2" name="TextBox 3"/>
          <p:cNvSpPr/>
          <p:nvPr/>
        </p:nvSpPr>
        <p:spPr>
          <a:xfrm>
            <a:off x="1547640" y="548784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1  А3  В3  Г2   Г4           А2  А3  В1  Б4  Г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476360" y="569448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ерая Шей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611280" y="549360"/>
            <a:ext cx="7489800" cy="45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гра «Шифров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II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ариан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овав запись, узнаете  автора  лирического произведения, с которым  познакомимся на уро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7, 21, 26, 12, 10, 15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684360" y="55087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ш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9T16:45:15Z</dcterms:created>
  <dc:creator>User</dc:creator>
  <dc:description/>
  <dc:language>en-US</dc:language>
  <cp:lastModifiedBy>1</cp:lastModifiedBy>
  <dcterms:modified xsi:type="dcterms:W3CDTF">2019-05-03T02:17:54Z</dcterms:modified>
  <cp:revision>53</cp:revision>
  <dc:subject/>
  <dc:title>Применение игровых технологий на уроках литературного чтения.</dc:title>
</cp:coreProperties>
</file>