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CD27-361D-4139-A429-AE85746759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476B-1F53-4EE8-95F7-52CC490E96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4CCF-7DE1-4E92-9F80-D8B389D94A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E39D-344B-4951-A3D9-60B51E4FD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9D83-53AF-41A4-938A-C6C3FB65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AFA4-875C-41B2-A5D0-A07C3B7F4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3DEE-4E78-48DD-B864-ADDAE2353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3842-D061-4E05-A549-4FD7D090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CC9A-3032-4F01-A4DE-187381A1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B36C-4297-4FE1-98A8-B42726D1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81F7-C8B0-4A2D-AA79-4AA4E831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4744-8116-4858-BC36-16301351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F678-97A8-40F8-93E4-A5380171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5924-CCA9-43C1-BC14-EC32EBA4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B18F-B6E8-451C-A238-6E009C72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F464-B0AE-4377-9E37-0A15065668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wmf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907560"/>
            <a:ext cx="7629480" cy="547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именение игровых технологий на уроках литературного чтения. </a:t>
            </a:r>
            <a:br>
              <a:rPr sz="54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л: учитель начальных классов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альжинимаева Сэсэг Бадмадоржиевна,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Кижингинская СОШ им. Х. Намсараев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2"/>
          <p:cNvSpPr/>
          <p:nvPr/>
        </p:nvSpPr>
        <p:spPr>
          <a:xfrm>
            <a:off x="900000" y="333360"/>
            <a:ext cx="720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гра «Шифров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III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ариан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480960" y="165096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фруйте  слова и узнаете цель нашего исслед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4"/>
          <p:cNvSpPr/>
          <p:nvPr/>
        </p:nvSpPr>
        <p:spPr>
          <a:xfrm>
            <a:off x="755640" y="2417760"/>
            <a:ext cx="966960" cy="474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3576600" y="2309760"/>
            <a:ext cx="630360" cy="668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2"/>
          <a:stretch/>
        </p:blipFill>
        <p:spPr>
          <a:xfrm>
            <a:off x="4349880" y="2309760"/>
            <a:ext cx="811080" cy="615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3"/>
          <a:stretch/>
        </p:blipFill>
        <p:spPr>
          <a:xfrm>
            <a:off x="998640" y="3289320"/>
            <a:ext cx="1079280" cy="426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4"/>
          <a:stretch/>
        </p:blipFill>
        <p:spPr>
          <a:xfrm>
            <a:off x="2276640" y="3129120"/>
            <a:ext cx="582480" cy="587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5"/>
          <a:stretch/>
        </p:blipFill>
        <p:spPr>
          <a:xfrm>
            <a:off x="2803680" y="2320920"/>
            <a:ext cx="585720" cy="592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"/>
          <p:cNvPicPr/>
          <p:nvPr/>
        </p:nvPicPr>
        <p:blipFill>
          <a:blip r:embed="rId6"/>
          <a:stretch/>
        </p:blipFill>
        <p:spPr>
          <a:xfrm>
            <a:off x="1755720" y="2320920"/>
            <a:ext cx="811440" cy="615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7"/>
          <a:stretch/>
        </p:blipFill>
        <p:spPr>
          <a:xfrm>
            <a:off x="4092480" y="3289320"/>
            <a:ext cx="987480" cy="493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"/>
          <p:cNvPicPr/>
          <p:nvPr/>
        </p:nvPicPr>
        <p:blipFill>
          <a:blip r:embed="rId8"/>
          <a:stretch/>
        </p:blipFill>
        <p:spPr>
          <a:xfrm>
            <a:off x="2992320" y="3289320"/>
            <a:ext cx="987480" cy="493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"/>
          <p:cNvPicPr/>
          <p:nvPr/>
        </p:nvPicPr>
        <p:blipFill>
          <a:blip r:embed="rId9"/>
          <a:stretch/>
        </p:blipFill>
        <p:spPr>
          <a:xfrm>
            <a:off x="5160960" y="3195720"/>
            <a:ext cx="811080" cy="615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3" descr=""/>
          <p:cNvPicPr/>
          <p:nvPr/>
        </p:nvPicPr>
        <p:blipFill>
          <a:blip r:embed="rId10"/>
          <a:stretch/>
        </p:blipFill>
        <p:spPr>
          <a:xfrm>
            <a:off x="6156360" y="3219480"/>
            <a:ext cx="585720" cy="592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4" descr=""/>
          <p:cNvPicPr/>
          <p:nvPr/>
        </p:nvPicPr>
        <p:blipFill>
          <a:blip r:embed="rId11"/>
          <a:stretch/>
        </p:blipFill>
        <p:spPr>
          <a:xfrm>
            <a:off x="6948360" y="3179880"/>
            <a:ext cx="628920" cy="669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5" descr=""/>
          <p:cNvPicPr/>
          <p:nvPr/>
        </p:nvPicPr>
        <p:blipFill>
          <a:blip r:embed="rId12"/>
          <a:stretch/>
        </p:blipFill>
        <p:spPr>
          <a:xfrm>
            <a:off x="49320" y="4202280"/>
            <a:ext cx="9520200" cy="492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6" descr=""/>
          <p:cNvPicPr/>
          <p:nvPr/>
        </p:nvPicPr>
        <p:blipFill>
          <a:blip r:embed="rId13"/>
          <a:stretch/>
        </p:blipFill>
        <p:spPr>
          <a:xfrm>
            <a:off x="2448000" y="4135320"/>
            <a:ext cx="349200" cy="365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7" descr=""/>
          <p:cNvPicPr/>
          <p:nvPr/>
        </p:nvPicPr>
        <p:blipFill>
          <a:blip r:embed="rId14"/>
          <a:stretch/>
        </p:blipFill>
        <p:spPr>
          <a:xfrm>
            <a:off x="5716440" y="4145040"/>
            <a:ext cx="513000" cy="399960"/>
          </a:xfrm>
          <a:prstGeom prst="rect">
            <a:avLst/>
          </a:prstGeom>
          <a:ln w="0">
            <a:noFill/>
          </a:ln>
        </p:spPr>
      </p:pic>
      <p:sp>
        <p:nvSpPr>
          <p:cNvPr id="83" name="TextBox 6"/>
          <p:cNvSpPr/>
          <p:nvPr/>
        </p:nvSpPr>
        <p:spPr>
          <a:xfrm>
            <a:off x="982800" y="4941720"/>
            <a:ext cx="6594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азка, рассказ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8" descr=""/>
          <p:cNvPicPr/>
          <p:nvPr/>
        </p:nvPicPr>
        <p:blipFill>
          <a:blip r:embed="rId15"/>
          <a:stretch/>
        </p:blipFill>
        <p:spPr>
          <a:xfrm>
            <a:off x="5273640" y="2344680"/>
            <a:ext cx="58572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324000" y="26028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гра     «Литературное  лот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39640" y="2317680"/>
          <a:ext cx="8136000" cy="1301760"/>
        </p:xfrm>
        <a:graphic>
          <a:graphicData uri="http://schemas.openxmlformats.org/drawingml/2006/table">
            <a:tbl>
              <a:tblPr/>
              <a:tblGrid>
                <a:gridCol w="2525760"/>
                <a:gridCol w="2805120"/>
                <a:gridCol w="2805120"/>
              </a:tblGrid>
              <a:tr h="650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. Бальмо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TextBox 3"/>
          <p:cNvSpPr/>
          <p:nvPr/>
        </p:nvSpPr>
        <p:spPr>
          <a:xfrm>
            <a:off x="5867280" y="2965320"/>
            <a:ext cx="2808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 Тютч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5867280" y="2255760"/>
            <a:ext cx="2808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 Бун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3059280" y="2255760"/>
            <a:ext cx="2808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Есен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539640" y="2924280"/>
            <a:ext cx="2519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Пушк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539640" y="2266920"/>
            <a:ext cx="2519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Лермо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1"/>
          <p:cNvSpPr/>
          <p:nvPr/>
        </p:nvSpPr>
        <p:spPr>
          <a:xfrm>
            <a:off x="755640" y="100476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ому из поэтов принадлежат следующие строчки?  Отметьте правильные отв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324000" y="0"/>
            <a:ext cx="882000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гровой приём «Характер геро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ор с колесом.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 Крив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 нашему брату колесу. Всю жизнь трясись по дорогам, а попробуй только перевести дух, такую получишь накач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, спуску не даю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, не дают! Да еще того и гляди – под машину угодишь. Вот что глав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машину? Разве ты не под машиной работаеш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ще чего придумаете! Я пятое колесо, запасное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179280" y="4429080"/>
            <a:ext cx="8964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 из списка эмоций те, которые испытывало колесо (не более четырех): </a:t>
            </a:r>
            <a:r>
              <a:rPr b="1" i="1" lang="ru-RU" sz="20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страх, усталость, боязнь, ужас, желание сочувствия, гордость, отчаяние, тревога, смущение, высокомерие, любов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основную черту характера можно обнаружить у колес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250920" y="11592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гровой приём «Фантазёр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1692360" y="1079640"/>
            <a:ext cx="6767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думай сказку по вопроса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это бы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гляде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да поше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о встрети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ему сказа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он ответи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ему сдела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а была его реакц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вся история закончила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 или мора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684360" y="260280"/>
            <a:ext cx="784836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гровой приём  «Собери стихотворе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авь строки в стихотворении в нужном поряд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сматой его бород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щит по замерзлой вод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ёт - по деревьям, шага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яркое солнце игр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А. Некр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2"/>
          <p:cNvSpPr/>
          <p:nvPr/>
        </p:nvSpPr>
        <p:spPr>
          <a:xfrm>
            <a:off x="709560" y="476280"/>
            <a:ext cx="6624720" cy="7336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згадай кроссворд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324000" y="3429000"/>
            <a:ext cx="84960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ой, который получил от нимф чудесный мешок и шлем невидимку. (Персей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чь эфиопского царя, которую спас Персей.(Андроме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я матери Персея (Дана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-громовержец. (Зев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иня  мудрости и справедливости, подарившая  Персею щит. (Аф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а- чудовище, голова которой обращала всех смотрящих на неё в камень. (Горго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Object 10" descr=""/>
          <p:cNvPicPr/>
          <p:nvPr/>
        </p:nvPicPr>
        <p:blipFill>
          <a:blip r:embed="rId1"/>
          <a:stretch/>
        </p:blipFill>
        <p:spPr>
          <a:xfrm>
            <a:off x="2143080" y="1071720"/>
            <a:ext cx="458172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73080" y="39600"/>
            <a:ext cx="8640720" cy="67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осстановите  пословиц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, мила, в, земля, своя, горе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, стороне, и, чужой, не, весна, крас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оскажите   поговор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          Делу время, потехе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чен день до вечера, кол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оставьте палинд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, из слов  составьте два палиндро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КОТУ ЧЕМОДАН ТАЩАТ НА УТОК ДО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ту тащат уток.  Чемодан на дом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1356840"/>
            <a:ext cx="8104320" cy="364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          </a:t>
            </a:r>
            <a:r>
              <a:rPr b="1" i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«Какая бывает роса на траве»</a:t>
            </a:r>
            <a:br>
              <a:rPr sz="20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мазы видны, траве в, полях на то, лес в пойдёшь летом утро солнечное в когда. Синим и, красным и, жёлтым и- цветами разными переливаются и блестят эти алмазы все. Солнце на блестят и травы листах треугольных в собрались росы капли это что, увидишь то, такое это что, разглядишь и ближе подойдёшь когда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Бархат как, пушист и мохнат внутри травы этой листок. Его мочат не и листку по катаются капли и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бля мимо проскользнёт как, увидишь не и светлый шарик как, скатится капелька то, росинкой с листок сорвёшь неосторожно когда. Кажется напитка всякого вкуснее эта росинка и, росинку выпьешь и рту ко поднесёшь потихоньку, чашечку такую сорвёшь, бывало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.Н.Толстой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99"/>
                </a:solidFill>
                <a:latin typeface="Calibri"/>
              </a:rPr>
              <a:t>Мышонок Пик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ята илаксуп по екер кораблики. Тарб вырезал хи ножиком зи хытслот кусков йовонсос коры. Акнёртсес прилаживала асурап из кечопярт. На йымас большой килбарок понадобилась яаннилд мачта.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Биан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99"/>
                </a:solidFill>
                <a:latin typeface="Calibri"/>
              </a:rPr>
              <a:t>«Лев и собачка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ондоне _____  диких зверей и за ______ брали деньгами или собаками и кошками на _______ диким зверям.</a:t>
            </a:r>
            <a:br>
              <a:rPr sz="2700"/>
            </a:b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му _______ захотелось поглядеть ______: он ухватил на улице собачонку и принёс её в ________. Его _______ смотреть, а собачонку взяли и _____ в клетку ко льву на _______.</a:t>
            </a:r>
            <a:br>
              <a:rPr sz="2700"/>
            </a:b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ачонка поджала _______ и прижалась в угол ______. _____ подошёл к ней и ________ её. Собачонка легла на _______, подняла ________ и стала, махать ________.</a:t>
            </a:r>
            <a:br>
              <a:rPr sz="2700"/>
            </a:b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.Н.Толсто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чевала тучка зОлОтАя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груди УТЁСА-великана;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ром в путь она умчалась РАНО,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лАзУрИ весело играя;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остался вЛаЖнЫй след в морщине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ого утеса. Одиноко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стОит, задумался гЛуБоКо,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ихонько плачет он в пустыне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Ю.Лермо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Calibri"/>
              </a:rPr>
              <a:t>«Акула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3840" y="1143000"/>
            <a:ext cx="8929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 корабль стоял на якоре                              но потом стал отстава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мальчик сначала перегнал товарища,                              два мальч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закатом солнца                                                        и побежал к пушка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рабле с нами было                                     жёлтое брюхо мёртвой акул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сорвался с места                                                                 у берегов Афри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олнам колыхалось                                              капитан вышел на палуб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.Н.Толст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иск в тексте заданных слов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13840" y="1143000"/>
            <a:ext cx="8929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Мне было двенадцать лет, и я учился в школе. Раз на перемене подходит ко мне товарищ мой Юхименко и говорит: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- Хочешь, я тебе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обезьянку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дам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Я не поверил - думал, он мне сейчас штуку какую-нибудь устроит, так что искры из глаз посыплются, и скажет: вот это и есть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"обезьянка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". Не таковский я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- Ладно, - говорю, - знаем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- Нет, - говорит, - в самом деле. Живую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обезьянку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. Она хорошая. Её Яшкой зовут. А папа сердится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- На кого?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- Да на нас с Яшкой. Убирай, говорит, куда знаешь. Я думаю, что к тебе всего лучш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900000" y="130320"/>
            <a:ext cx="712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гра «Шифровка»</a:t>
            </a: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фруйте  название  произвед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556000" y="1628640"/>
          <a:ext cx="3995640" cy="3657600"/>
        </p:xfrm>
        <a:graphic>
          <a:graphicData uri="http://schemas.openxmlformats.org/drawingml/2006/table">
            <a:tbl>
              <a:tblPr/>
              <a:tblGrid>
                <a:gridCol w="798480"/>
                <a:gridCol w="799920"/>
                <a:gridCol w="798480"/>
                <a:gridCol w="800280"/>
                <a:gridCol w="798480"/>
              </a:tblGrid>
              <a:tr h="73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3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2" name="TextBox 3"/>
          <p:cNvSpPr/>
          <p:nvPr/>
        </p:nvSpPr>
        <p:spPr>
          <a:xfrm>
            <a:off x="1547640" y="548784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1  А3  В3  Г2   Г4           А2  А3  В1  Б4  Г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1476360" y="5694480"/>
            <a:ext cx="62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ерая Шей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611280" y="549360"/>
            <a:ext cx="7489800" cy="45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гра «Шифров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II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вариан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фровав запись, узнаете  автора  лирического произведения, с которым  познакомимся на уро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17, 21, 26, 12, 10, 15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684360" y="550872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ушк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9T16:45:15Z</dcterms:created>
  <dc:creator>User</dc:creator>
  <dc:description/>
  <dc:language>en-US</dc:language>
  <cp:lastModifiedBy>1</cp:lastModifiedBy>
  <dcterms:modified xsi:type="dcterms:W3CDTF">2019-05-03T02:17:54Z</dcterms:modified>
  <cp:revision>53</cp:revision>
  <dc:subject/>
  <dc:title>Применение игровых технологий на уроках литературного чтения.</dc:title>
</cp:coreProperties>
</file>