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E5D-F1E8-474C-95DB-A0843567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6BB-688E-4C4D-A0B5-ECE3051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73D-6485-41C4-9564-7414E611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3DE-AB9D-4629-9D7C-C84C3E6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DB7-A77B-4FC5-80EF-78535DD8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65D-1CE7-4BE0-836C-8145423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C63-CBBE-480B-AB49-018B779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2AD-F5DF-473F-91ED-3F805889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5E7-5C0E-4FA1-AAD6-0F32AB3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AEE-84FC-4901-B342-3B738DA9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C45-C78C-4913-8F89-E4B059C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BF3-1670-4033-934C-7A56BE6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580-D5D4-43BE-BB0E-F71128C66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358400" cy="45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Segoe UI Symbol"/>
              </a:rPr>
              <a:t>Развивающая среда как средство развития математических представлений дошкольни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Segoe UI Symbol"/>
              </a:rPr>
              <a:t>в младшей и средней групп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1496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7640" y="115560"/>
            <a:ext cx="6985080" cy="65530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Концептуальная модель предметно-пространственной развивающей среды включает в себя три компонен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предметное 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его пространственную организац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 их изменения во врем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Современный детский сад — это место, где ребенок получает опыт широкого эмоционально-практического взаимодействия со взрослыми и сверстниками в наиболее значимых для его развития сферах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Непременным </a:t>
            </a:r>
            <a:r>
              <a:rPr b="0" i="1" lang="ru-RU" sz="1800" spc="-1" strike="noStrike">
                <a:solidFill>
                  <a:srgbClr val="632523"/>
                </a:solidFill>
                <a:latin typeface="Century Gothic"/>
              </a:rPr>
              <a:t>условием построения развивающей среды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в дошкольных учреждениях любого типа является реализация идей развивающего образования. Развивающее образование направлено на развитие личности ребенка и осуществляется через решение задач, основанных на преобразовании информации, что позволяет ребенку проявлять максимальную самостоятельность и активность; предполагает перспективу саморазвития ребенка на основе познавательно-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8000" y="1844280"/>
            <a:ext cx="8856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32523"/>
                </a:solidFill>
                <a:latin typeface="Century Gothic"/>
              </a:rPr>
              <a:t>Особенности организации среды для развития логико-математических представлений у детей </a:t>
            </a:r>
            <a:r>
              <a:rPr b="1" i="1" lang="ru-RU" sz="2000" spc="-1" strike="noStrike">
                <a:solidFill>
                  <a:srgbClr val="632523"/>
                </a:solidFill>
                <a:latin typeface="Century Gothic"/>
              </a:rPr>
              <a:t>младшей группы</a:t>
            </a:r>
            <a:r>
              <a:rPr b="1" lang="ru-RU" sz="2000" spc="-1" strike="noStrike">
                <a:solidFill>
                  <a:srgbClr val="632523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08000" y="2492280"/>
            <a:ext cx="90439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Данный период относится к этапу «сенсомоторных» эталонов. Дети выделяют некоторые свойства предметов (форма, размер, цвет) и обозначают их по названию хорошо известных им предметов (квадрат — «как окошко», треугольник — «как морковк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Дети только учатся различать свойства предметов, обозначать их словом. В этом возрасте </a:t>
            </a:r>
            <a:r>
              <a:rPr b="0" i="1" lang="ru-RU" sz="1800" spc="-1" strike="noStrike">
                <a:solidFill>
                  <a:srgbClr val="632523"/>
                </a:solidFill>
                <a:latin typeface="Century Gothic"/>
              </a:rPr>
              <a:t>преобладает практический тактильно-двигательный способ познания предметов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: дошкольники нуждаются в ощупывании предмета, прикасании к нему; они часто осуществляют действия манипулятивного характе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грая, ребенок уточняет представления о свойствах предметов — форме, величине,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7640" y="1341000"/>
            <a:ext cx="8939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Элементы игр должны быть прочными, подразумевать возможности обследования; представлять основные осваиваемые в данном возрасте эталоны (формы, цвета, разме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Рекомендуются игры типа парных картинок и лото (ботаническое, зоологическое, лото-транспорт, мебель, посуда). Эти игровые материалы вызывают интерес к пересч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В группах детей младшего дошкольного возраста основное внимание уделяется освоению приема непосредственного сравнения величин, предметов по количеству, свой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pset\Desktop\temp\129HS_.jpg"/>
          <p:cNvPicPr/>
          <p:nvPr/>
        </p:nvPicPr>
        <p:blipFill>
          <a:blip r:embed="rId1"/>
          <a:stretch/>
        </p:blipFill>
        <p:spPr>
          <a:xfrm>
            <a:off x="4340160" y="4913280"/>
            <a:ext cx="2567160" cy="382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Upset\Desktop\temp\eichhorn_2094_enl.jpg"/>
          <p:cNvPicPr/>
          <p:nvPr/>
        </p:nvPicPr>
        <p:blipFill>
          <a:blip r:embed="rId2"/>
          <a:stretch/>
        </p:blipFill>
        <p:spPr>
          <a:xfrm>
            <a:off x="2389320" y="4889520"/>
            <a:ext cx="1987560" cy="391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557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Особенности организации среды для развития логико-математических представлений у детей </a:t>
            </a:r>
            <a:r>
              <a:rPr b="1" lang="ru-RU" sz="2000" spc="-1" strike="noStrike">
                <a:solidFill>
                  <a:srgbClr val="632523"/>
                </a:solidFill>
                <a:latin typeface="Century Gothic"/>
              </a:rPr>
              <a:t>средней группы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08000" y="2849400"/>
            <a:ext cx="892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Развивающееся мышление ребенка, способность устанавливать простейшие связи и отношения между объектами пробуждают интерес к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спользуются материалы и пособия, которые позволяют организовать разнообразную практическую деятельность детей: пересчитать, соотнести, сгруппировать, упорядоч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С этой целью широко применяются различные наборы предметов (абстрактные: геометрические фигуры; «жизненные»: шишки, ракушки, игрушки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844280"/>
            <a:ext cx="9036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В процессе сравнения предметов дошкольники более дифференцированно различают проявления свойств, не только устанавливают их «полярность», но и сравнивают по степени прояв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Необходимы игры на сравнение предметов по различным свойствам (цвету, форме, размеру, материалу, функции); группировку по свойствам; воссоздание целого из часте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Освоение счета и измерения требует использования различных мер: полосок картона разной длины, тесемок, шнуров, стаканчиков, коробок и т. 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55800" y="4479840"/>
            <a:ext cx="30909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63240"/>
            <a:ext cx="80740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спользуется наглядность в виде моделей: частей суток (в начале года — линейная; в середине — круговая), простых планов пространства кукольной комна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Основным требованием является предметно-схематическая форма данных мод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pset\Desktop\temp\1267761536_4yk.jpg"/>
          <p:cNvPicPr/>
          <p:nvPr/>
        </p:nvPicPr>
        <p:blipFill>
          <a:blip r:embed="rId1"/>
          <a:stretch/>
        </p:blipFill>
        <p:spPr>
          <a:xfrm>
            <a:off x="2359080" y="3760920"/>
            <a:ext cx="4290840" cy="567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14:51:52Z</dcterms:created>
  <dc:creator>Олег</dc:creator>
  <dc:description/>
  <dc:language>en-US</dc:language>
  <cp:lastModifiedBy>Premium</cp:lastModifiedBy>
  <dcterms:modified xsi:type="dcterms:W3CDTF">2019-04-19T17:30:04Z</dcterms:modified>
  <cp:revision>20</cp:revision>
  <dc:subject/>
  <dc:title>Развивающая среда как средство развития математических представлений дошкольников в младшей и средней группах</dc:title>
</cp:coreProperties>
</file>