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4861-CA2E-4212-98DB-CE89CA44F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DA66-0715-46A7-9466-C9928D09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64E0-A5C3-4DEA-B8E6-6FFE2B90A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A47D-8762-48E1-A752-00F9E26E8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1E0A-FDFF-4356-B458-B7AFCD2BB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D103-1BF3-4CF1-801D-FDEE5760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FBBA-E5CD-45CE-9E66-CACF5844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483B8-8F5D-42D0-A2C3-B58CDFD7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90AC-7525-4291-8D54-8FE90526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622F-77A3-4533-BEAD-B4729C95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49C0-5572-4F12-9E30-692F75BB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B11A-21C2-4379-ADC4-C79FF00A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2AA9-DB9F-4191-8F68-B1D02B54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B937-C17E-4E54-B825-219502D4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F98D-9059-45F0-A058-0AD86436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AA93-AFF6-4D96-8DCE-26904689C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2D53-AF68-45F1-8E11-3EBA0264B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2A8F8-1690-400C-A2E1-A9DEF460D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2B35A-9A38-4D87-8837-FF5C2805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C9328-F18E-4A0D-979C-E60B8040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DE031-13C9-486B-BC2C-ACE13C95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7433C-0FA1-4978-AC5E-6F4C493B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A11B-1477-4DCD-AA84-726FFD20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F2855-8115-46E4-B5E8-A6F8E811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302F1-4722-46B0-9065-DD96272D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26DC4-1ED7-4B39-9A14-6DD512BA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B4862-2134-4062-92E0-D1F980A1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73C94-E2BB-4F1F-BCC3-2C6BC29A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0B8B7-A198-420F-B6DB-DCDBFDEEA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770FD-9063-45BF-896B-7342F43AD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180E3-E369-4CC7-A2DB-BCF864C87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5D3FE-ACDF-4EEC-8F89-A9B4A539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E2DDA-AFFB-485B-823D-28D8E277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715F-1C72-4FDB-9BA3-2119F9EE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ABA12-5D3A-485A-BBB3-DBD5FEEA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E1E01-BC79-4E4F-8228-691DCECC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E303B-E526-467A-B911-F0C892A2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9B434-D80B-44C9-AC28-D34F3AF3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6BD01-6EB2-48D1-99BA-B75F4CCC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F5376-2434-4B51-BA39-2866F8DE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23F0F-8FB8-49F5-809B-3BE96E87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834A4-A7A8-4F81-A4DD-71BBEEE9B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4D47A-77AC-4F6F-AF75-3D630C2F5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A4EAA-B39B-40FC-B964-0B22192A9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4600-B3CD-4AA3-93DD-1D3CF750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B9EE5-5B88-475B-8859-851A91C4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23E8C-3135-472A-A98B-65ABC036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99F93-E1B7-4F9E-8D29-55B234C9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66BD6-77CE-4EBF-98C3-1763088E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51633-734A-480F-B845-A3AE8A60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CC181-6FDF-44BF-B7B2-2756519C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CA95C-9025-477B-8892-5113AE2C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08BF9-3452-4F3C-9E36-AA99B837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E3E0D-D587-4700-A883-277CDB8D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98C3F-741B-4EEC-A7CB-933FA8097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EC4B-6842-4477-9ED1-B6B6C3F6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34B57-ED1C-4038-ACC9-2E2D4BA8D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7D561-DD21-46D4-BF3D-D03D8601F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E4CC8-20F0-431A-B2C3-568E367A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3D7E3-871F-48DD-BEBF-9E8C9E1E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3C6EF-22F5-4231-BCD0-A6AAE95C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91188-A37A-4F78-9C2F-30E8A89D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3E191-6B86-434B-893D-696FA971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CDD6A-90D1-4938-B73A-0C94712C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5C146-FD5F-444A-A603-F6F871F4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3F749-3B41-40A9-813A-F8322894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CCCA-942C-4F10-B25F-48582D9C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3377B-860B-43B9-8C66-BD440CE8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1F2A1-54D4-4D94-9A7C-C03C49697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F5AFA-C472-4458-8170-3E8977ECE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2675B-C073-4DCB-AE9B-6F2E81FD3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7146A-8335-484B-AE70-291235E8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3B716-36DC-491E-8A5A-D4DD4FE5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94178-70F4-47DA-B50C-E1FE8B85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060CF-E242-45AE-BB3F-AACD3CDB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B57E1-2809-4B97-8FCC-1F57609F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87538-03A2-4E34-8C38-16C69C17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79B8-5EC6-41BE-AEC5-ACEFE41E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7A1FD-7A1B-4DA9-BBFD-C93D072F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259F4-B061-47C7-BAE5-BC9500F0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C89FE-3E27-46B3-9CD2-D509782B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037A4-7F23-4DAC-9B87-271D8A79A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60388-8073-476B-A68D-78AB93620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F141-9314-4842-B532-2E7A7FBA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5FE9-A161-42AE-A66D-B57F5586E83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9651-9E6F-48FF-B426-FB67F747259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1ADA-4245-48DB-9110-EEA04F16461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A2E6-6BA9-4F2C-8AF7-49799CEB539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ED94-9399-4EDB-BF53-3B04E1C068D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FD88-34CB-473E-BF88-C93599A7FF8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AE31-D729-4C94-9128-1DD819CCCDF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57160" y="360360"/>
            <a:ext cx="7981920" cy="23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Тема урока:</a:t>
            </a:r>
            <a:br>
              <a:rPr sz="3900"/>
            </a:br>
            <a:br>
              <a:rPr sz="3900"/>
            </a:br>
            <a:r>
              <a:rPr b="1" lang="ru-RU" sz="3900" spc="-1" strike="noStrike">
                <a:solidFill>
                  <a:srgbClr val="572314"/>
                </a:solidFill>
                <a:latin typeface="Bookman Old Style"/>
              </a:rPr>
              <a:t>Условная функция в </a:t>
            </a:r>
            <a:br>
              <a:rPr sz="3900"/>
            </a:br>
            <a:r>
              <a:rPr b="1" lang="ru-RU" sz="3900" spc="-1" strike="noStrike">
                <a:solidFill>
                  <a:srgbClr val="572314"/>
                </a:solidFill>
                <a:latin typeface="Bookman Old Style"/>
              </a:rPr>
              <a:t>Microsoft Excel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2785680" y="3786120"/>
            <a:ext cx="5829480" cy="28576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МАОУ «Ликино-Дулевский лицей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Учитель информатики: Крюкова Н. Ю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Класс: 9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 </a:t>
            </a:r>
            <a:fld id="{C181679A-FA27-424C-A2B3-572E123A7740}" type="datetime">
              <a:rPr b="0" lang="ru-RU" sz="2600" spc="-1" strike="noStrike">
                <a:solidFill>
                  <a:srgbClr val="320e04"/>
                </a:solidFill>
                <a:latin typeface="Corbel"/>
              </a:rPr>
              <a:t>29.07.26</a:t>
            </a:fld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1" descr=""/>
          <p:cNvPicPr/>
          <p:nvPr/>
        </p:nvPicPr>
        <p:blipFill>
          <a:blip r:embed="rId1"/>
          <a:stretch/>
        </p:blipFill>
        <p:spPr>
          <a:xfrm>
            <a:off x="214200" y="4000680"/>
            <a:ext cx="2500560" cy="2500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791028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Условная функц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0" name="Picture 1" descr=""/>
          <p:cNvPicPr/>
          <p:nvPr/>
        </p:nvPicPr>
        <p:blipFill>
          <a:blip r:embed="rId1"/>
          <a:stretch/>
        </p:blipFill>
        <p:spPr>
          <a:xfrm>
            <a:off x="0" y="5925960"/>
            <a:ext cx="928800" cy="9320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0" y="999720"/>
            <a:ext cx="9144000" cy="4714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just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e04"/>
                </a:solidFill>
                <a:latin typeface="Corbel"/>
              </a:rPr>
              <a:t>Для проверки условий при выполнении расчётов в электронных таблицах реализована </a:t>
            </a:r>
            <a:r>
              <a:rPr b="1" lang="ru-RU" sz="2800" spc="-1" strike="noStrike">
                <a:solidFill>
                  <a:srgbClr val="320e04"/>
                </a:solidFill>
                <a:latin typeface="Corbel"/>
              </a:rPr>
              <a:t>условная функция</a:t>
            </a:r>
            <a:r>
              <a:rPr b="0" lang="ru-RU" sz="2800" spc="-1" strike="noStrike">
                <a:solidFill>
                  <a:srgbClr val="320e04"/>
                </a:solidFill>
                <a:latin typeface="Corbe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ЕСЛИ</a:t>
            </a: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320e04"/>
                </a:solidFill>
                <a:latin typeface="Corbel"/>
              </a:rPr>
              <a:t>(&lt;</a:t>
            </a:r>
            <a:r>
              <a:rPr b="0" i="1" lang="ru-RU" sz="2800" spc="-1" strike="noStrike">
                <a:solidFill>
                  <a:srgbClr val="0000ff"/>
                </a:solidFill>
                <a:latin typeface="Corbel"/>
              </a:rPr>
              <a:t>условие</a:t>
            </a:r>
            <a:r>
              <a:rPr b="0" lang="ru-RU" sz="2800" spc="-1" strike="noStrike">
                <a:solidFill>
                  <a:srgbClr val="320e04"/>
                </a:solidFill>
                <a:latin typeface="Corbel"/>
              </a:rPr>
              <a:t>&gt;; &lt;</a:t>
            </a:r>
            <a:r>
              <a:rPr b="0" i="1" lang="ru-RU" sz="2800" spc="-1" strike="noStrike">
                <a:solidFill>
                  <a:srgbClr val="0000ff"/>
                </a:solidFill>
                <a:latin typeface="Corbel"/>
              </a:rPr>
              <a:t>значение </a:t>
            </a:r>
            <a:r>
              <a:rPr b="0" lang="ru-RU" sz="2800" spc="-1" strike="noStrike">
                <a:solidFill>
                  <a:srgbClr val="0000ff"/>
                </a:solidFill>
                <a:latin typeface="Corbel"/>
              </a:rPr>
              <a:t>1</a:t>
            </a:r>
            <a:r>
              <a:rPr b="0" lang="ru-RU" sz="2800" spc="-1" strike="noStrike">
                <a:solidFill>
                  <a:srgbClr val="320e04"/>
                </a:solidFill>
                <a:latin typeface="Corbel"/>
              </a:rPr>
              <a:t>&gt;; &lt;</a:t>
            </a:r>
            <a:r>
              <a:rPr b="0" i="1" lang="ru-RU" sz="2800" spc="-1" strike="noStrike">
                <a:solidFill>
                  <a:srgbClr val="0000ff"/>
                </a:solidFill>
                <a:latin typeface="Corbel"/>
              </a:rPr>
              <a:t>значение </a:t>
            </a:r>
            <a:r>
              <a:rPr b="0" lang="ru-RU" sz="2800" spc="-1" strike="noStrike">
                <a:solidFill>
                  <a:srgbClr val="0000ff"/>
                </a:solidFill>
                <a:latin typeface="Corbel"/>
              </a:rPr>
              <a:t>2</a:t>
            </a:r>
            <a:r>
              <a:rPr b="0" lang="ru-RU" sz="2800" spc="-1" strike="noStrike">
                <a:solidFill>
                  <a:srgbClr val="320e04"/>
                </a:solidFill>
                <a:latin typeface="Corbel"/>
              </a:rPr>
              <a:t>&gt;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e04"/>
                </a:solidFill>
                <a:latin typeface="Corbel"/>
              </a:rPr>
              <a:t>Здесь &lt;</a:t>
            </a:r>
            <a:r>
              <a:rPr b="0" i="1" lang="ru-RU" sz="2800" spc="-1" strike="noStrike">
                <a:solidFill>
                  <a:srgbClr val="0000ff"/>
                </a:solidFill>
                <a:latin typeface="Corbel"/>
              </a:rPr>
              <a:t>условие</a:t>
            </a:r>
            <a:r>
              <a:rPr b="0" lang="ru-RU" sz="2800" spc="-1" strike="noStrike">
                <a:solidFill>
                  <a:srgbClr val="320e04"/>
                </a:solidFill>
                <a:latin typeface="Corbel"/>
              </a:rPr>
              <a:t>&gt; - логическое выражение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e04"/>
                </a:solidFill>
                <a:latin typeface="Corbel"/>
              </a:rPr>
              <a:t>&lt;</a:t>
            </a:r>
            <a:r>
              <a:rPr b="0" i="1" lang="ru-RU" sz="2800" spc="-1" strike="noStrike">
                <a:solidFill>
                  <a:srgbClr val="0000ff"/>
                </a:solidFill>
                <a:latin typeface="Corbel"/>
              </a:rPr>
              <a:t>значение </a:t>
            </a:r>
            <a:r>
              <a:rPr b="0" lang="ru-RU" sz="2800" spc="-1" strike="noStrike">
                <a:solidFill>
                  <a:srgbClr val="0000ff"/>
                </a:solidFill>
                <a:latin typeface="Corbel"/>
              </a:rPr>
              <a:t>1</a:t>
            </a:r>
            <a:r>
              <a:rPr b="0" lang="ru-RU" sz="2800" spc="-1" strike="noStrike">
                <a:solidFill>
                  <a:srgbClr val="320e04"/>
                </a:solidFill>
                <a:latin typeface="Corbel"/>
              </a:rPr>
              <a:t>&gt; - значение функции, если логическое выражение истинно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e04"/>
                </a:solidFill>
                <a:latin typeface="Corbel"/>
              </a:rPr>
              <a:t>&lt;</a:t>
            </a:r>
            <a:r>
              <a:rPr b="0" i="1" lang="ru-RU" sz="2800" spc="-1" strike="noStrike">
                <a:solidFill>
                  <a:srgbClr val="0000ff"/>
                </a:solidFill>
                <a:latin typeface="Corbel"/>
              </a:rPr>
              <a:t>значение </a:t>
            </a:r>
            <a:r>
              <a:rPr b="0" lang="ru-RU" sz="2800" spc="-1" strike="noStrike">
                <a:solidFill>
                  <a:srgbClr val="0000ff"/>
                </a:solidFill>
                <a:latin typeface="Corbel"/>
              </a:rPr>
              <a:t>2</a:t>
            </a:r>
            <a:r>
              <a:rPr b="0" lang="ru-RU" sz="2800" spc="-1" strike="noStrike">
                <a:solidFill>
                  <a:srgbClr val="320e04"/>
                </a:solidFill>
                <a:latin typeface="Corbel"/>
              </a:rPr>
              <a:t>&gt; - значение функции, если логическое выражение ложно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1" descr=""/>
          <p:cNvPicPr/>
          <p:nvPr/>
        </p:nvPicPr>
        <p:blipFill>
          <a:blip r:embed="rId1"/>
          <a:stretch/>
        </p:blipFill>
        <p:spPr>
          <a:xfrm>
            <a:off x="0" y="600084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C:\Users\Андрей\Desktop\ф3.png"/>
          <p:cNvPicPr/>
          <p:nvPr/>
        </p:nvPicPr>
        <p:blipFill>
          <a:blip r:embed="rId2"/>
          <a:stretch/>
        </p:blipFill>
        <p:spPr>
          <a:xfrm>
            <a:off x="1285920" y="155520"/>
            <a:ext cx="7715160" cy="6702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одсчет количества ячеек по критерию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00080" y="1447560"/>
            <a:ext cx="793440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=СЧЁТЕСЛИ(диапазон;критерий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мер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СЧЁТЕСЛИ(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3:E7;"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ачислен"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271c"/>
                </a:solidFill>
                <a:latin typeface="Calibri"/>
              </a:rPr>
              <a:t>Пример 2. Логические функц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468360" y="76500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м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заданного знач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числить значени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одной из формул: ес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нач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6" descr=""/>
          <p:cNvPicPr/>
          <p:nvPr/>
        </p:nvPicPr>
        <p:blipFill>
          <a:blip r:embed="rId1"/>
          <a:stretch/>
        </p:blipFill>
        <p:spPr>
          <a:xfrm>
            <a:off x="1403280" y="2685960"/>
            <a:ext cx="5689800" cy="3994200"/>
          </a:xfrm>
          <a:prstGeom prst="rect">
            <a:avLst/>
          </a:prstGeom>
          <a:ln w="38160">
            <a:solidFill>
              <a:srgbClr val="005ab4"/>
            </a:solidFill>
            <a:miter/>
          </a:ln>
        </p:spPr>
      </p:pic>
      <p:pic>
        <p:nvPicPr>
          <p:cNvPr id="349" name="Picture 7" descr=""/>
          <p:cNvPicPr/>
          <p:nvPr/>
        </p:nvPicPr>
        <p:blipFill>
          <a:blip r:embed="rId2"/>
          <a:stretch/>
        </p:blipFill>
        <p:spPr>
          <a:xfrm>
            <a:off x="1619280" y="3789360"/>
            <a:ext cx="5486400" cy="1152360"/>
          </a:xfrm>
          <a:prstGeom prst="rect">
            <a:avLst/>
          </a:prstGeom>
          <a:ln w="38160">
            <a:solidFill>
              <a:srgbClr val="005ab4"/>
            </a:solidFill>
            <a:miter/>
          </a:ln>
        </p:spPr>
      </p:pic>
      <p:sp>
        <p:nvSpPr>
          <p:cNvPr id="350" name="Rectangle 8"/>
          <p:cNvSpPr/>
          <p:nvPr/>
        </p:nvSpPr>
        <p:spPr>
          <a:xfrm>
            <a:off x="2806200" y="37893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x&gt;5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the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y:=x-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els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y:=x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8"/>
          <p:cNvSpPr/>
          <p:nvPr/>
        </p:nvSpPr>
        <p:spPr>
          <a:xfrm>
            <a:off x="755640" y="2276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ь решения на языке блок-схем (алгоритм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41"/>
          <p:cNvGrpSpPr/>
          <p:nvPr/>
        </p:nvGrpSpPr>
        <p:grpSpPr>
          <a:xfrm>
            <a:off x="2646360" y="3511440"/>
            <a:ext cx="3601800" cy="3168720"/>
            <a:chOff x="2646360" y="3511440"/>
            <a:chExt cx="3601800" cy="3168720"/>
          </a:xfrm>
        </p:grpSpPr>
        <p:grpSp>
          <p:nvGrpSpPr>
            <p:cNvPr id="353" name="Group 37"/>
            <p:cNvGrpSpPr/>
            <p:nvPr/>
          </p:nvGrpSpPr>
          <p:grpSpPr>
            <a:xfrm>
              <a:off x="2646360" y="3511440"/>
              <a:ext cx="3601800" cy="3168720"/>
              <a:chOff x="2646360" y="3511440"/>
              <a:chExt cx="3601800" cy="3168720"/>
            </a:xfrm>
          </p:grpSpPr>
          <p:sp>
            <p:nvSpPr>
              <p:cNvPr id="354" name="Line 13"/>
              <p:cNvSpPr/>
              <p:nvPr/>
            </p:nvSpPr>
            <p:spPr>
              <a:xfrm>
                <a:off x="4446720" y="3511440"/>
                <a:ext cx="0" cy="50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5" name="Group 24"/>
              <p:cNvGrpSpPr/>
              <p:nvPr/>
            </p:nvGrpSpPr>
            <p:grpSpPr>
              <a:xfrm>
                <a:off x="2646360" y="4087800"/>
                <a:ext cx="3601800" cy="2592360"/>
                <a:chOff x="2646360" y="4087800"/>
                <a:chExt cx="3601800" cy="2592360"/>
              </a:xfrm>
            </p:grpSpPr>
            <p:sp>
              <p:nvSpPr>
                <p:cNvPr id="356" name="Rectangle 25"/>
                <p:cNvSpPr/>
                <p:nvPr/>
              </p:nvSpPr>
              <p:spPr>
                <a:xfrm>
                  <a:off x="2646360" y="5240520"/>
                  <a:ext cx="1441440" cy="4330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=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-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AutoShape 26"/>
                <p:cNvSpPr/>
                <p:nvPr/>
              </p:nvSpPr>
              <p:spPr>
                <a:xfrm>
                  <a:off x="3654360" y="4087800"/>
                  <a:ext cx="1584360" cy="719280"/>
                </a:xfrm>
                <a:prstGeom prst="flowChartDecision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&gt;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Rectangle 27"/>
                <p:cNvSpPr/>
                <p:nvPr/>
              </p:nvSpPr>
              <p:spPr>
                <a:xfrm>
                  <a:off x="4806720" y="5240520"/>
                  <a:ext cx="1441440" cy="4330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=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+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Line 28"/>
                <p:cNvSpPr/>
                <p:nvPr/>
              </p:nvSpPr>
              <p:spPr>
                <a:xfrm>
                  <a:off x="3365280" y="4448160"/>
                  <a:ext cx="0" cy="792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Line 29"/>
                <p:cNvSpPr/>
                <p:nvPr/>
              </p:nvSpPr>
              <p:spPr>
                <a:xfrm>
                  <a:off x="5527440" y="4448160"/>
                  <a:ext cx="0" cy="792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Line 30"/>
                <p:cNvSpPr/>
                <p:nvPr/>
              </p:nvSpPr>
              <p:spPr>
                <a:xfrm>
                  <a:off x="3365280" y="5672160"/>
                  <a:ext cx="0" cy="504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Line 31"/>
                <p:cNvSpPr/>
                <p:nvPr/>
              </p:nvSpPr>
              <p:spPr>
                <a:xfrm>
                  <a:off x="5527440" y="5672160"/>
                  <a:ext cx="0" cy="504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Line 32"/>
                <p:cNvSpPr/>
                <p:nvPr/>
              </p:nvSpPr>
              <p:spPr>
                <a:xfrm>
                  <a:off x="4446360" y="6175440"/>
                  <a:ext cx="0" cy="504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Line 33"/>
                <p:cNvSpPr/>
                <p:nvPr/>
              </p:nvSpPr>
              <p:spPr>
                <a:xfrm>
                  <a:off x="5238720" y="444816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Line 34"/>
                <p:cNvSpPr/>
                <p:nvPr/>
              </p:nvSpPr>
              <p:spPr>
                <a:xfrm>
                  <a:off x="3367080" y="444816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35"/>
                <p:cNvSpPr/>
                <p:nvPr/>
              </p:nvSpPr>
              <p:spPr>
                <a:xfrm flipH="1">
                  <a:off x="3367080" y="6175440"/>
                  <a:ext cx="1079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Line 36"/>
                <p:cNvSpPr/>
                <p:nvPr/>
              </p:nvSpPr>
              <p:spPr>
                <a:xfrm flipH="1">
                  <a:off x="4446000" y="6175440"/>
                  <a:ext cx="1079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8" name="Text Box 39"/>
            <p:cNvSpPr/>
            <p:nvPr/>
          </p:nvSpPr>
          <p:spPr>
            <a:xfrm>
              <a:off x="3149640" y="401616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40"/>
            <p:cNvSpPr/>
            <p:nvPr/>
          </p:nvSpPr>
          <p:spPr>
            <a:xfrm>
              <a:off x="4950000" y="401616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Text Box 42"/>
          <p:cNvSpPr/>
          <p:nvPr/>
        </p:nvSpPr>
        <p:spPr>
          <a:xfrm>
            <a:off x="755640" y="2276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ь решения на языке программиро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3"/>
          <p:cNvSpPr/>
          <p:nvPr/>
        </p:nvSpPr>
        <p:spPr>
          <a:xfrm>
            <a:off x="857160" y="18572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ь решения в электронной таблиц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Домашняя работа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§ 5.2.3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Вопросы и задания после § 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№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5-17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7786800" y="5643720"/>
            <a:ext cx="1214280" cy="1214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71400" y="257148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Физкультминутк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1" descr=""/>
          <p:cNvPicPr/>
          <p:nvPr/>
        </p:nvPicPr>
        <p:blipFill>
          <a:blip r:embed="rId1"/>
          <a:stretch/>
        </p:blipFill>
        <p:spPr>
          <a:xfrm>
            <a:off x="7929720" y="5786280"/>
            <a:ext cx="1071360" cy="10717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Практическая работа № 1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Разработать таблицу, содержащую следующие сведения об абитуриентах: фамилия, оценки за экзамены по математике, физике и русскому языку, сумма балов за три экзамена и информацию о зачислении – если сумма больше или равна проходному баллу и оценка по математике – 4 или 5, то абитуриент зачислен в учебное заведение, в противном случае – нет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Составить сводную таблицу, в которой указать фамилию абитуриента и информацию  о зачислении и количестве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набранных на экзаменах баллов.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7934400" cy="65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u="sng">
                <a:solidFill>
                  <a:srgbClr val="572314"/>
                </a:solidFill>
                <a:uFillTx/>
                <a:latin typeface="Corbel"/>
              </a:rPr>
              <a:t>      </a:t>
            </a:r>
            <a:r>
              <a:rPr b="1" lang="ru-RU" sz="3900" spc="-1" strike="noStrike" u="sng">
                <a:solidFill>
                  <a:srgbClr val="572314"/>
                </a:solidFill>
                <a:uFillTx/>
                <a:latin typeface="Corbel"/>
              </a:rPr>
              <a:t>Практическая работа № 2 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Каждому пушному зверьку в возрасте от 1-го до 2-х месяцев полагается дополнительный стакан молока в день, если его вес меньше 3 кг. Выяснить сколько литров молока в месяц необходимо для зверофермы. Один стакан молока составляет 0,2 литра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572760" cy="7229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85920" y="499680"/>
            <a:ext cx="62150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b050"/>
                </a:solidFill>
                <a:latin typeface="Monotype Corsiva"/>
              </a:rPr>
              <a:t>Спасибо за внимание!</a:t>
            </a:r>
            <a:endParaRPr b="0" lang="en-US" sz="80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1. Какую встроенную функцию необходимо внести в ячейку, чтобы найти среднее значение в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диапазоне ячеек с В3 по В21?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2560" y="2428560"/>
            <a:ext cx="850428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1)=СРЕДНЕЕ(B3:B21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2) =СРЗНАЧЕНИЕ(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B3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B21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3) =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СРЗНАЧ(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B3:B21) 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4) =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СРЗНАЧ(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B1:B21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93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2. Для чего используется функция СУММ</a:t>
            </a:r>
            <a:r>
              <a:rPr b="0" lang="ru-RU" sz="3900" spc="-1" strike="noStrike">
                <a:solidFill>
                  <a:srgbClr val="000000"/>
                </a:solidFill>
                <a:latin typeface="Bookman Old Style"/>
              </a:rPr>
              <a:t>?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09520" y="1856880"/>
            <a:ext cx="8934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1) для получения суммы квадратов указанных чисе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2) для получения суммы указанных чисе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3) для получения разности сумм чисе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4) для получения квадрата указанных чисе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920" y="0"/>
            <a:ext cx="91440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3. Какой вид примет содержащая абсолютную и относительную ссылку формула, записанная в ячейке C1, после ее копирования в ячейку C2?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285480" y="3000240"/>
            <a:ext cx="8443800" cy="37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1)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=$A$1*B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2)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=$A$1*B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3)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=$A$2*B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4)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=$A$2*B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Picture 2" descr="C:\Users\Андрей\Desktop\p16_risunok2.jpg"/>
          <p:cNvPicPr/>
          <p:nvPr/>
        </p:nvPicPr>
        <p:blipFill>
          <a:blip r:embed="rId1"/>
          <a:stretch/>
        </p:blipFill>
        <p:spPr>
          <a:xfrm>
            <a:off x="3071880" y="3357720"/>
            <a:ext cx="5844960" cy="12855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Users\Андрей\Desktop\p16_risunok2.jpg"/>
          <p:cNvPicPr/>
          <p:nvPr/>
        </p:nvPicPr>
        <p:blipFill>
          <a:blip r:embed="rId2"/>
          <a:stretch/>
        </p:blipFill>
        <p:spPr>
          <a:xfrm>
            <a:off x="3071880" y="3357720"/>
            <a:ext cx="5844960" cy="1285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09520" y="142560"/>
            <a:ext cx="893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4. Укажите неправильную формулу: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О45*В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К15*В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12А-В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123+О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5. В ячейку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E4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введена формула =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C2*D2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. Содержимое ячейки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E4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копировали в ячейку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F7.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Какая формула будет записана в ячейке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7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?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914400" y="2428560"/>
            <a:ext cx="82296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=D5*E5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=D7*E7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=C5*E5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=C7*E7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твет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" descr=""/>
          <p:cNvPicPr/>
          <p:nvPr/>
        </p:nvPicPr>
        <p:blipFill>
          <a:blip r:embed="rId1"/>
          <a:stretch/>
        </p:blipFill>
        <p:spPr>
          <a:xfrm>
            <a:off x="0" y="585792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336" name="Таблица 3" descr=""/>
          <p:cNvPicPr/>
          <p:nvPr/>
        </p:nvPicPr>
        <p:blipFill>
          <a:blip r:embed="rId2"/>
          <a:stretch/>
        </p:blipFill>
        <p:spPr>
          <a:xfrm>
            <a:off x="1427040" y="353880"/>
            <a:ext cx="7216920" cy="6564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1143000" y="0"/>
            <a:ext cx="6286680" cy="48578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3"/>
          <p:cNvSpPr/>
          <p:nvPr/>
        </p:nvSpPr>
        <p:spPr>
          <a:xfrm>
            <a:off x="1143000" y="4166280"/>
            <a:ext cx="728676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87160" tIns="342720" bIns="45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If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3&gt;=160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the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riteln (‘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ачисле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’)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els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riteln (‘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ачисле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’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1T07:19:20Z</dcterms:created>
  <dc:creator>Sunrise</dc:creator>
  <dc:description/>
  <dc:language>en-US</dc:language>
  <cp:lastModifiedBy>Андрей</cp:lastModifiedBy>
  <dcterms:modified xsi:type="dcterms:W3CDTF">2015-03-15T21:45:49Z</dcterms:modified>
  <cp:revision>96</cp:revision>
  <dc:subject/>
  <dc:title>Цель:</dc:title>
</cp:coreProperties>
</file>