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F8D-71D4-4D56-8D39-2146B6A7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756-FB92-4873-A4EC-1B411C07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0C7-5232-4B63-BC38-2D828416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DA2-F95D-467A-8A75-92DCCDD6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6672-C4E0-41C3-BDE2-F533A374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2FB7-27CD-4CA6-B03E-3263EA96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1C8C-7292-41EF-9F2E-456F6E6C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81F5-7525-4A5D-B871-5631494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5C81-8A61-42DA-926A-D59633B9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FF79-C4F0-42A6-B3F3-67F881F6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C884-F198-4E45-917D-E72521F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CE2-FB95-43D3-AD46-DC01E294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FA9B-2B92-4EEC-8CD4-745D986F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B55C-4943-489F-8C4C-407EB3E9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E143-2AB1-4225-87B1-6E9A1F0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5127-D267-4A83-BD8F-3BC4361E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452F-B410-465D-8164-1F3CFB3C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A262-5930-45AE-B917-7895B0AA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41B54-AC22-44DE-9F62-AB56F349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1E94-AA4C-410D-AA93-FAA07013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82C3-9789-4FEF-A80F-4543161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9E70-F719-420A-B832-C3B24A54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083-0CB3-4597-A441-6E247051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461E-B7A2-458A-BA24-4892E293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DC01-4FEC-4F90-91D1-7E5D7D85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6585-C476-49FB-B4DC-7649E67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C2F35-11DF-4DF9-879A-4801C68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C8CA-3B10-4961-8277-D8DE5B7C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FFD1-1E4E-4B51-9D7A-A9BD3290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0E9C-9AA2-48E9-AD4B-C7311409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09E27-795B-49C2-941B-A154DC4D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FB953-192F-4101-A475-4E29D2F6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B94B2-4652-47BE-B1C8-91197CA8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F93-FED4-4928-AD74-5D9CCEC6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8519C-2ED2-49BE-AF9F-5E92C4A7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6369-52C8-4C07-A3D5-A5B0B687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388F6-406F-43D4-9073-F2AE28F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776B3-0E53-409C-B9B5-86A2B6C9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74F0-973B-4FF8-BD82-E5B7A759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FBA7-12AC-44C6-998A-9E48EFCB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8F40-B6CA-4066-9709-19237B9D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75B7-E75F-4DFD-ADDE-23093A38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23F3E-A5BE-4154-8AAA-8CFFF498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13698-92E5-4B30-A032-ACC5AF93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CA1-4781-434A-A723-2EAB33BF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833E3-3DC3-4881-935B-36653C73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A8DF4-27B2-4521-B5AC-AEA460EA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7751F-22A2-4C82-9686-A2D30D8F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3B84-AAEE-4110-8CE8-33641BFE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14955-24AD-4609-B974-122A3546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3FC8-CB76-45B0-A8EB-1B2F1829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B8AA-372C-4753-A665-B7D2A2C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E8A3-477E-4416-B80A-20CBD23F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DF2C4-9545-47F5-A49A-7224E0D1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6E7BD-9E17-4894-A0FC-46B9125A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179-6441-42D3-93A3-E8B71169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91ED5-CD64-4836-B31A-97A96CB8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F572-69A3-4A92-9009-3FA0B92C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D6A26-920F-455C-AB10-CE3EF36D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6745-CEDD-47A8-9F11-5C7392A6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3DF71-7E69-4345-8F91-9A6EE3B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5E1B4-4061-41B5-8DEA-57A12B26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2624-9F4D-47A4-844F-54A37B4D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F956E-B27C-4696-BD08-B0FC46E0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6C1F2-8543-4114-BE95-7DAED0F4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37F2E-DA5C-4F29-8047-D0D4DAA4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613-C195-4FA3-BD0D-3889740A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BFC1A-93E9-44BC-95EC-97767205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8CF9-0E16-425E-A8E4-9228816B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43F79-4603-4E33-9C39-116503AB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5C10B-A5CD-4D18-84A5-39BCA000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7E35-6778-4734-8985-D6786A2F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3EF57-D0FE-4158-9940-218F7EAC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94411-E9A8-426F-9555-2E8606CB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954CF-90FC-47FD-8926-40C456F1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04D8-98CF-42D9-A537-55E16A9D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A69D6-CAF6-4A67-80DC-0697AB99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A79-947E-4207-BDF5-284DF98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12D89-ABBA-4E1F-98FC-5DFCC450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6D09-DB92-44F6-86AE-AB4AD100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8197C-124D-435F-9903-C17BA148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1124C-D145-4DA6-9553-AEF2A49C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807A-7990-4F37-A350-0196634A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BBB-A3AD-49E2-8C9A-6667C7AA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CC10-AD42-4EE5-9BF9-96B220BB89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B473-8423-46F9-A318-E0DCC22F1C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8E1-5622-45F9-8428-E9B2B7871B4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DCC9-5F6B-43DC-BE85-4B158B3F1B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24F2-26BD-49B0-B2C2-112E1652D8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1051-9398-469A-AFA3-76B0D06315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6604-DFA3-4F58-9AFB-26839D723B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7160" y="360360"/>
            <a:ext cx="798192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ема урока: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Bookman Old Style"/>
              </a:rPr>
              <a:t>Условная функция в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Bookman Old Style"/>
              </a:rPr>
              <a:t>Microsoft Excel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785680" y="3786120"/>
            <a:ext cx="5829480" cy="285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ОУ «Ликино-Дулевский лицей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Учитель информатики: Крюкова Н. Ю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ласс: 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fld id="{76CBB55A-BFA4-4812-9310-5A161F5E2B38}" type="datetime">
              <a:rPr b="0" lang="ru-RU" sz="2600" spc="-1" strike="noStrike">
                <a:solidFill>
                  <a:srgbClr val="320e04"/>
                </a:solidFill>
                <a:latin typeface="Corbel"/>
              </a:rPr>
              <a:t>28.07.26</a:t>
            </a:fld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214200" y="4000680"/>
            <a:ext cx="250056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9102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Условная фун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0" y="5925960"/>
            <a:ext cx="928800" cy="9320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0" y="9997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just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Для проверки условий при выполнении расчётов в электронных таблицах реализована </a:t>
            </a: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условная функция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ЕСЛИ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(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условие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; 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значение 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1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; 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значение 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2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Здесь 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условие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 - логическое выражение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значение 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1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 - значение функции, если логическое выражение истинно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lt;</a:t>
            </a:r>
            <a:r>
              <a:rPr b="0" i="1" lang="ru-RU" sz="2800" spc="-1" strike="noStrike">
                <a:solidFill>
                  <a:srgbClr val="0000ff"/>
                </a:solidFill>
                <a:latin typeface="Corbel"/>
              </a:rPr>
              <a:t>значение </a:t>
            </a:r>
            <a:r>
              <a:rPr b="0" lang="ru-RU" sz="2800" spc="-1" strike="noStrike">
                <a:solidFill>
                  <a:srgbClr val="0000ff"/>
                </a:solidFill>
                <a:latin typeface="Corbel"/>
              </a:rPr>
              <a:t>2</a:t>
            </a: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&gt; - значение функции, если логическое выражение ложн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" descr=""/>
          <p:cNvPicPr/>
          <p:nvPr/>
        </p:nvPicPr>
        <p:blipFill>
          <a:blip r:embed="rId1"/>
          <a:stretch/>
        </p:blipFill>
        <p:spPr>
          <a:xfrm>
            <a:off x="0" y="6000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C:\Users\Андрей\Desktop\ф3.png"/>
          <p:cNvPicPr/>
          <p:nvPr/>
        </p:nvPicPr>
        <p:blipFill>
          <a:blip r:embed="rId2"/>
          <a:stretch/>
        </p:blipFill>
        <p:spPr>
          <a:xfrm>
            <a:off x="1285920" y="155520"/>
            <a:ext cx="7715160" cy="670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дсчет количества ячеек по критери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00080" y="1447560"/>
            <a:ext cx="79344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=СЧЁТЕСЛИ(диапазон;критерий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СЧЁТЕСЛИ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3:E7;"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числен"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Заголовок 2"/>
          <p:cNvSpPr/>
          <p:nvPr/>
        </p:nvSpPr>
        <p:spPr>
          <a:xfrm>
            <a:off x="539640" y="189000"/>
            <a:ext cx="8147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Calibri"/>
              </a:rPr>
              <a:t>Пример 2. Логические функ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68360" y="765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данного знач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ть значе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одной из формул: ес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нач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1"/>
          <a:stretch/>
        </p:blipFill>
        <p:spPr>
          <a:xfrm>
            <a:off x="1403280" y="2685960"/>
            <a:ext cx="5689800" cy="3994200"/>
          </a:xfrm>
          <a:prstGeom prst="rect">
            <a:avLst/>
          </a:prstGeom>
          <a:ln w="38160">
            <a:solidFill>
              <a:srgbClr val="005ab4"/>
            </a:solidFill>
            <a:miter/>
          </a:ln>
        </p:spPr>
      </p:pic>
      <p:pic>
        <p:nvPicPr>
          <p:cNvPr id="349" name="Picture 7" descr=""/>
          <p:cNvPicPr/>
          <p:nvPr/>
        </p:nvPicPr>
        <p:blipFill>
          <a:blip r:embed="rId2"/>
          <a:stretch/>
        </p:blipFill>
        <p:spPr>
          <a:xfrm>
            <a:off x="1619280" y="3789360"/>
            <a:ext cx="5486400" cy="1152360"/>
          </a:xfrm>
          <a:prstGeom prst="rect">
            <a:avLst/>
          </a:prstGeom>
          <a:ln w="38160">
            <a:solidFill>
              <a:srgbClr val="005ab4"/>
            </a:solidFill>
            <a:miter/>
          </a:ln>
        </p:spPr>
      </p:pic>
      <p:sp>
        <p:nvSpPr>
          <p:cNvPr id="350" name="Rectangle 8"/>
          <p:cNvSpPr/>
          <p:nvPr/>
        </p:nvSpPr>
        <p:spPr>
          <a:xfrm>
            <a:off x="2806200" y="37893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x&gt;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y:=x-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y:=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755640" y="2276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решения на языке блок-схем (алгоритм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1"/>
          <p:cNvGrpSpPr/>
          <p:nvPr/>
        </p:nvGrpSpPr>
        <p:grpSpPr>
          <a:xfrm>
            <a:off x="2646360" y="3511440"/>
            <a:ext cx="3601800" cy="3168720"/>
            <a:chOff x="2646360" y="3511440"/>
            <a:chExt cx="3601800" cy="3168720"/>
          </a:xfrm>
        </p:grpSpPr>
        <p:grpSp>
          <p:nvGrpSpPr>
            <p:cNvPr id="353" name="Group 37"/>
            <p:cNvGrpSpPr/>
            <p:nvPr/>
          </p:nvGrpSpPr>
          <p:grpSpPr>
            <a:xfrm>
              <a:off x="2646360" y="3511440"/>
              <a:ext cx="3601800" cy="3168720"/>
              <a:chOff x="2646360" y="3511440"/>
              <a:chExt cx="3601800" cy="3168720"/>
            </a:xfrm>
          </p:grpSpPr>
          <p:sp>
            <p:nvSpPr>
              <p:cNvPr id="354" name="Line 13"/>
              <p:cNvSpPr/>
              <p:nvPr/>
            </p:nvSpPr>
            <p:spPr>
              <a:xfrm>
                <a:off x="4446720" y="35114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5" name="Group 24"/>
              <p:cNvGrpSpPr/>
              <p:nvPr/>
            </p:nvGrpSpPr>
            <p:grpSpPr>
              <a:xfrm>
                <a:off x="2646360" y="4087800"/>
                <a:ext cx="3601800" cy="2592360"/>
                <a:chOff x="2646360" y="4087800"/>
                <a:chExt cx="3601800" cy="2592360"/>
              </a:xfrm>
            </p:grpSpPr>
            <p:sp>
              <p:nvSpPr>
                <p:cNvPr id="356" name="Rectangle 25"/>
                <p:cNvSpPr/>
                <p:nvPr/>
              </p:nvSpPr>
              <p:spPr>
                <a:xfrm>
                  <a:off x="2646360" y="5240520"/>
                  <a:ext cx="1441440" cy="4330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26"/>
                <p:cNvSpPr/>
                <p:nvPr/>
              </p:nvSpPr>
              <p:spPr>
                <a:xfrm>
                  <a:off x="3654360" y="4087800"/>
                  <a:ext cx="1584360" cy="719280"/>
                </a:xfrm>
                <a:prstGeom prst="flowChartDecision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&gt;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Rectangle 27"/>
                <p:cNvSpPr/>
                <p:nvPr/>
              </p:nvSpPr>
              <p:spPr>
                <a:xfrm>
                  <a:off x="4806720" y="5240520"/>
                  <a:ext cx="1441440" cy="433080"/>
                </a:xfrm>
                <a:prstGeom prst="rect">
                  <a:avLst/>
                </a:prstGeom>
                <a:solidFill>
                  <a:srgbClr val="66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+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28"/>
                <p:cNvSpPr/>
                <p:nvPr/>
              </p:nvSpPr>
              <p:spPr>
                <a:xfrm>
                  <a:off x="3365280" y="4448160"/>
                  <a:ext cx="0" cy="79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9"/>
                <p:cNvSpPr/>
                <p:nvPr/>
              </p:nvSpPr>
              <p:spPr>
                <a:xfrm>
                  <a:off x="5527440" y="4448160"/>
                  <a:ext cx="0" cy="792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30"/>
                <p:cNvSpPr/>
                <p:nvPr/>
              </p:nvSpPr>
              <p:spPr>
                <a:xfrm>
                  <a:off x="3365280" y="5672160"/>
                  <a:ext cx="0" cy="50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31"/>
                <p:cNvSpPr/>
                <p:nvPr/>
              </p:nvSpPr>
              <p:spPr>
                <a:xfrm>
                  <a:off x="5527440" y="5672160"/>
                  <a:ext cx="0" cy="50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32"/>
                <p:cNvSpPr/>
                <p:nvPr/>
              </p:nvSpPr>
              <p:spPr>
                <a:xfrm>
                  <a:off x="4446360" y="6175440"/>
                  <a:ext cx="0" cy="504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33"/>
                <p:cNvSpPr/>
                <p:nvPr/>
              </p:nvSpPr>
              <p:spPr>
                <a:xfrm>
                  <a:off x="5238720" y="4448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34"/>
                <p:cNvSpPr/>
                <p:nvPr/>
              </p:nvSpPr>
              <p:spPr>
                <a:xfrm>
                  <a:off x="3367080" y="4448160"/>
                  <a:ext cx="288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5"/>
                <p:cNvSpPr/>
                <p:nvPr/>
              </p:nvSpPr>
              <p:spPr>
                <a:xfrm flipH="1">
                  <a:off x="3367080" y="6175440"/>
                  <a:ext cx="1079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6"/>
                <p:cNvSpPr/>
                <p:nvPr/>
              </p:nvSpPr>
              <p:spPr>
                <a:xfrm flipH="1">
                  <a:off x="4446000" y="6175440"/>
                  <a:ext cx="107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" name="Text Box 39"/>
            <p:cNvSpPr/>
            <p:nvPr/>
          </p:nvSpPr>
          <p:spPr>
            <a:xfrm>
              <a:off x="3149640" y="40161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40"/>
            <p:cNvSpPr/>
            <p:nvPr/>
          </p:nvSpPr>
          <p:spPr>
            <a:xfrm>
              <a:off x="4950000" y="40161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42"/>
          <p:cNvSpPr/>
          <p:nvPr/>
        </p:nvSpPr>
        <p:spPr>
          <a:xfrm>
            <a:off x="755640" y="2276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решения на языке программ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857160" y="18572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решения в электронной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омашняя работа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§ 5.2.3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Вопросы и задания после § 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№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-17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7786800" y="5643720"/>
            <a:ext cx="1214280" cy="121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71400" y="25714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изкультминут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7929720" y="57862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Практическая работа № 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Разработать таблицу, содержащую следующие сведения об абитуриентах: фамилия, оценки за экзамены по математике, физике и русскому языку, сумма балов за три экзамена и информацию о зачислении – если сумма больше или равна проходному баллу и оценка по математике – 4 или 5, то абитуриент зачислен в учебное заведение, в противном случае – нет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оставить сводную таблицу, в которой указать фамилию абитуриента и информацию  о зачислении и количестве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бранных на экзаменах баллов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7934400" cy="65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      </a:t>
            </a:r>
            <a:r>
              <a:rPr b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Практическая работа № 2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ждому пушному зверьку в возрасте от 1-го до 2-х месяцев полагается дополнительный стакан молока в день, если его вес меньше 3 кг. Выяснить сколько литров молока в месяц необходимо для зверофермы. Один стакан молока составляет 0,2 литра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2760" cy="7229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85920" y="499680"/>
            <a:ext cx="6215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b050"/>
                </a:solidFill>
                <a:latin typeface="Monotype Corsiva"/>
              </a:rPr>
              <a:t>Спасибо за внимание!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. Какую встроенную функцию необходимо внести в ячейку, чтобы найти среднее значение 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диапазоне ячеек с В3 по В21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2560" y="2428560"/>
            <a:ext cx="850428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)=СРЕДНЕЕ(B3:B21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) =СРЗНАЧЕНИЕ(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3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21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3) =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РЗНАЧ(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3:B21) 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4) =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РЗНАЧ(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B1:B21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2. Для чего используется функция СУММ</a:t>
            </a:r>
            <a:r>
              <a:rPr b="0" lang="ru-RU" sz="3900" spc="-1" strike="noStrike">
                <a:solidFill>
                  <a:srgbClr val="000000"/>
                </a:solidFill>
                <a:latin typeface="Bookman Old Style"/>
              </a:rPr>
              <a:t>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9520" y="1856880"/>
            <a:ext cx="893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) для получения суммы квадратов указанных чис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) для получения суммы указанных чис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3) для получения разности сумм чис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4) для получения квадрата указанных чис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91440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3. Какой вид примет содержащая абсолютную и относительную ссылку формула, записанная в ячейке C1, после ее копирования в ячейку C2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85480" y="3000240"/>
            <a:ext cx="84438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)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=$A$1*B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=$A$1*B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3)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=$A$2*B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4)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=$A$2*B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C:\Users\Андрей\Desktop\p16_risunok2.jpg"/>
          <p:cNvPicPr/>
          <p:nvPr/>
        </p:nvPicPr>
        <p:blipFill>
          <a:blip r:embed="rId1"/>
          <a:stretch/>
        </p:blipFill>
        <p:spPr>
          <a:xfrm>
            <a:off x="3071880" y="3357720"/>
            <a:ext cx="5844960" cy="1285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Users\Андрей\Desktop\p16_risunok2.jpg"/>
          <p:cNvPicPr/>
          <p:nvPr/>
        </p:nvPicPr>
        <p:blipFill>
          <a:blip r:embed="rId2"/>
          <a:stretch/>
        </p:blipFill>
        <p:spPr>
          <a:xfrm>
            <a:off x="3071880" y="3357720"/>
            <a:ext cx="5844960" cy="128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9520" y="1425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4. Укажите неправильную формулу: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О45*В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К15*В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=12А-В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123+О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5. В ячейку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4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ведена формула =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2*D2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. Содержимое ячейки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4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копировали в ячейку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F7.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Какая формула будет записана в ячейке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F7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24285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D5*E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D7*E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C5*E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C7*E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тве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0" y="5857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36" name="Таблица 3" descr=""/>
          <p:cNvPicPr/>
          <p:nvPr/>
        </p:nvPicPr>
        <p:blipFill>
          <a:blip r:embed="rId2"/>
          <a:stretch/>
        </p:blipFill>
        <p:spPr>
          <a:xfrm>
            <a:off x="1427040" y="353880"/>
            <a:ext cx="7216920" cy="656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286680" cy="4857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1143000" y="4166280"/>
            <a:ext cx="72867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87160" tIns="34272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If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3&gt;=160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th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riteln (‘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исле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’)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el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riteln (‘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исле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07:19:20Z</dcterms:created>
  <dc:creator>Sunrise</dc:creator>
  <dc:description/>
  <dc:language>en-US</dc:language>
  <cp:lastModifiedBy>Андрей</cp:lastModifiedBy>
  <dcterms:modified xsi:type="dcterms:W3CDTF">2015-03-15T21:45:49Z</dcterms:modified>
  <cp:revision>96</cp:revision>
  <dc:subject/>
  <dc:title>Цель:</dc:title>
</cp:coreProperties>
</file>