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6A8-0A76-4E05-A97E-847284C5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0A1-6E42-4C0B-B469-4595D68E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10872-6F59-46A1-B1AD-EE4CAAC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C023A-B34A-48BB-90B5-CB9DEF04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02264-891B-48B4-8CFF-5E702F5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B3D2A-318D-42BA-B2B2-6F98B90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E0C7-74F5-4407-A634-11D2B0C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E8E8-7795-4DE6-80F1-E18054C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7352-A50F-4B72-8985-1689CDA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7C4FC-B555-4A3C-8234-57E9FB51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0FAC9-D255-43DA-8224-9EE4B00E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E19-1EC5-47EC-A376-82B45C93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AC6-B478-4B1F-9129-5B068F35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41DF-CE10-415A-944B-40E8689E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DF90-2069-4455-988A-A580DA6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6E6-E680-443D-89C1-8EE8AF0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F8F2-DEBA-4735-A7D0-DD8DA23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3296-704A-4CEA-904B-9AE658E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E92-E876-4F6E-8CB2-47C14892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F2D8-CA7C-42EC-8EC5-7CE383A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DAD-1AB8-4288-A9B6-C9DC58C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D18-88B0-4976-AFFE-8BDAE90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5A3-D12E-4C43-AA76-096A2F3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9FC1-3F74-413A-B655-B00A26CC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3988-81C6-4055-969F-A8098DD6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A3DA-2410-42BC-A982-A3B4B7D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A219-9902-49FD-8BB9-C1B80EA3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5FF0-BC33-48E9-A538-2BA84F9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EC817-F383-4C93-BEC1-09661E2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0D66-FF57-4ED4-BBC8-1916543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57DC-4089-463A-BB89-D05C8C86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EB1-DD50-47DE-9F61-F4A82A0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9D37-25EC-46C3-A8C2-6B6AE53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D7A8-9730-4CDB-92E4-34EA69F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368D-EAD8-4492-BD39-7997DB9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F8DA-90E7-449C-8EA7-84EB3BC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6746-6C87-4E12-A747-0CEC1096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2D50-5A70-4C74-840B-5467D011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3BA6-D727-4B31-9524-09BBCB06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CEFB-A336-48DF-A86D-E0D8B3B2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1713-B832-47A5-9968-138C5CEC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B385-FE62-4E09-824A-F48E7504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326-21BE-43DF-8087-2AAD19F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DB8E-E36F-415B-8B2E-A271C14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6351-B497-4BA3-A921-297A899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8F4E-9498-407B-A1BC-7182B3A0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CB7B6-D8E5-4875-9D99-50572DC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5763-AA57-4348-87EA-9BCF3AA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969C-8D1B-4752-94BB-776AA1F3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351B-70A6-49FC-B46E-2E06659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6021-EB15-4A3C-84F3-15DC0FA2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2E00-269D-40D0-A3B6-064E5393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8365-8180-4FEA-B6EA-2B99CEA6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35F-A316-4972-B0AD-081D71B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2345F-DBF6-49DB-8582-27016D9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2863-FE8C-4A91-ADC1-392DE25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A50A0-4677-465B-99CD-2CB6BD3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3F17-1A79-442D-8492-931088C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FA9D-B293-4E92-918D-8F86C27E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0D15-A4A9-4276-A004-E7BF552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02A8-2283-4D3E-8770-B2F6824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A7FF-1659-4234-BD4A-2A4E3C4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BE5A-0001-4271-9A0E-9F297CDD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C020-8C68-484E-90C2-FC979530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5AE-EF99-4947-9D87-074B73D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45E4-9033-4985-AA93-C696E34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F1634-CCB9-4E69-828F-2C30FF78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9BEA-40A7-4894-A163-CD623C2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A3F66-1E65-4B77-9286-379EB4E4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2659-94E4-4B0B-AB24-6865414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3C859-4D1D-4783-A958-D32EA208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EC17-EB75-4387-8EA0-384215C9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7E05-A358-49FB-BEC2-BF39A69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15B7-94C5-4C0A-ACBD-D65CE34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3FBE-7644-486C-91FE-5A3F4DB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AD8-0A93-47FB-BA46-E7AC8D4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8A481-B122-4AB2-AE66-610F4B48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B8E2-52FA-4DA1-870E-CFC4F8B0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3CF3-2F61-4A3F-ABBF-A46DF3E7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A982-9BA0-4C3A-ABC1-29DDF16A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E8CD-8D0D-4651-9DA7-D43ABA4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18F5-EB2F-465E-AAA6-CFE87A9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B471-91BA-4E26-9D9A-78CB4289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9C27-9F75-4346-A62D-2F8712D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013B-869F-4880-968E-695955BC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CB5E4-8D1B-487C-8FFD-DF97ABC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F5E-766C-41E7-AD8E-860C2D0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EDB8-A68A-4E61-9740-1A0C47C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1065D-7F82-4436-B5D7-560E2AB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DAA7-4B02-4CDE-9D03-0B49E8A5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5990-4D33-4A85-BF85-E617B1DA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EA95-78F8-4CA2-B2F0-F1826DBC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C3833-625D-4A6F-980B-6A251B84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C8950-83E1-4D99-A31D-7438B6C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5B781-9BEE-424F-BFC5-5D76B29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7B4A-FE88-42B1-8D0C-D311903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9BEB-2FE5-40FC-9052-2364992B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47B-DB32-4A2F-A8A6-8C9804C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D708-9ACA-4103-BFE4-33C3BB0B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7BFA-9D7E-413C-8348-FC12CDD6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F8CA-FD26-4F46-A5C4-FB92FB3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150FA-C78D-44E8-8610-52D4204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E9CE4-2841-4E57-84F0-82FF63D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5005-31EA-4C06-89D9-A769ADB7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FE1E-36DB-4155-89CE-C8D6D037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EA642-53EA-49CA-8BF9-2CE573C7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BF52A-F6AB-48FB-BEE4-F395891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8605-1639-4450-A914-FA5F8A1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03E-8CFE-4E1C-A166-0C42AEB090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2EF-476A-46BA-AF86-18042ED5F5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BBC-E8E2-4D7E-97DF-B39A98597F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83E-534D-4859-BCB8-9955C871E8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9AF9-1A3E-4E31-9109-D8689D9D76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612-A141-4A0D-8B61-8E0624A390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5F4-6329-4D97-A830-4DCC961926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AE4-F6FE-470E-AAC5-44A9470C9A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AF4-DD75-4A00-AF72-6AE1DD25FB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14200" y="44280"/>
            <a:ext cx="8786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"/>
              </a:rPr>
              <a:t>Акту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ода на протяжении многих лет постоянно меняется. Но некоторые аксессуары из прошлых времён находят своё применение и сег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20760" y="1437120"/>
            <a:ext cx="8572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Calibri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на основе изучения материала о веерах и пластмассе, яичной скорлупы с учетом современных модных направлений самостоятельно изготовить веер из пластмассовых вилок и мозаику из скор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95280" y="3117600"/>
            <a:ext cx="85010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entury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историю ве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технологию изготовления мозаики и ве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технику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сочетания то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подобрать материалы, инструменты и приспосо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готовить веер и картину-моза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рассчитать себестоимость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14200" y="519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оиск и анализ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пробация знаний в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атематический расчет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42920" y="2453400"/>
            <a:ext cx="757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68360" y="1994400"/>
            <a:ext cx="83581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entury Schoolbook"/>
                <a:ea typeface="Calibri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Приближается всеми любимый праздник Новый год. Что подарить своим близким людям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1280" y="3553920"/>
            <a:ext cx="8208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Calibri"/>
              </a:rPr>
              <a:t>Требования к издел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Будущее изделие должно быть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красивое (декоратив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полезное (утилитар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недорогое (экономически выгод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безопасное для человека и окружающей среды (экологич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легкое в обработке (технологичное),  с минимальными затратами п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220px-%D0%9A%D0%BE%D0%BD%D1%82%D0%B8"/>
          <p:cNvPicPr/>
          <p:nvPr/>
        </p:nvPicPr>
        <p:blipFill>
          <a:blip r:embed="rId1"/>
          <a:stretch/>
        </p:blipFill>
        <p:spPr>
          <a:xfrm>
            <a:off x="85680" y="115920"/>
            <a:ext cx="3046320" cy="433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http://upload.wikimedia.org/wikipedia/commons/thumb/d/d1/La_Dame_du_Palais_de_la_Reine_by_P.A._Martini_after_Jean-Michel_Moreau_le_Jeune.jpg/170px-La_Dame_du_Palais_de_la_Reine_by_P.A._Martini_after_Jean-Michel_Moreau_le_Jeune.jpg"/>
          <p:cNvPicPr/>
          <p:nvPr/>
        </p:nvPicPr>
        <p:blipFill>
          <a:blip r:embed="rId2"/>
          <a:stretch/>
        </p:blipFill>
        <p:spPr>
          <a:xfrm>
            <a:off x="1692360" y="907920"/>
            <a:ext cx="3381120" cy="4602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200px-Renoir"/>
          <p:cNvPicPr/>
          <p:nvPr/>
        </p:nvPicPr>
        <p:blipFill>
          <a:blip r:embed="rId3"/>
          <a:stretch/>
        </p:blipFill>
        <p:spPr>
          <a:xfrm>
            <a:off x="3635280" y="1989000"/>
            <a:ext cx="3071880" cy="4043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http://upload.wikimedia.org/wikipedia/ru/thumb/3/3f/Eventail2.jpg/200px-Eventail2.jpg"/>
          <p:cNvPicPr/>
          <p:nvPr/>
        </p:nvPicPr>
        <p:blipFill>
          <a:blip r:embed="rId4"/>
          <a:stretch/>
        </p:blipFill>
        <p:spPr>
          <a:xfrm>
            <a:off x="5867280" y="2705040"/>
            <a:ext cx="3044880" cy="41529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>
            <a:off x="559080" y="45324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ок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1"/>
          <p:cNvSpPr/>
          <p:nvPr/>
        </p:nvSpPr>
        <p:spPr>
          <a:xfrm>
            <a:off x="233928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4067280" y="60991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7164360" y="22104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4" descr="http://im3-tub-ru.yandex.net/i?id=128079606-25-72&amp;n=21"/>
          <p:cNvPicPr/>
          <p:nvPr/>
        </p:nvPicPr>
        <p:blipFill>
          <a:blip r:embed="rId1"/>
          <a:srcRect l="5496" t="7987" r="37587" b="9272"/>
          <a:stretch/>
        </p:blipFill>
        <p:spPr>
          <a:xfrm>
            <a:off x="3492360" y="4221000"/>
            <a:ext cx="2303640" cy="20163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"/>
          <p:cNvSpPr/>
          <p:nvPr/>
        </p:nvSpPr>
        <p:spPr>
          <a:xfrm>
            <a:off x="324000" y="43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  <a:ea typeface="SimSun"/>
              </a:rPr>
              <a:t>Материа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  <a:ea typeface="SimSun"/>
              </a:rPr>
              <a:t>инструменты и приспосо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51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2887920" cy="20923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17" name="Рисунок 52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840040" cy="20559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18" name="Picture 8" descr="http://im1-tub-ru.yandex.net/i?id=292156467-36-72&amp;n=21"/>
          <p:cNvPicPr/>
          <p:nvPr/>
        </p:nvPicPr>
        <p:blipFill>
          <a:blip r:embed="rId4"/>
          <a:stretch/>
        </p:blipFill>
        <p:spPr>
          <a:xfrm>
            <a:off x="620640" y="154476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http://im1-tub-ru.yandex.net/i?id=205783203-57-72&amp;n=21"/>
          <p:cNvPicPr/>
          <p:nvPr/>
        </p:nvPicPr>
        <p:blipFill>
          <a:blip r:embed="rId5"/>
          <a:srcRect l="5326" t="2343" r="9221" b="3679"/>
          <a:stretch/>
        </p:blipFill>
        <p:spPr>
          <a:xfrm>
            <a:off x="3348000" y="1197000"/>
            <a:ext cx="1152720" cy="28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http://im6-tub-ru.yandex.net/i?id=254202906-54-72&amp;n=21"/>
          <p:cNvPicPr/>
          <p:nvPr/>
        </p:nvPicPr>
        <p:blipFill>
          <a:blip r:embed="rId6"/>
          <a:stretch/>
        </p:blipFill>
        <p:spPr>
          <a:xfrm>
            <a:off x="6156360" y="1268280"/>
            <a:ext cx="2690640" cy="2587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0" descr="http://im0-tub-ru.yandex.net/i?id=420531831-43-72&amp;n=21"/>
          <p:cNvPicPr/>
          <p:nvPr/>
        </p:nvPicPr>
        <p:blipFill>
          <a:blip r:embed="rId7"/>
          <a:srcRect l="22455" t="0" r="32635" b="0"/>
          <a:stretch/>
        </p:blipFill>
        <p:spPr>
          <a:xfrm>
            <a:off x="5003640" y="1197000"/>
            <a:ext cx="863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оловок 1"/>
          <p:cNvSpPr/>
          <p:nvPr/>
        </p:nvSpPr>
        <p:spPr>
          <a:xfrm>
            <a:off x="1643040" y="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55640" y="1341360"/>
          <a:ext cx="7632720" cy="4197600"/>
        </p:xfrm>
        <a:graphic>
          <a:graphicData uri="http://schemas.openxmlformats.org/drawingml/2006/table">
            <a:tbl>
              <a:tblPr/>
              <a:tblGrid>
                <a:gridCol w="2452680"/>
                <a:gridCol w="5180040"/>
              </a:tblGrid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рующи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, се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ый, бледно-голубой, ярк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ый, голубой, 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ле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чневый, б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уб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до, се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, песочный, оранжевый, 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ые и темные оттенки зеле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Прямоугольник 10"/>
          <p:cNvSpPr/>
          <p:nvPr/>
        </p:nvSpPr>
        <p:spPr>
          <a:xfrm>
            <a:off x="2898000" y="40464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entury"/>
              </a:rPr>
              <a:t>Сочетания 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C:\Documents and Settings\Admin\Рабочий стол\презент\подготовка.jpg"/>
          <p:cNvPicPr/>
          <p:nvPr/>
        </p:nvPicPr>
        <p:blipFill>
          <a:blip r:embed="rId1"/>
          <a:srcRect l="0" t="0" r="6596" b="0"/>
          <a:stretch/>
        </p:blipFill>
        <p:spPr>
          <a:xfrm>
            <a:off x="4981680" y="189000"/>
            <a:ext cx="3983040" cy="3211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Documents and Settings\Admin\Рабочий стол\презент\скорлупа.jpg"/>
          <p:cNvPicPr/>
          <p:nvPr/>
        </p:nvPicPr>
        <p:blipFill>
          <a:blip r:embed="rId2"/>
          <a:stretch/>
        </p:blipFill>
        <p:spPr>
          <a:xfrm>
            <a:off x="108000" y="3429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http://im1-tub-ru.yandex.net/i?id=599503610-31-72&amp;n=21"/>
          <p:cNvPicPr/>
          <p:nvPr/>
        </p:nvPicPr>
        <p:blipFill>
          <a:blip r:embed="rId3"/>
          <a:stretch/>
        </p:blipFill>
        <p:spPr>
          <a:xfrm>
            <a:off x="52560" y="189000"/>
            <a:ext cx="4590720" cy="306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http://im2-tub-ru.yandex.net/i?id=168843439-29-72&amp;n=21"/>
          <p:cNvPicPr/>
          <p:nvPr/>
        </p:nvPicPr>
        <p:blipFill>
          <a:blip r:embed="rId4"/>
          <a:srcRect l="30818" t="0" r="11891" b="0"/>
          <a:stretch/>
        </p:blipFill>
        <p:spPr>
          <a:xfrm>
            <a:off x="4859280" y="3513240"/>
            <a:ext cx="4105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227936_8108thumb500"/>
          <p:cNvPicPr/>
          <p:nvPr/>
        </p:nvPicPr>
        <p:blipFill>
          <a:blip r:embed="rId1"/>
          <a:srcRect l="0" t="0" r="0" b="6411"/>
          <a:stretch/>
        </p:blipFill>
        <p:spPr>
          <a:xfrm>
            <a:off x="571680" y="214200"/>
            <a:ext cx="3246120" cy="2600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227941_5109thumb500"/>
          <p:cNvPicPr/>
          <p:nvPr/>
        </p:nvPicPr>
        <p:blipFill>
          <a:blip r:embed="rId2"/>
          <a:srcRect l="0" t="0" r="0" b="8361"/>
          <a:stretch/>
        </p:blipFill>
        <p:spPr>
          <a:xfrm>
            <a:off x="5286240" y="285840"/>
            <a:ext cx="3286440" cy="2600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227943_3704thumb500"/>
          <p:cNvPicPr/>
          <p:nvPr/>
        </p:nvPicPr>
        <p:blipFill>
          <a:blip r:embed="rId3"/>
          <a:srcRect l="0" t="0" r="0" b="6476"/>
          <a:stretch/>
        </p:blipFill>
        <p:spPr>
          <a:xfrm>
            <a:off x="571680" y="3357720"/>
            <a:ext cx="3157200" cy="2743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шаг в будущее 2013 110"/>
          <p:cNvPicPr/>
          <p:nvPr/>
        </p:nvPicPr>
        <p:blipFill>
          <a:blip r:embed="rId4"/>
          <a:srcRect l="14917" t="0" r="0" b="0"/>
          <a:stretch/>
        </p:blipFill>
        <p:spPr>
          <a:xfrm>
            <a:off x="5286240" y="3429000"/>
            <a:ext cx="3286440" cy="2733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шаг в будущее 2013 111"/>
          <p:cNvPicPr/>
          <p:nvPr/>
        </p:nvPicPr>
        <p:blipFill>
          <a:blip r:embed="rId5"/>
          <a:srcRect l="0" t="0" r="0" b="12097"/>
          <a:stretch/>
        </p:blipFill>
        <p:spPr>
          <a:xfrm>
            <a:off x="1616040" y="1608120"/>
            <a:ext cx="56833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4572000" y="54464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  <a:ea typeface="SimSun"/>
              </a:rPr>
              <a:t>Итого:25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шаг в будущее 2013 009"/>
          <p:cNvPicPr/>
          <p:nvPr/>
        </p:nvPicPr>
        <p:blipFill>
          <a:blip r:embed="rId1"/>
          <a:srcRect l="2980" t="1475" r="3455" b="0"/>
          <a:stretch/>
        </p:blipFill>
        <p:spPr>
          <a:xfrm>
            <a:off x="179280" y="476280"/>
            <a:ext cx="4249800" cy="59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4932360" y="1557360"/>
          <a:ext cx="3745080" cy="2808360"/>
        </p:xfrm>
        <a:graphic>
          <a:graphicData uri="http://schemas.openxmlformats.org/drawingml/2006/table">
            <a:tbl>
              <a:tblPr/>
              <a:tblGrid>
                <a:gridCol w="1836720"/>
                <a:gridCol w="938160"/>
                <a:gridCol w="9702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ревянная рамка со стек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ей П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аш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Прямоугольник 1"/>
          <p:cNvSpPr/>
          <p:nvPr/>
        </p:nvSpPr>
        <p:spPr>
          <a:xfrm>
            <a:off x="4572000" y="35712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</a:rPr>
              <a:t>Себестоимость картины-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"/>
          <p:cNvSpPr/>
          <p:nvPr/>
        </p:nvSpPr>
        <p:spPr>
          <a:xfrm>
            <a:off x="4357800" y="45716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Стоимость времени – 16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22:04Z</dcterms:created>
  <dc:creator>Компьютер</dc:creator>
  <dc:description/>
  <dc:language>en-US</dc:language>
  <cp:lastModifiedBy>Усынина</cp:lastModifiedBy>
  <dcterms:modified xsi:type="dcterms:W3CDTF">2019-05-04T16:26:26Z</dcterms:modified>
  <cp:revision>89</cp:revision>
  <dc:subject/>
  <dc:title>Научно-практическая конференция  «Шаг в будущее»</dc:title>
</cp:coreProperties>
</file>