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AE2-F809-4A5F-874A-9E87945B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B9C-CC38-40A1-B403-7F81CC0F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7FD59-7399-4333-8D3A-34135816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4FED9-9679-4375-9923-01E3965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A0EA2-A1A8-4BE8-8AC3-6ECEDE2F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9AD3D-3DED-4422-87F0-D1DB8DB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EBFEC-D38F-441F-B32D-C7EEF86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83764-2F8E-4D44-ABCE-03813BB0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B7F69-D353-4FF8-87A7-619CE89D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AD4E9-2007-44E0-BC88-A43B7600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AE5F2-D7FC-4D7E-A27B-BA8FBA3E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B23-9C42-4962-A75B-EDCEA324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E5F-BAEB-4CFE-94D1-4AC5523E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A48C-CB64-4922-A3E0-ECB77228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837A-DC61-42D5-82B2-3C7D5A6A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34B9-0AC5-4B60-AD51-8A13E1D7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E749-C951-4675-9914-0FE99D4D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96AB-8555-4BAA-96E8-30E89CFB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5F7B-A8B5-4070-AC0D-D6BFFBF1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C0EF-6A83-41BE-8918-A7B662A8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55B-6B49-48B9-8EE8-E04C5B2A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4EE8-35BD-4FC5-ACF8-76131EA6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6426-1B1F-486B-8DCE-D96756EA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12FB-7AA7-42A3-B542-876A674F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A9BE-6D4B-4CB3-B754-67EC291C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CA7E-0F90-4EC9-9BAA-40A4D6A9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040E-0724-4099-9F69-165B19C4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4F82-C2FA-4DA7-9559-7BA8988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092D-DB85-4F30-8150-F6B067FC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2C26-B547-4E04-B69C-276A6F26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DA17-0890-4181-AFAE-6B6837EE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527-9F41-451E-89EC-152BD45F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2F16-51B9-41C3-82CC-B93E504D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0BF20-A952-4D7E-9D80-00A314EC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94D5-01A8-4E2A-86C7-95F19B49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9A11-EEEB-4F92-B0BA-AF6AAD32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24C3-9840-420D-A7EC-341885C5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1C9C-5705-4858-BC07-E508B663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4FC9-35CB-4D0A-A971-3560EF9C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B485-7E51-4521-843C-D104E1C0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9E142-AFAA-4BCB-A5CB-DE284C2D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20F04-696E-4C5A-AE5F-084119A5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29D-702E-4598-B099-D80D82EF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5002-6AEF-418A-9294-A287E6A8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0B42-12AA-4843-9F4E-60EE30E8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2145-FAA9-4AC6-900B-16B4CF46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11A2C-06E6-4F40-8E64-ED999B31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259B2-506D-4458-8232-DDC6FBC8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5B2D1-2F02-4E21-9DD7-5771019E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3ADD7-FB40-4E86-A1B4-5FA43A78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49C4E-C303-49CB-B9AF-CE7F57AD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116EE-FF32-403B-806D-13F1DD6F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BB67D-C6C8-4AB8-BA3E-A8560F60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546-9E9B-4CC9-BD07-C848D2B2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9D1FE-31FA-4711-928B-84E63C8D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3272-1F75-48D9-887B-37E9E498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B1C0-C8C0-4F46-89C8-CA1D8FE0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4259C-38F3-4CB5-82D7-82594D93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182FB-65B0-43D0-9355-777286F7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2500A-411E-4D28-9469-36497D6F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08134-803E-47DA-AE58-9D5A8A39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57D55-6F8C-4F13-AD56-9FF5E282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C6C31-0433-4E8E-9C29-ED2793DC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00F8C-3029-43DB-B157-343AC832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B33-B961-4EE3-9665-85BEB19F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48D7A-9DC1-459D-B80D-8AB9F57F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662D5-37A4-40DB-B7D2-D64BA85E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3FF66-C07D-4F3C-8A15-2ED7578C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705DF-61C1-4EDB-AC27-6C0A44F0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5905-F134-46BF-923E-0C049045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69F45-13D1-4B59-85E9-D46DEE41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092A4-8178-43D8-809B-56F2485F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9596-A34F-4162-9EE2-DAA551D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CA793-9EDC-45B7-8C95-17CCC70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3E2BB-0473-4FDB-804B-5C92C12F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69C-5695-4025-98E7-BCC790D5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46CC3-8326-4E4F-B003-3AAE8A99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FCB1E-FD16-4045-A8A1-9983D334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B002-94F5-492D-802D-B835BAB4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A83E0-6985-4CC7-ABE7-F3ABB11F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748D-5BE7-4407-8936-0D44D92D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7AAE-A26A-4DDF-A6AE-28EA9BAD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9EFD1-3821-4947-BDFC-6E633836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26B58-26CD-454D-91FB-76F16B14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608CD-DA56-4F55-9829-BD59CB8F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2D5E4-E044-44AB-A35F-76CD5473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9C8-6E60-4010-B40C-24961C5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87B43-D27F-4C43-A176-2EF31BD8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A69A8-4878-415F-A824-AECCE2D0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FCA9C-0F60-4ED1-BC65-726DD413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A16BB-BF85-431C-B728-FE356541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741D5-0C87-4739-90F6-8239F14A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54534-DB89-473B-98C8-6F5B6E0A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FEC07-79CE-4108-AB73-481E8EDC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29CD4-F649-41D2-9FE9-8E33C996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8DC4D-3B75-4C10-8D2D-5EFB6A6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7C1D-C93B-4E38-A3C0-2B3A8373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89E-ADA9-4CB9-B019-ABC1C77C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3530C-BFCD-47FC-B2A3-45ED328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BA1C1-8FC8-41F9-AD9E-1656F1A9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14634-E046-4D0C-8FFF-BD0FA3AC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89F8F-3417-469A-9976-E659EAB4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CBB98-AF85-45D7-98B5-8323AFCD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501F6-9EFB-41C4-B413-B1FEBC17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811E-8330-4D96-8CAD-A28C0D64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F4EF3-AF8E-4788-BDD1-247494EE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F9D0A-C10B-4076-9D39-91EF09D1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505E6-E6FF-4B53-A45E-F06AA8CD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8A52-6F8F-45B7-9F7C-AE463ACF4A3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E755-0089-43CE-8FDA-892FE443D2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13B3-7F4F-4BF9-A08C-E244178E98E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7121-B9B1-4660-967B-62D0598059B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945B-8A33-41B2-9649-286C39603E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2F6A-B985-4151-A831-DE6193DE05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B604-5EEA-4B6E-AF8A-AF65452559E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9EED-1CFD-4ED4-BA4B-D59E5E4920D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E9F8-1013-447D-872A-7AC9BE8C43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214200" y="44280"/>
            <a:ext cx="8786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"/>
              </a:rPr>
              <a:t>Актуа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ода на протяжении многих лет постоянно меняется. Но некоторые аксессуары из прошлых времён находят своё применение и сего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20760" y="1437120"/>
            <a:ext cx="85723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"/>
                <a:ea typeface="Calibri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на основе изучения материала о веерах и пластмассе, яичной скорлупы с учетом современных модных направлений самостоятельно изготовить веер из пластмассовых вилок и мозаику из скорлу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395280" y="3117600"/>
            <a:ext cx="85010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entury"/>
                <a:ea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учить историю ве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учить технологию изготовления мозаики и ве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учить технику безопас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учить сочетания то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подобрать материалы, инструменты и приспособ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изготовить веер и картину-мозаи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рассчитать себестоимость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214200" y="5198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entury Schoolbook"/>
                <a:ea typeface="Calibri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Поиск и анализ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Апробация знаний в прак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Математический расчет изде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42920" y="2453400"/>
            <a:ext cx="757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68360" y="1994400"/>
            <a:ext cx="83581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entury Schoolbook"/>
                <a:ea typeface="Calibri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Приближается всеми любимый праздник Новый год. Что подарить своим близким людям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1280" y="3553920"/>
            <a:ext cx="8208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"/>
                <a:ea typeface="Calibri"/>
              </a:rPr>
              <a:t>Требования к издел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Будущее изделие должно быть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красивое (декоративное),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полезное (утилитарное),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недорогое (экономически выгодное),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безопасное для человека и окружающей среды (экологичное),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  <a:ea typeface="Calibri"/>
              </a:rPr>
              <a:t> легкое в обработке (технологичное),  с минимальными затратами п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220px-%D0%9A%D0%BE%D0%BD%D1%82%D0%B8"/>
          <p:cNvPicPr/>
          <p:nvPr/>
        </p:nvPicPr>
        <p:blipFill>
          <a:blip r:embed="rId1"/>
          <a:stretch/>
        </p:blipFill>
        <p:spPr>
          <a:xfrm>
            <a:off x="85680" y="115920"/>
            <a:ext cx="3046320" cy="4336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http://upload.wikimedia.org/wikipedia/commons/thumb/d/d1/La_Dame_du_Palais_de_la_Reine_by_P.A._Martini_after_Jean-Michel_Moreau_le_Jeune.jpg/170px-La_Dame_du_Palais_de_la_Reine_by_P.A._Martini_after_Jean-Michel_Moreau_le_Jeune.jpg"/>
          <p:cNvPicPr/>
          <p:nvPr/>
        </p:nvPicPr>
        <p:blipFill>
          <a:blip r:embed="rId2"/>
          <a:stretch/>
        </p:blipFill>
        <p:spPr>
          <a:xfrm>
            <a:off x="1692360" y="907920"/>
            <a:ext cx="3381120" cy="46022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200px-Renoir"/>
          <p:cNvPicPr/>
          <p:nvPr/>
        </p:nvPicPr>
        <p:blipFill>
          <a:blip r:embed="rId3"/>
          <a:stretch/>
        </p:blipFill>
        <p:spPr>
          <a:xfrm>
            <a:off x="3635280" y="1989000"/>
            <a:ext cx="3071880" cy="40435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http://upload.wikimedia.org/wikipedia/ru/thumb/3/3f/Eventail2.jpg/200px-Eventail2.jpg"/>
          <p:cNvPicPr/>
          <p:nvPr/>
        </p:nvPicPr>
        <p:blipFill>
          <a:blip r:embed="rId4"/>
          <a:stretch/>
        </p:blipFill>
        <p:spPr>
          <a:xfrm>
            <a:off x="5867280" y="2705040"/>
            <a:ext cx="3044880" cy="41529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0"/>
          <p:cNvSpPr/>
          <p:nvPr/>
        </p:nvSpPr>
        <p:spPr>
          <a:xfrm>
            <a:off x="559080" y="45324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рок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1"/>
          <p:cNvSpPr/>
          <p:nvPr/>
        </p:nvSpPr>
        <p:spPr>
          <a:xfrm>
            <a:off x="2339280" y="5589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ко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4067280" y="60991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"/>
          <p:cNvSpPr/>
          <p:nvPr/>
        </p:nvSpPr>
        <p:spPr>
          <a:xfrm>
            <a:off x="7164360" y="22104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4" descr="http://im3-tub-ru.yandex.net/i?id=128079606-25-72&amp;n=21"/>
          <p:cNvPicPr/>
          <p:nvPr/>
        </p:nvPicPr>
        <p:blipFill>
          <a:blip r:embed="rId1"/>
          <a:srcRect l="5496" t="7987" r="37587" b="9272"/>
          <a:stretch/>
        </p:blipFill>
        <p:spPr>
          <a:xfrm>
            <a:off x="3492360" y="4221000"/>
            <a:ext cx="2303640" cy="20163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"/>
          <p:cNvSpPr/>
          <p:nvPr/>
        </p:nvSpPr>
        <p:spPr>
          <a:xfrm>
            <a:off x="324000" y="43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entury Schoolbook"/>
                <a:ea typeface="SimSun"/>
              </a:rPr>
              <a:t>Материал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entury Schoolbook"/>
                <a:ea typeface="SimSun"/>
              </a:rPr>
              <a:t>инструменты и приспосо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Рисунок 51" descr=""/>
          <p:cNvPicPr/>
          <p:nvPr/>
        </p:nvPicPr>
        <p:blipFill>
          <a:blip r:embed="rId2"/>
          <a:stretch/>
        </p:blipFill>
        <p:spPr>
          <a:xfrm>
            <a:off x="6084720" y="4149720"/>
            <a:ext cx="2887920" cy="209232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417" name="Рисунок 52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840040" cy="20559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pic>
        <p:nvPicPr>
          <p:cNvPr id="418" name="Picture 8" descr="http://im1-tub-ru.yandex.net/i?id=292156467-36-72&amp;n=21"/>
          <p:cNvPicPr/>
          <p:nvPr/>
        </p:nvPicPr>
        <p:blipFill>
          <a:blip r:embed="rId4"/>
          <a:stretch/>
        </p:blipFill>
        <p:spPr>
          <a:xfrm>
            <a:off x="620640" y="154476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http://im1-tub-ru.yandex.net/i?id=205783203-57-72&amp;n=21"/>
          <p:cNvPicPr/>
          <p:nvPr/>
        </p:nvPicPr>
        <p:blipFill>
          <a:blip r:embed="rId5"/>
          <a:srcRect l="5326" t="2343" r="9221" b="3679"/>
          <a:stretch/>
        </p:blipFill>
        <p:spPr>
          <a:xfrm>
            <a:off x="3348000" y="1197000"/>
            <a:ext cx="1152720" cy="2879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6" descr="http://im6-tub-ru.yandex.net/i?id=254202906-54-72&amp;n=21"/>
          <p:cNvPicPr/>
          <p:nvPr/>
        </p:nvPicPr>
        <p:blipFill>
          <a:blip r:embed="rId6"/>
          <a:stretch/>
        </p:blipFill>
        <p:spPr>
          <a:xfrm>
            <a:off x="6156360" y="1268280"/>
            <a:ext cx="2690640" cy="25876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0" descr="http://im0-tub-ru.yandex.net/i?id=420531831-43-72&amp;n=21"/>
          <p:cNvPicPr/>
          <p:nvPr/>
        </p:nvPicPr>
        <p:blipFill>
          <a:blip r:embed="rId7"/>
          <a:srcRect l="22455" t="0" r="32635" b="0"/>
          <a:stretch/>
        </p:blipFill>
        <p:spPr>
          <a:xfrm>
            <a:off x="5003640" y="1197000"/>
            <a:ext cx="8636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Заголовок 1"/>
          <p:cNvSpPr/>
          <p:nvPr/>
        </p:nvSpPr>
        <p:spPr>
          <a:xfrm>
            <a:off x="1643040" y="0"/>
            <a:ext cx="642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755640" y="1341360"/>
          <a:ext cx="7632720" cy="4197600"/>
        </p:xfrm>
        <a:graphic>
          <a:graphicData uri="http://schemas.openxmlformats.org/drawingml/2006/table">
            <a:tbl>
              <a:tblPr/>
              <a:tblGrid>
                <a:gridCol w="2452680"/>
                <a:gridCol w="5180040"/>
              </a:tblGrid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монирующи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с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, се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летовый, бледно-голубой, ярко-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летовый, голубой, 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ле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чневый, б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луб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до, сер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тый, песочный, оранжевый, ро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лые и темные оттенки зеле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л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р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Прямоугольник 10"/>
          <p:cNvSpPr/>
          <p:nvPr/>
        </p:nvSpPr>
        <p:spPr>
          <a:xfrm>
            <a:off x="2898000" y="404640"/>
            <a:ext cx="38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entury"/>
              </a:rPr>
              <a:t>Сочетания 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C:\Documents and Settings\Admin\Рабочий стол\презент\подготовка.jpg"/>
          <p:cNvPicPr/>
          <p:nvPr/>
        </p:nvPicPr>
        <p:blipFill>
          <a:blip r:embed="rId1"/>
          <a:srcRect l="0" t="0" r="6596" b="0"/>
          <a:stretch/>
        </p:blipFill>
        <p:spPr>
          <a:xfrm>
            <a:off x="4981680" y="189000"/>
            <a:ext cx="3983040" cy="32115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C:\Documents and Settings\Admin\Рабочий стол\презент\скорлупа.jpg"/>
          <p:cNvPicPr/>
          <p:nvPr/>
        </p:nvPicPr>
        <p:blipFill>
          <a:blip r:embed="rId2"/>
          <a:stretch/>
        </p:blipFill>
        <p:spPr>
          <a:xfrm>
            <a:off x="108000" y="342900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http://im1-tub-ru.yandex.net/i?id=599503610-31-72&amp;n=21"/>
          <p:cNvPicPr/>
          <p:nvPr/>
        </p:nvPicPr>
        <p:blipFill>
          <a:blip r:embed="rId3"/>
          <a:stretch/>
        </p:blipFill>
        <p:spPr>
          <a:xfrm>
            <a:off x="52560" y="189000"/>
            <a:ext cx="4590720" cy="306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http://im2-tub-ru.yandex.net/i?id=168843439-29-72&amp;n=21"/>
          <p:cNvPicPr/>
          <p:nvPr/>
        </p:nvPicPr>
        <p:blipFill>
          <a:blip r:embed="rId4"/>
          <a:srcRect l="30818" t="0" r="11891" b="0"/>
          <a:stretch/>
        </p:blipFill>
        <p:spPr>
          <a:xfrm>
            <a:off x="4859280" y="3513240"/>
            <a:ext cx="41054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227936_8108thumb500"/>
          <p:cNvPicPr/>
          <p:nvPr/>
        </p:nvPicPr>
        <p:blipFill>
          <a:blip r:embed="rId1"/>
          <a:srcRect l="0" t="0" r="0" b="6411"/>
          <a:stretch/>
        </p:blipFill>
        <p:spPr>
          <a:xfrm>
            <a:off x="571680" y="214200"/>
            <a:ext cx="3246120" cy="2600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227941_5109thumb500"/>
          <p:cNvPicPr/>
          <p:nvPr/>
        </p:nvPicPr>
        <p:blipFill>
          <a:blip r:embed="rId2"/>
          <a:srcRect l="0" t="0" r="0" b="8361"/>
          <a:stretch/>
        </p:blipFill>
        <p:spPr>
          <a:xfrm>
            <a:off x="5286240" y="285840"/>
            <a:ext cx="3286440" cy="2600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227943_3704thumb500"/>
          <p:cNvPicPr/>
          <p:nvPr/>
        </p:nvPicPr>
        <p:blipFill>
          <a:blip r:embed="rId3"/>
          <a:srcRect l="0" t="0" r="0" b="6476"/>
          <a:stretch/>
        </p:blipFill>
        <p:spPr>
          <a:xfrm>
            <a:off x="571680" y="3357720"/>
            <a:ext cx="3157200" cy="27432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шаг в будущее 2013 110"/>
          <p:cNvPicPr/>
          <p:nvPr/>
        </p:nvPicPr>
        <p:blipFill>
          <a:blip r:embed="rId4"/>
          <a:srcRect l="14917" t="0" r="0" b="0"/>
          <a:stretch/>
        </p:blipFill>
        <p:spPr>
          <a:xfrm>
            <a:off x="5286240" y="3429000"/>
            <a:ext cx="3286440" cy="27338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шаг в будущее 2013 111"/>
          <p:cNvPicPr/>
          <p:nvPr/>
        </p:nvPicPr>
        <p:blipFill>
          <a:blip r:embed="rId5"/>
          <a:srcRect l="0" t="0" r="0" b="12097"/>
          <a:stretch/>
        </p:blipFill>
        <p:spPr>
          <a:xfrm>
            <a:off x="1616040" y="1608120"/>
            <a:ext cx="56833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4572000" y="54464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  <a:ea typeface="SimSun"/>
              </a:rPr>
              <a:t>Итого:25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шаг в будущее 2013 009"/>
          <p:cNvPicPr/>
          <p:nvPr/>
        </p:nvPicPr>
        <p:blipFill>
          <a:blip r:embed="rId1"/>
          <a:srcRect l="2980" t="1475" r="3455" b="0"/>
          <a:stretch/>
        </p:blipFill>
        <p:spPr>
          <a:xfrm>
            <a:off x="179280" y="476280"/>
            <a:ext cx="4249800" cy="596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"/>
          <p:cNvGraphicFramePr/>
          <p:nvPr/>
        </p:nvGraphicFramePr>
        <p:xfrm>
          <a:off x="4932360" y="1557360"/>
          <a:ext cx="3745080" cy="2808360"/>
        </p:xfrm>
        <a:graphic>
          <a:graphicData uri="http://schemas.openxmlformats.org/drawingml/2006/table">
            <a:tbl>
              <a:tblPr/>
              <a:tblGrid>
                <a:gridCol w="1836720"/>
                <a:gridCol w="938160"/>
                <a:gridCol w="9702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тр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ревянная рамка со стекл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лей П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аш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Прямоугольник 1"/>
          <p:cNvSpPr/>
          <p:nvPr/>
        </p:nvSpPr>
        <p:spPr>
          <a:xfrm>
            <a:off x="4572000" y="35712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entury Schoolbook"/>
              </a:rPr>
              <a:t>Себестоимость картины-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"/>
          <p:cNvSpPr/>
          <p:nvPr/>
        </p:nvSpPr>
        <p:spPr>
          <a:xfrm>
            <a:off x="4357800" y="45716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SimSun"/>
              </a:rPr>
              <a:t>Стоимость времени – 16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9:22:04Z</dcterms:created>
  <dc:creator>Компьютер</dc:creator>
  <dc:description/>
  <dc:language>en-US</dc:language>
  <cp:lastModifiedBy>Усынина</cp:lastModifiedBy>
  <dcterms:modified xsi:type="dcterms:W3CDTF">2019-05-04T16:26:26Z</dcterms:modified>
  <cp:revision>89</cp:revision>
  <dc:subject/>
  <dc:title>Научно-практическая конференция  «Шаг в будущее»</dc:title>
</cp:coreProperties>
</file>