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F48-992B-4FE1-9B9C-6194DB5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22C-7039-4989-B976-32EA611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6B224-FD0F-4942-806B-41DD323F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0CDF8-E524-4977-A449-109418D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6B5E1-6369-4316-B0EC-16D2C01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D3325-6002-4B88-B968-2364C0B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32741-ADCD-4DD9-9B9E-7B3DF1A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E6896-AE60-4400-9AB9-88F6363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FB6AA-001D-4816-8210-5F69ABCB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37CEC-F6A8-4B7F-89F3-B6603DAD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608FCA-FC10-4887-B291-C3267E3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8460-FAD9-4828-9261-A0EB20FA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882-8EDC-4309-A12E-BE2F4662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1B313-BDB8-454A-9BFE-B4B24BC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4B6D2-B612-4A7F-886E-852FAB4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21FE2-B9F6-4CFF-859C-11250FA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1641-CBCF-425D-9C6C-D7B20D7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A7E7B-3CCD-4C7F-8B89-6BFC6FE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A454A-D911-4E7B-BF56-2EC534A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4D235-554E-4A7E-91E8-3B3CB68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0B50B-B71D-4381-B85E-57EE760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83089-8EE1-47C5-8EE2-422A066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F80A3-8F83-4534-8C98-E7E89DAF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5B8-D920-4168-AA58-972D34A4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0BEA7-C075-4C1C-A7D4-C2F7E1C7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B275-65F9-4D55-BAFD-21F69B05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87D49-DBB2-489A-BC3C-37EFC4A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F118-D2F4-4198-A629-A4EE766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43012-0C05-4FD8-ABA8-7D0F1C8B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D80D7-8577-4FDF-9EB6-6924AC5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2C0B-A76D-40A0-8A6D-3758C7BB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9C334-B1B7-43AF-9986-292C120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020-C171-48EA-8E2A-895207B4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B9FC-7D6D-4498-85B8-6223206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F189-891D-4D73-8C80-8EF9660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60957-47A3-4509-B09B-C81A578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5F305-27A7-4C79-9618-3A3A9B3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41F9-C51C-4398-9E4F-CE37B1E5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5E0C-F415-41ED-923D-B9B74D7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4D2B-B4DA-45C9-88AA-EE15A4EA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3376-CA04-439C-B619-98350751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F788-A808-4C51-9408-62C236EF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4426-F087-4597-8502-29CE8C7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3F7-5C45-4709-9AB6-A76866C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5195-322E-42E3-8EA8-0498B516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D6E9-0752-4B8C-AB57-2433E42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1EBA-C323-4F96-8E67-BDD9A31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3B0B-2AD1-4A73-AB1C-FAAB65B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4F94-8EE0-443D-8E50-E380884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98E6-0228-4FDA-BA1B-4F7A2B3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744D-3E93-4AF9-9925-0F22682F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012A-F7BC-495C-AA06-F403CE77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E166-F42A-4A1C-9DA4-4AC24C85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3F94-7120-4972-B23A-B56A8AA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E04-2F9D-4A6B-BCDC-AEF979BC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E8BA-0E25-4717-95AB-0314509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2444-8B71-4D98-A5D0-84E76D25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5BDB-5D30-4EBD-97F9-6EE3AB8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649B-F4E7-4099-BCB2-36B1D86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1969-41B1-4CC8-BFC4-C6F7BED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8891-144E-407E-880E-7629668F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985D-BA11-497C-AA76-C4DF4D7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AA7E-14D9-4BD2-8530-B6B41A17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1697-A6CC-4E7A-AB0E-3DCEAD60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31A4-6CBE-4A55-882C-574D6556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B25-BA8D-46DC-9496-DDEF567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22A9A-D6C8-428B-B294-E795C58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913F-120E-4B1E-8C0A-FA18B626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9282-DDFB-4538-B9D4-3ADE8E86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2858-137E-449B-ABCF-A910C19B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8543-2494-40E6-856D-F9DEDC03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35A3-638B-49D5-B47B-2B3B627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647C-278C-406D-B925-BE89247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3849-5D56-4DE1-BEA6-3A4A910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E812-7BE8-488B-98C5-849A96B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E2CD-8219-4D4B-B425-172561F9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B54-29BB-4840-AAED-5C43195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2BA1-A5E9-4A6A-B64D-05AC2F05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0C41-91C0-452D-B142-5E0E5440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55E2-C50B-4FB8-AB26-EADA4BD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E299-8D52-4DCB-84D8-88999F2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9B5EA-A3FF-42B4-AEB5-54CF5E9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21AFA-8183-4171-A9C5-BFE2D8E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0A3A-E5F5-4E9D-801C-D1D8CE5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E201-30FA-4A1E-BD80-7B9203C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D9D30-C3E0-4D3F-AB7F-66A8449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EC5E-0E3F-4D0D-B990-BC35CB4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46E-B908-4F5F-993B-025B7B1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2008-3467-4EEA-B5DF-78F5D144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00F3-692D-4B2D-989B-7608F18D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177B-16F6-4922-B4FB-91B0479A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7887B-EC91-4A60-B711-D41DC665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E659-B8B9-469F-A68C-8736C73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CF80-5AB8-416D-BA12-01E2EC5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8CB8-7B62-4387-96F1-B1EE1FC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93CC-700F-4A03-823D-3C7935D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A482-A6CE-47CF-BE93-985CD38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117C-2B23-424E-B1D6-5C436FD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33B-29D7-40F4-BD06-B9DA7A9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9992-7E50-4ADB-9D9B-BF3E2A5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11B1-F77F-4E71-B20A-7D601E4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247F-C8FE-46CB-9825-A3BF4611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1401-DB85-417C-94DF-A43AA483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4BBBE-EEA8-4689-B8B4-E554E98D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3301-11C4-4F92-8B16-73652B7F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6FAA-6C15-4370-9107-1EA52BD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9DE3E-DEA4-460A-81C1-2D9D0A53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CBF6-C64F-4EC0-A664-139DAC1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114F-7696-464B-8723-F0F698E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C4D-630A-4795-889C-DDDC1B8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A2AD3-18F3-4B38-B0FD-18F10A00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88CFA-8623-44DE-B259-B63F0C6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60200-4897-4EA4-A314-B50054D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C48B-811D-4F8A-B8F2-687D0EB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515C-2E8B-4BBB-86B7-396226D1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D3A4-2606-4B14-B0C2-3784F539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6C32-F99A-41D4-AE9B-16140643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D13E6-62A1-4C69-9C2D-5A1340D0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27DB5-6450-4DBD-9A2D-FAA98EA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C6554-3005-4F60-B597-D3FD6E6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708-D082-4806-88A9-974EE111D36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2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3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63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4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D610-FB10-4216-9311-D02E7E430C6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BC6-4691-4BC0-A699-E23FA310E3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A07-2173-4D22-8FBD-586D723D5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36A-541E-4C66-ABF7-226C22F1D1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7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27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2E5A-A195-4759-BAB5-AEE37CD6914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B07-DB50-4FA8-9E0B-44C2B7B8892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40A-49F4-4CB8-8950-E643A918FC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E9BC-4696-43CB-814A-2A2F7E992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E83-F20F-47DF-9A29-3B5BB31FD2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оект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Птицы – наши друзь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 Секретарева О.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блюдая за птицами и помогая им, у детей сформируется эмоциональн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тношение к миру природы, они научатся радоваться, огорчатся, удивляться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иродным объектам. Мир природы станет неотъемлемой частью мира каждог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бен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ти научатся относится к себе как к части природы. Они научатся практически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йствиям по охране природы. Развиваются умственные способности дете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оторые проявляются в умении анализировать, делать вывод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 детей появляется желание общаться с природой и отражать свои впечатления через различные виды деятельности (создавать изопродукцию, в речевой деятельности, игре) научатся контролировать свои поступки, поведение при общении с природой, что бы не причинить ей вред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ультимедийность (или выпуск стенгазет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 проек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жное отношение к природе, осозн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жности ее охраны, формирование экокультуры и природоохранного сознания необходимо воспитывать именно сейчас, когда мир находится на грани экологической катастрофы.  Фундаментом экологической культуры являются достоверные знания по экологии и практические умения направленные на охрану природ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Подготовительный этап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говориться с родителями об изготовлении кормушек дома вместе с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обрать художественную литературу по теме для ч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готовление кормушек вместе с детьми в детском саду из бросового матери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ализация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еоретическая часть: составление плана мероприятий, разработка конспектов и сценария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ктическая част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Занятия по экологическому воспитанию познавательного цик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Развешивание кормушек на участке детского сада и пар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Создание фотоальбома «Мы и наши друзь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Изготовление паспорта для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Совместные мероприятия с ЦД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Связь с другими видами деятельност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игров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продуктив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коммуникативная (беседы, чтение худ. литер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) учебная (речевое развитие, рисование, лепка, аппликац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) релакса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Домашние зад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исование «Птичье каф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готовление рекламы любимой птицы или кормуш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Ι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ительный эта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зентация проекта (мультимедийное) или выпуск стенгаз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Picture 4" descr="P260210_19"/>
          <p:cNvPicPr/>
          <p:nvPr/>
        </p:nvPicPr>
        <p:blipFill>
          <a:blip r:embed="rId1"/>
          <a:stretch/>
        </p:blipFill>
        <p:spPr>
          <a:xfrm>
            <a:off x="4503600" y="337824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ханизм выпол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Создание условий для выполнения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Составление плана мероприя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Наблюдение на прогул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Познавательные занятия: рисование, лепка, развитие речи, аппликация, матема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Психогимнастика: изображение птиц с разным настроен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Чтение художественной литературы: Е.Чарушина, В.Бианки и др. автор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Экскурсии в пар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Экологические праздники «День земли», «Покормите птиц зимо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Конструктивные бес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4" name="Picture 4" descr="P260210_19"/>
          <p:cNvPicPr/>
          <p:nvPr/>
        </p:nvPicPr>
        <p:blipFill>
          <a:blip r:embed="rId1"/>
          <a:stretch/>
        </p:blipFill>
        <p:spPr>
          <a:xfrm>
            <a:off x="4788000" y="3780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мероприят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0" y="1600200"/>
          <a:ext cx="9144000" cy="4937040"/>
        </p:xfrm>
        <a:graphic>
          <a:graphicData uri="http://schemas.openxmlformats.org/drawingml/2006/table">
            <a:tbl>
              <a:tblPr/>
              <a:tblGrid>
                <a:gridCol w="571680"/>
                <a:gridCol w="560052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и развешивание кормушек (дети – родители – воспита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«Синичка – невеличка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вающее занятие «Где обедал воробе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«Меню для птиц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блюдение за повадками и поведением птиц на кормуш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я в зимний пар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бл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ему мы птиц называем своим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рузьями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24000" y="260280"/>
          <a:ext cx="8362800" cy="6607080"/>
        </p:xfrm>
        <a:graphic>
          <a:graphicData uri="http://schemas.openxmlformats.org/drawingml/2006/table">
            <a:tbl>
              <a:tblPr/>
              <a:tblGrid>
                <a:gridCol w="576000"/>
                <a:gridCol w="4999320"/>
                <a:gridCol w="2787480"/>
              </a:tblGrid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оприятия совместно с ЦД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рекламы  (дети – роди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блюдение за птичьими следами (научиться определять какая  птица оставила след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на лучший рисунок «Птичье каф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ти – роди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паспорта для птиц  (по итогам наблюд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ение художественной литературы по теме прое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кормка птиц на участке д/сада (совместно с родителя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фотоальбома (совместно с родителя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уск стенгазеты о жизни птиц и нашей работ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-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формацион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ктик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иентирова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срочный (5 месяцев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4" name="Picture 6" descr="P260210_19"/>
          <p:cNvPicPr/>
          <p:nvPr/>
        </p:nvPicPr>
        <p:blipFill>
          <a:blip r:embed="rId1"/>
          <a:stretch/>
        </p:blipFill>
        <p:spPr>
          <a:xfrm>
            <a:off x="4788000" y="3645000"/>
            <a:ext cx="4033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ить представления детей о знакомых птицах, их образе жизни и поведении, о связи с окружающей средой, роли человека в жизни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Обобщение знаний детей, полученные при наблюдении за птиц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 Развивать познавательный интерес и любознательность в процессе наблюдения за повадками птиц, их способом передвижения и поведением в стая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4000" y="-531720"/>
            <a:ext cx="80024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Вызвать желание помочь нашим крылатым друзьям в зимнюю бескормиц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 Научить детей правильно их подкармлив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 Помочь понять, что птицы нуждаются в помощи челове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 Учить объяснять наблюдаемое, что между птицами существуют определенные взаимоотнош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 Воспитывать вдумчивое, осознанное, эмоциональное отношение к окружающему мир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астники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таршего дошкольного возраста, педагоги, родител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ководители проекта: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и СекретареваО.Б. Ерохина Д.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ическое обеспе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блюдения за птиц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учение повадок, образа жизни и повед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еседы (конструктивны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кскурсии в пар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07:01Z</dcterms:created>
  <dc:creator>NEO</dc:creator>
  <dc:description/>
  <dc:language>en-US</dc:language>
  <cp:lastModifiedBy>MAX</cp:lastModifiedBy>
  <dcterms:modified xsi:type="dcterms:W3CDTF">2019-05-05T16:47:56Z</dcterms:modified>
  <cp:revision>6</cp:revision>
  <dc:subject/>
  <dc:title>Проект</dc:title>
</cp:coreProperties>
</file>