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B80-3A1D-4900-AFB0-CAFC3D59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B78-B969-4DF8-8D20-5B32F6A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FB828C-CD1C-4459-8561-18385B6D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605A0-8FE3-44D8-964F-0F5E4CCA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CF3E4-35B2-4A8C-B50C-31272C62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63C08-0637-45F4-BB99-FD5C184E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1A09A-1A80-439F-92A0-B0CDB89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74171-8A6B-43DA-864E-6BF313B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EAB507-5A02-49D2-BDD0-3B80F43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633685-B5B8-4CB4-8A75-0FAE026E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5D089-CD1E-4BD5-A2ED-3134C999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531E6-F2C3-4BAF-885D-0C83E268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04B-0C3F-436E-A8F3-21A4CDA8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C5F0E-35A5-4B6A-9663-FB300BB4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D3FDB-BB80-4373-ABCC-884C8344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370A1-8EDA-43B9-AC9E-BD059A9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F51AB-B9AA-4C83-84F7-847101C7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350B8-7821-4D99-A96A-6D7B21D2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8A08F-12FF-4862-8AB7-E4BF453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A383A-A629-49AD-9872-F757481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BE311-7F6E-496F-8F9E-1D7B6DF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FA133-2109-482D-9EAC-80AC7D45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1DE40-6247-410D-9766-15EE68BB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28A-35BD-4487-9339-BC14D544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592F6-B14A-443F-BD86-6A6C1C16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0C3C6-1FEB-43F0-B894-453561C2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3056-AEC9-452A-A6E2-42B171C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9D753-1469-4C7F-9016-6F709D6E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4F46C-15E9-40EE-9041-D4E1B963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F7B15-4B2A-412B-B5FA-AF23D0B7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08EAD-242E-4621-B85A-87713B66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A15E4-B75B-4196-A5C2-3BB9839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BB4-7A49-4339-BAEF-D8B75CF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A9A27-2BC8-44A3-B995-1645575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8BCCB-BF6C-42CF-9D35-7E27D8A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C48E7-4D2C-4F4A-A298-E852C71F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C4647-AACD-4D0B-90E8-DB58DD5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5E0F8-FA75-4289-AC3E-B6AF8915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9641-490E-435E-B642-207F039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ECEA-C9CD-4E24-BF03-C9E0B6B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8603-079F-4E3E-83CB-B3FA29C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A9C0-DF19-4DCD-8050-06B58E4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7AC43-7BA4-472C-AD69-58BAAE5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CE7-AE96-433A-9E62-36C98457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1143-0295-42C0-8FA8-6DB4A92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D6D0-B276-46A3-90AF-7ABC36C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54C9-8D00-4D9E-A6D0-076CF353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F61F-BC84-4B13-B517-B76F4F49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743D-C7F3-4EC5-B5BB-23850C3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1462-788F-4070-99AD-D580E48A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ECE3-6FB6-49A0-B421-7320BA1A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E6D7-7EAF-4989-9C46-E5284082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EC6E-293D-4CB9-B9D6-E2F876E0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2DCA-A53F-40E1-8D77-21F4460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D948-CB22-4BC2-9AD5-099F24B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C0B9-576C-472A-B969-492FFCA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134A-0DA0-4ED2-BB45-F6D2FCB8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A19D-C103-4157-A20A-3493B756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5A5C-EDDB-4E9E-8092-345E3E69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C779-030B-488A-BF80-0798C6CF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1225-4C38-4AB2-9370-090B7EFC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A861C-0A72-4430-B272-19780238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CCFB-D9D2-4507-B646-79F80B6C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D20F-F19B-4A40-B966-8D03EE37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425B-EE5A-42D3-985D-5B15582B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BC0-2962-4884-A300-02CB658E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407F-BDBA-4DBF-9D22-5B18D486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9929-299A-4E8C-A324-288D58E0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0124-59D0-46CF-8547-1807B2D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C398-A3E6-4B03-BFAA-D428B678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20077-47DE-4F7E-B9F0-59B6F029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3D63-06F5-4A27-9539-8EF0674D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67AC-1B1C-4510-8FA0-74CEDF3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07D33-2DCD-4FE4-8368-7AE05C1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A2025-FE20-40BC-84CC-0ED80806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AC43-02D2-4416-B713-675D84A1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050-C492-452C-909D-35D6F313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85556-FA70-46CC-BF4D-8942B1A4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4CC8E-B605-4A45-B989-6005CDEA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618DC-50C6-4FFC-BBF0-B78DA441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2C92-D064-4397-84A2-F71F0238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04CEE-16D8-4A80-ACC2-0CE3AB9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2218-5D04-44C6-925C-E69C594B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13CB-5F07-4BC3-B87D-D445408C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2C262-33E7-48B1-B527-32D25C1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FD9A-6A3F-4518-AB5D-D0A1EDB9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DCFD-B400-47E0-B741-FD35F7D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3FF-ABD7-4BDB-B0C7-DC1278E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29494-4816-41FD-B4B7-C914D3E1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21F0-2CFC-4D41-8562-7A9329D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23059-C65A-4249-A440-E2FF4B14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AAB4-BC7B-4938-A1C5-C10C017D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0FFB-351C-47F2-B1F3-2A5724A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AF5A-0CE7-4012-9B41-3416304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08129-FE33-43C7-BEA6-4D4EA2A9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EBD8-F6AA-4C00-A0CD-8BC2128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2B674-0674-44D0-953B-81DC058C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05428-B902-4A4D-ADC7-79ABDE46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483-FE9B-467E-AFB2-5C704A59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F6918-CE78-4BFB-8657-54E5B91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CDB6-AD67-4D51-86CE-2FE78A87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2A667-A26A-46F4-82B4-E6BD6E1A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1E40F-6D24-4A50-85C2-56F2728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497A-D161-4390-B153-1C07983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CA29A-559C-4DD6-9ACB-4BD3FAD7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88D9-AAFE-42EC-8C05-1C01E9D7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F1F42-5E06-4B91-9586-C954FBE8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E9443-6DE7-4DF8-B44A-18E48A5C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8863C-6F30-441D-974B-0369E0C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BB3-AE8E-4F8E-ACC6-DE5A93E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7860-A74E-47EE-9F8E-BB38DB57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8EF9-9EE4-465D-ABBB-AEEE81C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0A18-8E43-4A2C-97E9-3C448A2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23EA1-289D-40DA-B9AA-1191B5A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DA72-F296-4629-BD58-7F66D754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0B703-C47E-49E7-A6EA-D7828032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AB6D8-9475-4B1B-85E7-F200A18F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92A8C-90DC-48A4-B8CA-8DFE8C23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0D681-315C-40AB-BC58-808F640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B3506-61B3-4E37-BAC3-1F78456D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09.xml"/><Relationship Id="rId35" Type="http://schemas.openxmlformats.org/officeDocument/2006/relationships/slideLayout" Target="../slideLayouts/slideLayout110.xml"/><Relationship Id="rId36" Type="http://schemas.openxmlformats.org/officeDocument/2006/relationships/slideLayout" Target="../slideLayouts/slideLayout111.xml"/><Relationship Id="rId37" Type="http://schemas.openxmlformats.org/officeDocument/2006/relationships/slideLayout" Target="../slideLayouts/slideLayout112.xml"/><Relationship Id="rId38" Type="http://schemas.openxmlformats.org/officeDocument/2006/relationships/slideLayout" Target="../slideLayouts/slideLayout113.xml"/><Relationship Id="rId39" Type="http://schemas.openxmlformats.org/officeDocument/2006/relationships/slideLayout" Target="../slideLayouts/slideLayout114.xml"/><Relationship Id="rId40" Type="http://schemas.openxmlformats.org/officeDocument/2006/relationships/slideLayout" Target="../slideLayouts/slideLayout115.xml"/><Relationship Id="rId41" Type="http://schemas.openxmlformats.org/officeDocument/2006/relationships/slideLayout" Target="../slideLayouts/slideLayout116.xml"/><Relationship Id="rId42" Type="http://schemas.openxmlformats.org/officeDocument/2006/relationships/slideLayout" Target="../slideLayouts/slideLayout117.xml"/><Relationship Id="rId43" Type="http://schemas.openxmlformats.org/officeDocument/2006/relationships/slideLayout" Target="../slideLayouts/slideLayout118.xml"/><Relationship Id="rId44" Type="http://schemas.openxmlformats.org/officeDocument/2006/relationships/slideLayout" Target="../slideLayouts/slideLayout119.xml"/><Relationship Id="rId4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AC22-877F-4D53-B9A8-538B962DDFF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2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2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2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2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2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3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63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4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61A1-88BA-43F7-84C7-8D34586F7C9B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4"/>
    <p:sldLayoutId id="2147483767" r:id="rId35"/>
    <p:sldLayoutId id="2147483768" r:id="rId36"/>
    <p:sldLayoutId id="2147483769" r:id="rId37"/>
    <p:sldLayoutId id="2147483770" r:id="rId38"/>
    <p:sldLayoutId id="2147483771" r:id="rId39"/>
    <p:sldLayoutId id="2147483772" r:id="rId40"/>
    <p:sldLayoutId id="2147483773" r:id="rId41"/>
    <p:sldLayoutId id="2147483774" r:id="rId42"/>
    <p:sldLayoutId id="2147483775" r:id="rId43"/>
    <p:sldLayoutId id="2147483776" r:id="rId44"/>
    <p:sldLayoutId id="2147483777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346-DE92-4611-8BF1-55DF2A78BA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DAE-1383-4E66-AED0-BFC659C5A7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0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0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1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1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35D-CD5E-403A-9BBA-E6B5DE175E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6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6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6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6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0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72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3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4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5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6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7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27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8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8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C49-A8FD-4B62-B0AD-D97DB0859D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D07-A8FC-4837-9FE4-B5DD272F38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DEEE-0D61-4F0E-979B-7E2C13F9A6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0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11C7-EA55-42F4-9769-51980DCBB7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6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6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6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6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D82B-7B6C-4369-8569-7E91C3C44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Проект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7129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Птицы – наши друзь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: Секретарева О.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блюдая за птицами и помогая им, у детей сформируется эмоциональн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тношение к миру природы, они научатся радоваться, огорчатся, удивляться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иродным объектам. Мир природы станет неотъемлемой частью мира каждог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ебенк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ти научатся относится к себе как к части природы. Они научатся практически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ействиям по охране природы. Развиваются умственные способности дете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оторые проявляются в умении анализировать, делать вывод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 детей появляется желание общаться с природой и отражать свои впечатления через различные виды деятельности (создавать изопродукцию, в речевой деятельности, игре) научатся контролировать свои поступки, поведение при общении с природой, что бы не причинить ей вред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ультимедийность (или выпуск стенгазеты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ктуальность проек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жное отношение к природе, осозн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ажности ее охраны, формирование экокультуры и природоохранного сознания необходимо воспитывать именно сейчас, когда мир находится на грани экологической катастрофы.  Фундаментом экологической культуры являются достоверные знания по экологии и практические умения направленные на охрану природ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апы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Подготовительный этап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говориться с родителями об изготовлении кормушек дома вместе с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обрать художественную литературу по теме для чт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готовление кормушек вместе с детьми в детском саду из бросового матери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І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ализация проек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еоретическая часть: составление плана мероприятий, разработка конспектов и сценария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ктическая часть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Занятия по экологическому воспитанию познавательного цик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Развешивание кормушек на участке детского сада и пар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 Создание фотоальбома «Мы и наши друзь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 Изготовление паспорта для п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 Совместные мероприятия с ЦД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 Связь с другими видами деятельност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игров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продуктив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)коммуникативная (беседы, чтение худ. литер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) учебная (речевое развитие, рисование, лепка, аппликац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) релакса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Домашние зад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исование «Птичье кафе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готовление рекламы любимой птицы или кормуш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Ι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ительный эта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зентация проекта (мультимедийное) или выпуск стенгаз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Picture 4" descr="P260210_19"/>
          <p:cNvPicPr/>
          <p:nvPr/>
        </p:nvPicPr>
        <p:blipFill>
          <a:blip r:embed="rId1"/>
          <a:stretch/>
        </p:blipFill>
        <p:spPr>
          <a:xfrm>
            <a:off x="4503600" y="337824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ханизм выполн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Создание условий для выполнения проек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Составление плана мероприят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Наблюдение на прогул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 Познавательные занятия: рисование, лепка, развитие речи, аппликация, математ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Психогимнастика: изображение птиц с разным настроени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Чтение художественной литературы: Е.Чарушина, В.Бианки и др. авторо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Экскурсии в пар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Экологические праздники «День земли», «Покормите птиц зимой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Конструктивные бес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4" name="Picture 4" descr="P260210_19"/>
          <p:cNvPicPr/>
          <p:nvPr/>
        </p:nvPicPr>
        <p:blipFill>
          <a:blip r:embed="rId1"/>
          <a:stretch/>
        </p:blipFill>
        <p:spPr>
          <a:xfrm>
            <a:off x="4788000" y="378000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мероприят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0" y="1600200"/>
          <a:ext cx="9144000" cy="4937040"/>
        </p:xfrm>
        <a:graphic>
          <a:graphicData uri="http://schemas.openxmlformats.org/drawingml/2006/table">
            <a:tbl>
              <a:tblPr/>
              <a:tblGrid>
                <a:gridCol w="571680"/>
                <a:gridCol w="5600520"/>
                <a:gridCol w="2971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и развешивание кормушек (дети – родители – воспита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«Синичка – невеличка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вающее занятие «Где обедал воробе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седа «Меню для птиц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блюдение за повадками и поведением птиц на кормуш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курсия в зимний пар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бл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ему мы птиц называем своим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рузьями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324000" y="260280"/>
          <a:ext cx="8362800" cy="6607080"/>
        </p:xfrm>
        <a:graphic>
          <a:graphicData uri="http://schemas.openxmlformats.org/drawingml/2006/table">
            <a:tbl>
              <a:tblPr/>
              <a:tblGrid>
                <a:gridCol w="576000"/>
                <a:gridCol w="4999320"/>
                <a:gridCol w="2787480"/>
              </a:tblGrid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роприятия совместно с ЦД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рекламы  (дети – роди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блюдение за птичьими следами (научиться определять какая  птица оставила след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курс на лучший рисунок «Птичье кафе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ети – родител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зготовление паспорта для птиц  (по итогам наблюдения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тение художественной литературы по теме прое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кормка птиц на участке д/сада (совместно с родителя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–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формление фотоальбома (совместно с родителям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уск стенгазеты о жизни птиц и нашей работ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ябрь - Мар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ип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формацион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ктико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иентирован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должительность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срочный (5 месяцев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4" name="Picture 6" descr="P260210_19"/>
          <p:cNvPicPr/>
          <p:nvPr/>
        </p:nvPicPr>
        <p:blipFill>
          <a:blip r:embed="rId1"/>
          <a:stretch/>
        </p:blipFill>
        <p:spPr>
          <a:xfrm>
            <a:off x="4788000" y="3645000"/>
            <a:ext cx="4033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ить представления детей о знакомых птицах, их образе жизни и поведении, о связи с окружающей средой, роли человека в жизни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Обобщение знаний детей, полученные при наблюдении за птиц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 Развивать познавательный интерес и любознательность в процессе наблюдения за повадками птиц, их способом передвижения и поведением в стая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4000" y="-531720"/>
            <a:ext cx="80024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 Вызвать желание помочь нашим крылатым друзьям в зимнюю бескормиц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 Научить детей правильно их подкармлив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 Помочь понять, что птицы нуждаются в помощи человек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 Учить объяснять наблюдаемое, что между птицами существуют определенные взаимоотнош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 Воспитывать вдумчивое, осознанное, эмоциональное отношение к окружающему мир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Участники проек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таршего дошкольного возраста, педагоги, родител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уководители проекта: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спитатели СекретареваО.Б. Ерохина Д.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Методическое обеспеч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блюдения за птиц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зучение повадок, образа жизни и повед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еседы (конструктивные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кскурсии в пар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07:01Z</dcterms:created>
  <dc:creator>NEO</dc:creator>
  <dc:description/>
  <dc:language>en-US</dc:language>
  <cp:lastModifiedBy>MAX</cp:lastModifiedBy>
  <dcterms:modified xsi:type="dcterms:W3CDTF">2019-05-05T16:47:56Z</dcterms:modified>
  <cp:revision>6</cp:revision>
  <dc:subject/>
  <dc:title>Проект</dc:title>
</cp:coreProperties>
</file>