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7EE-5E95-42D6-80F7-A2F498A6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602-C960-4D05-8541-8D667AF4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03E-ECD6-4AD0-80DD-8A602B7B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9E6-796C-4825-86B7-128FA745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30A-8B2F-442D-B2AF-DFE8AE0E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519-BF54-4938-8580-AA4B9ECA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AB3-FB9E-4511-8D72-05B2254D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79A-FA41-4C60-AE78-37658BC7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CE1-E2B5-4A51-9A93-F19C3D26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B24-4486-4F76-803A-01A100E1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7FE-8806-4692-B369-34542C2B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0E6-EF45-4E29-B4AE-CA6D26AE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B9B9-60CD-4E17-824D-9D5007161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064720" cy="17287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Ф. Абрамов</a:t>
            </a:r>
            <a:br>
              <a:rPr sz="4000"/>
            </a:b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 «О чём плачут лошади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Картинка 1 из 378"/>
          <p:cNvPicPr/>
          <p:nvPr/>
        </p:nvPicPr>
        <p:blipFill>
          <a:blip r:embed="rId1"/>
          <a:stretch/>
        </p:blipFill>
        <p:spPr>
          <a:xfrm>
            <a:off x="468360" y="2708280"/>
            <a:ext cx="5076720" cy="38005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Сравним поведение геро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4038480" cy="360072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Начало расс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Герой говорит о своей </a:t>
            </a:r>
            <a:r>
              <a:rPr b="0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любви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к лошадям, с которыми были связаны самые теплые воспоминания его прошл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6000" y="907920"/>
            <a:ext cx="4248360" cy="360072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Конец расс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ко, не раздумывая, соверша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едатель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отношению к лошадям, отказываясь поддерживать веру Рыжухи в существование счастливых для всего их конского рода времен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24000" y="4581360"/>
            <a:ext cx="8640720" cy="2065680"/>
          </a:xfrm>
          <a:prstGeom prst="rect">
            <a:avLst/>
          </a:prstGeom>
          <a:solidFill>
            <a:srgbClr val="ffff00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атель в рассказе затрагивает  одну из нравственных проблем: отношение человека к самому се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проблема честности перед собой и ответственности за поступ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О чём заставил задуматься рассказ Ф. Абрамо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324000" y="1197000"/>
            <a:ext cx="2735280" cy="14400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ю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95280" y="2924280"/>
            <a:ext cx="273672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ёрст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24000" y="3645000"/>
            <a:ext cx="273672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разли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50920" y="4292640"/>
            <a:ext cx="3743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Редкая старушонка, редкая баба…проходила мимо безучастн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276720" y="5877000"/>
            <a:ext cx="1942920" cy="647640"/>
          </a:xfrm>
          <a:custGeom>
            <a:avLst/>
            <a:gdLst>
              <a:gd name="textAreaLeft" fmla="*/ 311760 w 1942920"/>
              <a:gd name="textAreaRight" fmla="*/ 1436760 w 194292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937" hR="21600" stAng="10800000" swAng="-5400000"/>
                <a:lnTo>
                  <a:pt x="12503" y="21600"/>
                </a:lnTo>
                <a:arcTo wR="6937" hR="21600" stAng="5400000" swAng="-2535065"/>
                <a:lnTo>
                  <a:pt x="21203" y="7200"/>
                </a:lnTo>
                <a:lnTo>
                  <a:pt x="16657" y="0"/>
                </a:lnTo>
                <a:lnTo>
                  <a:pt x="11317" y="7200"/>
                </a:lnTo>
                <a:lnTo>
                  <a:pt x="13477" y="7200"/>
                </a:lnTo>
                <a:arcTo wR="6937" hR="21600" stAng="2864935" swAng="2054669"/>
                <a:lnTo>
                  <a:pt x="9720" y="19786"/>
                </a:lnTo>
                <a:arcTo wR="6937" hR="21600" stAng="5880395" swAng="4919605"/>
                <a:close/>
              </a:path>
              <a:path fill="darkenLess" w="21600" h="21600">
                <a:moveTo>
                  <a:pt x="0" y="0"/>
                </a:moveTo>
                <a:arcTo wR="6937" hR="21600" stAng="10800000" swAng="-5400000"/>
                <a:lnTo>
                  <a:pt x="12503" y="21600"/>
                </a:lnTo>
                <a:arcTo wR="6937" hR="21600" stAng="5400000" swAng="480395"/>
                <a:lnTo>
                  <a:pt x="9720" y="19786"/>
                </a:lnTo>
                <a:arcTo wR="6937" hR="21600" stAng="5880395" swAng="4919605"/>
                <a:close/>
              </a:path>
            </a:pathLst>
          </a:custGeom>
          <a:solidFill>
            <a:srgbClr val="bbe0e3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2"/>
          <p:cNvSpPr txBox="1"/>
          <p:nvPr/>
        </p:nvSpPr>
        <p:spPr>
          <a:xfrm rot="5400000">
            <a:off x="2689560" y="3202920"/>
            <a:ext cx="3384720" cy="668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ыдно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4859280" y="1268280"/>
            <a:ext cx="3889440" cy="338580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. А. Абрамов стремился показать, что исчезновение связей человека с животными, с землей, с природой может обернуться очень серьезными последствиями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148360" y="4869000"/>
            <a:ext cx="3816360" cy="16185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счезнут любовь, доброта, забота, — изменится сама человеческая сущность, изменятся отношения и в людском обще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Фёдор  Александрович Абрамов. (1920-198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BRAMOV_Fedor_Aleksandrovich_5"/>
          <p:cNvPicPr/>
          <p:nvPr/>
        </p:nvPicPr>
        <p:blipFill>
          <a:blip r:embed="rId1"/>
          <a:stretch/>
        </p:blipFill>
        <p:spPr>
          <a:xfrm>
            <a:off x="468360" y="1557360"/>
            <a:ext cx="2590920" cy="4608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46" name="Picture 7" descr="Картинка 4 из 2942"/>
          <p:cNvPicPr/>
          <p:nvPr/>
        </p:nvPicPr>
        <p:blipFill>
          <a:blip r:embed="rId2"/>
          <a:stretch/>
        </p:blipFill>
        <p:spPr>
          <a:xfrm>
            <a:off x="3348000" y="2349360"/>
            <a:ext cx="5076720" cy="375300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  <p:pic>
        <p:nvPicPr>
          <p:cNvPr id="47" name="Picture 9" descr="Картинка 9 из 2942"/>
          <p:cNvPicPr/>
          <p:nvPr/>
        </p:nvPicPr>
        <p:blipFill>
          <a:blip r:embed="rId3"/>
          <a:stretch/>
        </p:blipFill>
        <p:spPr>
          <a:xfrm>
            <a:off x="6588000" y="333360"/>
            <a:ext cx="1863720" cy="185436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  <p:sp>
        <p:nvSpPr>
          <p:cNvPr id="48" name="Text Box 10"/>
          <p:cNvSpPr/>
          <p:nvPr/>
        </p:nvSpPr>
        <p:spPr>
          <a:xfrm>
            <a:off x="179280" y="4940280"/>
            <a:ext cx="87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0" y="4194000"/>
            <a:ext cx="9144000" cy="266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684360" y="472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. Абрамова называли – “соль земли”, т. е. такие люди хранят в своей душе необыкновенный запас добра и понимания; своим трудом, своим творчеством они приносят добро, свет в души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ёдор Абрамов – автор романов, повестей, рассказов о жизни деревни. Какие проблемы волновали писа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68360" y="1773360"/>
            <a:ext cx="8280360" cy="2113200"/>
          </a:xfrm>
          <a:prstGeom prst="rect">
            <a:avLst/>
          </a:prstGeom>
          <a:solidFill>
            <a:srgbClr val="99cc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Ф. А. Абрамов родился и вырос в Архангельской области, в красивейшем краю белых ночей и бескрайних лесов, краю былин и сказ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И окружающая природа сыграла большую роль в жизни и творчестве писа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2843280" y="3500280"/>
            <a:ext cx="1152360" cy="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11280" y="4221000"/>
            <a:ext cx="8137440" cy="1922760"/>
          </a:xfrm>
          <a:prstGeom prst="rect">
            <a:avLst/>
          </a:prstGeom>
          <a:solidFill>
            <a:srgbClr val="ffff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Его чуткому сердцу печально было наблюдать за тем, как редеют прекрасные леса, исчезают или терпят бедствия животные. Он сознавал, что во многом в страданиях животных, в гибели природы виноват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1332000" y="5013360"/>
            <a:ext cx="3527280" cy="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5148360" y="5013360"/>
            <a:ext cx="2736720" cy="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826920" y="5373720"/>
            <a:ext cx="2951280" cy="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6588000" y="5734080"/>
            <a:ext cx="115272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826920" y="6093000"/>
            <a:ext cx="108108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13"/>
          <p:cNvSpPr txBox="1"/>
          <p:nvPr/>
        </p:nvSpPr>
        <p:spPr>
          <a:xfrm rot="5400000">
            <a:off x="-2596680" y="3251880"/>
            <a:ext cx="5732280" cy="1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ологичес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15"/>
          <p:cNvSpPr txBox="1"/>
          <p:nvPr/>
        </p:nvSpPr>
        <p:spPr>
          <a:xfrm rot="5400000">
            <a:off x="6210000" y="3301920"/>
            <a:ext cx="5398920" cy="4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нравственные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Бараки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– здания лёгкой постройки, предназначенные для временного жил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ернина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– дёрн – густо заросший травой, сплетённый корнями многолетних растений верхний слой поч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ван-чай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– крупное травянистое растение с пурпурно-розовыми цв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есопункт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– пункт лесоза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тати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(стать) – телосложение, общий склад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гор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– (диалект.) – приго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«Чёртом выгибались»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- молодцевато выгля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Какие чувства вызывали у рассказчика лошади? Найдите в тексте слова автора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Дет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H="1">
            <a:off x="755280" y="2637000"/>
            <a:ext cx="431640" cy="647640"/>
          </a:xfrm>
          <a:prstGeom prst="line">
            <a:avLst/>
          </a:prstGeom>
          <a:ln w="572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1547640" y="2637000"/>
            <a:ext cx="648000" cy="504720"/>
          </a:xfrm>
          <a:prstGeom prst="line">
            <a:avLst/>
          </a:prstGeom>
          <a:ln w="572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3429000"/>
            <a:ext cx="1657080" cy="1922760"/>
          </a:xfrm>
          <a:prstGeom prst="rect">
            <a:avLst/>
          </a:prstGeom>
          <a:solidFill>
            <a:srgbClr val="ffff00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ахучих трав, стрекоз, баб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268360" y="2924280"/>
            <a:ext cx="1800360" cy="459720"/>
          </a:xfrm>
          <a:prstGeom prst="rect">
            <a:avLst/>
          </a:prstGeom>
          <a:solidFill>
            <a:srgbClr val="bbe0e3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ш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2987640" y="3429000"/>
            <a:ext cx="0" cy="576360"/>
          </a:xfrm>
          <a:prstGeom prst="line">
            <a:avLst/>
          </a:prstGeom>
          <a:ln w="572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124000" y="4005360"/>
            <a:ext cx="4753080" cy="2494080"/>
          </a:xfrm>
          <a:prstGeom prst="rect">
            <a:avLst/>
          </a:prstGeom>
          <a:solidFill>
            <a:srgbClr val="ffff00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дкармли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ружелюбно похлопы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дбадривал ласковым сло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Трепал по бархатным губ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6948360" y="5300640"/>
            <a:ext cx="1295640" cy="1224000"/>
          </a:xfrm>
          <a:custGeom>
            <a:avLst/>
            <a:gdLst>
              <a:gd name="textAreaLeft" fmla="*/ 0 w 1295640"/>
              <a:gd name="textAreaRight" fmla="*/ 1110600 w 1295640"/>
              <a:gd name="textAreaTop" fmla="*/ 81612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09999"/>
          </a:solidFill>
          <a:ln w="57240">
            <a:solidFill>
              <a:srgbClr val="6600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7020000" y="3716280"/>
            <a:ext cx="194472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зноречивые чув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"/>
          <p:cNvSpPr/>
          <p:nvPr/>
        </p:nvSpPr>
        <p:spPr>
          <a:xfrm flipV="1">
            <a:off x="7596360" y="2923920"/>
            <a:ext cx="0" cy="64908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780000" y="1197000"/>
            <a:ext cx="5184720" cy="1800360"/>
          </a:xfrm>
          <a:prstGeom prst="rect">
            <a:avLst/>
          </a:prstGeom>
          <a:solidFill>
            <a:srgbClr val="bbe0e3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олновали, радо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Часами смотр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Добрые, ум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слушивался в похрустыв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фырк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Почему герой испытывает чувство вины перед лошадь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Отношение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997520"/>
          </a:xfrm>
          <a:prstGeom prst="rect">
            <a:avLst/>
          </a:pr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А вы как относитесь к лошадя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Крутая холка, ясный, полный глаз,</a:t>
            </a:r>
            <a:br>
              <a:rPr sz="2400"/>
            </a:b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Сухие ноги, круглые копыта, </a:t>
            </a:r>
            <a:br>
              <a:rPr sz="2400"/>
            </a:b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Густые щётки, кожа, как атлас,</a:t>
            </a:r>
            <a:br>
              <a:rPr sz="2400"/>
            </a:b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А ноздри ветру широко открыты.</a:t>
            </a:r>
            <a:br>
              <a:rPr sz="2400"/>
            </a:b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Грудь широка, а голова мала, - </a:t>
            </a:r>
            <a:br>
              <a:rPr sz="2400"/>
            </a:b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Таким его природа созд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ильям Шексп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50920" y="2133720"/>
            <a:ext cx="40320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юх  Миколка – «иногда день и ночь не заявлялся к ни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50920" y="3573360"/>
            <a:ext cx="3959280" cy="30351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Дернина изгрызена и выбита дочер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мились, умирали от жаж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нимал гнус, тучей клубились комары и мошк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«Я не шёл – бежал к лошадям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Мезенки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екрупные, но выносливые и неприхотливые, хорошо приспособленные к условиям севера лошад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каурый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- темно-коричневая масть лошади, отсюда их клички - Карьки, Карюх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гнедой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- красно- коричневый окрас с чёрной гривой и хвостом, клички - Гнедки, Гнедух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воро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- чёрный окрас лошади, клички - Воронки, Воронухи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чалый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- светло-коричневый, даже палевый окрас шерсти лоша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Чем Рыжуха отличалась от других лошадей, доходяг и кляч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Кобылка чистая, сохранила весёлый, неунывающий характер, вытягивалась в струнку, подавала звонкий  гол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Сегодня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: «не выказывала ни малейшего воодушевления». Окаменело. Слёзы. «Большие, с добрую фасолину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4360" y="1916280"/>
            <a:ext cx="56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?id=151762926-19-72&amp;n=17"/>
          <p:cNvPicPr/>
          <p:nvPr/>
        </p:nvPicPr>
        <p:blipFill>
          <a:blip r:embed="rId1"/>
          <a:stretch/>
        </p:blipFill>
        <p:spPr>
          <a:xfrm>
            <a:off x="971640" y="4653000"/>
            <a:ext cx="1714320" cy="142884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  <p:pic>
        <p:nvPicPr>
          <p:cNvPr id="89" name="Picture 8" descr="i?id=338353579-11-72&amp;n=17"/>
          <p:cNvPicPr/>
          <p:nvPr/>
        </p:nvPicPr>
        <p:blipFill>
          <a:blip r:embed="rId2"/>
          <a:stretch/>
        </p:blipFill>
        <p:spPr>
          <a:xfrm>
            <a:off x="4643280" y="4581360"/>
            <a:ext cx="1351080" cy="142884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  <p:sp>
        <p:nvSpPr>
          <p:cNvPr id="90" name="Text Box 9"/>
          <p:cNvSpPr/>
          <p:nvPr/>
        </p:nvSpPr>
        <p:spPr>
          <a:xfrm>
            <a:off x="6516720" y="4292640"/>
            <a:ext cx="2376360" cy="2113200"/>
          </a:xfrm>
          <a:prstGeom prst="rect">
            <a:avLst/>
          </a:prstGeom>
          <a:solidFill>
            <a:srgbClr val="bbe0e3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яков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За каплищей каплища по морде кат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«Лошадиная жизнь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Были врем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Жалели, берег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Называли кормил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Холили и ласк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частливые лошадиные врем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Сего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чки лошад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я, Победа, Ударница, Звез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ец 30-х годов, основная рабочая сила на селе трактор, о лошадях стали меньше забот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39640" y="5300640"/>
            <a:ext cx="2664000" cy="1191240"/>
          </a:xfrm>
          <a:prstGeom prst="rect">
            <a:avLst/>
          </a:prstGeom>
          <a:solidFill>
            <a:srgbClr val="ffff00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едмет гордости: кормил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5:36:46Z</dcterms:created>
  <dc:creator>Монгуш Владимир</dc:creator>
  <dc:description/>
  <dc:language>en-US</dc:language>
  <cp:lastModifiedBy>Анна Аки</cp:lastModifiedBy>
  <dcterms:modified xsi:type="dcterms:W3CDTF">2019-04-19T19:24:22Z</dcterms:modified>
  <cp:revision>9</cp:revision>
  <dc:subject/>
  <dc:title>Ф. Абрамов «О чём плачут лошади».</dc:title>
</cp:coreProperties>
</file>