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34E-10F8-47BA-800F-E56C4D88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B7D-A0D4-44F3-A86A-5C708B0F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E3D-C06C-4CB6-917A-4B4C8612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D6A-9392-42FC-86B6-4D22F65E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395-DB78-4F4B-AE05-7C0E679D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AFA-8D73-4AA1-848E-24665F8A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01A-CAAA-42FA-A9A1-DD71BC24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32D-2793-499A-8DCF-990FF29B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AE2-356A-4F12-9E43-EB839E2F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463-D7E5-4FFD-9202-C7B7DAC8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E97-0F11-4DCF-86E5-14365DBF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F4B-29C4-46A7-AE70-C97741C0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F218-754A-408C-9B9F-94E2559DB1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14400" y="476280"/>
            <a:ext cx="5500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«Читающий лицей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30040" y="3782880"/>
            <a:ext cx="304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ирина Светлана Алекс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50920" y="1781280"/>
            <a:ext cx="7964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ние условий для формирования грамотного чита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849960" y="476280"/>
            <a:ext cx="17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-2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s://cdn1.imgbb.ru/bazar/46/462241/201511/254346cdc81c8b0ea6906d0117ce6a1d.jpg"/>
          <p:cNvPicPr/>
          <p:nvPr/>
        </p:nvPicPr>
        <p:blipFill>
          <a:blip r:embed="rId1"/>
          <a:srcRect l="4547" t="5946" r="11974" b="5459"/>
          <a:stretch/>
        </p:blipFill>
        <p:spPr>
          <a:xfrm>
            <a:off x="4211640" y="3213000"/>
            <a:ext cx="2108160" cy="298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img-gorod.ru/upload/iblock/36c/36cc99e48f04d2c9fe710698f99ebd8d.jpg"/>
          <p:cNvPicPr/>
          <p:nvPr/>
        </p:nvPicPr>
        <p:blipFill>
          <a:blip r:embed="rId2"/>
          <a:stretch/>
        </p:blipFill>
        <p:spPr>
          <a:xfrm>
            <a:off x="6588000" y="3240000"/>
            <a:ext cx="202104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грамма «Умное  чтение»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900000" y="996840"/>
            <a:ext cx="3068640" cy="5456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5637240" y="996840"/>
            <a:ext cx="307008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Читающий лице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456240" cy="3632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"/>
          <p:cNvPicPr/>
          <p:nvPr/>
        </p:nvPicPr>
        <p:blipFill>
          <a:blip r:embed="rId2"/>
          <a:srcRect l="0" t="23752" r="0" b="19550"/>
          <a:stretch/>
        </p:blipFill>
        <p:spPr>
          <a:xfrm>
            <a:off x="179280" y="2970360"/>
            <a:ext cx="3857760" cy="3887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"/>
          <p:cNvPicPr/>
          <p:nvPr/>
        </p:nvPicPr>
        <p:blipFill>
          <a:blip r:embed="rId3"/>
          <a:srcRect l="0" t="32194" r="0" b="16952"/>
          <a:stretch/>
        </p:blipFill>
        <p:spPr>
          <a:xfrm>
            <a:off x="4643280" y="2948040"/>
            <a:ext cx="43246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0" y="17640"/>
            <a:ext cx="38577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5286240" y="-1764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аматиза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119560" cy="2880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2916360" y="3327480"/>
            <a:ext cx="59227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05:35:34Z</dcterms:created>
  <dc:creator>46</dc:creator>
  <dc:description/>
  <dc:language>en-US</dc:language>
  <cp:lastModifiedBy>1</cp:lastModifiedBy>
  <dcterms:modified xsi:type="dcterms:W3CDTF">2019-05-05T05:07:35Z</dcterms:modified>
  <cp:revision>56</cp:revision>
  <dc:subject/>
  <dc:title>«Информатика в играх и задачах» 2 класс</dc:title>
</cp:coreProperties>
</file>