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4E6-C9B3-4C58-8B43-4577AB81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848-A98B-4C07-A2F1-F7A6BC5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C02-5140-407D-8022-C636890D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45C-EF54-4E58-BC30-6CCB319D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EBA-CA10-48B6-B7C0-E8FCA41E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E3B1-2A82-4A85-8FC5-9048D017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E52B-76B3-4DEF-A2AB-BA2C8A50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8E79-1F71-48B5-BE59-097F447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C53C-A1B8-4F18-8C5D-557F2AA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D13-D559-4F3F-9DCC-ACAD94A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67F-DBF6-4CA2-9B97-79059E5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2D7-D179-46B7-8873-0B96F818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FBD6-155A-4544-A40F-03E3F479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437-8FCC-45D4-8B12-3A8FC6A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8925-1892-469C-9BCE-FA5E7F5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3254-11B7-4604-99F7-D4471745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8199-2228-4F2B-B370-7CDB7C40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E9D6-25D7-492B-BD62-000E5892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0FCD-11F1-4389-816B-C57CCFF0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1FE7-FBA6-4292-873A-0A0E0FB5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465C-3548-4184-955B-E3F1E49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40F1-11BB-44E0-9089-8E0F18BC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7F2-934F-49DB-86DF-AB934B7C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F2CB-7320-4048-8F1B-EC57EF14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7997-39D0-4D42-AD20-346CFE3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D87A-206F-4613-88EB-C47BB8F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F05B-83F5-4A7B-A59F-36BB4AC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0913-255F-47D5-87A9-ED7DB59A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B2FB-CC24-4626-A5E3-DCBCB5A4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D314-7515-4F25-A90F-8FE55894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107A-4D49-41E8-A435-C6D50BEA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5617-42D5-4FB5-85A6-A744BC0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AE70-9C6E-45D0-89B7-3EB36E2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C24-8B91-454F-AD13-0357456F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20DC-39C4-417A-A9D4-F0C7F26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A369-2079-4B94-A4E2-08446CA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E13D-7F0A-42FF-B3EB-C87B207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83DF-2911-4F07-A0AF-826FD7B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F8E6-CFBB-4FB7-B947-A2E1F7E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65C4-0159-4824-B511-AFB23A6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5204-BB9C-4818-B662-B6D91BA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936A-2CE1-401D-95DF-7124A63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C7CF-2547-4C05-ACE5-E420DD68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CA1C-2288-412D-B6FA-15C6FDD6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079-36C3-45FD-BB3C-A551054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67CD-8721-469A-A560-3D2C27E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DBEC-992F-4B14-A37E-0811DDC1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9E33-0A87-4BE0-AF8D-6097B92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B37A-CF51-444C-A834-3700604F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40F93-EAED-4C07-9C3C-EDADADE6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5108-A525-42CD-BB88-A658CF5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ED01-C3D2-4BBC-B737-8328D5E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6500-8548-48E1-BAE3-186AFF0C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BB5D-9617-4BBF-BE1A-E618127B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7587-9030-4D61-90BC-5E49172A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9FF-39BC-4E3F-8F66-98A44B7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10A5-6751-4AD7-8E14-D050CA07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6AF9-A754-4A03-954B-190DE1C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5306-1479-48C1-BFBC-B2A0D4B9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13DAD-C96E-4318-AAF0-5DF45FF7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CCB5-EB9F-48BD-809F-843FC7F4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25A3A-D613-47A5-AC65-6805291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35AC-EAF9-429C-9BF3-E27AAA4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11A5-2356-46DF-A07D-6F736C0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B70B-CFF4-4E15-ADAE-EBB0BB66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82A9-05CC-49F9-96CC-59392E5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36A-B9B9-4B2E-AFD4-3D1D2C74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47F1E-3C79-4D85-AE05-AE8C694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968B-BBBE-4EB4-84EE-2B973609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F14E-29CB-41C5-9F63-0722D5B7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0B76-FF39-4488-9E60-F01DCA60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4DDD-AA95-4122-BD2C-E986F263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EE9F-7C1D-4C4B-B885-03F59B45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D873-EBFA-4FD3-898C-F69B117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3079-7610-408C-88BA-3CE54A29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D2703-10D5-48AA-BDFE-957CE743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418C-5BF4-46A7-AB31-ACBF932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D4E-8FC2-4740-B2D7-FAD48C7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9D84-0B1F-4EBF-AB3D-EE8A873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E538C-4E1D-4D85-BDE6-118B57D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7818-8CBB-4C40-AF1A-FA583DF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BB04-F92B-490D-8D61-D7A9B2BB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843D7-69A3-42B3-B14F-7B439F4A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42AF-93BF-46AF-A3E1-7A8641B5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9356-D4D9-4A35-8D56-EFF23BE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D3CA4-55CA-4005-9A05-8B3128A8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FB3F3-15C2-4D52-B72E-71CBCDD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126C0-A854-40DB-A29A-644F815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1F0-0851-4AB4-927C-C6EA4E3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EAB2-7B9B-462F-92B2-696D5EF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C6A4E-ED47-47E7-A9A1-F827880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EC0C-7D56-44D9-BD0C-5EE0E58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DC9F-B445-4D83-92DA-ED5A978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B98E-0718-4C67-9653-7E0AADD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8441-4B8B-458C-BD12-C507FA20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E09FA-D8EC-4DC4-8DDB-BEF1387A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6AB-747A-4395-B5AB-E55A27F4B2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AC73-A418-4063-A536-5625DC9041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AEC-C6DC-4784-8BDE-CBF41B94B2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7044-B18C-4318-8E38-475F489B7A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2BD-4085-4F19-B3BD-DA9D80CAE4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91E-8078-4604-A684-A720E11581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9D9-8D10-4F33-B544-97A9FC3FD7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B22-DA40-4D08-B8A4-E5E9E13A60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133200" y="1189080"/>
            <a:ext cx="9521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81160" y="884160"/>
            <a:ext cx="8369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Users\asus\Desktop\Новая папка\2009-01-06\Изображение0004.JPG"/>
          <p:cNvPicPr/>
          <p:nvPr/>
        </p:nvPicPr>
        <p:blipFill>
          <a:blip r:embed="rId1"/>
          <a:stretch/>
        </p:blipFill>
        <p:spPr>
          <a:xfrm>
            <a:off x="4389480" y="714240"/>
            <a:ext cx="4754520" cy="5857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-262080" y="195120"/>
            <a:ext cx="4389480" cy="152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asus\Desktop\Новая папка\2009-01-06\Изображение0005.JPG"/>
          <p:cNvPicPr/>
          <p:nvPr/>
        </p:nvPicPr>
        <p:blipFill>
          <a:blip r:embed="rId3"/>
          <a:stretch/>
        </p:blipFill>
        <p:spPr>
          <a:xfrm>
            <a:off x="357120" y="2071800"/>
            <a:ext cx="35719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asus\Desktop\Новая папка\2009-01-06\Изображение0007.JPG"/>
          <p:cNvPicPr/>
          <p:nvPr/>
        </p:nvPicPr>
        <p:blipFill>
          <a:blip r:embed="rId1"/>
          <a:stretch/>
        </p:blipFill>
        <p:spPr>
          <a:xfrm>
            <a:off x="285840" y="2643120"/>
            <a:ext cx="3046320" cy="400068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-19080" y="639720"/>
            <a:ext cx="3780000" cy="1341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asus\Desktop\Новая папка\2009-01-06\Изображение0006.JPG"/>
          <p:cNvPicPr/>
          <p:nvPr/>
        </p:nvPicPr>
        <p:blipFill>
          <a:blip r:embed="rId3"/>
          <a:stretch/>
        </p:blipFill>
        <p:spPr>
          <a:xfrm>
            <a:off x="3589200" y="142920"/>
            <a:ext cx="531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4291200" cy="5808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asus\Desktop\лена\Новая папка\картинки\Изображение0011.JP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Users\asus\Desktop\Новая папка\2009-01-06\Изображение0012.JPG"/>
          <p:cNvPicPr/>
          <p:nvPr/>
        </p:nvPicPr>
        <p:blipFill>
          <a:blip r:embed="rId1"/>
          <a:stretch/>
        </p:blipFill>
        <p:spPr>
          <a:xfrm>
            <a:off x="3786120" y="-11160"/>
            <a:ext cx="5357880" cy="686916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-262080" y="2451240"/>
            <a:ext cx="39006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:\Users\asus\Desktop\Новая папка\2009-01-06\Изображение0016.JPG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-225360" y="1639800"/>
            <a:ext cx="36702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4" descr="Как сделать гигантские розы (15 фото)"/>
          <p:cNvPicPr/>
          <p:nvPr/>
        </p:nvPicPr>
        <p:blipFill>
          <a:blip r:embed="rId1"/>
          <a:stretch/>
        </p:blipFill>
        <p:spPr>
          <a:xfrm>
            <a:off x="214200" y="428760"/>
            <a:ext cx="2897280" cy="19159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" descr="Как сделать гигантские розы (15 фото)"/>
          <p:cNvPicPr/>
          <p:nvPr/>
        </p:nvPicPr>
        <p:blipFill>
          <a:blip r:embed="rId2"/>
          <a:stretch/>
        </p:blipFill>
        <p:spPr>
          <a:xfrm>
            <a:off x="3143160" y="428760"/>
            <a:ext cx="2857680" cy="18748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2" descr="Как сделать гигантские розы (15 фото)"/>
          <p:cNvPicPr/>
          <p:nvPr/>
        </p:nvPicPr>
        <p:blipFill>
          <a:blip r:embed="rId3"/>
          <a:stretch/>
        </p:blipFill>
        <p:spPr>
          <a:xfrm>
            <a:off x="6072120" y="428760"/>
            <a:ext cx="2928960" cy="19080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Как сделать гигантские розы (15 фото)"/>
          <p:cNvPicPr/>
          <p:nvPr/>
        </p:nvPicPr>
        <p:blipFill>
          <a:blip r:embed="rId4"/>
          <a:stretch/>
        </p:blipFill>
        <p:spPr>
          <a:xfrm>
            <a:off x="214200" y="2428920"/>
            <a:ext cx="2857680" cy="18795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Как сделать гигантские розы (15 фото)"/>
          <p:cNvPicPr/>
          <p:nvPr/>
        </p:nvPicPr>
        <p:blipFill>
          <a:blip r:embed="rId5"/>
          <a:stretch/>
        </p:blipFill>
        <p:spPr>
          <a:xfrm>
            <a:off x="3178080" y="2428920"/>
            <a:ext cx="2822760" cy="18572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Как сделать гигантские розы (15 фото)"/>
          <p:cNvPicPr/>
          <p:nvPr/>
        </p:nvPicPr>
        <p:blipFill>
          <a:blip r:embed="rId6"/>
          <a:stretch/>
        </p:blipFill>
        <p:spPr>
          <a:xfrm>
            <a:off x="6143760" y="2444760"/>
            <a:ext cx="2786040" cy="18414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Как сделать гигантские розы (15 фото)"/>
          <p:cNvPicPr/>
          <p:nvPr/>
        </p:nvPicPr>
        <p:blipFill>
          <a:blip r:embed="rId7"/>
          <a:stretch/>
        </p:blipFill>
        <p:spPr>
          <a:xfrm>
            <a:off x="214200" y="4429080"/>
            <a:ext cx="2786040" cy="18432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9" descr="Как сделать гигантские розы (15 фото)"/>
          <p:cNvPicPr/>
          <p:nvPr/>
        </p:nvPicPr>
        <p:blipFill>
          <a:blip r:embed="rId8"/>
          <a:stretch/>
        </p:blipFill>
        <p:spPr>
          <a:xfrm>
            <a:off x="3429000" y="4429080"/>
            <a:ext cx="2244600" cy="2071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3" descr="Как сделать гигантские розы (15 фото)"/>
          <p:cNvPicPr/>
          <p:nvPr/>
        </p:nvPicPr>
        <p:blipFill>
          <a:blip r:embed="rId9"/>
          <a:stretch/>
        </p:blipFill>
        <p:spPr>
          <a:xfrm>
            <a:off x="6143760" y="4500720"/>
            <a:ext cx="2779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158840" y="450720"/>
            <a:ext cx="7064280" cy="914400"/>
          </a:xfrm>
          <a:prstGeom prst="rect">
            <a:avLst/>
          </a:prstGeom>
          <a:ln w="0">
            <a:noFill/>
          </a:ln>
        </p:spPr>
      </p:pic>
      <p:sp>
        <p:nvSpPr>
          <p:cNvPr id="394" name="Заголовок 1"/>
          <p:cNvSpPr/>
          <p:nvPr/>
        </p:nvSpPr>
        <p:spPr>
          <a:xfrm>
            <a:off x="857160" y="1857240"/>
            <a:ext cx="6543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28760" y="207180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брать цветок и поместить его на праздничном столе, придав ему эстети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2:28:23Z</dcterms:created>
  <dc:creator>asus</dc:creator>
  <dc:description/>
  <dc:language>en-US</dc:language>
  <cp:lastModifiedBy>Усынина</cp:lastModifiedBy>
  <dcterms:modified xsi:type="dcterms:W3CDTF">2019-05-05T16:08:43Z</dcterms:modified>
  <cp:revision>54</cp:revision>
  <dc:subject/>
  <dc:title>Тема: «Сервировка стола к обеду».</dc:title>
</cp:coreProperties>
</file>