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13.png" ContentType="image/png"/>
  <Override PartName="/ppt/media/image5.jpeg" ContentType="image/jpeg"/>
  <Override PartName="/ppt/media/image2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22.jpeg" ContentType="image/jpeg"/>
  <Override PartName="/ppt/media/image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5.png" ContentType="image/png"/>
  <Override PartName="/ppt/media/image24.jpeg" ContentType="image/jpeg"/>
  <Override PartName="/ppt/media/image16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9.jpeg" ContentType="image/jpeg"/>
  <Override PartName="/ppt/media/image21.jpeg" ContentType="image/jpeg"/>
  <Override PartName="/ppt/media/image2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02BD-E065-44A9-81B0-457BB1DF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6DD3-F55A-4ADD-AD35-11BD4F32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66C6-24EA-497F-A00E-02CB21AC6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911A-2DE5-49FF-B1E5-FD8B9C79C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AFFB-F6FD-447C-ABDD-0614B87AE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DF44-9A25-42D2-8BE8-303FC749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6173-0A5A-47AB-BFDE-4346946C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4047-FE1A-4D21-BB96-0A40DBBC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F22B-A4B3-47B8-A3B4-9CADA021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BC7F-60D8-42EE-A797-D168FFA6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7467-A381-41E7-8279-6A67C3FD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5529-3894-4FAE-B115-CEB76E4E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E973-8E13-4CB0-990A-289005C4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0F00-13D7-49E4-8B2D-6C9E8861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9875-F969-41B2-80CB-B122F921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AA6F-D793-4ACD-BD4B-55EE43A75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6D2E-F06B-4EA3-9077-330246978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CD5D5-A4C1-4F60-8530-A7D150C1A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1ED74-C45D-41E6-A2BA-FB084048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6C9A0-888C-4638-BE96-82A5CA79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37397-6541-488B-912D-FBDC6CFD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DCEC1-5482-4ED3-967C-FE1C84B2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F8C4-C78A-4363-B962-65EA6D39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76609-05EA-4199-A38E-62602A84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28C39-A20B-4D2E-95A8-A7D76D69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E11F1-BF55-4CFE-81C7-A21DD8E2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BA43B-6295-487F-B2F5-BBCF62DD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B101D-4E38-4278-9AF6-F7B68D89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87DF8-813F-4326-91A9-184EBAF8D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5636F-C306-4399-BE09-DFD40507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B51EA-0F93-43A8-905B-64D8EC54F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01072-CE45-47E4-9BCC-9C7EDF87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C61DD-5DB3-4275-93E3-C600C9DD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1395-166D-4230-8874-EFD724D7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A2BB9-4231-44E0-AC46-E6A1F8F4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C567C-1D27-464F-9286-3C34BB99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BC8B6-B176-44C5-984B-DCEC471B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5D766-343E-498A-8AC0-D1629547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2AF1A-3E1C-4FAE-AEE7-17E15C07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2EF81-DAE6-4152-AFA1-C0761D83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AF2F0-C1E5-4E55-90B0-8D28DF0A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97390-93CD-4317-9D27-949893775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A0FD4-9264-45BC-94FD-65E3013CE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038F0-756C-419C-A816-7E3DF8BE3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803B-2D91-4E2B-88F4-DE45971F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2A94B-6FBE-472A-B62F-E38AFB58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5C81A-BBAE-4218-BF79-23B147EA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9C06E-9DA5-4F95-BE49-71E31436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B61E5-B94A-44F9-BE8D-2EF6F460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871C6-D343-4F71-982B-22EE55E3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1C941-4705-4E6B-AC91-3E53577B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6A2B6-3B08-4D21-87C5-ED69667F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D2AC3-F67F-4D13-A16A-F3007203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F3281-84BD-4DCF-A93B-64E5B946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77943-4D99-4EAB-990D-21902DCA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8426-7CF7-4F44-B203-015434EA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061AF-5E7C-4F11-8008-ED207CF65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4BF74-0FFF-470E-84D6-A51795B84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D9DB0-1B43-4DB3-A7B2-B8817114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9036F-4E1A-4371-BF30-1ED6B863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557FF-0051-4FA3-9E56-16E3B930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4238D-9636-49DA-8BC3-C08A1ACD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303DF-6172-47F0-8C3D-B9647FB8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805AD-28C5-4D11-BC2A-DB6E89B9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6E1EA-348B-4507-913F-2E70C5BB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D5181-2FBA-49F1-96D8-D5580F29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294F-3D6F-4DC3-A1F9-8839533A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39DF8-7229-4622-9606-79485B80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76892-7296-4B63-9F8D-1586E83EF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15F9E-E27D-49CF-988D-E8029A07F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F3433-503E-4F74-A8E3-68AFEAEF7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C52A0-8A21-4301-BD3A-77EC2A23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5913D-537E-4E8E-886C-19243FD4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A8C68-728B-4D48-BA79-04C8FCC7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9A6C8-47C0-4AED-8027-677A0C2B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63D39-6548-491A-85F6-290CBC03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6CBC5-8CBF-4FFC-97A1-229AABBD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74E5-3045-4BE1-BC06-33EC13DE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723C6-5D85-4E13-80B0-ADC5D580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6B3AD-FE66-45C3-B51D-A3AC1397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42379-A096-42C9-BC27-3178A577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95E28-6334-4B6B-B636-B04E9396E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291F3-0016-4F14-8BB2-2DE819BB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6C5D9-FAA4-4A40-9A94-514174E76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2BC6F-C071-4B35-A2E6-772B501C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084DE-5DE4-4C43-9298-81B4D4C0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6D7D9-7040-4E5E-A227-343C5A1A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84782-4B15-49F2-95A3-B8DF30EC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D416-3C37-4604-BB52-7FAF9DBC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9592C-7AA1-45DA-B5FE-67731040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E2FE4-7199-40BC-BD13-AB3F29A0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51739-10E6-4E9B-B075-03F74262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4B76F-F551-47DB-A09E-D5896217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3FB11-E2FF-4B47-A994-2A994415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17795-335C-4B2A-A865-82CD05B6D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D22ED-26E5-4041-B627-1874AFC08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AA63-49E7-44EE-ACC8-ECE4764DE79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D5C6-693F-4BBC-8F4E-96E507CDA3C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5063-95D2-43DC-B704-A861A6E4768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46D0-F6CC-47DA-9000-D57A37311D3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AFD7-5D23-48BF-BB7E-B618D780B80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490C-7C64-4D39-B6A4-73711E6A03A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74F4-2CF4-4636-B742-EDCC930FE7F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865A-9279-4BC8-9788-9A8D9750394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-133200" y="1189080"/>
            <a:ext cx="95216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Заголовок 1" descr=""/>
          <p:cNvPicPr/>
          <p:nvPr/>
        </p:nvPicPr>
        <p:blipFill>
          <a:blip r:embed="rId1"/>
          <a:stretch/>
        </p:blipFill>
        <p:spPr>
          <a:xfrm>
            <a:off x="281160" y="884160"/>
            <a:ext cx="8369280" cy="37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C:\Users\asus\Desktop\Новая папка\2009-01-06\Изображение0004.JPG"/>
          <p:cNvPicPr/>
          <p:nvPr/>
        </p:nvPicPr>
        <p:blipFill>
          <a:blip r:embed="rId1"/>
          <a:stretch/>
        </p:blipFill>
        <p:spPr>
          <a:xfrm>
            <a:off x="4389480" y="714240"/>
            <a:ext cx="4754520" cy="5857920"/>
          </a:xfrm>
          <a:prstGeom prst="rect">
            <a:avLst/>
          </a:prstGeom>
          <a:ln w="0">
            <a:noFill/>
          </a:ln>
        </p:spPr>
      </p:pic>
      <p:pic>
        <p:nvPicPr>
          <p:cNvPr id="373" name="Заголовок 1" descr=""/>
          <p:cNvPicPr/>
          <p:nvPr/>
        </p:nvPicPr>
        <p:blipFill>
          <a:blip r:embed="rId2"/>
          <a:stretch/>
        </p:blipFill>
        <p:spPr>
          <a:xfrm>
            <a:off x="-262080" y="195120"/>
            <a:ext cx="4389480" cy="15242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C:\Users\asus\Desktop\Новая папка\2009-01-06\Изображение0005.JPG"/>
          <p:cNvPicPr/>
          <p:nvPr/>
        </p:nvPicPr>
        <p:blipFill>
          <a:blip r:embed="rId3"/>
          <a:stretch/>
        </p:blipFill>
        <p:spPr>
          <a:xfrm>
            <a:off x="357120" y="2071800"/>
            <a:ext cx="357192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C:\Users\asus\Desktop\Новая папка\2009-01-06\Изображение0007.JPG"/>
          <p:cNvPicPr/>
          <p:nvPr/>
        </p:nvPicPr>
        <p:blipFill>
          <a:blip r:embed="rId1"/>
          <a:stretch/>
        </p:blipFill>
        <p:spPr>
          <a:xfrm>
            <a:off x="285840" y="2643120"/>
            <a:ext cx="3046320" cy="4000680"/>
          </a:xfrm>
          <a:prstGeom prst="rect">
            <a:avLst/>
          </a:prstGeom>
          <a:ln w="0">
            <a:noFill/>
          </a:ln>
        </p:spPr>
      </p:pic>
      <p:pic>
        <p:nvPicPr>
          <p:cNvPr id="376" name="Заголовок 1" descr=""/>
          <p:cNvPicPr/>
          <p:nvPr/>
        </p:nvPicPr>
        <p:blipFill>
          <a:blip r:embed="rId2"/>
          <a:stretch/>
        </p:blipFill>
        <p:spPr>
          <a:xfrm>
            <a:off x="-19080" y="639720"/>
            <a:ext cx="3780000" cy="1341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C:\Users\asus\Desktop\Новая папка\2009-01-06\Изображение0006.JPG"/>
          <p:cNvPicPr/>
          <p:nvPr/>
        </p:nvPicPr>
        <p:blipFill>
          <a:blip r:embed="rId3"/>
          <a:stretch/>
        </p:blipFill>
        <p:spPr>
          <a:xfrm>
            <a:off x="3589200" y="142920"/>
            <a:ext cx="531684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Заголовок 1" descr=""/>
          <p:cNvPicPr/>
          <p:nvPr/>
        </p:nvPicPr>
        <p:blipFill>
          <a:blip r:embed="rId1"/>
          <a:stretch/>
        </p:blipFill>
        <p:spPr>
          <a:xfrm>
            <a:off x="-262080" y="268200"/>
            <a:ext cx="4291200" cy="58086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C:\Users\asus\Desktop\лена\Новая папка\картинки\Изображение0011.JPG"/>
          <p:cNvPicPr/>
          <p:nvPr/>
        </p:nvPicPr>
        <p:blipFill>
          <a:blip r:embed="rId2"/>
          <a:stretch/>
        </p:blipFill>
        <p:spPr>
          <a:xfrm>
            <a:off x="3929040" y="0"/>
            <a:ext cx="521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3" descr="C:\Users\asus\Desktop\Новая папка\2009-01-06\Изображение0012.JPG"/>
          <p:cNvPicPr/>
          <p:nvPr/>
        </p:nvPicPr>
        <p:blipFill>
          <a:blip r:embed="rId1"/>
          <a:stretch/>
        </p:blipFill>
        <p:spPr>
          <a:xfrm>
            <a:off x="3786120" y="-11160"/>
            <a:ext cx="5357880" cy="6869160"/>
          </a:xfrm>
          <a:prstGeom prst="rect">
            <a:avLst/>
          </a:prstGeom>
          <a:ln w="0">
            <a:noFill/>
          </a:ln>
        </p:spPr>
      </p:pic>
      <p:pic>
        <p:nvPicPr>
          <p:cNvPr id="381" name="Заголовок 1" descr=""/>
          <p:cNvPicPr/>
          <p:nvPr/>
        </p:nvPicPr>
        <p:blipFill>
          <a:blip r:embed="rId2"/>
          <a:stretch/>
        </p:blipFill>
        <p:spPr>
          <a:xfrm>
            <a:off x="-262080" y="2451240"/>
            <a:ext cx="390060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C:\Users\asus\Desktop\Новая папка\2009-01-06\Изображение0016.JPG"/>
          <p:cNvPicPr/>
          <p:nvPr/>
        </p:nvPicPr>
        <p:blipFill>
          <a:blip r:embed="rId1"/>
          <a:stretch/>
        </p:blipFill>
        <p:spPr>
          <a:xfrm>
            <a:off x="3143160" y="0"/>
            <a:ext cx="6000840" cy="6858000"/>
          </a:xfrm>
          <a:prstGeom prst="rect">
            <a:avLst/>
          </a:prstGeom>
          <a:ln w="0">
            <a:noFill/>
          </a:ln>
        </p:spPr>
      </p:pic>
      <p:pic>
        <p:nvPicPr>
          <p:cNvPr id="383" name="Заголовок 1" descr=""/>
          <p:cNvPicPr/>
          <p:nvPr/>
        </p:nvPicPr>
        <p:blipFill>
          <a:blip r:embed="rId2"/>
          <a:stretch/>
        </p:blipFill>
        <p:spPr>
          <a:xfrm>
            <a:off x="-225360" y="1639800"/>
            <a:ext cx="367020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Рисунок 14" descr="Как сделать гигантские розы (15 фото)"/>
          <p:cNvPicPr/>
          <p:nvPr/>
        </p:nvPicPr>
        <p:blipFill>
          <a:blip r:embed="rId1"/>
          <a:stretch/>
        </p:blipFill>
        <p:spPr>
          <a:xfrm>
            <a:off x="214200" y="428760"/>
            <a:ext cx="2897280" cy="191592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1" descr="Как сделать гигантские розы (15 фото)"/>
          <p:cNvPicPr/>
          <p:nvPr/>
        </p:nvPicPr>
        <p:blipFill>
          <a:blip r:embed="rId2"/>
          <a:stretch/>
        </p:blipFill>
        <p:spPr>
          <a:xfrm>
            <a:off x="3143160" y="428760"/>
            <a:ext cx="2857680" cy="187488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2" descr="Как сделать гигантские розы (15 фото)"/>
          <p:cNvPicPr/>
          <p:nvPr/>
        </p:nvPicPr>
        <p:blipFill>
          <a:blip r:embed="rId3"/>
          <a:stretch/>
        </p:blipFill>
        <p:spPr>
          <a:xfrm>
            <a:off x="6072120" y="428760"/>
            <a:ext cx="2928960" cy="190800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3" descr="Как сделать гигантские розы (15 фото)"/>
          <p:cNvPicPr/>
          <p:nvPr/>
        </p:nvPicPr>
        <p:blipFill>
          <a:blip r:embed="rId4"/>
          <a:stretch/>
        </p:blipFill>
        <p:spPr>
          <a:xfrm>
            <a:off x="214200" y="2428920"/>
            <a:ext cx="2857680" cy="187956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4" descr="Как сделать гигантские розы (15 фото)"/>
          <p:cNvPicPr/>
          <p:nvPr/>
        </p:nvPicPr>
        <p:blipFill>
          <a:blip r:embed="rId5"/>
          <a:stretch/>
        </p:blipFill>
        <p:spPr>
          <a:xfrm>
            <a:off x="3178080" y="2428920"/>
            <a:ext cx="2822760" cy="185724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6" descr="Как сделать гигантские розы (15 фото)"/>
          <p:cNvPicPr/>
          <p:nvPr/>
        </p:nvPicPr>
        <p:blipFill>
          <a:blip r:embed="rId6"/>
          <a:stretch/>
        </p:blipFill>
        <p:spPr>
          <a:xfrm>
            <a:off x="6143760" y="2444760"/>
            <a:ext cx="2786040" cy="184140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7" descr="Как сделать гигантские розы (15 фото)"/>
          <p:cNvPicPr/>
          <p:nvPr/>
        </p:nvPicPr>
        <p:blipFill>
          <a:blip r:embed="rId7"/>
          <a:stretch/>
        </p:blipFill>
        <p:spPr>
          <a:xfrm>
            <a:off x="214200" y="4429080"/>
            <a:ext cx="2786040" cy="184320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9" descr="Как сделать гигантские розы (15 фото)"/>
          <p:cNvPicPr/>
          <p:nvPr/>
        </p:nvPicPr>
        <p:blipFill>
          <a:blip r:embed="rId8"/>
          <a:stretch/>
        </p:blipFill>
        <p:spPr>
          <a:xfrm>
            <a:off x="3429000" y="4429080"/>
            <a:ext cx="2244600" cy="207180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13" descr="Как сделать гигантские розы (15 фото)"/>
          <p:cNvPicPr/>
          <p:nvPr/>
        </p:nvPicPr>
        <p:blipFill>
          <a:blip r:embed="rId9"/>
          <a:stretch/>
        </p:blipFill>
        <p:spPr>
          <a:xfrm>
            <a:off x="6143760" y="4500720"/>
            <a:ext cx="277956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Заголовок 1" descr=""/>
          <p:cNvPicPr/>
          <p:nvPr/>
        </p:nvPicPr>
        <p:blipFill>
          <a:blip r:embed="rId1"/>
          <a:stretch/>
        </p:blipFill>
        <p:spPr>
          <a:xfrm>
            <a:off x="1158840" y="450720"/>
            <a:ext cx="7064280" cy="914400"/>
          </a:xfrm>
          <a:prstGeom prst="rect">
            <a:avLst/>
          </a:prstGeom>
          <a:ln w="0">
            <a:noFill/>
          </a:ln>
        </p:spPr>
      </p:pic>
      <p:sp>
        <p:nvSpPr>
          <p:cNvPr id="394" name="Заголовок 1"/>
          <p:cNvSpPr/>
          <p:nvPr/>
        </p:nvSpPr>
        <p:spPr>
          <a:xfrm>
            <a:off x="857160" y="1857240"/>
            <a:ext cx="6543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3"/>
          <p:cNvSpPr/>
          <p:nvPr/>
        </p:nvSpPr>
        <p:spPr>
          <a:xfrm>
            <a:off x="428760" y="2071800"/>
            <a:ext cx="8501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обрать цветок и поместить его на праздничном столе, придав ему эстетично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2:28:23Z</dcterms:created>
  <dc:creator>asus</dc:creator>
  <dc:description/>
  <dc:language>en-US</dc:language>
  <cp:lastModifiedBy>Усынина</cp:lastModifiedBy>
  <dcterms:modified xsi:type="dcterms:W3CDTF">2019-05-05T16:08:43Z</dcterms:modified>
  <cp:revision>54</cp:revision>
  <dc:subject/>
  <dc:title>Тема: «Сервировка стола к обеду».</dc:title>
</cp:coreProperties>
</file>