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208-CA60-449B-8BB3-6C2FCFCA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0EA-7222-411B-8962-48FC2D3E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AF813-6789-435A-A8B2-F7B575C3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2019F-0F64-4EB1-8A77-BDEE4A6A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8BDF3-FB40-40AB-AEFD-E73FF26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EE177-D377-43F2-A1FB-6A3030B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B4D00-C324-4A9B-B972-BDAF6CF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8F1E-A8E3-4D9C-8AA1-B4AF4EB0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E2A6D-7E08-4AAD-831D-D625895E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5E742-8642-4307-85A0-217CB6B7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AEC4-C2DF-419C-B792-BD5BE044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651-026B-404D-9B25-A0B1D1A5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571-BCCE-4F2B-876D-79E8D7D2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5E7A-9240-436C-AE3D-B75EE3C7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001-B737-4B22-A3AB-3DA1692A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EF9-3D3C-4B88-A74E-EEF2ED36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7524-AD20-4D15-A03F-8AB17D2F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06D2-3B18-4907-96BD-E85D1951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316A-9122-4FCD-801D-2155E990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8DD0-789A-4B6D-B8B0-1D35C4E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DA9-E257-4886-8FDE-63BACDB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A02-192C-475E-A0F7-5D0D471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E8BA-2681-4046-92C5-2C9CA80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A11B-7073-4A6E-B3FF-86939C2F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AB0-13F1-4821-AEB6-C555718B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1849-248F-408A-89DD-3EA9BE43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465E-9B0E-4FA0-AF74-9138024F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189B-EE59-490E-9334-3AD603A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7271-15B5-4925-8FAE-670256A1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DD97-2065-46CF-B168-ABD38FC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1C89-0280-4FED-927C-208AF1DA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F03-A997-4E96-926C-47DD7D29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D2C6-C8DE-41D5-9FCB-906CE04A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7434-87C7-46C6-BAE8-A80C6DE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7A957-3480-406E-9177-FC28D206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A740-BAA8-431E-A5B3-2EA25E0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EFCB-27C7-45F5-A98E-CD12240A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C2BB-8A1E-481B-BBD9-572E6655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B754-EB78-46AB-83E5-EEE4D774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1B44-37EE-4B40-B255-9434ADB9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BF09-CD13-4592-B034-12AFB175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586D-EFE8-420B-8D94-90CD8F5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04D-727E-4C84-A319-A778E1BF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66E6-F548-4612-A70D-FB8F12D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5807-C9D1-42FB-AE66-4312EEC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5D818-A3B6-47DA-8792-DFCA398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CDE8-6EDF-48C0-BA42-3969E5A7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EF09-E26B-451B-B503-D24B95A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197A0-839A-4314-8250-8188CA11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6B3A-E1B3-4E24-8E88-E254114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CBCD0-FF94-4E44-A684-9F94E989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82D0F-6330-493F-84CE-B3334CBC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55EF-1D04-4726-92B2-D6A42D5B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53E-4BCC-4F26-B654-553C967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A9B9-3D8D-4CD5-A25B-FA8D528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128F-6575-45FB-A519-5A2BEF76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26AA5-C903-4ECB-AFF9-233D4486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078A-FB90-4E28-83B8-3E634694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29FB-F736-4A8A-ABCA-7FE74BCF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44F9-DB3C-40A5-99D8-B265EF6D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D116E-9718-4CD9-BA7D-64ACED44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1F6B-BA77-46D5-B5FD-4F75420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0AE2-790F-4BFE-B59A-B7DB04A3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5C81-5A7B-4006-8492-86179F1D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A75-C54A-4095-A724-CE616B9F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766FC-09B6-49C6-B7F1-6D45C4D6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27EF-6FA9-48D5-9335-D1ED145E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6728-67A0-4C17-8C3A-FFBFE1A5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BD16-EFDF-490A-A740-D7DF0715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08A97-D7CF-47E7-894C-E49A54C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A94B-FB5D-44CF-8450-8A0699E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41090-885E-41BD-9FD2-D0B5DDA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FF63-304A-4941-B3AB-6E34512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E63B7-27A9-4B21-9622-D70DD724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DAB41-A4E4-45F0-B978-B23BC8FB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A1C9-BB04-468F-983D-6D9A0507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A24F-AFDB-4520-ABED-F7419406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75EE-8F27-4753-A206-0D4FFA1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CE4F-BB5D-4EC9-8C14-4B2CA48C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B83C3-0CE9-4F0B-8495-D5ED2D24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9BC7D-A586-4E03-A77E-5E169EA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5BF2A-1D9F-477F-9BB9-E65DFF3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D54B4-65ED-4036-B919-FC811E48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0610A-D130-4124-8055-4A7648E3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89338-68DC-4C75-A36B-5D82F1C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9435F-10D0-4904-B052-C25A03E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0C0-F62B-42B6-8ADD-8D488C9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00D5-BEB1-4D41-95DA-CF23A11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3793-2B25-4F9B-81B5-F1CA9761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2702-DA7C-4A10-A213-94AF3C14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9D89-FD19-4B3A-8C37-2762D9E5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45454-293E-4BA2-A8D1-2DADABDF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50DBE-4844-4220-8888-7155236D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7B76-6F44-4A71-A9F8-B151E920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0C0D-A9FE-4F29-BE4B-2478FF30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82D85-376A-44F3-A1B7-8A2D7BD8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84AFD-31D2-4F5C-9187-2664790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02D-0D21-4B75-B4D1-CBFCB443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7004-E67A-4A1E-A16E-ABC8D0C7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8B20B-BE49-46AE-A54C-64424F5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BB4C-6D8B-4BF1-AB7B-91A1271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446D3-31C3-4FBF-8916-44D7A0E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6E19E-CE16-4902-B24B-7BD6788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1C0D2-D394-4A70-B15F-0321A368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992-DA25-4BFF-ABBA-5B624EE8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6D6C-57C7-4B26-8D2C-A7967958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40478-284F-4F14-B813-BCA3153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7621-5609-4D4C-99DE-E2197BC8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53F4-ECBD-4A68-8269-203693440C8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2EC-6A04-42E1-AC48-426E0758E4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96E-7C8B-47F1-AE76-B62BF78304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C0AF-40C1-4408-A425-E476D73E84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CC7D-5251-416C-BB70-BCD588255F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CA1-705C-4325-B656-5097DCB084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B8CC-7396-427F-94F8-7ABA02C6BD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A83C-2030-49E3-BB71-69D00903FC4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0BFE-A568-4D46-B342-E51FA1C146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1214280" y="216000"/>
            <a:ext cx="7143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«ДЕТСКИЙ САД КОМБИНИРОВАННОГО ВИДА № 4 «СЕМИЦВЕТИК»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МБДОУ № 4)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TextBox 8"/>
          <p:cNvSpPr/>
          <p:nvPr/>
        </p:nvSpPr>
        <p:spPr>
          <a:xfrm>
            <a:off x="2071800" y="2143080"/>
            <a:ext cx="550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7529"/>
                </a:solidFill>
                <a:latin typeface="Calibri"/>
              </a:rPr>
              <a:t>ХЛЕБ – ВСЕМУ ГОЛО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7529"/>
                </a:solidFill>
                <a:latin typeface="Calibri"/>
              </a:rPr>
              <a:t>НАРОДНЫЕ ТРАДИЦИИ ХЛЕБОСОЛЬСТВА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4643280" y="435780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готовила воспитатель старшей логопедической группы Руколеева Ю.А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8000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Объект 3" descr="C:\Users\User\Desktop\ХЛЕБ\892c7345345f71b85f06d7a71bfa6963-3[1].jpg"/>
          <p:cNvPicPr/>
          <p:nvPr/>
        </p:nvPicPr>
        <p:blipFill>
          <a:blip r:embed="rId1"/>
          <a:stretch/>
        </p:blipFill>
        <p:spPr>
          <a:xfrm>
            <a:off x="285840" y="357120"/>
            <a:ext cx="8715240" cy="60721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4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1103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http://hramblag.spb.ru/wp-content/uploads/2015/03/2015_03_22_ptichki_02_5919_oa.jpg"/>
          <p:cNvPicPr/>
          <p:nvPr/>
        </p:nvPicPr>
        <p:blipFill>
          <a:blip r:embed="rId2"/>
          <a:stretch/>
        </p:blipFill>
        <p:spPr>
          <a:xfrm>
            <a:off x="1000080" y="1139760"/>
            <a:ext cx="7143840" cy="5432400"/>
          </a:xfrm>
          <a:prstGeom prst="rect">
            <a:avLst/>
          </a:prstGeom>
          <a:ln w="0">
            <a:noFill/>
          </a:ln>
        </p:spPr>
      </p:pic>
      <p:pic>
        <p:nvPicPr>
          <p:cNvPr id="430" name="penie-zhavoronka-nad-polem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l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7338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10" descr="https://i.mycdn.me/image?id=870586109884&amp;t=3&amp;plc=WEB&amp;tkn=*UXpbKcVCRIMccfPczzWpXn4dNu0"/>
          <p:cNvPicPr/>
          <p:nvPr/>
        </p:nvPicPr>
        <p:blipFill>
          <a:blip r:embed="rId1"/>
          <a:stretch/>
        </p:blipFill>
        <p:spPr>
          <a:xfrm>
            <a:off x="1000080" y="1285920"/>
            <a:ext cx="7586640" cy="51577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785880" y="3571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Calibri"/>
              </a:rPr>
              <a:t>ОБЫЧАЙ ВСТРЕЧАТЬ ГОСТЕЙ ХЛЕБОМ СОЛЬЮ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Russkie_KARAVAY (qmusic.me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000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22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2"/>
          <p:cNvSpPr/>
          <p:nvPr/>
        </p:nvSpPr>
        <p:spPr>
          <a:xfrm>
            <a:off x="571680" y="571680"/>
            <a:ext cx="4286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РОС СПЕРВА НА ВОЛЕ В ПОЛЕ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ЛЕТОМ ЦВЕЛ И КОЛОСИЛСЯ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ИЗ ЗЕРНА – В МУКУ И ТЕСТО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В МАГАЗИНЕ ПРЕВРАТИЛСЯ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ВЫРОС ОН ПОД СИНИМ НЕБОМ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alibri"/>
              </a:rPr>
              <a:t>А ПРИШЕЛ К НАМ ВКУСНЫМ?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Picture 6" descr="https://static7.depositphotos.com/1145675/700/i/950/depositphotos_7003839-stock-photo-artisan-bread-and-wheat-spikes.jpg"/>
          <p:cNvPicPr/>
          <p:nvPr/>
        </p:nvPicPr>
        <p:blipFill>
          <a:blip r:embed="rId1"/>
          <a:stretch/>
        </p:blipFill>
        <p:spPr>
          <a:xfrm>
            <a:off x="3643200" y="3214800"/>
            <a:ext cx="5037120" cy="32144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5" descr=""/>
          <p:cNvPicPr/>
          <p:nvPr/>
        </p:nvPicPr>
        <p:blipFill>
          <a:blip r:embed="rId1"/>
          <a:stretch/>
        </p:blipFill>
        <p:spPr>
          <a:xfrm>
            <a:off x="493560" y="103320"/>
            <a:ext cx="8017200" cy="111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https://web-literatura.ru/pic/2/2/6/3/8/5/226385/1417165745/_1.jpg"/>
          <p:cNvPicPr/>
          <p:nvPr/>
        </p:nvPicPr>
        <p:blipFill>
          <a:blip r:embed="rId2"/>
          <a:stretch/>
        </p:blipFill>
        <p:spPr>
          <a:xfrm>
            <a:off x="357120" y="114300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01600" y="36360"/>
            <a:ext cx="8796240" cy="1756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http://www.e-reading.life/illustrations/1026/1026851-Autogen_eBook_id1"/>
          <p:cNvPicPr/>
          <p:nvPr/>
        </p:nvPicPr>
        <p:blipFill>
          <a:blip r:embed="rId2"/>
          <a:stretch/>
        </p:blipFill>
        <p:spPr>
          <a:xfrm>
            <a:off x="428760" y="1285920"/>
            <a:ext cx="8286480" cy="5324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853920" y="281160"/>
            <a:ext cx="7936200" cy="931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571680" y="19288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Посеешь в пору – собереш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6" descr="https://foodindustry.kz/wp-content/uploads/2018/06/hlebopriemnyj-punkt.jpg"/>
          <p:cNvPicPr/>
          <p:nvPr/>
        </p:nvPicPr>
        <p:blipFill>
          <a:blip r:embed="rId2"/>
          <a:stretch/>
        </p:blipFill>
        <p:spPr>
          <a:xfrm>
            <a:off x="3714840" y="1428840"/>
            <a:ext cx="1716120" cy="1028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http://vospitatel.com.ua/images/a/afrika-3god3.jpg"/>
          <p:cNvPicPr/>
          <p:nvPr/>
        </p:nvPicPr>
        <p:blipFill>
          <a:blip r:embed="rId3"/>
          <a:stretch/>
        </p:blipFill>
        <p:spPr>
          <a:xfrm>
            <a:off x="5643720" y="1071720"/>
            <a:ext cx="1965240" cy="1390320"/>
          </a:xfrm>
          <a:prstGeom prst="rect">
            <a:avLst/>
          </a:prstGeom>
          <a:ln w="0">
            <a:noFill/>
          </a:ln>
        </p:spPr>
      </p:pic>
      <p:sp>
        <p:nvSpPr>
          <p:cNvPr id="415" name="TextBox 7"/>
          <p:cNvSpPr/>
          <p:nvPr/>
        </p:nvSpPr>
        <p:spPr>
          <a:xfrm>
            <a:off x="642960" y="2928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На чужо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6" name="Picture 10" descr="http://xn--80ablcyrrrfbk4c.xn--p1ai/wp-content/uploads/2017/11/Karavai-1.jpg"/>
          <p:cNvPicPr/>
          <p:nvPr/>
        </p:nvPicPr>
        <p:blipFill>
          <a:blip r:embed="rId4"/>
          <a:stretch/>
        </p:blipFill>
        <p:spPr>
          <a:xfrm>
            <a:off x="1785960" y="2643120"/>
            <a:ext cx="1643040" cy="10954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9"/>
          <p:cNvSpPr/>
          <p:nvPr/>
        </p:nvSpPr>
        <p:spPr>
          <a:xfrm>
            <a:off x="3571920" y="3071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рот не разева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714240" y="428616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Хочешь есть калачи – не сиди 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12" descr="https://goodork.ru/pictures/product/middle/56039_middle.jpg"/>
          <p:cNvPicPr/>
          <p:nvPr/>
        </p:nvPicPr>
        <p:blipFill>
          <a:blip r:embed="rId5"/>
          <a:stretch/>
        </p:blipFill>
        <p:spPr>
          <a:xfrm>
            <a:off x="4357800" y="3643200"/>
            <a:ext cx="2500200" cy="1428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http://edim-doma.yml-shop.ru/images/1550/463779/hleb.jpg"/>
          <p:cNvPicPr/>
          <p:nvPr/>
        </p:nvPicPr>
        <p:blipFill>
          <a:blip r:embed="rId6"/>
          <a:stretch/>
        </p:blipFill>
        <p:spPr>
          <a:xfrm>
            <a:off x="571680" y="5014800"/>
            <a:ext cx="2143080" cy="1500480"/>
          </a:xfrm>
          <a:prstGeom prst="rect">
            <a:avLst/>
          </a:prstGeom>
          <a:ln w="0">
            <a:noFill/>
          </a:ln>
        </p:spPr>
      </p:pic>
      <p:sp>
        <p:nvSpPr>
          <p:cNvPr id="421" name="TextBox 13"/>
          <p:cNvSpPr/>
          <p:nvPr/>
        </p:nvSpPr>
        <p:spPr>
          <a:xfrm>
            <a:off x="2928960" y="564372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</a:rPr>
              <a:t>Батюшка, а водица матуш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 advTm="1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s://www.e-reading.by/illustrations/1026/1026851-Autogen_eBook_id2"/>
          <p:cNvPicPr/>
          <p:nvPr/>
        </p:nvPicPr>
        <p:blipFill>
          <a:blip r:embed="rId1"/>
          <a:stretch/>
        </p:blipFill>
        <p:spPr>
          <a:xfrm>
            <a:off x="285840" y="285840"/>
            <a:ext cx="8715240" cy="6215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79200"/>
            <a:ext cx="8699400" cy="676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s://www.e-reading.by/illustrations/1026/1026851-Autogen_eBook_id3"/>
          <p:cNvPicPr/>
          <p:nvPr/>
        </p:nvPicPr>
        <p:blipFill>
          <a:blip r:embed="rId2"/>
          <a:stretch/>
        </p:blipFill>
        <p:spPr>
          <a:xfrm>
            <a:off x="500040" y="785880"/>
            <a:ext cx="8429760" cy="5921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5"/>
          <p:cNvSpPr/>
          <p:nvPr/>
        </p:nvSpPr>
        <p:spPr>
          <a:xfrm>
            <a:off x="1214280" y="2858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РНО ОТВОЗИЛИ НА МЕЛЬНИЦУ ЖЕРНОВА ПЕРЕМАЛЫВАЛИ ЗЕРНО В МУКУ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4" descr="https://libmir.com/i/76/184276/autogen_ebook_id5"/>
          <p:cNvPicPr/>
          <p:nvPr/>
        </p:nvPicPr>
        <p:blipFill>
          <a:blip r:embed="rId1"/>
          <a:stretch/>
        </p:blipFill>
        <p:spPr>
          <a:xfrm>
            <a:off x="285840" y="1285920"/>
            <a:ext cx="8604000" cy="537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8:58:02Z</dcterms:created>
  <dc:creator>Admin</dc:creator>
  <dc:description/>
  <dc:language>en-US</dc:language>
  <cp:lastModifiedBy>Home</cp:lastModifiedBy>
  <dcterms:modified xsi:type="dcterms:W3CDTF">2019-05-03T19:07:13Z</dcterms:modified>
  <cp:revision>40</cp:revision>
  <dc:subject/>
  <dc:title>Презентация PowerPoint</dc:title>
</cp:coreProperties>
</file>