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4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87B-CC03-4AAA-A70C-7F4CC400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846A-5157-4863-B3B0-B41B0DD2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EE54F-8764-4DA6-A0AA-F10E1B0F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08950-8468-4044-9E8A-263E307A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0CA94-46A2-4C70-8CE0-F3249372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C8699-5E3A-44D8-8617-929F0083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2754A-F6CD-4597-8B9E-1BFB9A0C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19D1B-A76C-4CBD-A38C-AC87938A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A1800-5F98-4877-AF75-B04E7B0E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1A6DD-DEA2-4807-9BBC-01C5B5BA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B3AE5-8F0A-4AFC-9616-35F4A58C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335-9B57-4FE1-9DB0-CFEBD3F3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F87-838C-4853-9233-CA016EDC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6D1C-D71C-44D4-BF1F-A376CCC8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6CD2-F537-4029-8FE8-DAEE49E8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EA0B-B4BB-412C-ADF4-4B54F7D0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189E-1D95-425B-9631-9DF35115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DBBD-09ED-428D-9262-562FF4A9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6DBF-8F78-46EB-AEC0-C3301C69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C2A2-6D9D-4E93-BDD4-147FCDA8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40D7-F027-451B-8056-65EF2704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A688-FA98-41C2-BB0D-326AAE47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11A9-445F-4694-97C3-E54848B7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FACE-16C2-41B4-B043-62AC0ABE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BA9A-8E55-4F49-B97E-EF51EB73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99C8-24F8-4942-B229-880C1D29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656A5-FDF0-4D07-9B2A-1667C7DA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13A31-DE30-4945-8B1A-165EC56C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1D71A-DBC3-4C1D-AFEF-08A8DC57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1932E-E3CB-4872-9C6A-9D338050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7D591-C939-45B9-AF60-951B2A30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4D6-771A-4AAF-8FCC-D00AF719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B868E-0088-44CF-955C-843514B0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15C51-9BAF-438C-BD19-DB34C1A8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FC2EE-BE8E-4268-9CD5-8E108CEA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23CD4-0E12-489C-8700-92581B92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2A80F-DDB9-412D-9D09-16AC2AE0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68562-9CC9-4A68-9B31-A5ED26D6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32311-6ADA-4F8E-851F-7CD174E0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0D9A8-FE4D-464E-B8B6-F109828E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AA746-5BCF-43BC-8157-0911B705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54F0C-3879-47FC-B21C-19A9EE68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A28-00A0-4C7E-B419-200B6E01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D2679-0FB6-4DED-BF81-A21D6AFB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E249A-17F3-4C15-82DC-8D08EDBF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8BC55-6419-4944-8E54-BC836402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2D7BF-65B2-467B-95B3-303382E7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B6653-EB0B-42F6-B7E0-8ED92C24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F5C3C-6018-414F-BC35-6AB23669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A8DAE-4CF6-4CD3-A3FC-3ECACB51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6B4A0-5126-4E54-9864-4641BF91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A93F8-7AF8-4DA6-91D3-52581EA8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377A5-C5FC-4CCD-A5AB-8E9E1F15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C8C-4563-4D18-B3A7-4E91C74B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F3072-D9DB-4CFE-BD1C-A1CE503E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A3B27-64A9-4C15-A8CF-354A9AF5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D4238-C6D2-40C4-AF39-06C29904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DD602-188E-4CB2-B61C-C1C2FF53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9DC57-6F95-4D09-B6E3-6CA57092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E3470-68BC-49B7-B0FE-04D43609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56D8A-30BA-4E2E-ADC7-29C94604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E8890-701F-4F57-8C50-837ACDCA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9993C-B418-4BFC-8435-6C6334B9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C4129-1600-4CBB-AC18-BDCBCECB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394-3BAB-4EC3-B518-201D3A0B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3AD47-59F8-4FFB-B889-9083D074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2E33E-E8D4-4C78-9D2A-D8629E43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5436F-2D3C-406A-94FC-EF6BA535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027DB-096D-4607-8A0B-525715B8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11C3A-46F0-4592-ABED-D86C8EF1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C7635-2266-4A35-AABF-E1E0ABBB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C9D3E-5FDA-4214-ADAB-CC50EB00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22444-E408-441A-B4AD-01D522BD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26F86-F2C3-4A9C-B652-8C5F459D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ADBEB-D420-487D-8B43-1F45E080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A75-A304-4032-980E-D0999812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B967F-BA88-46DF-A0A9-71B217C2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8F486-F9CF-423C-846E-A9302839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01DC7-20EF-4436-BFDE-96C06790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B903A-E5BF-4A70-B01F-31E4075D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0E5F4-0013-47DE-B470-29DF30E0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C5F9B-94E2-45E5-9DA8-E1BC68E9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5713F-DFEA-46C8-AAE3-D3525CA5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26607-BDF6-403B-8706-457B469F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6994D-8E7D-4C6F-A4C9-5CBD4FB6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D8587-9888-40A6-B095-7DC8B1D5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E72-FD3F-40CA-B5CD-4A1109A5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B85B4-769F-49B0-80B1-60B84E91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B5665-026A-4A71-A766-3805D6D9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72725-C630-453A-B773-D07F7D03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21AF3-E473-47F5-8CCF-B2F8CEF1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39708-5B37-478D-A173-99B4D474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1A5E2-5D2A-4CC0-AFB5-A2AE72AB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F0612-8140-4206-A4D6-F0590921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B5BCC-A7A5-4ED0-A24F-B7519B63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9495D-7695-4EF2-B826-55A00ABE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6230C-D8AC-4CE8-8EE3-2B96F80D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B1B-54BB-4447-83B7-07095E81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2B682-BFA8-469C-A1EC-D6F419FB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C09D5-C0A2-42ED-952F-8B95E175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D01CB-3EE9-4A3D-8F8A-FEBA4964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059F4-C6FD-4DCB-8400-E088EAFE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FB421-D23B-4448-AC9C-F9D611D0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F6332-4249-4681-BCB0-0AE07737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A93CD-A4D8-4985-8F9B-CDC17FD4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8BE63-CBCD-4DD9-B1D2-F5F50882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299B5-12C8-4C01-AB80-42C09707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BE078-682A-4AD7-AA08-CE28F82A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BAFF-1962-4C63-AEC2-88780D737F1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A2A7-7295-4492-A93A-99637F2C829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9C45-3B33-4877-9E79-7478DA40CB3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8AFD-7521-44AD-9775-DAFF80E2417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814E-EC80-47A1-983B-DEA0FB8617B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E37E-2BAA-4E55-B07C-A801945FE74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1A18-5205-41BC-93A9-8F02FB23D16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C504-7660-49DB-84DA-5037F8155D5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82EE-E007-4DD5-A9C0-FFB103F0020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3"/>
          <p:cNvSpPr/>
          <p:nvPr/>
        </p:nvSpPr>
        <p:spPr>
          <a:xfrm>
            <a:off x="1214280" y="216000"/>
            <a:ext cx="7143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МУНИЦИПАЛЬНОЕ БЮДЖЕТНОЕ ДОШКОЛЬНОЕ ОБРАЗОВАТЕЛЬНОЕ УЧРЕЖДЕНИЕ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«ДЕТСКИЙ САД КОМБИНИРОВАННОГО ВИДА № 4 «СЕМИЦВЕТИК»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МБДОУ № 4)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TextBox 8"/>
          <p:cNvSpPr/>
          <p:nvPr/>
        </p:nvSpPr>
        <p:spPr>
          <a:xfrm>
            <a:off x="2071800" y="2143080"/>
            <a:ext cx="550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7529"/>
                </a:solidFill>
                <a:latin typeface="Calibri"/>
              </a:rPr>
              <a:t>ХЛЕБ – ВСЕМУ ГОЛОВА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7529"/>
                </a:solidFill>
                <a:latin typeface="Calibri"/>
              </a:rPr>
              <a:t>НАРОДНЫЕ ТРАДИЦИИ ХЛЕБОСОЛЬСТВА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TextBox 10"/>
          <p:cNvSpPr/>
          <p:nvPr/>
        </p:nvSpPr>
        <p:spPr>
          <a:xfrm>
            <a:off x="4643280" y="435780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одготовила воспитатель старшей логопедической группы Руколеева Ю.А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advTm="8000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Объект 3" descr="C:\Users\User\Desktop\ХЛЕБ\892c7345345f71b85f06d7a71bfa6963-3[1].jpg"/>
          <p:cNvPicPr/>
          <p:nvPr/>
        </p:nvPicPr>
        <p:blipFill>
          <a:blip r:embed="rId1"/>
          <a:stretch/>
        </p:blipFill>
        <p:spPr>
          <a:xfrm>
            <a:off x="285840" y="357120"/>
            <a:ext cx="8715240" cy="607212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4" descr=""/>
          <p:cNvPicPr/>
          <p:nvPr/>
        </p:nvPicPr>
        <p:blipFill>
          <a:blip r:embed="rId1"/>
          <a:stretch/>
        </p:blipFill>
        <p:spPr>
          <a:xfrm>
            <a:off x="298440" y="195120"/>
            <a:ext cx="8699400" cy="11034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http://hramblag.spb.ru/wp-content/uploads/2015/03/2015_03_22_ptichki_02_5919_oa.jpg"/>
          <p:cNvPicPr/>
          <p:nvPr/>
        </p:nvPicPr>
        <p:blipFill>
          <a:blip r:embed="rId2"/>
          <a:stretch/>
        </p:blipFill>
        <p:spPr>
          <a:xfrm>
            <a:off x="1000080" y="1139760"/>
            <a:ext cx="7143840" cy="5432400"/>
          </a:xfrm>
          <a:prstGeom prst="rect">
            <a:avLst/>
          </a:prstGeom>
          <a:ln w="0">
            <a:noFill/>
          </a:ln>
        </p:spPr>
      </p:pic>
      <p:pic>
        <p:nvPicPr>
          <p:cNvPr id="430" name="penie-zhavoronka-nad-polem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l"/>
  </p:transition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73381" fill="hold"/>
                                        <p:tgtEl>
                                          <p:spTgt spid="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0" descr="https://i.mycdn.me/image?id=870586109884&amp;t=3&amp;plc=WEB&amp;tkn=*UXpbKcVCRIMccfPczzWpXn4dNu0"/>
          <p:cNvPicPr/>
          <p:nvPr/>
        </p:nvPicPr>
        <p:blipFill>
          <a:blip r:embed="rId1"/>
          <a:stretch/>
        </p:blipFill>
        <p:spPr>
          <a:xfrm>
            <a:off x="1000080" y="1285920"/>
            <a:ext cx="7586640" cy="5157720"/>
          </a:xfrm>
          <a:prstGeom prst="rect">
            <a:avLst/>
          </a:prstGeom>
          <a:ln w="0">
            <a:noFill/>
          </a:ln>
        </p:spPr>
      </p:pic>
      <p:sp>
        <p:nvSpPr>
          <p:cNvPr id="403" name="TextBox 7"/>
          <p:cNvSpPr/>
          <p:nvPr/>
        </p:nvSpPr>
        <p:spPr>
          <a:xfrm>
            <a:off x="785880" y="35712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7529"/>
                </a:solidFill>
                <a:latin typeface="Calibri"/>
              </a:rPr>
              <a:t>ОБЫЧАЙ ВСТРЕЧАТЬ ГОСТЕЙ ХЛЕБОМ СОЛЬЮ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4" name="Russkie_KARAVAY (qmusic.me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422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2"/>
          <p:cNvSpPr/>
          <p:nvPr/>
        </p:nvSpPr>
        <p:spPr>
          <a:xfrm>
            <a:off x="571680" y="571680"/>
            <a:ext cx="4286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7529"/>
                </a:solidFill>
                <a:latin typeface="Calibri"/>
              </a:rPr>
              <a:t>РОС СПЕРВА НА ВОЛЕ В ПОЛЕ,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7529"/>
                </a:solidFill>
                <a:latin typeface="Calibri"/>
              </a:rPr>
              <a:t>ЛЕТОМ ЦВЕЛ И КОЛОСИЛСЯ,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7529"/>
                </a:solidFill>
                <a:latin typeface="Calibri"/>
              </a:rPr>
              <a:t>ИЗ ЗЕРНА – В МУКУ И ТЕСТО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7529"/>
                </a:solidFill>
                <a:latin typeface="Calibri"/>
              </a:rPr>
              <a:t>В МАГАЗИНЕ ПРЕВРАТИЛСЯ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7529"/>
                </a:solidFill>
                <a:latin typeface="Calibri"/>
              </a:rPr>
              <a:t>ВЫРОС ОН ПОД СИНИМ НЕБОМ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7529"/>
                </a:solidFill>
                <a:latin typeface="Calibri"/>
              </a:rPr>
              <a:t>А ПРИШЕЛ К НАМ ВКУСНЫМ?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6" name="Picture 6" descr="https://static7.depositphotos.com/1145675/700/i/950/depositphotos_7003839-stock-photo-artisan-bread-and-wheat-spikes.jpg"/>
          <p:cNvPicPr/>
          <p:nvPr/>
        </p:nvPicPr>
        <p:blipFill>
          <a:blip r:embed="rId1"/>
          <a:stretch/>
        </p:blipFill>
        <p:spPr>
          <a:xfrm>
            <a:off x="3643200" y="3214800"/>
            <a:ext cx="5037120" cy="32144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5" descr=""/>
          <p:cNvPicPr/>
          <p:nvPr/>
        </p:nvPicPr>
        <p:blipFill>
          <a:blip r:embed="rId1"/>
          <a:stretch/>
        </p:blipFill>
        <p:spPr>
          <a:xfrm>
            <a:off x="493560" y="103320"/>
            <a:ext cx="8017200" cy="1116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https://web-literatura.ru/pic/2/2/6/3/8/5/226385/1417165745/_1.jpg"/>
          <p:cNvPicPr/>
          <p:nvPr/>
        </p:nvPicPr>
        <p:blipFill>
          <a:blip r:embed="rId2"/>
          <a:stretch/>
        </p:blipFill>
        <p:spPr>
          <a:xfrm>
            <a:off x="357120" y="1143000"/>
            <a:ext cx="8643960" cy="557208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01600" y="36360"/>
            <a:ext cx="8796240" cy="1756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http://www.e-reading.life/illustrations/1026/1026851-Autogen_eBook_id1"/>
          <p:cNvPicPr/>
          <p:nvPr/>
        </p:nvPicPr>
        <p:blipFill>
          <a:blip r:embed="rId2"/>
          <a:stretch/>
        </p:blipFill>
        <p:spPr>
          <a:xfrm>
            <a:off x="428760" y="1285920"/>
            <a:ext cx="8286480" cy="53244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853920" y="281160"/>
            <a:ext cx="7936200" cy="931680"/>
          </a:xfrm>
          <a:prstGeom prst="rect">
            <a:avLst/>
          </a:prstGeom>
          <a:ln w="0">
            <a:noFill/>
          </a:ln>
        </p:spPr>
      </p:pic>
      <p:sp>
        <p:nvSpPr>
          <p:cNvPr id="412" name="TextBox 4"/>
          <p:cNvSpPr/>
          <p:nvPr/>
        </p:nvSpPr>
        <p:spPr>
          <a:xfrm>
            <a:off x="571680" y="1928880"/>
            <a:ext cx="33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Calibri"/>
              </a:rPr>
              <a:t>Посеешь в пору – соберешь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3" name="Picture 6" descr="https://foodindustry.kz/wp-content/uploads/2018/06/hlebopriemnyj-punkt.jpg"/>
          <p:cNvPicPr/>
          <p:nvPr/>
        </p:nvPicPr>
        <p:blipFill>
          <a:blip r:embed="rId2"/>
          <a:stretch/>
        </p:blipFill>
        <p:spPr>
          <a:xfrm>
            <a:off x="3714840" y="1428840"/>
            <a:ext cx="1716120" cy="1028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http://vospitatel.com.ua/images/a/afrika-3god3.jpg"/>
          <p:cNvPicPr/>
          <p:nvPr/>
        </p:nvPicPr>
        <p:blipFill>
          <a:blip r:embed="rId3"/>
          <a:stretch/>
        </p:blipFill>
        <p:spPr>
          <a:xfrm>
            <a:off x="5643720" y="1071720"/>
            <a:ext cx="1965240" cy="1390320"/>
          </a:xfrm>
          <a:prstGeom prst="rect">
            <a:avLst/>
          </a:prstGeom>
          <a:ln w="0">
            <a:noFill/>
          </a:ln>
        </p:spPr>
      </p:pic>
      <p:sp>
        <p:nvSpPr>
          <p:cNvPr id="415" name="TextBox 7"/>
          <p:cNvSpPr/>
          <p:nvPr/>
        </p:nvSpPr>
        <p:spPr>
          <a:xfrm>
            <a:off x="642960" y="2928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Calibri"/>
              </a:rPr>
              <a:t>На чужой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6" name="Picture 10" descr="http://xn--80ablcyrrrfbk4c.xn--p1ai/wp-content/uploads/2017/11/Karavai-1.jpg"/>
          <p:cNvPicPr/>
          <p:nvPr/>
        </p:nvPicPr>
        <p:blipFill>
          <a:blip r:embed="rId4"/>
          <a:stretch/>
        </p:blipFill>
        <p:spPr>
          <a:xfrm>
            <a:off x="1785960" y="2643120"/>
            <a:ext cx="1643040" cy="1095480"/>
          </a:xfrm>
          <a:prstGeom prst="rect">
            <a:avLst/>
          </a:prstGeom>
          <a:ln w="0">
            <a:noFill/>
          </a:ln>
        </p:spPr>
      </p:pic>
      <p:sp>
        <p:nvSpPr>
          <p:cNvPr id="417" name="TextBox 9"/>
          <p:cNvSpPr/>
          <p:nvPr/>
        </p:nvSpPr>
        <p:spPr>
          <a:xfrm>
            <a:off x="3571920" y="30718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Calibri"/>
              </a:rPr>
              <a:t>рот не разевай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TextBox 10"/>
          <p:cNvSpPr/>
          <p:nvPr/>
        </p:nvSpPr>
        <p:spPr>
          <a:xfrm>
            <a:off x="714240" y="428616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Calibri"/>
              </a:rPr>
              <a:t>Хочешь есть калачи – не сиди н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9" name="Picture 12" descr="https://goodork.ru/pictures/product/middle/56039_middle.jpg"/>
          <p:cNvPicPr/>
          <p:nvPr/>
        </p:nvPicPr>
        <p:blipFill>
          <a:blip r:embed="rId5"/>
          <a:stretch/>
        </p:blipFill>
        <p:spPr>
          <a:xfrm>
            <a:off x="4357800" y="3643200"/>
            <a:ext cx="2500200" cy="1428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4" descr="http://edim-doma.yml-shop.ru/images/1550/463779/hleb.jpg"/>
          <p:cNvPicPr/>
          <p:nvPr/>
        </p:nvPicPr>
        <p:blipFill>
          <a:blip r:embed="rId6"/>
          <a:stretch/>
        </p:blipFill>
        <p:spPr>
          <a:xfrm>
            <a:off x="571680" y="5014800"/>
            <a:ext cx="2143080" cy="1500480"/>
          </a:xfrm>
          <a:prstGeom prst="rect">
            <a:avLst/>
          </a:prstGeom>
          <a:ln w="0">
            <a:noFill/>
          </a:ln>
        </p:spPr>
      </p:pic>
      <p:sp>
        <p:nvSpPr>
          <p:cNvPr id="421" name="TextBox 13"/>
          <p:cNvSpPr/>
          <p:nvPr/>
        </p:nvSpPr>
        <p:spPr>
          <a:xfrm>
            <a:off x="2928960" y="564372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Calibri"/>
              </a:rPr>
              <a:t>Батюшка, а водица матушк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 advTm="1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https://www.e-reading.by/illustrations/1026/1026851-Autogen_eBook_id2"/>
          <p:cNvPicPr/>
          <p:nvPr/>
        </p:nvPicPr>
        <p:blipFill>
          <a:blip r:embed="rId1"/>
          <a:stretch/>
        </p:blipFill>
        <p:spPr>
          <a:xfrm>
            <a:off x="285840" y="285840"/>
            <a:ext cx="8715240" cy="6215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98440" y="79200"/>
            <a:ext cx="8699400" cy="6764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https://www.e-reading.by/illustrations/1026/1026851-Autogen_eBook_id3"/>
          <p:cNvPicPr/>
          <p:nvPr/>
        </p:nvPicPr>
        <p:blipFill>
          <a:blip r:embed="rId2"/>
          <a:stretch/>
        </p:blipFill>
        <p:spPr>
          <a:xfrm>
            <a:off x="500040" y="785880"/>
            <a:ext cx="8429760" cy="5921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5"/>
          <p:cNvSpPr/>
          <p:nvPr/>
        </p:nvSpPr>
        <p:spPr>
          <a:xfrm>
            <a:off x="1214280" y="2858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ЕРНО ОТВОЗИЛИ НА МЕЛЬНИЦУ ЖЕРНОВА ПЕРЕМАЛЫВАЛИ ЗЕРНО В МУКУ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6" name="Picture 4" descr="https://libmir.com/i/76/184276/autogen_ebook_id5"/>
          <p:cNvPicPr/>
          <p:nvPr/>
        </p:nvPicPr>
        <p:blipFill>
          <a:blip r:embed="rId1"/>
          <a:stretch/>
        </p:blipFill>
        <p:spPr>
          <a:xfrm>
            <a:off x="285840" y="1285920"/>
            <a:ext cx="8604000" cy="5375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18:58:02Z</dcterms:created>
  <dc:creator>Admin</dc:creator>
  <dc:description/>
  <dc:language>en-US</dc:language>
  <cp:lastModifiedBy>Home</cp:lastModifiedBy>
  <dcterms:modified xsi:type="dcterms:W3CDTF">2019-05-03T19:07:13Z</dcterms:modified>
  <cp:revision>40</cp:revision>
  <dc:subject/>
  <dc:title>Презентация PowerPoint</dc:title>
</cp:coreProperties>
</file>