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0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886-610D-43F8-94DD-325ED734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94F-8C1E-4331-B51C-5584C2E2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2F7-84DE-464B-BAA0-9049CDD4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0CD-557F-4567-8A19-6239318A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49D-CB61-4938-AB04-C855D629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2FB-C5C0-4B3D-958E-62365FB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FEA-7F6F-434A-A863-AA2ADDA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5A6-8BC9-47C8-ABB6-F582902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44B-95BC-4492-84D2-1B73583D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DA6-7274-4372-B491-23F69C8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0AE-5283-4B5A-832A-A66A778A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E1F-C3B1-4E75-B885-52DF0F7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9EE5-C62D-4E96-B5B0-F5339A8A8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" y="105228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автономное обще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цей № 27 города Улан - Удэ</a:t>
            </a:r>
            <a:br>
              <a:rPr sz="4000"/>
            </a:br>
            <a:br>
              <a:rPr sz="7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нтереса к чтению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ладших школьни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урочной и внеурочной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414972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рина Светлана Алексе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843280" y="612792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s://avatars.mds.yandex.net/get-zen_doc/29485/pub_5af3f3f6c71a92d394d52f91_5af3f47f7425f575523eaa41/scale_1200"/>
          <p:cNvPicPr/>
          <p:nvPr/>
        </p:nvPicPr>
        <p:blipFill>
          <a:blip r:embed="rId1"/>
          <a:stretch/>
        </p:blipFill>
        <p:spPr>
          <a:xfrm>
            <a:off x="179280" y="3716280"/>
            <a:ext cx="39229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4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ллюстрац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133880" cy="300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2"/>
          <a:stretch/>
        </p:blipFill>
        <p:spPr>
          <a:xfrm>
            <a:off x="5030640" y="907920"/>
            <a:ext cx="3781440" cy="2749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3"/>
          <a:stretch/>
        </p:blipFill>
        <p:spPr>
          <a:xfrm>
            <a:off x="123840" y="3691080"/>
            <a:ext cx="4273560" cy="3108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4"/>
          <a:stretch/>
        </p:blipFill>
        <p:spPr>
          <a:xfrm>
            <a:off x="4932360" y="3691080"/>
            <a:ext cx="42116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1680" y="1749600"/>
            <a:ext cx="7572600" cy="507672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498600" y="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Прием «Цветопись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2556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ем «Сравнение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sojcssm.com/wp-content/uploads/2017/01/qtq80-RYfafX.jpeg"/>
          <p:cNvPicPr/>
          <p:nvPr/>
        </p:nvPicPr>
        <p:blipFill>
          <a:blip r:embed="rId1"/>
          <a:stretch/>
        </p:blipFill>
        <p:spPr>
          <a:xfrm>
            <a:off x="1573200" y="828720"/>
            <a:ext cx="5479920" cy="411300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179280" y="537372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marL="430920" indent="-430920" algn="ctr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огонь – там и дым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турецкая поговор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0920" indent="-430920" algn="ctr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дыма без огн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русская поговор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91360" cy="3790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avatars.mds.yandex.net/get-pdb/912419/1b95fefa-6001-460f-9254-4a8bfa04c7da/s1200?webp=false"/>
          <p:cNvPicPr/>
          <p:nvPr/>
        </p:nvPicPr>
        <p:blipFill>
          <a:blip r:embed="rId2"/>
          <a:stretch/>
        </p:blipFill>
        <p:spPr>
          <a:xfrm>
            <a:off x="971640" y="397980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www.login.az/assets/media/images/kitablar/ru/ushaq/9785906775290.jpg"/>
          <p:cNvPicPr/>
          <p:nvPr/>
        </p:nvPicPr>
        <p:blipFill>
          <a:blip r:embed="rId3"/>
          <a:stretch/>
        </p:blipFill>
        <p:spPr>
          <a:xfrm>
            <a:off x="3443400" y="3946680"/>
            <a:ext cx="1207800" cy="1820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s://arhivurokov.ru/kopilka/up/html/2017/05/13/k_5916e6da53fa0/img_user_file_5916e6dac6e21_9.jpg"/>
          <p:cNvPicPr/>
          <p:nvPr/>
        </p:nvPicPr>
        <p:blipFill>
          <a:blip r:embed="rId4"/>
          <a:stretch/>
        </p:blipFill>
        <p:spPr>
          <a:xfrm>
            <a:off x="5508720" y="4076640"/>
            <a:ext cx="3311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чинительство сказок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611280" y="1409760"/>
            <a:ext cx="4613040" cy="5373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profvibor.ru/upload/iblock/c3d/c3d4a69614d032f4143cc8c9c7d7b2bc.jpg"/>
          <p:cNvPicPr/>
          <p:nvPr/>
        </p:nvPicPr>
        <p:blipFill>
          <a:blip r:embed="rId2"/>
          <a:stretch/>
        </p:blipFill>
        <p:spPr>
          <a:xfrm>
            <a:off x="5319720" y="1268280"/>
            <a:ext cx="2050920" cy="136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ds02.infourok.ru/uploads/ex/0bc0/00057677-dd59f45f/hello_html_m20a0f668.jpg"/>
          <p:cNvPicPr/>
          <p:nvPr/>
        </p:nvPicPr>
        <p:blipFill>
          <a:blip r:embed="rId3"/>
          <a:stretch/>
        </p:blipFill>
        <p:spPr>
          <a:xfrm>
            <a:off x="7467480" y="2349360"/>
            <a:ext cx="1519200" cy="214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s://xn--80ajjine0d.xn--p1ai/sites/default/files/works/konkurs/rabota-2-povar_1e6c8.970.jpg"/>
          <p:cNvPicPr/>
          <p:nvPr/>
        </p:nvPicPr>
        <p:blipFill>
          <a:blip r:embed="rId4"/>
          <a:stretch/>
        </p:blipFill>
        <p:spPr>
          <a:xfrm>
            <a:off x="5378400" y="4653000"/>
            <a:ext cx="2666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029440" cy="332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healthy-kids.ru/wp-content/uploads/2016/03/shutterstock_278128646.jpg"/>
          <p:cNvPicPr/>
          <p:nvPr/>
        </p:nvPicPr>
        <p:blipFill>
          <a:blip r:embed="rId2"/>
          <a:stretch/>
        </p:blipFill>
        <p:spPr>
          <a:xfrm>
            <a:off x="2484360" y="3584520"/>
            <a:ext cx="4049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://itd1.mycdn.me/image?id=848770528850&amp;t=20&amp;plc=WEB&amp;tkn=*TqcfTzAL0BXrGiq-e91jfd3TW3Q"/>
          <p:cNvPicPr/>
          <p:nvPr/>
        </p:nvPicPr>
        <p:blipFill>
          <a:blip r:embed="rId1"/>
          <a:stretch/>
        </p:blipFill>
        <p:spPr>
          <a:xfrm>
            <a:off x="1763640" y="2781360"/>
            <a:ext cx="5656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сследования ВЦИОМ 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сероссийский центр изучения общественного мнения) </a:t>
            </a:r>
            <a:br>
              <a:rPr sz="2800"/>
            </a:b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2012 году отметили, что активных читателей в нашей стране лиш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3 % населения – эта группа людей настойчиво желает каждый день прочитать хотя бы несколько страниц книги. Людей, которые читают от случая к случаю почти вдвое больше – 42 %. Очень редко или тех, которые никогда не читают – 35 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формирования устойчивого и осознанного интереса к чтению художественной литературы младшими школь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happeninginhighlandpark.com/wp-content/uploads/2017/08/o-TODDLER-READING-facebook.jpg"/>
          <p:cNvPicPr/>
          <p:nvPr/>
        </p:nvPicPr>
        <p:blipFill>
          <a:blip r:embed="rId1"/>
          <a:stretch/>
        </p:blipFill>
        <p:spPr>
          <a:xfrm>
            <a:off x="1116000" y="3005280"/>
            <a:ext cx="6769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 :</a:t>
            </a: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научно – методическую и психолого – педагогическую литературу по  проблеме формирования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явить методический опыт формирования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исать содержание методического материала, направленного на формирование читательского интереса у младши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зработать критерии и показатели уровня читательского интереса к чтению в начальной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189000"/>
          <a:ext cx="8713800" cy="6411960"/>
        </p:xfrm>
        <a:graphic>
          <a:graphicData uri="http://schemas.openxmlformats.org/drawingml/2006/table">
            <a:tbl>
              <a:tblPr/>
              <a:tblGrid>
                <a:gridCol w="2156040"/>
                <a:gridCol w="1436760"/>
                <a:gridCol w="5121000"/>
              </a:tblGrid>
              <a:tr h="54432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эта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реал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формир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техникой чтения, совершенствование навыка   чтения, умения самостоятельно работать с книг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 читательской самостоятельности, развитие оперативной памяти, формирование оптимальной скорости чте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220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14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авыков, характеризующих настоящего читателя, умеющего самостоятельно и квалифицированно читать доступные книги и другой печатный материал для расширения и пополнения своих знаний,  формирование умения извлекать  из  текстов  интересную  и  полезную  информацию, работать  с разными источниками информаци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0920"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714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у детей читательских предпочтений и интересов на базе полученных за годы обучения знаний о книгах и умений с ними самостоятельно действовать,  совершенствованние умения извлекать  из  текстов  интересную  и  полезную  информацию, работать  с разными источниками информации (словарями, справочниками, в том числе и на электронных носителя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 же учить  детей чтению, чтобы они полюбили книг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s://avatars.mds.yandex.net/get-pdb/1044729/dd8f1532-ee3b-4824-9dff-3934561fbd2e/s1200"/>
          <p:cNvPicPr/>
          <p:nvPr/>
        </p:nvPicPr>
        <p:blipFill>
          <a:blip r:embed="rId1"/>
          <a:stretch/>
        </p:blipFill>
        <p:spPr>
          <a:xfrm>
            <a:off x="971640" y="1589040"/>
            <a:ext cx="734544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Берём интервью у героя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00000" y="895320"/>
            <a:ext cx="7344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аматиз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119560" cy="2880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916360" y="3327480"/>
            <a:ext cx="5922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зы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читанного произвед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0" y="2038320"/>
            <a:ext cx="3041640" cy="4127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6443640" cy="4470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395280" y="2349360"/>
            <a:ext cx="223200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348000" y="2276640"/>
            <a:ext cx="239256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6156360" y="2421000"/>
            <a:ext cx="237636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7T06:35:31Z</dcterms:created>
  <dc:creator>Admin</dc:creator>
  <dc:description/>
  <dc:language>en-US</dc:language>
  <cp:lastModifiedBy>1</cp:lastModifiedBy>
  <dcterms:modified xsi:type="dcterms:W3CDTF">2019-05-05T04:57:42Z</dcterms:modified>
  <cp:revision>22</cp:revision>
  <dc:subject/>
  <dc:title>Презентация PowerPoint</dc:title>
</cp:coreProperties>
</file>