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25.jpeg" ContentType="image/jpeg"/>
  <Override PartName="/ppt/media/image20.png" ContentType="image/png"/>
  <Override PartName="/ppt/media/image24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4423-2CF6-4743-961B-4C349E10A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9F4F-3BF2-4ABB-872E-E086D670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C495-E707-42B0-98DA-CA035C5B6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D9F2-FFCE-4C0C-8DFA-9401207F7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A8FC-37D9-4377-ADF8-689E2F4F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CB4E-A346-4444-BBC5-A6A5365D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0A9E-2C92-4CAA-89E5-84831CA8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EA45-9D0C-44F5-BE78-87F98C25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D934-F3CC-4F52-B784-7D4C258E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55E7-CFF2-4B6A-B710-93DC47F9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AC99-79DC-4756-ACCF-31788BC1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02D5-86E5-4061-AAB9-00320452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FE32-951B-4ACF-9204-801DBD1DEF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" y="1052280"/>
            <a:ext cx="9036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7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ниципальное автономное общеобразовательное учрежде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лицей № 27 города Улан - Удэ</a:t>
            </a:r>
            <a:br>
              <a:rPr sz="4000"/>
            </a:br>
            <a:br>
              <a:rPr sz="7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ние интереса к чтению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младших школьников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урочной и внеурочной деятельност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84360" y="414972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рина Светлана Алексеевн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одзаголовок 2"/>
          <p:cNvSpPr/>
          <p:nvPr/>
        </p:nvSpPr>
        <p:spPr>
          <a:xfrm>
            <a:off x="2843280" y="6127920"/>
            <a:ext cx="64008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9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6" descr="https://avatars.mds.yandex.net/get-zen_doc/29485/pub_5af3f3f6c71a92d394d52f91_5af3f47f7425f575523eaa41/scale_1200"/>
          <p:cNvPicPr/>
          <p:nvPr/>
        </p:nvPicPr>
        <p:blipFill>
          <a:blip r:embed="rId1"/>
          <a:stretch/>
        </p:blipFill>
        <p:spPr>
          <a:xfrm>
            <a:off x="179280" y="3716280"/>
            <a:ext cx="392292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4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иллюстраций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2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4133880" cy="30067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" descr=""/>
          <p:cNvPicPr/>
          <p:nvPr/>
        </p:nvPicPr>
        <p:blipFill>
          <a:blip r:embed="rId2"/>
          <a:stretch/>
        </p:blipFill>
        <p:spPr>
          <a:xfrm>
            <a:off x="5030640" y="907920"/>
            <a:ext cx="3781440" cy="27496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"/>
          <p:cNvPicPr/>
          <p:nvPr/>
        </p:nvPicPr>
        <p:blipFill>
          <a:blip r:embed="rId3"/>
          <a:stretch/>
        </p:blipFill>
        <p:spPr>
          <a:xfrm>
            <a:off x="123840" y="3691080"/>
            <a:ext cx="4273560" cy="31082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5" descr=""/>
          <p:cNvPicPr/>
          <p:nvPr/>
        </p:nvPicPr>
        <p:blipFill>
          <a:blip r:embed="rId4"/>
          <a:stretch/>
        </p:blipFill>
        <p:spPr>
          <a:xfrm>
            <a:off x="4932360" y="3691080"/>
            <a:ext cx="421164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31680" y="1749600"/>
            <a:ext cx="7572600" cy="5076720"/>
          </a:xfrm>
          <a:prstGeom prst="rect">
            <a:avLst/>
          </a:prstGeom>
          <a:ln w="0">
            <a:noFill/>
          </a:ln>
        </p:spPr>
      </p:pic>
      <p:sp>
        <p:nvSpPr>
          <p:cNvPr id="69" name="Заголовок 1"/>
          <p:cNvSpPr/>
          <p:nvPr/>
        </p:nvSpPr>
        <p:spPr>
          <a:xfrm>
            <a:off x="498600" y="0"/>
            <a:ext cx="82296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Arial"/>
              </a:rPr>
              <a:t>Прием «Цветопись»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1" descr=""/>
          <p:cNvPicPr/>
          <p:nvPr/>
        </p:nvPicPr>
        <p:blipFill>
          <a:blip r:embed="rId2"/>
          <a:stretch/>
        </p:blipFill>
        <p:spPr>
          <a:xfrm>
            <a:off x="6588000" y="692280"/>
            <a:ext cx="255600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ем «Сравнение»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sojcssm.com/wp-content/uploads/2017/01/qtq80-RYfafX.jpeg"/>
          <p:cNvPicPr/>
          <p:nvPr/>
        </p:nvPicPr>
        <p:blipFill>
          <a:blip r:embed="rId1"/>
          <a:stretch/>
        </p:blipFill>
        <p:spPr>
          <a:xfrm>
            <a:off x="1573200" y="828720"/>
            <a:ext cx="5479920" cy="4113000"/>
          </a:xfrm>
          <a:prstGeom prst="rect">
            <a:avLst/>
          </a:prstGeom>
          <a:ln w="0">
            <a:noFill/>
          </a:ln>
        </p:spPr>
      </p:pic>
      <p:sp>
        <p:nvSpPr>
          <p:cNvPr id="73" name="Заголовок 1"/>
          <p:cNvSpPr/>
          <p:nvPr/>
        </p:nvSpPr>
        <p:spPr>
          <a:xfrm>
            <a:off x="179280" y="5373720"/>
            <a:ext cx="82296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marL="430920" indent="-430920" algn="ctr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Где огонь – там и дым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(турецкая поговорк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0920" indent="-430920" algn="ctr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т дыма без огня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(русская поговорк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7191360" cy="3790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s://avatars.mds.yandex.net/get-pdb/912419/1b95fefa-6001-460f-9254-4a8bfa04c7da/s1200?webp=false"/>
          <p:cNvPicPr/>
          <p:nvPr/>
        </p:nvPicPr>
        <p:blipFill>
          <a:blip r:embed="rId2"/>
          <a:stretch/>
        </p:blipFill>
        <p:spPr>
          <a:xfrm>
            <a:off x="971640" y="3979800"/>
            <a:ext cx="2736720" cy="2735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http://www.login.az/assets/media/images/kitablar/ru/ushaq/9785906775290.jpg"/>
          <p:cNvPicPr/>
          <p:nvPr/>
        </p:nvPicPr>
        <p:blipFill>
          <a:blip r:embed="rId3"/>
          <a:stretch/>
        </p:blipFill>
        <p:spPr>
          <a:xfrm>
            <a:off x="3443400" y="3946680"/>
            <a:ext cx="1207800" cy="1820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https://arhivurokov.ru/kopilka/up/html/2017/05/13/k_5916e6da53fa0/img_user_file_5916e6dac6e21_9.jpg"/>
          <p:cNvPicPr/>
          <p:nvPr/>
        </p:nvPicPr>
        <p:blipFill>
          <a:blip r:embed="rId4"/>
          <a:stretch/>
        </p:blipFill>
        <p:spPr>
          <a:xfrm>
            <a:off x="5508720" y="4076640"/>
            <a:ext cx="33112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чинительство сказок»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2" descr=""/>
          <p:cNvPicPr/>
          <p:nvPr/>
        </p:nvPicPr>
        <p:blipFill>
          <a:blip r:embed="rId1"/>
          <a:stretch/>
        </p:blipFill>
        <p:spPr>
          <a:xfrm>
            <a:off x="611280" y="1409760"/>
            <a:ext cx="4613040" cy="5373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http://www.profvibor.ru/upload/iblock/c3d/c3d4a69614d032f4143cc8c9c7d7b2bc.jpg"/>
          <p:cNvPicPr/>
          <p:nvPr/>
        </p:nvPicPr>
        <p:blipFill>
          <a:blip r:embed="rId2"/>
          <a:stretch/>
        </p:blipFill>
        <p:spPr>
          <a:xfrm>
            <a:off x="5319720" y="1268280"/>
            <a:ext cx="2050920" cy="1368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s://ds02.infourok.ru/uploads/ex/0bc0/00057677-dd59f45f/hello_html_m20a0f668.jpg"/>
          <p:cNvPicPr/>
          <p:nvPr/>
        </p:nvPicPr>
        <p:blipFill>
          <a:blip r:embed="rId3"/>
          <a:stretch/>
        </p:blipFill>
        <p:spPr>
          <a:xfrm>
            <a:off x="7467480" y="2349360"/>
            <a:ext cx="1519200" cy="2146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https://xn--80ajjine0d.xn--p1ai/sites/default/files/works/konkurs/rabota-2-povar_1e6c8.970.jpg"/>
          <p:cNvPicPr/>
          <p:nvPr/>
        </p:nvPicPr>
        <p:blipFill>
          <a:blip r:embed="rId4"/>
          <a:stretch/>
        </p:blipFill>
        <p:spPr>
          <a:xfrm>
            <a:off x="5378400" y="4653000"/>
            <a:ext cx="266688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029440" cy="3324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ttps://healthy-kids.ru/wp-content/uploads/2016/03/shutterstock_278128646.jpg"/>
          <p:cNvPicPr/>
          <p:nvPr/>
        </p:nvPicPr>
        <p:blipFill>
          <a:blip r:embed="rId2"/>
          <a:stretch/>
        </p:blipFill>
        <p:spPr>
          <a:xfrm>
            <a:off x="2484360" y="3584520"/>
            <a:ext cx="404964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</a:t>
            </a:r>
            <a:br>
              <a:rPr sz="8800"/>
            </a:br>
            <a:r>
              <a:rPr b="0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внимание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http://itd1.mycdn.me/image?id=848770528850&amp;t=20&amp;plc=WEB&amp;tkn=*TqcfTzAL0BXrGiq-e91jfd3TW3Q"/>
          <p:cNvPicPr/>
          <p:nvPr/>
        </p:nvPicPr>
        <p:blipFill>
          <a:blip r:embed="rId1"/>
          <a:stretch/>
        </p:blipFill>
        <p:spPr>
          <a:xfrm>
            <a:off x="1763640" y="2781360"/>
            <a:ext cx="56563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636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сследования ВЦИОМ </a:t>
            </a:r>
            <a:br>
              <a:rPr sz="3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Всероссийский центр изучения общественного мнения) </a:t>
            </a:r>
            <a:br>
              <a:rPr sz="2800"/>
            </a:br>
            <a:br>
              <a:rPr sz="28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2012 году отметили, что активных читателей в нашей стране лишь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3 % населения – эта группа людей настойчиво желает каждый день прочитать хотя бы несколько страниц книги. Людей, которые читают от случая к случаю почти вдвое больше – 42 %. Очень редко или тех, которые никогда не читают – 35 %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работы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словий для формирования устойчивого и осознанного интереса к чтению художественной литературы младшими школьникам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http://happeninginhighlandpark.com/wp-content/uploads/2017/08/o-TODDLER-READING-facebook.jpg"/>
          <p:cNvPicPr/>
          <p:nvPr/>
        </p:nvPicPr>
        <p:blipFill>
          <a:blip r:embed="rId1"/>
          <a:stretch/>
        </p:blipFill>
        <p:spPr>
          <a:xfrm>
            <a:off x="1116000" y="3005280"/>
            <a:ext cx="6769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дачи :</a:t>
            </a:r>
            <a:br>
              <a:rPr sz="16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зучить научно – методическую и психолого – педагогическую литературу по  проблеме формирования читательского интереса у младших школьников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явить методический опыт формирования читательского интереса у младших школьников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писать содержание методического материала, направленного на формирование читательского интереса у младших школьников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азработать критерии и показатели уровня читательского интереса к чтению в начальной школ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79280" y="189000"/>
          <a:ext cx="8713800" cy="6411960"/>
        </p:xfrm>
        <a:graphic>
          <a:graphicData uri="http://schemas.openxmlformats.org/drawingml/2006/table">
            <a:tbl>
              <a:tblPr/>
              <a:tblGrid>
                <a:gridCol w="2156040"/>
                <a:gridCol w="1436760"/>
                <a:gridCol w="5121000"/>
              </a:tblGrid>
              <a:tr h="544320">
                <a:tc>
                  <a:txBody>
                    <a:bodyPr lIns="27360" rIns="27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эта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и реализац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формируе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440">
                <a:tc>
                  <a:txBody>
                    <a:bodyPr lIns="27360" rIns="27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ите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ладение техникой чтения, совершенствование навыка   чтения, умения самостоятельно работать с книго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lIns="27360" rIns="27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ршенствование  читательской самостоятельности, развитие оперативной памяти, формирование оптимальной скорости чтени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2200">
                <a:tc>
                  <a:txBody>
                    <a:bodyPr lIns="27360" rIns="27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714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навыков, характеризующих настоящего читателя, умеющего самостоятельно и квалифицированно читать доступные книги и другой печатный материал для расширения и пополнения своих знаний,  формирование умения извлекать  из  текстов  интересную  и  полезную  информацию, работать  с разными источниками информаци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0920">
                <a:tc>
                  <a:txBody>
                    <a:bodyPr lIns="27360" rIns="27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ите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714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у детей читательских предпочтений и интересов на базе полученных за годы обучения знаний о книгах и умений с ними самостоятельно действовать,  совершенствованние умения извлекать  из  текстов  интересную  и  полезную  информацию, работать  с разными источниками информации (словарями, справочниками, в том числе и на электронных носителях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7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как  же учить  детей чтению, чтобы они полюбили книгу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https://avatars.mds.yandex.net/get-pdb/1044729/dd8f1532-ee3b-4824-9dff-3934561fbd2e/s1200"/>
          <p:cNvPicPr/>
          <p:nvPr/>
        </p:nvPicPr>
        <p:blipFill>
          <a:blip r:embed="rId1"/>
          <a:stretch/>
        </p:blipFill>
        <p:spPr>
          <a:xfrm>
            <a:off x="971640" y="1589040"/>
            <a:ext cx="734544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Берём интервью у героя»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900000" y="895320"/>
            <a:ext cx="73440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Драматизац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5119560" cy="28800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2" descr=""/>
          <p:cNvPicPr/>
          <p:nvPr/>
        </p:nvPicPr>
        <p:blipFill>
          <a:blip r:embed="rId2"/>
          <a:stretch/>
        </p:blipFill>
        <p:spPr>
          <a:xfrm>
            <a:off x="2916360" y="3327480"/>
            <a:ext cx="592272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зыв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прочитанного произведе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2" descr=""/>
          <p:cNvPicPr/>
          <p:nvPr/>
        </p:nvPicPr>
        <p:blipFill>
          <a:blip r:embed="rId1"/>
          <a:stretch/>
        </p:blipFill>
        <p:spPr>
          <a:xfrm>
            <a:off x="0" y="2038320"/>
            <a:ext cx="3041640" cy="41274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"/>
          <p:cNvPicPr/>
          <p:nvPr/>
        </p:nvPicPr>
        <p:blipFill>
          <a:blip r:embed="rId2"/>
          <a:stretch/>
        </p:blipFill>
        <p:spPr>
          <a:xfrm>
            <a:off x="2700360" y="2060640"/>
            <a:ext cx="6443640" cy="447048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4"/>
          <p:cNvSpPr/>
          <p:nvPr/>
        </p:nvSpPr>
        <p:spPr>
          <a:xfrm>
            <a:off x="395280" y="2349360"/>
            <a:ext cx="2232000" cy="21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5"/>
          <p:cNvSpPr/>
          <p:nvPr/>
        </p:nvSpPr>
        <p:spPr>
          <a:xfrm>
            <a:off x="3348000" y="2276640"/>
            <a:ext cx="2392560" cy="21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6"/>
          <p:cNvSpPr/>
          <p:nvPr/>
        </p:nvSpPr>
        <p:spPr>
          <a:xfrm>
            <a:off x="6156360" y="2421000"/>
            <a:ext cx="237636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7T06:35:31Z</dcterms:created>
  <dc:creator>Admin</dc:creator>
  <dc:description/>
  <dc:language>en-US</dc:language>
  <cp:lastModifiedBy>1</cp:lastModifiedBy>
  <dcterms:modified xsi:type="dcterms:W3CDTF">2019-05-05T04:57:42Z</dcterms:modified>
  <cp:revision>22</cp:revision>
  <dc:subject/>
  <dc:title>Презентация PowerPoint</dc:title>
</cp:coreProperties>
</file>