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CC049-665A-43D8-8EFA-38740B66465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991D3-64EA-4CE3-B383-21043466A42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6ADA7-62B1-4BC6-A62B-7D9AF5C994E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884B-C9F6-44D8-B538-5D5A1939B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A3D3-8DA4-49DD-A6B9-BB4273AD6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18BA-7CC2-4699-BCFA-B35047562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A4BB-59F3-4D46-8D8C-525D56E7B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A5A7-311F-4F6D-8723-D3D324542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B173-0B01-4361-88BE-1655F9BA1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3D52-ED1F-4822-88DC-A71686AE3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BF6D-07A2-4141-A78A-A97FD0C92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E9BD-2496-48D4-A249-49C2306FF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E6AB-3B2B-4FBB-9454-A1AA8717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3584-AE8B-4F9A-9CA1-23DD8B2EC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5641-FD19-4C49-855D-4317F6AD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20D74-F921-47F1-8B5E-49517BA51A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1"/>
          <p:cNvSpPr/>
          <p:nvPr/>
        </p:nvSpPr>
        <p:spPr>
          <a:xfrm>
            <a:off x="5975280" y="4976640"/>
            <a:ext cx="66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шить неравенство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Object 3"/>
              <p:cNvSpPr txBox="1"/>
              <p:nvPr/>
            </p:nvSpPr>
            <p:spPr>
              <a:xfrm>
                <a:off x="2357280" y="928800"/>
                <a:ext cx="399600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</m:e>
                    </m:d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214200" y="1857240"/>
            <a:ext cx="1643040" cy="1643040"/>
          </a:xfrm>
          <a:prstGeom prst="rect">
            <a:avLst/>
          </a:prstGeom>
          <a:ln w="0">
            <a:noFill/>
          </a:ln>
        </p:spPr>
      </p:pic>
      <p:sp>
        <p:nvSpPr>
          <p:cNvPr id="52" name="TextBox 6"/>
          <p:cNvSpPr/>
          <p:nvPr/>
        </p:nvSpPr>
        <p:spPr>
          <a:xfrm>
            <a:off x="2714760" y="2071800"/>
            <a:ext cx="43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Н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вносильный пере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5500800" y="3500280"/>
            <a:ext cx="33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так решать НЕЛЬЗ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5"/>
              <p:cNvSpPr txBox="1"/>
              <p:nvPr/>
            </p:nvSpPr>
            <p:spPr>
              <a:xfrm>
                <a:off x="2714760" y="2786040"/>
                <a:ext cx="2744640" cy="169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  <m:r>
                              <m:t xml:space="preserve">≤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Object 7"/>
              <p:cNvSpPr txBox="1"/>
              <p:nvPr/>
            </p:nvSpPr>
            <p:spPr>
              <a:xfrm>
                <a:off x="571680" y="4857840"/>
                <a:ext cx="2286000" cy="95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e>
                            </m:d>
                            <m:r>
                              <m:t xml:space="preserve">≤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cxnSp>
        <p:nvCxnSpPr>
          <p:cNvPr id="56" name="Прямая со стрелкой 13"/>
          <p:cNvCxnSpPr/>
          <p:nvPr/>
        </p:nvCxnSpPr>
        <p:spPr>
          <a:xfrm>
            <a:off x="3786120" y="4973760"/>
            <a:ext cx="3215520" cy="21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57" name="Прямая со стрелкой 14"/>
          <p:cNvCxnSpPr/>
          <p:nvPr/>
        </p:nvCxnSpPr>
        <p:spPr>
          <a:xfrm>
            <a:off x="3857400" y="5998680"/>
            <a:ext cx="3215160" cy="2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58" name="Овал 15"/>
          <p:cNvSpPr/>
          <p:nvPr/>
        </p:nvSpPr>
        <p:spPr>
          <a:xfrm>
            <a:off x="4786200" y="4830840"/>
            <a:ext cx="142920" cy="2142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16"/>
          <p:cNvSpPr/>
          <p:nvPr/>
        </p:nvSpPr>
        <p:spPr>
          <a:xfrm>
            <a:off x="6143760" y="4830840"/>
            <a:ext cx="142920" cy="2142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17"/>
          <p:cNvSpPr/>
          <p:nvPr/>
        </p:nvSpPr>
        <p:spPr>
          <a:xfrm>
            <a:off x="4071960" y="5902200"/>
            <a:ext cx="142920" cy="214560"/>
          </a:xfrm>
          <a:prstGeom prst="ellipse">
            <a:avLst/>
          </a:prstGeom>
          <a:solidFill>
            <a:srgbClr val="984807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18"/>
          <p:cNvSpPr/>
          <p:nvPr/>
        </p:nvSpPr>
        <p:spPr>
          <a:xfrm>
            <a:off x="5500800" y="5902200"/>
            <a:ext cx="142920" cy="214560"/>
          </a:xfrm>
          <a:prstGeom prst="ellipse">
            <a:avLst/>
          </a:prstGeom>
          <a:solidFill>
            <a:srgbClr val="984807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0"/>
          <p:cNvSpPr/>
          <p:nvPr/>
        </p:nvSpPr>
        <p:spPr>
          <a:xfrm>
            <a:off x="7072200" y="4857840"/>
            <a:ext cx="24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118d8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1"/>
          <p:cNvSpPr/>
          <p:nvPr/>
        </p:nvSpPr>
        <p:spPr>
          <a:xfrm>
            <a:off x="7072200" y="5643720"/>
            <a:ext cx="10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118d8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2"/>
          <p:cNvSpPr/>
          <p:nvPr/>
        </p:nvSpPr>
        <p:spPr>
          <a:xfrm>
            <a:off x="6465960" y="4500720"/>
            <a:ext cx="24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3"/>
          <p:cNvSpPr/>
          <p:nvPr/>
        </p:nvSpPr>
        <p:spPr>
          <a:xfrm>
            <a:off x="5286240" y="4280040"/>
            <a:ext cx="249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Arial"/>
              </a:rPr>
              <a:t>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4"/>
          <p:cNvSpPr/>
          <p:nvPr/>
        </p:nvSpPr>
        <p:spPr>
          <a:xfrm>
            <a:off x="4286160" y="4500720"/>
            <a:ext cx="24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5"/>
          <p:cNvSpPr/>
          <p:nvPr/>
        </p:nvSpPr>
        <p:spPr>
          <a:xfrm>
            <a:off x="3643200" y="5280120"/>
            <a:ext cx="249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84807"/>
                </a:solidFill>
                <a:latin typeface="Arial"/>
              </a:rPr>
              <a:t>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6"/>
          <p:cNvSpPr/>
          <p:nvPr/>
        </p:nvSpPr>
        <p:spPr>
          <a:xfrm>
            <a:off x="6037200" y="5286240"/>
            <a:ext cx="249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84807"/>
                </a:solidFill>
                <a:latin typeface="Arial"/>
              </a:rPr>
              <a:t>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7"/>
          <p:cNvSpPr/>
          <p:nvPr/>
        </p:nvSpPr>
        <p:spPr>
          <a:xfrm>
            <a:off x="4572000" y="5548320"/>
            <a:ext cx="24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84807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28"/>
          <p:cNvSpPr/>
          <p:nvPr/>
        </p:nvSpPr>
        <p:spPr>
          <a:xfrm>
            <a:off x="3832200" y="6048360"/>
            <a:ext cx="66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84807"/>
                </a:solidFill>
                <a:latin typeface="Arial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9"/>
          <p:cNvSpPr/>
          <p:nvPr/>
        </p:nvSpPr>
        <p:spPr>
          <a:xfrm>
            <a:off x="5403960" y="6119640"/>
            <a:ext cx="66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84807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30"/>
          <p:cNvSpPr/>
          <p:nvPr/>
        </p:nvSpPr>
        <p:spPr>
          <a:xfrm>
            <a:off x="4643280" y="4976640"/>
            <a:ext cx="66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Выгнутая вверх стрелка 38"/>
          <p:cNvSpPr/>
          <p:nvPr/>
        </p:nvSpPr>
        <p:spPr>
          <a:xfrm>
            <a:off x="4786200" y="4357800"/>
            <a:ext cx="1571760" cy="428400"/>
          </a:xfrm>
          <a:custGeom>
            <a:avLst/>
            <a:gdLst>
              <a:gd name="textAreaLeft" fmla="*/ 352800 w 1571760"/>
              <a:gd name="textAreaRight" fmla="*/ 1165680 w 1571760"/>
              <a:gd name="textAreaTop" fmla="*/ 57240 h 428400"/>
              <a:gd name="textAreaBottom" fmla="*/ 3711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696" hR="21600" stAng="10800000" swAng="5400000"/>
                <a:lnTo>
                  <a:pt x="11169" y="0"/>
                </a:lnTo>
                <a:arcTo wR="9696" hR="21600" stAng="-5400000" swAng="3605484"/>
                <a:lnTo>
                  <a:pt x="21292" y="16200"/>
                </a:lnTo>
                <a:lnTo>
                  <a:pt x="20128" y="21600"/>
                </a:lnTo>
                <a:lnTo>
                  <a:pt x="18347" y="16200"/>
                </a:lnTo>
                <a:lnTo>
                  <a:pt x="19083" y="16200"/>
                </a:lnTo>
                <a:arcTo wR="9696" hR="21600" stAng="-1794516" swAng="-3487973"/>
                <a:lnTo>
                  <a:pt x="10432" y="62"/>
                </a:lnTo>
                <a:arcTo wR="9696" hR="21600" stAng="-5517511" swAng="-5282489"/>
                <a:close/>
              </a:path>
              <a:path fill="darkenLess" w="21600" h="21600">
                <a:moveTo>
                  <a:pt x="0" y="21600"/>
                </a:moveTo>
                <a:arcTo wR="9696" hR="21600" stAng="10800000" swAng="5400000"/>
                <a:lnTo>
                  <a:pt x="9696" y="0"/>
                </a:lnTo>
                <a:arcTo wR="9696" hR="21600" stAng="-5400000" swAng="117511"/>
                <a:lnTo>
                  <a:pt x="10432" y="62"/>
                </a:lnTo>
                <a:arcTo wR="9696" hR="21600" stAng="-5517511" swAng="-5282489"/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Выгнутая вверх стрелка 39"/>
          <p:cNvSpPr/>
          <p:nvPr/>
        </p:nvSpPr>
        <p:spPr>
          <a:xfrm>
            <a:off x="4071960" y="5429160"/>
            <a:ext cx="1571760" cy="428760"/>
          </a:xfrm>
          <a:custGeom>
            <a:avLst/>
            <a:gdLst>
              <a:gd name="textAreaLeft" fmla="*/ 352800 w 1571760"/>
              <a:gd name="textAreaRight" fmla="*/ 1165680 w 1571760"/>
              <a:gd name="textAreaTop" fmla="*/ 57240 h 428760"/>
              <a:gd name="textAreaBottom" fmla="*/ 3715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696" hR="21600" stAng="10800000" swAng="5400000"/>
                <a:lnTo>
                  <a:pt x="11169" y="0"/>
                </a:lnTo>
                <a:arcTo wR="9696" hR="21600" stAng="-5400000" swAng="3605484"/>
                <a:lnTo>
                  <a:pt x="21292" y="16200"/>
                </a:lnTo>
                <a:lnTo>
                  <a:pt x="20128" y="21600"/>
                </a:lnTo>
                <a:lnTo>
                  <a:pt x="18347" y="16200"/>
                </a:lnTo>
                <a:lnTo>
                  <a:pt x="19083" y="16200"/>
                </a:lnTo>
                <a:arcTo wR="9696" hR="21600" stAng="-1794516" swAng="-3487973"/>
                <a:lnTo>
                  <a:pt x="10432" y="62"/>
                </a:lnTo>
                <a:arcTo wR="9696" hR="21600" stAng="-5517511" swAng="-5282489"/>
                <a:close/>
              </a:path>
              <a:path fill="darkenLess" w="21600" h="21600">
                <a:moveTo>
                  <a:pt x="0" y="21600"/>
                </a:moveTo>
                <a:arcTo wR="9696" hR="21600" stAng="10800000" swAng="5400000"/>
                <a:lnTo>
                  <a:pt x="9696" y="0"/>
                </a:lnTo>
                <a:arcTo wR="9696" hR="21600" stAng="-5400000" swAng="117511"/>
                <a:lnTo>
                  <a:pt x="10432" y="62"/>
                </a:lnTo>
                <a:arcTo wR="9696" hR="21600" stAng="-5517511" swAng="-5282489"/>
                <a:close/>
              </a:path>
            </a:pathLst>
          </a:cu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40"/>
          <p:cNvSpPr/>
          <p:nvPr/>
        </p:nvSpPr>
        <p:spPr>
          <a:xfrm>
            <a:off x="357120" y="4429080"/>
            <a:ext cx="271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ъяснение    ошиб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42"/>
          <p:cNvSpPr/>
          <p:nvPr/>
        </p:nvSpPr>
        <p:spPr>
          <a:xfrm>
            <a:off x="142920" y="5857920"/>
            <a:ext cx="328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Ответ»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0; 3]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?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терян корень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43"/>
          <p:cNvSpPr/>
          <p:nvPr/>
        </p:nvSpPr>
        <p:spPr>
          <a:xfrm>
            <a:off x="857160" y="285840"/>
            <a:ext cx="85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С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5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0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45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50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5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5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31"/>
          <p:cNvSpPr/>
          <p:nvPr/>
        </p:nvSpPr>
        <p:spPr>
          <a:xfrm>
            <a:off x="5975280" y="4834080"/>
            <a:ext cx="66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шить неравенство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3"/>
              <p:cNvSpPr txBox="1"/>
              <p:nvPr/>
            </p:nvSpPr>
            <p:spPr>
              <a:xfrm>
                <a:off x="2357280" y="928800"/>
                <a:ext cx="399600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</m:e>
                    </m:d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" name="TextBox 7"/>
          <p:cNvSpPr/>
          <p:nvPr/>
        </p:nvSpPr>
        <p:spPr>
          <a:xfrm>
            <a:off x="2571840" y="1785960"/>
            <a:ext cx="380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делать   МОЖНО  Т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7"/>
              <p:cNvSpPr txBox="1"/>
              <p:nvPr/>
            </p:nvSpPr>
            <p:spPr>
              <a:xfrm>
                <a:off x="571680" y="4429080"/>
                <a:ext cx="228600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e>
                            </m:d>
                            <m:r>
                              <m:t xml:space="preserve">&lt;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cxnSp>
        <p:nvCxnSpPr>
          <p:cNvPr id="83" name="Прямая со стрелкой 13"/>
          <p:cNvCxnSpPr/>
          <p:nvPr/>
        </p:nvCxnSpPr>
        <p:spPr>
          <a:xfrm>
            <a:off x="3786120" y="4830840"/>
            <a:ext cx="3215520" cy="21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84" name="Прямая со стрелкой 14"/>
          <p:cNvCxnSpPr/>
          <p:nvPr/>
        </p:nvCxnSpPr>
        <p:spPr>
          <a:xfrm>
            <a:off x="3857400" y="5855760"/>
            <a:ext cx="3215160" cy="2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85" name="Овал 15"/>
          <p:cNvSpPr/>
          <p:nvPr/>
        </p:nvSpPr>
        <p:spPr>
          <a:xfrm>
            <a:off x="4786200" y="4687920"/>
            <a:ext cx="142920" cy="214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Овал 16"/>
          <p:cNvSpPr/>
          <p:nvPr/>
        </p:nvSpPr>
        <p:spPr>
          <a:xfrm>
            <a:off x="6143760" y="4687920"/>
            <a:ext cx="142920" cy="214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Овал 17"/>
          <p:cNvSpPr/>
          <p:nvPr/>
        </p:nvSpPr>
        <p:spPr>
          <a:xfrm>
            <a:off x="4071960" y="5759280"/>
            <a:ext cx="142920" cy="214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Овал 18"/>
          <p:cNvSpPr/>
          <p:nvPr/>
        </p:nvSpPr>
        <p:spPr>
          <a:xfrm>
            <a:off x="5500800" y="5759280"/>
            <a:ext cx="142920" cy="214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0"/>
          <p:cNvSpPr/>
          <p:nvPr/>
        </p:nvSpPr>
        <p:spPr>
          <a:xfrm>
            <a:off x="7072200" y="4714920"/>
            <a:ext cx="24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118d8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1"/>
          <p:cNvSpPr/>
          <p:nvPr/>
        </p:nvSpPr>
        <p:spPr>
          <a:xfrm>
            <a:off x="7072200" y="5500800"/>
            <a:ext cx="10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118d8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2"/>
          <p:cNvSpPr/>
          <p:nvPr/>
        </p:nvSpPr>
        <p:spPr>
          <a:xfrm>
            <a:off x="6465960" y="4357800"/>
            <a:ext cx="24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3"/>
          <p:cNvSpPr/>
          <p:nvPr/>
        </p:nvSpPr>
        <p:spPr>
          <a:xfrm>
            <a:off x="5286240" y="4137120"/>
            <a:ext cx="249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Arial"/>
              </a:rPr>
              <a:t>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4"/>
          <p:cNvSpPr/>
          <p:nvPr/>
        </p:nvSpPr>
        <p:spPr>
          <a:xfrm>
            <a:off x="4286160" y="4357800"/>
            <a:ext cx="24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5"/>
          <p:cNvSpPr/>
          <p:nvPr/>
        </p:nvSpPr>
        <p:spPr>
          <a:xfrm>
            <a:off x="3643200" y="5137200"/>
            <a:ext cx="249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84807"/>
                </a:solidFill>
                <a:latin typeface="Arial"/>
              </a:rPr>
              <a:t>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6"/>
          <p:cNvSpPr/>
          <p:nvPr/>
        </p:nvSpPr>
        <p:spPr>
          <a:xfrm>
            <a:off x="6037200" y="5143680"/>
            <a:ext cx="249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84807"/>
                </a:solidFill>
                <a:latin typeface="Arial"/>
              </a:rPr>
              <a:t>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7"/>
          <p:cNvSpPr/>
          <p:nvPr/>
        </p:nvSpPr>
        <p:spPr>
          <a:xfrm>
            <a:off x="4572000" y="5405400"/>
            <a:ext cx="24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84807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8"/>
          <p:cNvSpPr/>
          <p:nvPr/>
        </p:nvSpPr>
        <p:spPr>
          <a:xfrm>
            <a:off x="3832200" y="5905440"/>
            <a:ext cx="66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84807"/>
                </a:solidFill>
                <a:latin typeface="Arial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29"/>
          <p:cNvSpPr/>
          <p:nvPr/>
        </p:nvSpPr>
        <p:spPr>
          <a:xfrm>
            <a:off x="5403960" y="5929200"/>
            <a:ext cx="66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84807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30"/>
          <p:cNvSpPr/>
          <p:nvPr/>
        </p:nvSpPr>
        <p:spPr>
          <a:xfrm>
            <a:off x="4643280" y="4834080"/>
            <a:ext cx="66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Выгнутая вверх стрелка 38"/>
          <p:cNvSpPr/>
          <p:nvPr/>
        </p:nvSpPr>
        <p:spPr>
          <a:xfrm>
            <a:off x="4786200" y="4214880"/>
            <a:ext cx="1571760" cy="428400"/>
          </a:xfrm>
          <a:custGeom>
            <a:avLst/>
            <a:gdLst>
              <a:gd name="textAreaLeft" fmla="*/ 352800 w 1571760"/>
              <a:gd name="textAreaRight" fmla="*/ 1165680 w 1571760"/>
              <a:gd name="textAreaTop" fmla="*/ 57240 h 428400"/>
              <a:gd name="textAreaBottom" fmla="*/ 3711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696" hR="21600" stAng="10800000" swAng="5400000"/>
                <a:lnTo>
                  <a:pt x="11169" y="0"/>
                </a:lnTo>
                <a:arcTo wR="9696" hR="21600" stAng="-5400000" swAng="3605484"/>
                <a:lnTo>
                  <a:pt x="21292" y="16200"/>
                </a:lnTo>
                <a:lnTo>
                  <a:pt x="20128" y="21600"/>
                </a:lnTo>
                <a:lnTo>
                  <a:pt x="18347" y="16200"/>
                </a:lnTo>
                <a:lnTo>
                  <a:pt x="19083" y="16200"/>
                </a:lnTo>
                <a:arcTo wR="9696" hR="21600" stAng="-1794516" swAng="-3487973"/>
                <a:lnTo>
                  <a:pt x="10432" y="62"/>
                </a:lnTo>
                <a:arcTo wR="9696" hR="21600" stAng="-5517511" swAng="-5282489"/>
                <a:close/>
              </a:path>
              <a:path fill="darkenLess" w="21600" h="21600">
                <a:moveTo>
                  <a:pt x="0" y="21600"/>
                </a:moveTo>
                <a:arcTo wR="9696" hR="21600" stAng="10800000" swAng="5400000"/>
                <a:lnTo>
                  <a:pt x="9696" y="0"/>
                </a:lnTo>
                <a:arcTo wR="9696" hR="21600" stAng="-5400000" swAng="117511"/>
                <a:lnTo>
                  <a:pt x="10432" y="62"/>
                </a:lnTo>
                <a:arcTo wR="9696" hR="21600" stAng="-5517511" swAng="-5282489"/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Выгнутая вверх стрелка 39"/>
          <p:cNvSpPr/>
          <p:nvPr/>
        </p:nvSpPr>
        <p:spPr>
          <a:xfrm>
            <a:off x="4071960" y="5286240"/>
            <a:ext cx="1571760" cy="428760"/>
          </a:xfrm>
          <a:custGeom>
            <a:avLst/>
            <a:gdLst>
              <a:gd name="textAreaLeft" fmla="*/ 352800 w 1571760"/>
              <a:gd name="textAreaRight" fmla="*/ 1165680 w 1571760"/>
              <a:gd name="textAreaTop" fmla="*/ 57240 h 428760"/>
              <a:gd name="textAreaBottom" fmla="*/ 3715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696" hR="21600" stAng="10800000" swAng="5400000"/>
                <a:lnTo>
                  <a:pt x="11169" y="0"/>
                </a:lnTo>
                <a:arcTo wR="9696" hR="21600" stAng="-5400000" swAng="3605484"/>
                <a:lnTo>
                  <a:pt x="21292" y="16200"/>
                </a:lnTo>
                <a:lnTo>
                  <a:pt x="20128" y="21600"/>
                </a:lnTo>
                <a:lnTo>
                  <a:pt x="18347" y="16200"/>
                </a:lnTo>
                <a:lnTo>
                  <a:pt x="19083" y="16200"/>
                </a:lnTo>
                <a:arcTo wR="9696" hR="21600" stAng="-1794516" swAng="-3487973"/>
                <a:lnTo>
                  <a:pt x="10432" y="62"/>
                </a:lnTo>
                <a:arcTo wR="9696" hR="21600" stAng="-5517511" swAng="-5282489"/>
                <a:close/>
              </a:path>
              <a:path fill="darkenLess" w="21600" h="21600">
                <a:moveTo>
                  <a:pt x="0" y="21600"/>
                </a:moveTo>
                <a:arcTo wR="9696" hR="21600" stAng="10800000" swAng="5400000"/>
                <a:lnTo>
                  <a:pt x="9696" y="0"/>
                </a:lnTo>
                <a:arcTo wR="9696" hR="21600" stAng="-5400000" swAng="117511"/>
                <a:lnTo>
                  <a:pt x="10432" y="62"/>
                </a:lnTo>
                <a:arcTo wR="9696" hR="21600" stAng="-5517511" swAng="-5282489"/>
                <a:close/>
              </a:path>
            </a:pathLst>
          </a:cu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40"/>
          <p:cNvSpPr/>
          <p:nvPr/>
        </p:nvSpPr>
        <p:spPr>
          <a:xfrm>
            <a:off x="214200" y="400068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решению строгого неравен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42"/>
          <p:cNvSpPr/>
          <p:nvPr/>
        </p:nvSpPr>
        <p:spPr>
          <a:xfrm>
            <a:off x="7500960" y="4214880"/>
            <a:ext cx="32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; 3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43"/>
          <p:cNvSpPr/>
          <p:nvPr/>
        </p:nvSpPr>
        <p:spPr>
          <a:xfrm>
            <a:off x="857160" y="285840"/>
            <a:ext cx="85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С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10" descr="professor01.gif"/>
          <p:cNvPicPr/>
          <p:nvPr/>
        </p:nvPicPr>
        <p:blipFill>
          <a:blip r:embed="rId1"/>
          <a:stretch/>
        </p:blipFill>
        <p:spPr>
          <a:xfrm>
            <a:off x="285840" y="1428840"/>
            <a:ext cx="1657440" cy="1819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6" name="Object 5"/>
              <p:cNvSpPr txBox="1"/>
              <p:nvPr/>
            </p:nvSpPr>
            <p:spPr>
              <a:xfrm>
                <a:off x="2571840" y="2357280"/>
                <a:ext cx="3571920" cy="15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[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</m:e>
                        </m:d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9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[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</m:e>
                        </m:d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9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&lt;</m:t>
                        </m:r>
                        <m:r>
                          <m:t xml:space="preserve">0</m:t>
                        </m:r>
                      </m:e>
                    </m:eqArr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" name="TextBox 34"/>
          <p:cNvSpPr/>
          <p:nvPr/>
        </p:nvSpPr>
        <p:spPr>
          <a:xfrm>
            <a:off x="214200" y="5429160"/>
            <a:ext cx="42148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бавим решения урав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;  4;  -3;  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с учетом ОД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36"/>
          <p:cNvSpPr/>
          <p:nvPr/>
        </p:nvSpPr>
        <p:spPr>
          <a:xfrm>
            <a:off x="713520" y="5786280"/>
            <a:ext cx="357480" cy="35748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ая соединительная линия 44"/>
          <p:cNvSpPr/>
          <p:nvPr/>
        </p:nvSpPr>
        <p:spPr>
          <a:xfrm flipV="1">
            <a:off x="785880" y="5785920"/>
            <a:ext cx="428400" cy="35748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46"/>
          <p:cNvSpPr/>
          <p:nvPr/>
        </p:nvSpPr>
        <p:spPr>
          <a:xfrm>
            <a:off x="4714920" y="625320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[ 0; 3 ] U { -3 }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5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400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450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50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600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65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700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75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80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85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90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950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2T08:42:13Z</dcterms:created>
  <dc:creator>Светочка</dc:creator>
  <dc:description/>
  <dc:language>en-US</dc:language>
  <cp:lastModifiedBy>user</cp:lastModifiedBy>
  <dcterms:modified xsi:type="dcterms:W3CDTF">2016-07-29T09:25:23Z</dcterms:modified>
  <cp:revision>46</cp:revision>
  <dc:subject/>
  <dc:title>Слайд 1</dc:title>
</cp:coreProperties>
</file>