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566-0074-46CC-9F44-82CD30EFDD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1F6A-F132-4245-BE9E-AECE48345B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2D5-B99E-4AB1-A4BD-5919E90B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CDE-B982-491A-9FA5-E85BD8B5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883-5F68-4935-8690-C05FEE3F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6CE-B088-4EA9-8E94-67D6D695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68F8-D2D4-4797-BE8D-77938736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16BD-6E17-4882-B4C7-36FD3DF0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C97F-4408-4C81-AA6E-E10741C3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B1B8-8677-4B2A-B669-FD137343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BF8E-7C14-415A-AD49-E10A6331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2BC9-CF95-424E-8C47-FDDA438F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8C85-D449-4263-B9CA-6F770C10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5C9-A839-440F-87D6-0004B8B3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D642-A7A4-4F83-9127-B4FCAB14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2432-FD29-453D-B046-0DCAB51D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4E7A-1295-40AC-9404-CB381CC0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2404-679B-463E-A32D-3017D807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C661-0377-475F-9C12-F8C083A5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2AC9-6BCC-4BE9-AC30-587EBE64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4B4DA-5830-4447-9D51-BE2A5A2F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1FFB-AC58-4435-B487-2569EA6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406C-7676-4F11-BBCB-D072798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EF5A-BD34-476E-B8AD-76C5E547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F1F-D4A8-4383-9770-444421FD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138E-CCF3-441E-959D-0BC1BD9A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2862-FF03-4C8C-9078-28071181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D82B-2CDD-4045-A24B-A13F63F4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4290-6295-434C-8122-27408B6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4889-D5EB-4CE2-BBA6-32FFB1E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3C62-F3B3-40B2-8236-7C26A0E0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3F45-5424-4059-B4E0-5DEDC502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2E2C2-7433-4017-A674-FE26D2FE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45BAE-EDA4-47E4-87B9-5E2DB5B6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0DFD-1608-4EC8-91A3-8C8C6AF6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C6A-2013-4DBD-8325-B40EF5FF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83624-0177-4CC6-96E5-AB065F46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9C16-DF49-4AB4-8376-A45D7ADB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99DB4-E18E-4C7B-BDE2-23280EDD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91F97-73A0-4DBB-8A42-07C5F902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128D-47DE-4F9C-9688-8A9C4734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8D363-E11D-46D5-A3E0-F0C411B0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EC386-B67F-4260-99D5-2B4B27A3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A3832-B158-4CA5-8752-C27D74FB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5879-5BDC-4912-9973-40EEA7CF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2642-5CBC-4EDA-8D2A-8BC3CAF0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8A9-6A71-4977-AB79-ED3F119D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D4D92-AF57-4AFF-AC6A-19A28051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42D1F-4196-45C8-9F07-4233E4F0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21A4-8B9C-4C46-8CE0-907D6600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57F4-E67A-4179-A91A-D772494B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F5CFA-6C14-420E-A9C6-38CB1C83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3B74D-8191-4AAF-8FDE-4786D6F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D41D2-884A-43B4-AE1C-6B8309F0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0D16-A3C5-461B-9B86-0493C4B0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228F-8725-4B4D-81A0-FCBBD369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ED52-25FA-49BE-8AE8-84FC92AD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7CC-0E6F-4E2A-B923-DDE938AE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96AD-7822-4965-B03C-0FB0BE34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C9D8E-BE1E-4FE4-AB6C-8F7AFA50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D84FC-36DF-4C41-94EC-1E084146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05B98-A995-4D8B-B82A-1E8A002E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F953-2DD7-4219-940F-15A9F56B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C7195-1AB9-4087-BFC5-9DEE0AE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6FA03-F557-4418-9317-E2668FB6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E51B6-0AAD-4AF4-A761-628FA97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95FA9-DAFB-4B49-B4C4-311DF892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6C9B-D18C-401C-90C4-3B5794E8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204-997C-4131-8E68-3AB780BE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4CEE7-145F-4A8F-A792-0D5667C9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C8C33-23B6-495F-9EEA-BE13716F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29121-1E45-44BA-ADF6-82D6E690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55629-C2A1-4D64-AB2E-5CE63BD5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A7EB-C985-4C07-9F67-7CEE5E54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C5DB-AF99-44B9-9289-C8114D8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057F1-1A8D-450A-915D-18CA8D26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D1FCF-A647-465B-AFC4-22384BE7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F69C-AB5D-4B78-93D1-74824A3B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0153-921C-4E48-B890-2438DFE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03E-D9E2-4A05-8D08-B6476930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0CF0F-0CE2-4A65-A082-B533ABB4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AC439-6F6A-491C-9D7F-385D958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0477C-0013-41BD-9B63-1EA5F870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C7E70-DCE2-4DF0-9F70-BAAF15FE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2A60A-3EA4-44D8-B48C-05374726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EF37-C175-4418-9DC1-B40B2D35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E0CC-E3EE-49F6-994A-2FFBF8D873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C0A9-500B-481D-8660-A9204BD646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F67A-08D5-4C2B-B34A-982396CE0F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4385-5ABD-482E-98F2-BCA16A56376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5598-5207-4716-8F4F-6390DCC7D9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A4C9-CB89-4FDA-8738-A69BC6D0E0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51AE-3119-4613-B019-7B983D9C88F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0008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 как основа развития творческих способностей школьников на уроках технолог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воображе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Объект 10" descr=""/>
          <p:cNvPicPr/>
          <p:nvPr/>
        </p:nvPicPr>
        <p:blipFill>
          <a:blip r:embed="rId1"/>
          <a:stretch/>
        </p:blipFill>
        <p:spPr>
          <a:xfrm>
            <a:off x="239760" y="154080"/>
            <a:ext cx="866448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творческого потенциал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Объект 13" descr=""/>
          <p:cNvPicPr/>
          <p:nvPr/>
        </p:nvPicPr>
        <p:blipFill>
          <a:blip r:embed="rId1"/>
          <a:stretch/>
        </p:blipFill>
        <p:spPr>
          <a:xfrm>
            <a:off x="239760" y="436680"/>
            <a:ext cx="87771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фантаз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Объект 16" descr=""/>
          <p:cNvPicPr/>
          <p:nvPr/>
        </p:nvPicPr>
        <p:blipFill>
          <a:blip r:embed="rId1"/>
          <a:stretch/>
        </p:blipFill>
        <p:spPr>
          <a:xfrm>
            <a:off x="196920" y="182520"/>
            <a:ext cx="875016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ia116.mycdn.me/image?id=417996476836&amp;bid=417996476836&amp;t=0&amp;plc=WEB&amp;tkn=Hb5u9oCIPBFuKmY3yt4n5IwxKPY"/>
          <p:cNvPicPr/>
          <p:nvPr/>
        </p:nvPicPr>
        <p:blipFill>
          <a:blip r:embed="rId1"/>
          <a:stretch/>
        </p:blipFill>
        <p:spPr>
          <a:xfrm>
            <a:off x="4691160" y="3500280"/>
            <a:ext cx="4162320" cy="3127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http://ia116.mycdn.me/image?id=417993627300&amp;bid=417993627300&amp;t=0&amp;plc=WEB&amp;tkn=F5aGzkmpeQfo9O5nXYX8qY7kNhg"/>
          <p:cNvPicPr/>
          <p:nvPr/>
        </p:nvPicPr>
        <p:blipFill>
          <a:blip r:embed="rId2"/>
          <a:stretch/>
        </p:blipFill>
        <p:spPr>
          <a:xfrm>
            <a:off x="1071720" y="142920"/>
            <a:ext cx="4809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>
            <a:lum contrast="10000"/>
          </a:blip>
          <a:srcRect l="0" t="4234" r="0" b="21230"/>
          <a:stretch/>
        </p:blipFill>
        <p:spPr>
          <a:xfrm>
            <a:off x="55440" y="928800"/>
            <a:ext cx="89456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2" descr="F:\разное фото\DSC00602.JPG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1428840" y="2448000"/>
            <a:ext cx="6991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4280" y="199980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вития творческих способностей школьников посредством метода проек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560" y="2356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56840" y="29286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: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метод проектов как модель организации учебного процесса; выявить возможности развития творческих способностей учащихся через проектную деятельность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 учащихся при проектном методе обучения будет эффективным если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педагогические условия необходимые для развития творческих способностей учащихс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учебный процесс поэтапно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ть потребность учащихся в совершенствовании проектной деятельности и выполнении работ творческого характера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"/>
          <p:cNvSpPr/>
          <p:nvPr/>
        </p:nvSpPr>
        <p:spPr>
          <a:xfrm>
            <a:off x="393840" y="271440"/>
            <a:ext cx="8426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следование проводилось в процессе преподавания технологии. В нем приняли участие 13 учащихся МБОУ «Уринской средней общеобразовательной школы» Баргузинского района Республики Бурятия в период с 2012-2014г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следование было направлено на выявление уровня творческих способностей. Проводилось в три этапа: констатирующий, формирующий и контрольн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85520" y="314280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и: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пределение уровня воображения – П.Торренс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ение уровня творческого потенциала – П.Торренс</a:t>
            </a: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ение уровня фантазии – Е.А. Панько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28960" y="1440"/>
            <a:ext cx="88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ЕНДАРНО-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23840" y="500040"/>
          <a:ext cx="8948880" cy="6459480"/>
        </p:xfrm>
        <a:graphic>
          <a:graphicData uri="http://schemas.openxmlformats.org/drawingml/2006/table">
            <a:tbl>
              <a:tblPr/>
              <a:tblGrid>
                <a:gridCol w="631800"/>
                <a:gridCol w="2728800"/>
                <a:gridCol w="909720"/>
                <a:gridCol w="1430280"/>
                <a:gridCol w="155520"/>
                <a:gridCol w="1170000"/>
                <a:gridCol w="1044720"/>
                <a:gridCol w="878040"/>
              </a:tblGrid>
              <a:tr h="411840"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раздела,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. методы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 gridSpan="8">
                  <a:txBody>
                    <a:bodyPr lIns="48240" rIns="48240" tIns="0" bIns="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онструкционные и поделочные материалы – 6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возникновения канзаши. Материалы и инструмент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виды лепе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 действ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творческ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  творческ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5340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мотивации к успех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Объект 19" descr=""/>
          <p:cNvPicPr/>
          <p:nvPr/>
        </p:nvPicPr>
        <p:blipFill>
          <a:blip r:embed="rId1"/>
          <a:stretch/>
        </p:blipFill>
        <p:spPr>
          <a:xfrm>
            <a:off x="182520" y="225360"/>
            <a:ext cx="87789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16:04:49Z</dcterms:created>
  <dc:creator>татьяна</dc:creator>
  <dc:description/>
  <dc:language>en-US</dc:language>
  <cp:lastModifiedBy>Усынина</cp:lastModifiedBy>
  <dcterms:modified xsi:type="dcterms:W3CDTF">2019-05-05T16:19:17Z</dcterms:modified>
  <cp:revision>32</cp:revision>
  <dc:subject/>
  <dc:title>Метод проектов как основа развития творческих способностей школьников на уроках технологии</dc:title>
</cp:coreProperties>
</file>