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D18-BB3C-4FA1-85BF-6DDB1C9C40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957-58C3-4B74-9DE7-4D6BCF25B6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C1E-8F4B-4B5B-9120-C5D9F3CC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41E-B88D-465D-889E-6FE8F18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950-0963-46F3-BDD7-988B3E6A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4D0-50C8-459C-99A4-622BC540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C0B2-F495-46F2-B138-D6B61648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9A34-CA9B-473B-93CC-826B48A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5BA-7B50-41A1-8B52-50820A7D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437A-F4D2-4D44-8310-55D22E47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EA2-41CF-49D8-81D5-30896EAB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BBD-D423-4E96-9697-F6187C2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1EDC-91B4-47A6-96CB-2C6179B0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314-BE4A-4E6D-932D-0ECAB80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6E9-452E-4024-8C03-7310CCE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B33-8C32-478C-A4F7-7F2906C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888-5C84-4378-8692-91D8A35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760-7088-4871-808C-217AA863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AEB-91C3-4383-8C60-11412359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CDC6-7580-4E69-8296-14DD262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B427-FCF9-4CBB-9C9B-0FCBD21D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BAB4-A036-420F-B441-57724C4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027E-884A-426B-827A-B6FF88A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611A-FFB5-430A-9E5C-7B4E1C7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4C1-D662-4DA9-AA41-F038D39E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C4E6-3834-41C5-AE9D-28C89BA2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8DAC-BD31-4A9B-806D-820C1CA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82D0-AAF2-41D1-AF5C-8C35006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141D-B52B-4A13-86BB-3B438D8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6EE6-A2D0-4A86-9F9D-FE379B9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4F1D-C9DF-49C8-B7C4-E0B587EE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8827-F5CD-411D-B3C9-F2CD7324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19FE-971E-46AF-AF8A-D024BC8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6833-BC0C-40F9-A40A-C70420B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F43D-F722-4EA0-A294-E5FB58C9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434-7AF3-4249-A59B-6A9E2A6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C6DC-E699-4907-9A18-5BECC8D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CF85-1659-42D9-BF4D-6939849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09B5-E865-41A8-B7A9-ED55446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73CC-27D8-415F-86AD-F793752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7E7EC-5185-410D-B532-6860B41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3FD2-34C3-442E-A8C3-FC97FA1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CE99-05CC-4FF0-87B4-B0FC493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4E9A-E857-4340-96B1-054D77BA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992E-CB58-4303-BB58-82681AC4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D945-BC77-4367-A92A-D1DD1DE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077-E108-4613-95A9-93D0C1B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038ED-1451-4439-BE8D-A67F5DF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3CF3-BDE1-4877-8E58-5633DB4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99AB-D3EF-43FB-920B-42549DE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48B1-476F-4125-944F-F52EA96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ADA8-A2C7-4C99-A365-8B936A1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D240-5A2F-450E-B89A-226D944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74F5-2489-4286-A84D-7988E49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7394-B702-41BA-855B-6D8411F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2CCE-62F1-4A76-AAAB-594EE3AB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AD5B-1446-4F33-9DEB-3C609F71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E78-41AE-4ACA-9D44-4A921E0A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4C21-E59C-4116-B9A9-BD8E182B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D29C-8294-4942-9DC2-051E936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2EDF-39A4-4BA7-A5AF-0523E6F0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A9C1-54AF-4F7E-8EB0-E5DAE43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C49B-52E4-4ADC-A267-0F02DF99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01FA-BE7F-494F-B511-D3DDB37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AE75-060B-449B-9BD8-D608157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2C97-F610-4459-9C45-B7018B29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54B1-09FE-4D72-B03E-551A159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9CFA-EF0E-4024-B639-BCFF7DE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B01-90BE-4945-8CDA-BF6328B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4C51-F4EF-483D-A60D-9E3EACE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9922-CDD7-447F-9608-E9D718E0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1373-D7A0-451F-A596-0F7DF954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5A47-6543-4752-9BDF-2E8F3C88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1F8D6-8319-4651-8501-C6DF108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AE31-82E1-46E8-B347-66B60476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FC557-D45C-419F-BEC0-368A0272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7CDD-A4FE-4A5F-9C97-E918C73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4520-AFE4-4216-930D-298A6B63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F502F-337A-46B1-9C54-84A3FB1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E29-4EC5-4BB4-B0CA-F5AE21C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8D42-2896-4080-97C5-CFDB79F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7A033-365B-4EC6-8ED3-A44B85D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C3A4F-2105-4ADC-805D-50CCF652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6AC4-8746-4203-9B0F-D5DF2039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0653-5C1D-42DD-8B67-760B75B1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6A4-53BB-4F86-B36E-2054B56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4147-B08B-43B4-AB4B-613C7EE4DB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69B-7BD7-4CF6-AE16-BD320F8461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62D-69AF-46D2-98D2-A11EE04A4D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FF1-3CCC-4B51-8ABE-072B2C0638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95F-C4AF-421A-9052-C12C60E5FD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AAB-36ED-4FCB-969B-7D195D9D0A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BFE-6CA7-4256-9003-4251D676B0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 как основа развития творческих способностей школьников на уроках технолог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воображе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Объект 10" descr=""/>
          <p:cNvPicPr/>
          <p:nvPr/>
        </p:nvPicPr>
        <p:blipFill>
          <a:blip r:embed="rId1"/>
          <a:stretch/>
        </p:blipFill>
        <p:spPr>
          <a:xfrm>
            <a:off x="239760" y="154080"/>
            <a:ext cx="8664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творческого потенциал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13" descr=""/>
          <p:cNvPicPr/>
          <p:nvPr/>
        </p:nvPicPr>
        <p:blipFill>
          <a:blip r:embed="rId1"/>
          <a:stretch/>
        </p:blipFill>
        <p:spPr>
          <a:xfrm>
            <a:off x="239760" y="436680"/>
            <a:ext cx="87771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фантаз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Объект 16" descr=""/>
          <p:cNvPicPr/>
          <p:nvPr/>
        </p:nvPicPr>
        <p:blipFill>
          <a:blip r:embed="rId1"/>
          <a:stretch/>
        </p:blipFill>
        <p:spPr>
          <a:xfrm>
            <a:off x="196920" y="182520"/>
            <a:ext cx="87501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ia116.mycdn.me/image?id=417996476836&amp;bid=417996476836&amp;t=0&amp;plc=WEB&amp;tkn=Hb5u9oCIPBFuKmY3yt4n5IwxKPY"/>
          <p:cNvPicPr/>
          <p:nvPr/>
        </p:nvPicPr>
        <p:blipFill>
          <a:blip r:embed="rId1"/>
          <a:stretch/>
        </p:blipFill>
        <p:spPr>
          <a:xfrm>
            <a:off x="4691160" y="3500280"/>
            <a:ext cx="4162320" cy="3127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http://ia116.mycdn.me/image?id=417993627300&amp;bid=417993627300&amp;t=0&amp;plc=WEB&amp;tkn=F5aGzkmpeQfo9O5nXYX8qY7kNhg"/>
          <p:cNvPicPr/>
          <p:nvPr/>
        </p:nvPicPr>
        <p:blipFill>
          <a:blip r:embed="rId2"/>
          <a:stretch/>
        </p:blipFill>
        <p:spPr>
          <a:xfrm>
            <a:off x="1071720" y="142920"/>
            <a:ext cx="4809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>
            <a:lum contrast="10000"/>
          </a:blip>
          <a:srcRect l="0" t="4234" r="0" b="21230"/>
          <a:stretch/>
        </p:blipFill>
        <p:spPr>
          <a:xfrm>
            <a:off x="55440" y="928800"/>
            <a:ext cx="8945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2" descr="F:\разное фото\DSC00602.JPG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428840" y="2448000"/>
            <a:ext cx="6991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199980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ворческих способностей школьников посредством метода проек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560" y="2356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6840" y="29286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метод проектов как модель организации учебного процесса; выявить возможности развития творческих способностей учащихся через проектную деятельность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 учащихся при проектном методе обучения будет эффективным ес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едагогические условия необходимые для развития творческих способностей учащихс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учебный процесс поэтапн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потребность учащихся в совершенствовании проектной деятельности и выполнении работ творческого характера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"/>
          <p:cNvSpPr/>
          <p:nvPr/>
        </p:nvSpPr>
        <p:spPr>
          <a:xfrm>
            <a:off x="393840" y="271440"/>
            <a:ext cx="8426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ние проводилось в процессе преподавания технологии. В нем приняли участие 13 учащихся МБОУ «Уринской средней общеобразовательной школы» Баргузинского района Республики Бурятия в период с 2012-2014г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ние было направлено на выявление уровня творческих способностей. Проводилось в три этапа: констатирующий, формирующий и контроль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5520" y="314280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: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уровня воображения – П.Торренс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уровня творческого потенциала – П.Торренс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ение уровня фантазии – Е.А. Панько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960" y="1440"/>
            <a:ext cx="88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ДАР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3840" y="500040"/>
          <a:ext cx="8948880" cy="6459480"/>
        </p:xfrm>
        <a:graphic>
          <a:graphicData uri="http://schemas.openxmlformats.org/drawingml/2006/table">
            <a:tbl>
              <a:tblPr/>
              <a:tblGrid>
                <a:gridCol w="631800"/>
                <a:gridCol w="2728800"/>
                <a:gridCol w="909720"/>
                <a:gridCol w="1430280"/>
                <a:gridCol w="155520"/>
                <a:gridCol w="1170000"/>
                <a:gridCol w="1044720"/>
                <a:gridCol w="878040"/>
              </a:tblGrid>
              <a:tr h="411840"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здела,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. методы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gridSpan="8">
                  <a:txBody>
                    <a:bodyPr lIns="48240" rIns="48240" tIns="0" bIns="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нструкционные и поделочные материалы – 6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возникновения канзаши. Материалы и инструмент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виды лепе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действ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творческ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  творческ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мотивации к успех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Объект 19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778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6:04:49Z</dcterms:created>
  <dc:creator>татьяна</dc:creator>
  <dc:description/>
  <dc:language>en-US</dc:language>
  <cp:lastModifiedBy>Усынина</cp:lastModifiedBy>
  <dcterms:modified xsi:type="dcterms:W3CDTF">2019-05-05T16:19:17Z</dcterms:modified>
  <cp:revision>32</cp:revision>
  <dc:subject/>
  <dc:title>Метод проектов как основа развития творческих способностей школьников на уроках технологии</dc:title>
</cp:coreProperties>
</file>