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593-1EA1-4D1C-88FE-83309CCC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7B4-954F-43B7-B58C-B2DA5535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98C-1D99-4615-A438-204D0870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6A2-66CF-4040-8DB0-36072707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1BB-E726-4FED-8C86-AC31244D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BBCE-E887-42D9-A154-B534C43D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1F9C-6F6B-4554-9A55-8AC3F83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4D95-3756-4281-9733-6EA0852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7BF0-27CC-4CA9-89AA-86E0922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C186-2FB0-4681-B35F-6B6DEC8E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5EF6-45EB-46C1-BF21-EB11304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246-E67D-4F56-852C-1576C4F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66A-FC8B-492B-8104-A620F53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31C4-2E90-4357-B744-6146F09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AC4C-DC74-4965-B0D9-3160F1CF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D2F4-DBFD-439E-AA78-FAA15D54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AAC9-DB53-4B30-A3C5-ECC1192E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F74-AEDC-4076-890E-D9050C7D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A01-E7AA-4A7C-8BB5-99E9C18D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87F-919D-4B77-9C6C-FF75C02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69E-54F1-444C-B37D-04114000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346-35B8-4128-A2D9-A5D175E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710-4895-4B30-B6B2-DE8CDF42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578-E67A-430F-ABB3-333668D3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CBD1-0372-4555-BB72-FDD77F0899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0CB7-2849-4204-BFCC-C77A0A6A98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7756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1304"/>
                </a:solidFill>
                <a:latin typeface="Times New Roman"/>
              </a:rPr>
              <a:t>Место предмета </a:t>
            </a:r>
            <a:br>
              <a:rPr sz="4800"/>
            </a:br>
            <a:r>
              <a:rPr b="1" lang="ru-RU" sz="4800" spc="-1" strike="noStrike">
                <a:solidFill>
                  <a:srgbClr val="221304"/>
                </a:solidFill>
                <a:latin typeface="Times New Roman"/>
              </a:rPr>
              <a:t>« Русский язык» в реализации междисциплинарных программ</a:t>
            </a:r>
            <a:br>
              <a:rPr sz="48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дготовили : учителя русского языка и литературы Омарова М.С. и Халимбекова А.Р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работы над междисциплинарными программам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Times New Roman"/>
              </a:rPr>
              <a:t>2 этап – определение форм и условий формирования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Используемые технологии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Технология развития критического мыш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роблемное б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роектное об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ортфоли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Технология разноуровнего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360" y="28548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Серия «ОНОМАСТИКА – НАУКА ДАВАТЬ ИМЕ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Имена существительные собственные и нарицатель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ждисциплинарный  проек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 Что в имени тебе моё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сследуемые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Христианские имена на Руси.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истор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Женские и мужские имена.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ономаст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Толкование имен (имя и образ, имя и слово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психолог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мена литературных героев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литерату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360" y="28548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Серия «ОНОМАСТИКА – НАУКА ДАВАТЬ ИМЕ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Имена существительные собственные и нарицатель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ждисциплинарный  проек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 Что в имени тебе моё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зучение источников информации (календарь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мен, справочники и д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сбор  статистических данных по классам, по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наиболее часто встречающимся имен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математ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анкетирование с вопросами: знают ли дети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значение своего имени, историю своего имени,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нравится ли им собственное им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-360" y="28548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Серия «ОНОМАСТИКА – НАУКА ДАВАТЬ ИМЕ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Имена существительные собственные и нарицатель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ждисциплинарный  проек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 Что в имени тебе моё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охожие про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6-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7 класс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фамилии. Из истории русских фамилий. Искусственные фамилии, двойные фамилии, фамилии литературных геро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8 класс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нимика. Географические объекты. Названия объектов, созданных человеком. Названия населенных ме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9 класс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ы ономастики: антропонимика, топонимика (оронимы, гидронимы, ойконимы и пр.), космонимика и астронимика; прочие имена собственные; псевдонимика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360" y="-36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Серия «Языковая норм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Лексика ограниченной сферы употребления: диалектизмы, профессионализмы, жаргонизм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сследовательский проек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 Какой быть молодёжной лексике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балдеть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кайфов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ереживать приятные чувства, испытыва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ложительные эмоции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тащиться, торч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ытывать наслаждение, удовольств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выпасть в оса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быть удивленным, пораженным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быть на измене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быть выбитым из колеи; быть крайне удивленным, сильно испуганным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потреблении жаргонизмов молодыми людьми старшего возраста такж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леживается   тенденция использова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мильярной лекс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отношению к социально значимым явлениям, традиционно уважаемым в обществе: родителям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предки, череп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ршим и самому факту смерти (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свежач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мертвец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крякнутьс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ласты надуть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умереть); взаимоотношения между мужчиной и женщиной (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клеить, снима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знакомиться с представителем противоположного пол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Условия формирования УУД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Совмест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роектная деятельность как форма сотрудни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едагогическое общ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Материально-технические средства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работы над междисциплинарными программам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Times New Roman"/>
              </a:rPr>
              <a:t>3 этап – внесение изменений в рабочие программы по русскому язы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71640" y="404640"/>
          <a:ext cx="7848360" cy="6120000"/>
        </p:xfrm>
        <a:graphic>
          <a:graphicData uri="http://schemas.openxmlformats.org/drawingml/2006/table">
            <a:tbl>
              <a:tblPr/>
              <a:tblGrid>
                <a:gridCol w="287280"/>
                <a:gridCol w="1297080"/>
                <a:gridCol w="503280"/>
                <a:gridCol w="936360"/>
                <a:gridCol w="3384720"/>
                <a:gridCol w="143964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ситуации, типы задач, элементы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таксис как раздел лингвистики. Понятие о словосочет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с.121-123, (4) с. 121-122, (15),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Чтение п.22 и заполнение таблиц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 Инсерт» ( на смысловое чт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пр.322 – запись возможных словосочетаний(, упр. 327 – распределение словосочетаний по группам ( на сравнение и оценивание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упр. 324 –составление рассказа об основных видах словосочетаний по данной схеме ( на передачу информации и отображение предметного содерж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пр. 330 групповая игра « Кто больше?» ( коммуникативные УУ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пр.333  -разыгрывание речевых ситуаций ( тренинг коммуникативных навыков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упр 35  письмо по по памяти ( на самоконтроль и коррекцию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дидактическими  и справочными материал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71640" y="404640"/>
          <a:ext cx="7848360" cy="6120000"/>
        </p:xfrm>
        <a:graphic>
          <a:graphicData uri="http://schemas.openxmlformats.org/drawingml/2006/table">
            <a:tbl>
              <a:tblPr/>
              <a:tblGrid>
                <a:gridCol w="287280"/>
                <a:gridCol w="1297080"/>
                <a:gridCol w="503280"/>
                <a:gridCol w="936360"/>
                <a:gridCol w="3384720"/>
                <a:gridCol w="143964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ситуации, типы задач, элементы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писание О-Ё после шипящих в кор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2) с.13-15 (8) с.296-299, (4) с 197-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лнение таблицы «Знаю-хочу узнать-узнал» (  на целеполагание, рефлексию, принятие ре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 597 – запись слов с орфограммой по группам ( на сравнение и оцени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98 подготовка к  сочинению по картине  ( рефлексия, регулятивные действ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продукция картины И.И. Левитана « Золотая осень», дидактически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Русский язык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357120" y="4286160"/>
            <a:ext cx="2786040" cy="221472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снова формирования этических норм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6"/>
          <p:cNvSpPr/>
          <p:nvPr/>
        </p:nvSpPr>
        <p:spPr>
          <a:xfrm>
            <a:off x="6000840" y="1214280"/>
            <a:ext cx="2786040" cy="2214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сновное средство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5429160" y="4000680"/>
            <a:ext cx="3286080" cy="2428560"/>
          </a:xfrm>
          <a:prstGeom prst="ellipse">
            <a:avLst/>
          </a:prstGeom>
          <a:solidFill>
            <a:srgbClr val="adadad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редство приобщения к духовному богатству русской культуры и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Овал 8"/>
          <p:cNvSpPr/>
          <p:nvPr/>
        </p:nvSpPr>
        <p:spPr>
          <a:xfrm>
            <a:off x="2857680" y="2500200"/>
            <a:ext cx="3071520" cy="242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редство получения знаний в разных сферах человечес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Овал 9"/>
          <p:cNvSpPr/>
          <p:nvPr/>
        </p:nvSpPr>
        <p:spPr>
          <a:xfrm>
            <a:off x="428760" y="1285920"/>
            <a:ext cx="2786040" cy="2214360"/>
          </a:xfrm>
          <a:prstGeom prst="ellipse">
            <a:avLst/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снова развития мышления и вооб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Междисциплинарные программ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Формирование универсальных учебных действ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Формирование ИКТ-компетентности обучающихс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Основы учебно-исследовательской и проектной деятель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Основы смыслового чтения и работа с текс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работы над междисциплинарными программам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Times New Roman"/>
              </a:rPr>
              <a:t>1 этап – выделение личностных и метапредметных результатов освоения основной образовательной программы образовательного учреждения на предметном уров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сновы смыслового чтения и работа с тексто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71640" y="1268280"/>
          <a:ext cx="8064360" cy="534852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331164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работы с 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 информации и понимание прочита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17 Восстановите последовательность предложений так, чтобы получился текст. Запишите его, вставляя пропущенные буквы. Сформулируйте тему и основную мысль текста, подберите заголов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ять главную тему, общую цель или назначение текста; выбирать из текста или придумать заголовок, соответствующий содержанию и общему смыслу текс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яснять порядок частей/инструкций, содержащихся в текст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 к теоретической части параграфа ( п.37) Составьте тезисный план текста. Перескажите текст по частям. Бегло просмотрите текст и скажите, почему он состоит из 4 частей. Ответьте на вопрос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ть смысловое свёртыва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ленных фактов и мыс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ить в тексте требуемую информацию (пробегать текст глазами, определять его основные элементы, находить необходимую единицу информации в текст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 к теоретической части параграфа ( п.45) Расскажите, что изучает лексикология. По оглавлению учебника определите, какую новую для вас информацию о лексике русского языка содержит этот раздел лингви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осхищать содержание предметного плана текста по заголовку и с опорой на предыдущий опы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ы смыслового чтения и работа с тексто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00000" y="1268280"/>
          <a:ext cx="7632720" cy="5137200"/>
        </p:xfrm>
        <a:graphic>
          <a:graphicData uri="http://schemas.openxmlformats.org/drawingml/2006/table">
            <a:tbl>
              <a:tblPr/>
              <a:tblGrid>
                <a:gridCol w="1297080"/>
                <a:gridCol w="3200400"/>
                <a:gridCol w="31352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работы с 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ование и интерпретация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 к теоретической части параграфа ( п.53) Какая информация об имени существительном оказалась для вас новой? А что об этой части речи вам уже известно? Составьте тезисный план текста. Попытайтесь подобрать примеры, иллюстрирующие каждое положение тек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вать и противопоставлять заключённую в тексте информацию разного характ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ать выводы из сформулированных посылок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34. Сначала определите, какие высказывания верны ( истинны), а какие неверны ( ложны). Затем выберите одно верное высказывание и составьте текст-рассуждение, доказывая его справедливость. После этого выберите неправильное высказывание и опровергните е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32 Прочитайте текст. Определите тип речи. Напишите, согласны ли вы с писателем. Приведите доказатель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язывать информацию, обнаруженную в тексте, со знаниями из других источников; на основе имеющихся знаний, жизненного опыта подвергать сомнению достоверность имеющейся информации, обнаруживать недостоверность получаемой информации; оценивать утверждения, сделанные в тексте, исходя из своих представлений о мире; находить  доводы в защиту своей точки зреи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ормирование универсальных учебных действ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1268280"/>
          <a:ext cx="8064360" cy="5445360"/>
        </p:xfrm>
        <a:graphic>
          <a:graphicData uri="http://schemas.openxmlformats.org/drawingml/2006/table">
            <a:tbl>
              <a:tblPr/>
              <a:tblGrid>
                <a:gridCol w="3024000"/>
                <a:gridCol w="1728720"/>
                <a:gridCol w="331164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365Спишите предложения, вставляя тире между – и=. Докажите, что данные высказывания являются афоризмами. По толковому словарику уточните лексическое значение этого сло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 собственное мнение и позицию, аргументировать и координировать её с позициями партнёров в сотрудничестве при выработке общего решения в совместн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ть расширенный поиск информации с использованием  ресурсов библиотек и Интернет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ь логическое рассуждение, включающее установление причинно-следственных связ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15  Попытайтесь установить, какие звуки  гласные или согласные- чаще встречаются в речи. Обдумайте, как вы будете проводить этот эксперимент. Что вы станете анализировать? Как организуете подсчёт количества гласных и согласных звуков. Выполнив это задание, сделайте выв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ть пути достижения целей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одить наблюдение и эксперимент под руководством учителя;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ормирование универсальных учебных действ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1484280"/>
          <a:ext cx="8064360" cy="3187800"/>
        </p:xfrm>
        <a:graphic>
          <a:graphicData uri="http://schemas.openxmlformats.org/drawingml/2006/table">
            <a:tbl>
              <a:tblPr/>
              <a:tblGrid>
                <a:gridCol w="3024000"/>
                <a:gridCol w="1728720"/>
                <a:gridCol w="331164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21 Сочинение.Позакомьтесь с репродукцией картины М. Вруб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 Царевна-Лебедь» Опишите эту картину, пользуясь предложенным план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общекультурного наследия России и общемирового культурного наследия ( в рамках когнитивного компон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адекватные языковые средства для отображения своих чувств, мыслей, мотивов и потребност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ализация междисциплинарных программ на уроках русского язы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79640" y="1628640"/>
          <a:ext cx="8064360" cy="509616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3311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учебно-исследовательской и 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763 Нарисуйте карту воображаемой страны. Обозначьте на ей названия городов, посёлков, рек и т.д. Проведите экскурсию по достопримечательностям этого государ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1007 Используя материалы лингвистических словариков, составьте два упражнения. Чему учат и что проверяют эти упражн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ть и выполнять учебное исследование и учебный проект, используя оборудование, модели, методы и приёмы, адекватные исследуемой пробле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сно, логично и точно излагать свою точку зрения, использовать языковые средства, адекватные обсуждаемой пробле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ИКТ-компетентности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184 Определите тему текста и продолжите его. Материалы для этого найдите в научно-популярных статьях и книгах о приро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755 Составьте список наиболее часто встречающихся русских имён. Запишите их в алфавитном поряд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757 Какие художественные произведения вы читали в 5 классе? Запишите названия этих произведений и авторов с указанием имён и отч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различные приёмы поиска информации в Интернете, поисковые сервисы, строить запросы для поиска информации и анализировать результаты поис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различные библиотечные, в том числе электронные, каталоги для поиска необходимых кни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4:33:46Z</dcterms:created>
  <dc:creator>User</dc:creator>
  <dc:description/>
  <dc:language>en-US</dc:language>
  <cp:lastModifiedBy>fatima</cp:lastModifiedBy>
  <dcterms:modified xsi:type="dcterms:W3CDTF">2013-11-02T09:49:34Z</dcterms:modified>
  <cp:revision>15</cp:revision>
  <dc:subject/>
  <dc:title>Опыт использования компетентностного подхода в обучении русскому языку</dc:title>
</cp:coreProperties>
</file>