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C6F-DBC2-48D5-8785-FB3F6AEA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374-6ABB-4119-A075-0CCACA6B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9A7-FE8D-477E-B762-42A4CD3F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802-C40B-4AD7-8F19-7A25F813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E8AE-1C54-4C71-96A0-BD1C9B3F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B5D6-CFE7-4F58-B86B-46881FCD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751F-B64E-4E7E-861A-4EF07221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A41A-036C-4070-B860-5C9ED73E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B51F-E671-434C-9016-C61C5B5B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3FB4-1550-42BF-BF95-C44FA92E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9E10-3DBB-41F5-AA00-10B17616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49C-4F90-4085-82C7-7D16441D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6B74-25E4-474B-AA9C-120B6272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21B9-F688-4116-BD3B-7911AB2B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5904-68ED-4016-889B-CC2E5192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4DF9-EDCF-4B62-8DFD-DFEF3C05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A899-4EDB-4DF2-88BB-BC96E743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795-6E3A-4DBF-B616-352BDEB0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E6F9-39CA-4EED-8FE4-C17173AF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068-9B2C-4272-8179-18542489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FE0-49EB-44C5-AD04-FF9E9628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331-56C6-4B7B-BFF8-CADEBE6B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394-A3ED-4ECC-B1FA-22473E79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52B-2A0B-4FBB-A4C5-39DA2387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FED2-2E88-470D-A0B5-4BB0F9FAE1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A8D1-A9EE-4CED-B2F6-C7CE699B85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2060640"/>
            <a:ext cx="777564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1304"/>
                </a:solidFill>
                <a:latin typeface="Times New Roman"/>
              </a:rPr>
              <a:t>Место предмета </a:t>
            </a:r>
            <a:br>
              <a:rPr sz="4800"/>
            </a:br>
            <a:r>
              <a:rPr b="1" lang="ru-RU" sz="4800" spc="-1" strike="noStrike">
                <a:solidFill>
                  <a:srgbClr val="221304"/>
                </a:solidFill>
                <a:latin typeface="Times New Roman"/>
              </a:rPr>
              <a:t>« Русский язык» в реализации междисциплинарных программ</a:t>
            </a:r>
            <a:br>
              <a:rPr sz="4800"/>
            </a:b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Подготовили : учителя русского языка и литературы Омарова М.С. и Халимбекова А.Р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Этапы работы над междисциплинарными программам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99"/>
                </a:solidFill>
                <a:latin typeface="Times New Roman"/>
              </a:rPr>
              <a:t>2 этап – определение форм и условий формирования планируемых результ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Используемые технологии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Технология развития критического мыш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Проблемное бу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Проектное обу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Портфоли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Технология разноуровнего об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-360" y="285480"/>
            <a:ext cx="9001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Серия «ОНОМАСТИКА – НАУКА ДАВАТЬ ИМЕН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Тема: « Имена существительные собственные и нарицательны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ждисциплинарный  проек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 Что в имени тебе моём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Исследуемые вопрос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Христианские имена на Руси.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 истор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Женские и мужские имена.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 ономасти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Толкование имен (имя и образ, имя и слово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 психолог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Имена литературных героев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 литерату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-360" y="285480"/>
            <a:ext cx="9001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Серия «ОНОМАСТИКА – НАУКА ДАВАТЬ ИМЕН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Тема: « Имена существительные собственные и нарицательны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ждисциплинарный  проек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 Что в имени тебе моём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Методы исследова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изучение источников информации (календарь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имен, справочники и д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сбор  статистических данных по классам, по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наиболее часто встречающимся имен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( математи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анкетирование с вопросами: знают ли дети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значение своего имени, историю своего имени,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нравится ли им собственное им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-360" y="285480"/>
            <a:ext cx="9001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Серия «ОНОМАСТИКА – НАУКА ДАВАТЬ ИМЕН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Тема: « Имена существительные собственные и нарицательны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ждисциплинарный  проек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 Что в имени тебе моём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охожие про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6-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7 класс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е фамилии. Из истории русских фамилий. Искусственные фамилии, двойные фамилии, фамилии литературных геро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8 класс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нимика. Географические объекты. Названия объектов, созданных человеком. Названия населенных ме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9 класс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ы ономастики: антропонимика, топонимика (оронимы, гидронимы, ойконимы и пр.), космонимика и астронимика; прочие имена собственные; псевдонимика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-360" y="-360"/>
            <a:ext cx="9001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Серия «Языковая норм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Тема: « Лексика ограниченной сферы употребления: диалектизмы, профессионализмы, жаргонизмы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сследовательский проек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« Какой быть молодёжной лексике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балдеть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кайфова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переживать приятные чувства, испытыват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ложительные эмоции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тащиться, торча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ытывать наслаждение, удовольств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выпасть в осад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быть удивленным, пораженным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быть на измене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быть выбитым из колеи; быть крайне удивленным, сильно испуганным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употреблении жаргонизмов молодыми людьми старшего возраста такж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леживается   тенденция использова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мильярной лекс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отношению к социально значимым явлениям, традиционно уважаемым в обществе: родителям 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(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предки, черепа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)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ршим и самому факту смерти (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свежач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мертвец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крякнуться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,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ласты надуть</a:t>
            </a: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умереть); взаимоотношения между мужчиной и женщиной (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клеить, снима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знакомиться с представителем противоположного пол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Условия формирования УУД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Совместная дея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Проектная деятельность как форма сотруднич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Педагогическое общ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99"/>
                </a:solidFill>
                <a:latin typeface="Times New Roman"/>
              </a:rPr>
              <a:t>Материально-технические средства обуч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Этапы работы над междисциплинарными программам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99"/>
                </a:solidFill>
                <a:latin typeface="Times New Roman"/>
              </a:rPr>
              <a:t>3 этап – внесение изменений в рабочие программы по русскому язы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971640" y="404640"/>
          <a:ext cx="7848360" cy="6120000"/>
        </p:xfrm>
        <a:graphic>
          <a:graphicData uri="http://schemas.openxmlformats.org/drawingml/2006/table">
            <a:tbl>
              <a:tblPr/>
              <a:tblGrid>
                <a:gridCol w="287280"/>
                <a:gridCol w="1297080"/>
                <a:gridCol w="503280"/>
                <a:gridCol w="936360"/>
                <a:gridCol w="3384720"/>
                <a:gridCol w="143964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е ситуации, типы задач, элементы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таксис как раздел лингвистики. Понятие о словосочета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с.121-123, (4) с. 121-122, (15), 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Чтение п.22 и заполнение таблиц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 Инсерт» ( на смысловое чт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упр.322 – запись возможных словосочетаний(, упр. 327 – распределение словосочетаний по группам ( на сравнение и оценивание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упр. 324 –составление рассказа об основных видах словосочетаний по данной схеме ( на передачу информации и отображение предметного содерж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упр. 330 групповая игра « Кто больше?» ( коммуникативные УУ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упр.333  -разыгрывание речевых ситуаций ( тренинг коммуникативных навыков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упр 35  письмо по по памяти ( на самоконтроль и коррекцию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с дидактическими  и справочными материал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971640" y="404640"/>
          <a:ext cx="7848360" cy="6120000"/>
        </p:xfrm>
        <a:graphic>
          <a:graphicData uri="http://schemas.openxmlformats.org/drawingml/2006/table">
            <a:tbl>
              <a:tblPr/>
              <a:tblGrid>
                <a:gridCol w="287280"/>
                <a:gridCol w="1297080"/>
                <a:gridCol w="503280"/>
                <a:gridCol w="936360"/>
                <a:gridCol w="3384720"/>
                <a:gridCol w="143964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е ситуации, типы задач, элементы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описание О-Ё после шипящих в корн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2) с.13-15 (8) с.296-299, (4) с 197-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олнение таблицы «Знаю-хочу узнать-узнал» (  на целеполагание, рефлексию, принятие реш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 597 – запись слов с орфограммой по группам ( на сравнение и оцени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598 подготовка к  сочинению по картине  ( рефлексия, регулятивные действ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продукция картины И.И. Левитана « Золотая осень», дидактически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Русский язык</a:t>
            </a: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Овал 3"/>
          <p:cNvSpPr/>
          <p:nvPr/>
        </p:nvSpPr>
        <p:spPr>
          <a:xfrm>
            <a:off x="357120" y="4286160"/>
            <a:ext cx="2786040" cy="221472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снова формирования этических норм пове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Овал 6"/>
          <p:cNvSpPr/>
          <p:nvPr/>
        </p:nvSpPr>
        <p:spPr>
          <a:xfrm>
            <a:off x="6000840" y="1214280"/>
            <a:ext cx="2786040" cy="221472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сновное средство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5429160" y="4000680"/>
            <a:ext cx="3286080" cy="2428560"/>
          </a:xfrm>
          <a:prstGeom prst="ellipse">
            <a:avLst/>
          </a:prstGeom>
          <a:solidFill>
            <a:srgbClr val="adadad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редство приобщения к духовному богатству русской культуры и литера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Овал 8"/>
          <p:cNvSpPr/>
          <p:nvPr/>
        </p:nvSpPr>
        <p:spPr>
          <a:xfrm>
            <a:off x="2857680" y="2500200"/>
            <a:ext cx="3071520" cy="2428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редство получения знаний в разных сферах человеческ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Овал 9"/>
          <p:cNvSpPr/>
          <p:nvPr/>
        </p:nvSpPr>
        <p:spPr>
          <a:xfrm>
            <a:off x="428760" y="1285920"/>
            <a:ext cx="2786040" cy="2214360"/>
          </a:xfrm>
          <a:prstGeom prst="ellipse">
            <a:avLst/>
          </a:prstGeom>
          <a:solidFill>
            <a:srgbClr val="a1bd69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снова развития мышления и вооб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Междисциплинарные программ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Формирование универсальных учебных действи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Формирование ИКТ-компетентности обучающихс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Основы учебно-исследовательской и проектной деятельнос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Основы смыслового чтения и работа с тексто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Этапы работы над междисциплинарными программам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6699"/>
                </a:solidFill>
                <a:latin typeface="Times New Roman"/>
              </a:rPr>
              <a:t>1 этап – выделение личностных и метапредметных результатов освоения основной образовательной программы образовательного учреждения на предметном уровн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сновы смыслового чтения и работа с текстом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71640" y="1268280"/>
          <a:ext cx="8064360" cy="5348520"/>
        </p:xfrm>
        <a:graphic>
          <a:graphicData uri="http://schemas.openxmlformats.org/drawingml/2006/table">
            <a:tbl>
              <a:tblPr/>
              <a:tblGrid>
                <a:gridCol w="1368360"/>
                <a:gridCol w="3384360"/>
                <a:gridCol w="3311640"/>
              </a:tblGrid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работы с текс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ки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результаты: выпускник науч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иск информации и понимание прочитан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517 Восстановите последовательность предложений так, чтобы получился текст. Запишите его, вставляя пропущенные буквы. Сформулируйте тему и основную мысль текста, подберите заголов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ять главную тему, общую цель или назначение текста; выбирать из текста или придумать заголовок, соответствующий содержанию и общему смыслу текст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яснять порядок частей/инструкций, содержащихся в текст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ния к теоретической части параграфа ( п.37) Составьте тезисный план текста. Перескажите текст по частям. Бегло просмотрите текст и скажите, почему он состоит из 4 частей. Ответьте на вопросы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ять смысловое свёртыва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деленных фактов и мысл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ходить в тексте требуемую информацию (пробегать текст глазами, определять его основные элементы, находить необходимую единицу информации в тексте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ния к теоретической части параграфа ( п.45) Расскажите, что изучает лексикология. По оглавлению учебника определите, какую новую для вас информацию о лексике русского языка содержит этот раздел лингвис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осхищать содержание предметного плана текста по заголовку и с опорой на предыдущий опы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ы смыслового чтения и работа с тексто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00000" y="1268280"/>
          <a:ext cx="7632720" cy="5137200"/>
        </p:xfrm>
        <a:graphic>
          <a:graphicData uri="http://schemas.openxmlformats.org/drawingml/2006/table">
            <a:tbl>
              <a:tblPr/>
              <a:tblGrid>
                <a:gridCol w="1297080"/>
                <a:gridCol w="3200400"/>
                <a:gridCol w="313524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работы с текс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ки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результаты: выпускник науч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ование и интерпретация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ния к теоретической части параграфа ( п.53) Какая информация об имени существительном оказалась для вас новой? А что об этой части речи вам уже известно? Составьте тезисный план текста. Попытайтесь подобрать примеры, иллюстрирующие каждое положение тек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ивать и противопоставлять заключённую в тексте информацию разного характе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ать выводы из сформулированных посылок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534. Сначала определите, какие высказывания верны ( истинны), а какие неверны ( ложны). Затем выберите одно верное высказывание и составьте текст-рассуждение, доказывая его справедливость. После этого выберите неправильное высказывание и опровергните ег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532 Прочитайте текст. Определите тип речи. Напишите, согласны ли вы с писателем. Приведите доказатель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язывать информацию, обнаруженную в тексте, со знаниями из других источников; на основе имеющихся знаний, жизненного опыта подвергать сомнению достоверность имеющейся информации, обнаруживать недостоверность получаемой информации; оценивать утверждения, сделанные в тексте, исходя из своих представлений о мире; находить  доводы в защиту своей точки зреи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ормирование универсальных учебных действ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1640" y="1268280"/>
          <a:ext cx="8064360" cy="5445360"/>
        </p:xfrm>
        <a:graphic>
          <a:graphicData uri="http://schemas.openxmlformats.org/drawingml/2006/table">
            <a:tbl>
              <a:tblPr/>
              <a:tblGrid>
                <a:gridCol w="3024000"/>
                <a:gridCol w="1728720"/>
                <a:gridCol w="331164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ки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результаты: выпускник науч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365Спишите предложения, вставляя тире между – и=. Докажите, что данные высказывания являются афоризмами. По толковому словарику уточните лексическое значение этого сло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 собственное мнение и позицию, аргументировать и координировать её с позициями партнёров в сотрудничестве при выработке общего решения в совместн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ять расширенный поиск информации с использованием  ресурсов библиотек и Интернет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ить логическое рассуждение, включающее установление причинно-следственных связе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15  Попытайтесь установить, какие звуки  гласные или согласные- чаще встречаются в речи. Обдумайте, как вы будете проводить этот эксперимент. Что вы станете анализировать? Как организуете подсчёт количества гласных и согласных звуков. Выполнив это задание, сделайте выво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уля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овать пути достижения целей;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одить наблюдение и эксперимент под руководством учителя;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ормирование универсальных учебных действ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71640" y="1484280"/>
          <a:ext cx="8064360" cy="3187800"/>
        </p:xfrm>
        <a:graphic>
          <a:graphicData uri="http://schemas.openxmlformats.org/drawingml/2006/table">
            <a:tbl>
              <a:tblPr/>
              <a:tblGrid>
                <a:gridCol w="3024000"/>
                <a:gridCol w="1728720"/>
                <a:gridCol w="331164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ки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результаты: выпускник науч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21 Сочинение.Позакомьтесь с репродукцией картины М. Вруб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 Царевна-Лебедь» Опишите эту картину, пользуясь предложенным план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общекультурного наследия России и общемирового культурного наследия ( в рамках когнитивного компон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ти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ть адекватные языковые средства для отображения своих чувств, мыслей, мотивов и потребност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ализация междисциплинарных программ на уроках русского язы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79640" y="1628640"/>
          <a:ext cx="8064360" cy="5096160"/>
        </p:xfrm>
        <a:graphic>
          <a:graphicData uri="http://schemas.openxmlformats.org/drawingml/2006/table">
            <a:tbl>
              <a:tblPr/>
              <a:tblGrid>
                <a:gridCol w="1368360"/>
                <a:gridCol w="3384360"/>
                <a:gridCol w="3311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ки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уемые результаты: выпускник науч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учебно-исследовательской и проект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763 Нарисуйте карту воображаемой страны. Обозначьте на ей названия городов, посёлков, рек и т.д. Проведите экскурсию по достопримечательностям этого государст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1007 Используя материалы лингвистических словариков, составьте два упражнения. Чему учат и что проверяют эти упражне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ировать и выполнять учебное исследование и учебный проект, используя оборудование, модели, методы и приёмы, адекватные исследуемой пробле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сно, логично и точно излагать свою точку зрения, использовать языковые средства, адекватные обсуждаемой пробле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ИКТ-компетентности обучаю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184 Определите тему текста и продолжите его. Материалы для этого найдите в научно-популярных статьях и книгах о природ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755 Составьте список наиболее часто встречающихся русских имён. Запишите их в алфавитном поряд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.757 Какие художественные произведения вы читали в 5 классе? Запишите названия этих произведений и авторов с указанием имён и отче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ть различные приёмы поиска информации в Интернете, поисковые сервисы, строить запросы для поиска информации и анализировать результаты поис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ть различные библиотечные, в том числе электронные, каталоги для поиска необходимых книг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4:33:46Z</dcterms:created>
  <dc:creator>User</dc:creator>
  <dc:description/>
  <dc:language>en-US</dc:language>
  <cp:lastModifiedBy>fatima</cp:lastModifiedBy>
  <dcterms:modified xsi:type="dcterms:W3CDTF">2013-11-02T09:49:34Z</dcterms:modified>
  <cp:revision>15</cp:revision>
  <dc:subject/>
  <dc:title>Опыт использования компетентностного подхода в обучении русскому языку</dc:title>
</cp:coreProperties>
</file>