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58E-B6AD-4D57-8590-2E5A77DB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19E-54BD-439D-B1E3-93DF45D6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1F7-7C64-4ADF-8677-6658EC55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A19-2BBC-438A-ADAC-F7658DF9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3E1-E2F9-4A30-839E-242243B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C90-5300-46FA-AC81-E4A7CD93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9FB-6397-4176-A9E2-645B66D3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3A8-6258-447F-945E-1E47A27E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77B-CA4E-428A-8391-DB3BB223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618-A9AF-4B65-844A-37FB35A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D0C-A0E6-42F1-8B42-E507521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B85-8E8B-4E78-B479-0FE0C14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D2EE-60D1-49DF-B955-DD1CEB1D16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364000" y="3645000"/>
            <a:ext cx="403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полнил учащийся 4 «Б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«Средняя общеобразовательная школа № 2 п.г.т. Актюбинский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абибуллин Азамат Ринат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ководитель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никеева Флюза Фава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2200" y="260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Arial Black"/>
              </a:rPr>
              <a:t>Хочу сказать спасибо ветерану, моему прадедуш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0" y="648828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ttps://avatars.mds.yandex.net/get-pdb/1348397/57d81818-ad78-4fec-a247-4b817ebb5b2f/orig"/>
          <p:cNvPicPr/>
          <p:nvPr/>
        </p:nvPicPr>
        <p:blipFill>
          <a:blip r:embed="rId1"/>
          <a:stretch/>
        </p:blipFill>
        <p:spPr>
          <a:xfrm>
            <a:off x="250920" y="2924280"/>
            <a:ext cx="4965480" cy="37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08000" y="189000"/>
            <a:ext cx="5976720" cy="67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Этапы работы над проек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ительный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суждение темы через беседу и получение дополнительной информации, постановка целей 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    Планирование работы над проектом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пределение источников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ланирование способов сбора и анализы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Изучение литературных источников, исторических материал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чтение произведений, очерков о Великой Отечественной вой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Получение информации через Интернет,  библиотеки, экскурсии в музей школы, встречи с ветеранами, беседы с учителем, родителями, дедушками, бабушками, видео- и аудиозаписи по данной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)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ланирование итогового проду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zag_3"/>
          <p:cNvPicPr/>
          <p:nvPr/>
        </p:nvPicPr>
        <p:blipFill>
          <a:blip r:embed="rId1"/>
          <a:srcRect l="22101" t="0" r="0" b="0"/>
          <a:stretch/>
        </p:blipFill>
        <p:spPr>
          <a:xfrm>
            <a:off x="7667640" y="5445000"/>
            <a:ext cx="1258920" cy="12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Прямоугольник 2"/>
          <p:cNvSpPr/>
          <p:nvPr/>
        </p:nvSpPr>
        <p:spPr>
          <a:xfrm>
            <a:off x="0" y="648828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996160" y="260280"/>
            <a:ext cx="2823840" cy="460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606920" y="1125360"/>
            <a:ext cx="453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мал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айфутдин Ямалетдинович родился 16 ноября   1912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zag_3"/>
          <p:cNvPicPr/>
          <p:nvPr/>
        </p:nvPicPr>
        <p:blipFill>
          <a:blip r:embed="rId1"/>
          <a:srcRect l="22101" t="0" r="0" b="0"/>
          <a:stretch/>
        </p:blipFill>
        <p:spPr>
          <a:xfrm>
            <a:off x="6588000" y="4653000"/>
            <a:ext cx="1932120" cy="187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Admin\Desktop\мой прадед\20181130_165250.jpg"/>
          <p:cNvPicPr/>
          <p:nvPr/>
        </p:nvPicPr>
        <p:blipFill>
          <a:blip r:embed="rId2"/>
          <a:stretch/>
        </p:blipFill>
        <p:spPr>
          <a:xfrm>
            <a:off x="468360" y="765000"/>
            <a:ext cx="4016160" cy="55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79280" y="5345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539640" y="69228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95280" y="-1713240"/>
            <a:ext cx="7777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С первых дней войны мой прадед  пошел защищать Родину. Он храбро  воевал в рядах  Первого  Украинского  Волховского  Фронта. Среди солдат, которые слегли после страшного боя, был и наш прадед. Недобитых фашисты закалывали штыками. А мой прадед, раненый в плечо, истекая кровью, лежал и не дышал. Фашисты решили что он мертв и не тронули его штыком. Так он остался жив. Потом его отправили в госпиталь, где он долго лечился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. Прожил мой прадед восемьдесят девять лет, с семью осколками от снарядов в легких, которые мучили его до конца жизни. Я никогда не видел его, о нем мне рассказывала мама. Но я  всегда буду благодарен моему незнакомому, но родному прадеду за то, что он отдал свою жизнь ради освобождения своей Родины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                 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Мой прадед - моя горд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1042920" y="41868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Защищая свою Родину, прадедушка был награждён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 Орденом Красной Звезды, Орденом Отечественной войны 1 степени, медалями "За отвагу", "За боевые заслуги", "Медалью Жукова"  и многими другими юбилейными  медаля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Admin\Desktop\18644024.jpg"/>
          <p:cNvPicPr/>
          <p:nvPr/>
        </p:nvPicPr>
        <p:blipFill>
          <a:blip r:embed="rId1"/>
          <a:srcRect l="11813" t="5682" r="12592" b="3337"/>
          <a:stretch/>
        </p:blipFill>
        <p:spPr>
          <a:xfrm>
            <a:off x="1403280" y="37162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s://pics.meshok.net/pics/57216332.jpg"/>
          <p:cNvPicPr/>
          <p:nvPr/>
        </p:nvPicPr>
        <p:blipFill>
          <a:blip r:embed="rId2"/>
          <a:srcRect l="0" t="0" r="244" b="2381"/>
          <a:stretch/>
        </p:blipFill>
        <p:spPr>
          <a:xfrm>
            <a:off x="5076720" y="3716280"/>
            <a:ext cx="230364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награды прадеда\IMG-20190407-WA0020.jpg"/>
          <p:cNvPicPr/>
          <p:nvPr/>
        </p:nvPicPr>
        <p:blipFill>
          <a:blip r:embed="rId1"/>
          <a:stretch/>
        </p:blipFill>
        <p:spPr>
          <a:xfrm>
            <a:off x="826920" y="549360"/>
            <a:ext cx="4392720" cy="5905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364000" y="1844640"/>
            <a:ext cx="36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здравительное письмо Министра Обороны Российской Федерации П.Грачева в честь 51-ой годовщины Победы в Вели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Admin\Desktop\награды прадеда\IMG-20190407-WA0018.jpg"/>
          <p:cNvPicPr/>
          <p:nvPr/>
        </p:nvPicPr>
        <p:blipFill>
          <a:blip r:embed="rId1"/>
          <a:stretch/>
        </p:blipFill>
        <p:spPr>
          <a:xfrm>
            <a:off x="1908000" y="692280"/>
            <a:ext cx="5605560" cy="374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835280" y="4869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достоверение к медали Жу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539640" y="423000"/>
            <a:ext cx="777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Calibri"/>
              </a:rPr>
              <a:t>Благодаря подвигу наших героев - дедов,  прадедов,  бабушек и прабабушек мы живем счастливо, под мирным небом над головой. А мы каждый год,  Девятого Мая,  празднуем самый красивый, замечательный праздник, праздник со слезами на глазах - День Победы. С огромным желанием и гордостью наша семья ежегодно принимает участие  в Бессмертном полку. Это наш заветный дол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050920" y="4587480"/>
            <a:ext cx="475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Спасибо вам, ветераны!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Слава вам, погибшие!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Спасибо тебе, мой прадед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www.playcast.ru/uploads/2018/04/07/25013561.gif"/>
          <p:cNvPicPr/>
          <p:nvPr/>
        </p:nvPicPr>
        <p:blipFill>
          <a:blip r:embed="rId1"/>
          <a:stretch/>
        </p:blipFill>
        <p:spPr>
          <a:xfrm>
            <a:off x="6840360" y="436572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54936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Я хочу, чтоб сияло солнце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о не только над нашей страной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Чтобы дети на всей планете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Улыбались вместе со мной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611280" y="3645000"/>
            <a:ext cx="6696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ыполняя данный  проект, я понял, что история страны- это судьбы людей, которые незаметно жили, воспитывали детей, воевали, трудились на благо Род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Знать историю своей семьи, своих корней - значит знать историю России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www.playcast.ru/uploads/2018/04/07/25013561.gif"/>
          <p:cNvPicPr/>
          <p:nvPr/>
        </p:nvPicPr>
        <p:blipFill>
          <a:blip r:embed="rId1"/>
          <a:stretch/>
        </p:blipFill>
        <p:spPr>
          <a:xfrm>
            <a:off x="6659640" y="407664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rcRect l="11662" t="0" r="9431" b="0"/>
          <a:stretch/>
        </p:blipFill>
        <p:spPr>
          <a:xfrm>
            <a:off x="4427640" y="189000"/>
            <a:ext cx="454644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8:49:50Z</dcterms:created>
  <dc:creator>polik</dc:creator>
  <dc:description/>
  <dc:language>en-US</dc:language>
  <cp:lastModifiedBy>ЕНИКЕЕВА</cp:lastModifiedBy>
  <dcterms:modified xsi:type="dcterms:W3CDTF">2019-05-05T16:15:40Z</dcterms:modified>
  <cp:revision>174</cp:revision>
  <dc:subject/>
  <dc:title>Слайд 1</dc:title>
</cp:coreProperties>
</file>