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29E-2CE1-4F85-8E06-5DC3E178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95E-9A6A-4FE6-9E19-A68E3489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760F7-7BC7-45E2-9FED-33F16707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4052A-A5BF-4DB9-BDB9-D963B5D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B275E-82A7-4AA5-B140-D2055BE3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6247E-E9C0-4962-B673-6502B63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3EE5A-1599-479C-9973-49AAF33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2ECAF-AE9C-4BF2-8279-DBB44A61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D0880-E7C4-43B9-A938-5F9F93DC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DD2DF-371A-4321-9802-55DACBC1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D03B-C6DA-4A71-9A58-711E23EB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74B8C-E352-492E-9791-4373ED9D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9B7-6D14-4F6B-B08F-CD4F05AA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65FDE-F830-451E-9652-12CC432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68B2-E48F-43D0-A0BD-858A22E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B1968-1B6A-4B64-BC10-B52B2B6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94D93-362B-4F4B-8F51-AA721D75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39050-AD48-489F-B8E0-E617DA8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A6021-86C5-4276-847A-6586CE6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A6FC4-2DAE-4858-9236-4BA368C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8F83D-EC7E-43C8-9808-525F3B4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608B3-F260-43C4-8937-7DD8F57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D23ED-26B6-4CED-86D8-99A4BF88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400-9D78-4A46-B5A7-EB1369F0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E5506-B1B4-4CB2-8473-CC87A4A7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DB62-8FA1-4AF9-B418-ECBF6332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3009-04FE-49BB-9C67-E342E27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8E35B-BA54-4F3B-801B-697AA48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73358-16C3-44A5-A499-5AAAF85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B3F8D-E367-417C-984A-D77BE66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69DA-9353-4693-9D3D-58AF326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8FDB3-CDC8-448C-9B98-EEDC196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F30E-F642-4594-8656-88E62C1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5FD1-C805-4357-821A-CE058274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9A9-7E75-497D-8419-7F3C3D0C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2547-5D2A-4BF5-ABD5-3F58C9C3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3F9A3-E565-4E68-B831-DAE30F7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AADA-3071-414E-BB6F-C56F97BD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79459-68D1-405F-AC70-7DC40564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90A3A-C78F-4A65-B6B6-B0BF034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3E0B0-E598-43F5-9EEF-52FD407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DD978-8821-4397-8906-B17655EB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CE02B-4F9C-475B-8939-B876A62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260CA-ADFE-41D0-9949-8183FF2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2B6A5-A9C3-4CD4-8771-EA81222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C39D-6B64-41EB-92A3-8838723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97C6-0332-4360-B4F8-CB95335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A274E-5D86-49C5-BA7B-78C7F16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83DDE-C3EF-4BD7-844F-607182E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A50C9-D153-42EA-86BD-4EB742FE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135E8-997D-41AF-869D-45C8679A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0F9E5-A40E-4EE7-896E-4701CD91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94783-0DD7-47D4-BAA4-B67590A2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4BB83-EDC9-43DB-8575-8A05EDD7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7D0B6-FF03-4561-8732-99D2400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D994C-1554-4CA3-9128-1CBFEE6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AA0-C577-4C47-B6CF-3049736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175C2-2E21-4235-BAAB-596F84C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74FE1-1DC4-4FF0-9917-60FDA19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E0C83-85C1-4B01-8230-E4579A7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F0926-2182-4214-A8CA-B1BD555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43EC6-C67C-4B65-9A78-BF7C0AA5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48232-12A4-4255-939A-21277D70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DACDD-69E7-481A-8086-E81678CD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AC19D-9F12-4BDC-B106-18DC49B9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23A9A-FC4A-447D-B879-4BFEC81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218FD-39E4-4098-B922-F24BE8D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E6E9-27C8-4F39-8743-FE08E39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381C3-7D1B-4BAA-AC3B-146383EF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C4CF2-A599-4E33-91BC-93FCF43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6D22A-FD95-4388-A8DF-8D55B2C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A6A2B-ADAE-48BC-B35C-87096CF9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8C7E2-72F4-4A6B-B833-B73507D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34A79-0A20-4CE0-A97B-0CF897F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32827-EAD3-4E97-9391-150C6A9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210F8-B732-45D3-A5F0-A18C8D0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AAF70-D0FB-49BC-880A-CFAFC306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A0A89-C8F1-4A23-B8E7-3A4C5307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E260-E4EA-471D-BA39-1603DE9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0C675-41F9-4CC7-AD4D-78F3B31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04729-D6BC-46D3-AD0C-B340414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CC74B-7DDD-4EF9-B256-5D1ABA0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6C340-48CB-48B4-BD0E-3DCDB5B6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307FB-7471-4086-8A44-E5CB987E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DD2B1-B599-4684-B8BD-A6F7338F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D6C51-2B6F-4905-8812-F3564E4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17381-ADF8-4C05-B498-4CCBBEA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6DF57-5D0A-48A7-9954-2A005BD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27DC2-BA72-478C-86D7-6E7267C7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FDFC-4BBB-4BD1-93BA-A8A8A86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F7F72-FE17-440B-81FE-BE231641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8BED8-B296-4D7C-A6C1-100CCA25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021E0-3465-4749-A2EB-3FF5C13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D8C27-596B-4EB3-A6B7-9387574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D3DA9-44CA-4645-95FF-2198CE1A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F7744-C80C-4F6E-99C4-97A590E7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FE011-B535-4965-8DF7-CD8ACFB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81CA7-AC78-410C-B186-680DE81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6C9AE-3C07-4DE0-BCC9-0BB81E3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57D57-9861-4D7D-83DB-6FC60533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EF7-9FAE-42C0-974E-08FD1B1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5C1D0-44AA-424A-B78C-F53BEA4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28438-78C8-4BCC-95FC-AFEBD696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04937-0B9B-4DE0-93A9-78684800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95F69-BFC8-4A0C-96A8-A1BB5FC5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D0B94-6121-4A46-8C74-C6408CB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BCB7C-BF1B-4F49-A8DE-9ECBBB3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7D0A6-B323-4514-B852-5127040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79D2D-B9F2-44F5-96DF-B56F5A1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0C7CB-4276-4DD6-8DCA-D54A321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E8872-485E-46BD-BB1D-6C7C7143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337-9A99-4D51-9D46-7857C802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5A1D-390F-42E6-8CC4-B1B6332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1D826-1FCF-4658-B778-245E004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5FEA0-0D57-4DDB-B278-53BC8C8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51AA4-58DB-477D-9484-84C24BDE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7557A-8ED4-45DA-9236-458EF22A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3B0EE-9431-4AAD-80B7-E6A016D7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9387-B2F6-4E69-B228-6557109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5BBB-C359-42EB-88B3-7F8CF404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80D9-9E50-497A-83CA-04DADAB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C24-0869-4F5A-AC66-DD160AE4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99EC-9DA4-4A00-99DE-F5A055FE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DE0A-CEF0-4399-AAD0-97F4D9F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CCC0-36FD-4743-9730-0B5DEED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060E-78D0-443A-B20E-D894445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0D5F-ED52-496B-80DA-CFEFA64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A7E-BA34-4EB7-97EF-5239F33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95A7-A07B-4000-BD5E-0A488CE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AE9-1982-4242-AE56-071BD8D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DB46-EE41-4C12-B616-93210422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3F81-43E8-49DD-9510-91FF35F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CDBC-55E4-43F8-95C3-4D5241E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EE2A-4BA0-42D8-BD19-188DECA4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E351-3C63-46F0-8821-BB67B108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5D414-921E-4924-99F2-FA38E972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CA9C-09CE-4B2F-A974-6EA1EEA2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3F30-5B26-4E1B-BE59-3A37E74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B5A-3D8B-4807-988F-8022D280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5E4C-5669-40B6-B2B5-93075E4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5A7C-3C9E-4DB9-8FBE-B11EC454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25A7-C6CA-47C8-96FD-3EFB36F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8FE3-4885-4DCF-B9D6-9559D5A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5802-8ED8-4B14-8549-F62B98D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8F03-79B9-4D3C-82B6-83F31F5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AF1F-7F50-4976-9A38-1FB8472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5415D-435A-450D-84CB-729AC04C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B82C-AB7C-4716-AB27-B453E79B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23F2-CFCF-4D96-AED6-3E0465A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741-9CD3-4AD0-9749-3DA3CA5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BA6C-A56A-4C70-8E44-B4B78A4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5434-B8F1-40A9-BF1D-3003C302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99C8-C42B-41CD-BADF-6D6EDA0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432C-84BB-4136-8C60-87342AA5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FA94-6873-4C64-B370-1682CD16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7CF8-FA92-4D82-AF53-9D7F081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0335-4F00-4F06-B73F-FEC4CBA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3B35-76EB-414A-94F3-00A15AC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499BF-969C-4F9B-BBC4-E5DA9BFC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BE19-3EDA-4A7E-A7F5-7ACC5D03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290-5BBD-4BF6-B536-35BB321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5FB5-39E0-4E95-A520-0A50AFAF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DD85-62EB-442F-9461-B3D3AC1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9778-00AD-401C-85F6-2756D6AF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54A3-E64D-4C78-8F78-FBDEAA8D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5A00-53B9-49C9-8F80-55A2F0D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2D38-C3A4-477B-8F03-FAB49C6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9204-7ED9-4B10-B13E-9B0D81B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BCA6-F986-4521-AE47-6C0AA43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491E-2750-4BD3-8104-5239511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2A75-9F2C-4C8D-B3B3-981929F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FAB-719E-4506-AAA0-E385875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0FA1-38E0-43AA-AF69-77EB5F36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FD206-980F-4D3C-B139-7EF77D2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E26D-C066-4973-93B4-6AE84737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1B5F5-8E22-4EA9-B838-E768BC9B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6432-1245-46FD-9B9B-0A26E783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912AB-1F27-4EB6-8D77-BECE2E8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E63F-CD7A-4614-9327-C2F222E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3C45-3906-4C41-9DFA-AC0E126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683AB-38BB-464E-88DF-A581936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7C998-CF24-48C3-AEBB-E612C45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082-0471-4C63-AFAA-B083612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8CCFF-6ACC-4DDC-AC3C-0062EA4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84EE-9770-4DA6-A984-CD21F0A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1C53-DD02-4CA9-96B3-49D7E3F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CC341-FF7A-45A9-86C7-551C8EB1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84BF-E9EA-4DCB-8183-F5A9FC5C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060A-E059-4A78-BCBD-BF7E5138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01DB3-AD38-4E29-8F3A-3CC02394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9A2B3-8EE6-4AD1-B195-C3115A36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FA864-6F1B-44D6-AA0B-A761F50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7E1F-D9A7-4B21-8F66-4E501986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6FD-7C8F-45F8-90E3-5A00EAA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823E9-A3E5-4590-8F05-60EA37C9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0F4C-4C72-4479-9ABF-72BFB0D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DABA4-D8AA-446C-ACEC-012FDFB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86D1-0619-4B71-8FC6-05275E5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28D4-9B5D-4A08-BEBF-862EE61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EE80-4154-4A8C-96D1-4E70FDB5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8CBF-56E1-40DC-BC66-DAB68105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45E04-0E5F-49FF-BB48-49CCB68D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2FC19-7010-4E3B-8543-D9E2318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84C36-A594-44C3-A2E9-15B5D8E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35C-704B-46F0-9604-6D45AE77C7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19B6-CA31-4DEB-8A2D-478897403E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2D13-2E54-4A8C-AD62-34770102A9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7ACB-232A-42C1-8E18-CB73ED9C19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43B-AFCE-4370-AA70-113E3A65F9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C498-5442-4594-8156-BD48D8BC0D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5379-B5D3-4C7D-B86D-749184794D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44A3-0A3E-4765-8D7F-ABA3CB27CA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92E-04AB-4745-BC10-6BEA33D487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E12D-64AE-4C5A-8181-D3B2C52EC6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20E-5F97-4501-9C9A-E08944E86A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AD5-914D-4510-A6DA-0FE7933ADE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B651-B18D-4999-9EEA-9AB8E833A2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C68F-9A5F-4283-B7B0-035D61C6ED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B707-29AE-4788-B9E4-F76602999B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2DE2-86F5-49A1-9424-CBFB67774E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04E1-A553-4E76-AB88-301F890A03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128680" y="1015560"/>
            <a:ext cx="9144000" cy="365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ы и приемы по созданию условий для формирования целостной картины мира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Рисунок 1" descr="Использование игровых методов и приемов с целью обеспечения в детском саду."/>
          <p:cNvPicPr/>
          <p:nvPr/>
        </p:nvPicPr>
        <p:blipFill>
          <a:blip r:embed="rId1"/>
          <a:stretch/>
        </p:blipFill>
        <p:spPr>
          <a:xfrm>
            <a:off x="1808280" y="0"/>
            <a:ext cx="3511440" cy="25956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5319720" y="0"/>
            <a:ext cx="6095880" cy="319104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6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1808280" y="259560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8" descr="ÐÐ°ÑÑÐ¸Ð½ÐºÐ¸ Ð¿Ð¾ Ð·Ð°Ð¿ÑÐ¾ÑÑ Ð¸Ð³ÑÐ¾Ð²ÑÐµ Ð¿ÑÐ¸ÐµÐ¼Ñ Ð² Ð´Ð¾Ñ"/>
          <p:cNvPicPr/>
          <p:nvPr/>
        </p:nvPicPr>
        <p:blipFill>
          <a:blip r:embed="rId4"/>
          <a:stretch/>
        </p:blipFill>
        <p:spPr>
          <a:xfrm>
            <a:off x="5319720" y="3191040"/>
            <a:ext cx="6429240" cy="3666960"/>
          </a:xfrm>
          <a:prstGeom prst="rect">
            <a:avLst/>
          </a:prstGeom>
          <a:ln w="0">
            <a:noFill/>
          </a:ln>
        </p:spPr>
      </p:pic>
      <p:sp>
        <p:nvSpPr>
          <p:cNvPr id="1200" name="Прямоугольник 1"/>
          <p:cNvSpPr/>
          <p:nvPr/>
        </p:nvSpPr>
        <p:spPr>
          <a:xfrm>
            <a:off x="1808280" y="6126120"/>
            <a:ext cx="392724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овые приё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Рисунок 18" descr="C:\Users\Лариса\Desktop\Новая папка (2)\2018-12-22 22.12.2018\22.12.2018 097.jpg"/>
          <p:cNvPicPr/>
          <p:nvPr/>
        </p:nvPicPr>
        <p:blipFill>
          <a:blip r:embed="rId1"/>
          <a:stretch/>
        </p:blipFill>
        <p:spPr>
          <a:xfrm>
            <a:off x="2887560" y="65160"/>
            <a:ext cx="3057480" cy="3413160"/>
          </a:xfrm>
          <a:prstGeom prst="rect">
            <a:avLst/>
          </a:prstGeom>
          <a:ln w="0">
            <a:noFill/>
          </a:ln>
        </p:spPr>
      </p:pic>
      <p:pic>
        <p:nvPicPr>
          <p:cNvPr id="1202" name="Рисунок 19" descr="C:\Users\Лариса\Desktop\Новая папка (2)\2018-12-22 22.12.2018\22.12.2018 098.jpg"/>
          <p:cNvPicPr/>
          <p:nvPr/>
        </p:nvPicPr>
        <p:blipFill>
          <a:blip r:embed="rId2"/>
          <a:stretch/>
        </p:blipFill>
        <p:spPr>
          <a:xfrm>
            <a:off x="5945040" y="0"/>
            <a:ext cx="2982960" cy="3679920"/>
          </a:xfrm>
          <a:prstGeom prst="rect">
            <a:avLst/>
          </a:prstGeom>
          <a:ln w="0">
            <a:noFill/>
          </a:ln>
        </p:spPr>
      </p:pic>
      <p:pic>
        <p:nvPicPr>
          <p:cNvPr id="1203" name="Рисунок 37" descr="C:\Users\Лариса\Desktop\Новая папка (2)\2018-12-22 22.12.2018\22.12.2018 300.jpg"/>
          <p:cNvPicPr/>
          <p:nvPr/>
        </p:nvPicPr>
        <p:blipFill>
          <a:blip r:embed="rId3"/>
          <a:stretch/>
        </p:blipFill>
        <p:spPr>
          <a:xfrm>
            <a:off x="8832960" y="0"/>
            <a:ext cx="3359160" cy="3679920"/>
          </a:xfrm>
          <a:prstGeom prst="rect">
            <a:avLst/>
          </a:prstGeom>
          <a:ln w="0">
            <a:noFill/>
          </a:ln>
        </p:spPr>
      </p:pic>
      <p:pic>
        <p:nvPicPr>
          <p:cNvPr id="1204" name="Рисунок 38" descr="C:\Users\Лариса\Desktop\Новая папка (2)\2018-12-22 22.12.2018\22.12.2018 303.jpg"/>
          <p:cNvPicPr/>
          <p:nvPr/>
        </p:nvPicPr>
        <p:blipFill>
          <a:blip r:embed="rId4"/>
          <a:stretch/>
        </p:blipFill>
        <p:spPr>
          <a:xfrm>
            <a:off x="2792520" y="3478320"/>
            <a:ext cx="3238560" cy="3379680"/>
          </a:xfrm>
          <a:prstGeom prst="rect">
            <a:avLst/>
          </a:prstGeom>
          <a:ln w="0">
            <a:noFill/>
          </a:ln>
        </p:spPr>
      </p:pic>
      <p:pic>
        <p:nvPicPr>
          <p:cNvPr id="1205" name="Рисунок 2" descr=""/>
          <p:cNvPicPr/>
          <p:nvPr/>
        </p:nvPicPr>
        <p:blipFill>
          <a:blip r:embed="rId5"/>
          <a:stretch/>
        </p:blipFill>
        <p:spPr>
          <a:xfrm>
            <a:off x="6031080" y="3679920"/>
            <a:ext cx="2666880" cy="317808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6"/>
          <a:stretch/>
        </p:blipFill>
        <p:spPr>
          <a:xfrm>
            <a:off x="8697960" y="3679920"/>
            <a:ext cx="3494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Рисунок 3" descr=""/>
          <p:cNvPicPr/>
          <p:nvPr/>
        </p:nvPicPr>
        <p:blipFill>
          <a:blip r:embed="rId1"/>
          <a:stretch/>
        </p:blipFill>
        <p:spPr>
          <a:xfrm>
            <a:off x="1630440" y="2819520"/>
            <a:ext cx="78231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Picture 2" descr="http://900igr.net/up/datas/197469/031.jpg"/>
          <p:cNvPicPr/>
          <p:nvPr/>
        </p:nvPicPr>
        <p:blipFill>
          <a:blip r:embed="rId1"/>
          <a:stretch/>
        </p:blipFill>
        <p:spPr>
          <a:xfrm>
            <a:off x="1309680" y="135000"/>
            <a:ext cx="1066788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Прямоугольник 2"/>
          <p:cNvSpPr/>
          <p:nvPr/>
        </p:nvSpPr>
        <p:spPr>
          <a:xfrm>
            <a:off x="1879560" y="604800"/>
            <a:ext cx="45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2790720" y="604800"/>
            <a:ext cx="921240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познавательно-исследовательской активности ребят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обогащение и закрепление багажа знаний относительно объектов и явлений, окружающих дете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навыков трудовой деятельнос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знакомство с циклическими изменениями в природе (в младших группах дети получают представления о самом факте смены времён года, в средней — усваивают отличительные признаки каждого из сезонов, а в старшем дошкольном возрасте знакомятся с сопутствующими зиме, весне, лету и осени изменениями в животном и растительном мире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воспитание основ экологической культуры (малыши знакомятся с теми или иными явлениями природы, получают представления об экологической безопасности и на основе теоретического и практического опыта приходят к выводу о необходимости бережного отношения к окружающему миру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1"/>
          <p:cNvSpPr/>
          <p:nvPr/>
        </p:nvSpPr>
        <p:spPr>
          <a:xfrm>
            <a:off x="1841400" y="4888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2"/>
          <p:cNvSpPr/>
          <p:nvPr/>
        </p:nvSpPr>
        <p:spPr>
          <a:xfrm>
            <a:off x="3009960" y="49320"/>
            <a:ext cx="900576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формирование представления о целостном понимании предмета (так, дети в младшей группе должны уметь называть предмет и его предназначение, в средней к этому добавляется описание внешнего и внутреннего вида, то есть цвет, форма, материал, а в старших — отношение человека и его деятельности к существованию этого объекта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способности ориентироваться в пространстве (если в младшем дошкольном возрасте это знакомство с помещениями детского сада, то в средней и старшей — прокладывание пути от дома в сади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знакомство с родным краем (в младших группах дети учатся называть свой город, село, посёлок, в средней — учат название своей улицы, номер дома, квартиры, а в старшей, подготовительной  получают представления об основных достопримечательностях края, его традициях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получение и закрепление информации о флоре и фауне (в младшей группе дети знакомятся с названиями животных и их детёнышей, в средней — средой обитания, особенностями разведения, ухода, в старшей — мерами, направленными на сохранение растительного и животного мира на планете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воспитание бережного отношения к окружающему миру через получение знаний об опасном для природы поведении человека, а также о мерах, направленных на сохранение и преумножение природных богатст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1700280" y="579600"/>
            <a:ext cx="91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 достижения цели, представляющий собой определённым образом упорядоченную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Прямоугольник 5"/>
          <p:cNvSpPr/>
          <p:nvPr/>
        </p:nvSpPr>
        <p:spPr>
          <a:xfrm>
            <a:off x="1700280" y="1700280"/>
            <a:ext cx="97884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учения воспитатель использует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особы работы воспитателя, с помощью которых достигается усвоение детьми знаний, умений и навыков, а также развитие их познавательных способносте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– это часть мет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определяя основной метод обучения, которым он будет пользоваться на занятии, использует разнообразные приёмы для того, чтобы повысить его эффективность. Например, использу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основ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тизации знаний детей о весне, педагог дополняет это различны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ами, показом веток с распустившимися листьями, загадыванием загадки, чтением стихотворе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Прямоугольник 1"/>
          <p:cNvSpPr/>
          <p:nvPr/>
        </p:nvSpPr>
        <p:spPr>
          <a:xfrm>
            <a:off x="1508040" y="1095480"/>
            <a:ext cx="1068408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орм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одов и приемов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организации 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разовательного проце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я целостной картины мира у дошкольн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ес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удожественное слово(чтение),объяснение, беседа, рассказ, (вопросы,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ситуативный разговор, заучивание, загадки,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, просьба, пояснение, напоминание,совет,поощрение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лядные: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матривание иллюстраций и книг, наблю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курсия, демонстрация,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 ,( показ,  пояснение, просьба, вопрос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ие: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гра-экспериментирование, исследовательская, проектная деятельность (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нализ ,синтез, сравнение,)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вающие игры, сюжетно-ролевые игры , физкультурные досуги, творческие задания, конструирование, трудовые поручени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одвижные игры, игры-забавы, нсцениров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сение игрушек, создание игровых ситуаци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годня мы будем птичками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игрушек, предмет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Рисунок 1" descr="Воспитатель что-то объясняет детям в уголке природы"/>
          <p:cNvPicPr/>
          <p:nvPr/>
        </p:nvPicPr>
        <p:blipFill>
          <a:blip r:embed="rId1"/>
          <a:stretch/>
        </p:blipFill>
        <p:spPr>
          <a:xfrm>
            <a:off x="1666800" y="0"/>
            <a:ext cx="4610160" cy="3343320"/>
          </a:xfrm>
          <a:prstGeom prst="rect">
            <a:avLst/>
          </a:prstGeom>
          <a:ln w="0">
            <a:noFill/>
          </a:ln>
        </p:spPr>
      </p:pic>
      <p:pic>
        <p:nvPicPr>
          <p:cNvPr id="1186" name="Рисунок 2" descr="Девочка показывает на картинки на магнитной доске"/>
          <p:cNvPicPr/>
          <p:nvPr/>
        </p:nvPicPr>
        <p:blipFill>
          <a:blip r:embed="rId2"/>
          <a:stretch/>
        </p:blipFill>
        <p:spPr>
          <a:xfrm>
            <a:off x="6276960" y="0"/>
            <a:ext cx="5305320" cy="334332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3" descr="Две девочки читают книгу"/>
          <p:cNvPicPr/>
          <p:nvPr/>
        </p:nvPicPr>
        <p:blipFill>
          <a:blip r:embed="rId3"/>
          <a:stretch/>
        </p:blipFill>
        <p:spPr>
          <a:xfrm>
            <a:off x="1666800" y="3343320"/>
            <a:ext cx="4610160" cy="3417840"/>
          </a:xfrm>
          <a:prstGeom prst="rect">
            <a:avLst/>
          </a:prstGeom>
          <a:ln w="0">
            <a:noFill/>
          </a:ln>
        </p:spPr>
      </p:pic>
      <p:sp>
        <p:nvSpPr>
          <p:cNvPr id="1188" name="Прямоугольник 3"/>
          <p:cNvSpPr/>
          <p:nvPr/>
        </p:nvSpPr>
        <p:spPr>
          <a:xfrm>
            <a:off x="7547040" y="4605480"/>
            <a:ext cx="33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словесны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4" descr="Дети раскладывают картинки с овощами"/>
          <p:cNvPicPr/>
          <p:nvPr/>
        </p:nvPicPr>
        <p:blipFill>
          <a:blip r:embed="rId1"/>
          <a:stretch/>
        </p:blipFill>
        <p:spPr>
          <a:xfrm>
            <a:off x="1795320" y="0"/>
            <a:ext cx="5715000" cy="3448080"/>
          </a:xfrm>
          <a:prstGeom prst="rect">
            <a:avLst/>
          </a:prstGeom>
          <a:ln w="0">
            <a:noFill/>
          </a:ln>
        </p:spPr>
      </p:pic>
      <p:pic>
        <p:nvPicPr>
          <p:cNvPr id="1190" name="Рисунок 10" descr="Лэпбук Фрукты-овощи"/>
          <p:cNvPicPr/>
          <p:nvPr/>
        </p:nvPicPr>
        <p:blipFill>
          <a:blip r:embed="rId2"/>
          <a:stretch/>
        </p:blipFill>
        <p:spPr>
          <a:xfrm>
            <a:off x="1795320" y="3448080"/>
            <a:ext cx="5715000" cy="2836800"/>
          </a:xfrm>
          <a:prstGeom prst="rect">
            <a:avLst/>
          </a:prstGeom>
          <a:ln w="0">
            <a:noFill/>
          </a:ln>
        </p:spPr>
      </p:pic>
      <p:pic>
        <p:nvPicPr>
          <p:cNvPr id="1191" name="Рисунок 13" descr="Воспитательница показывает детям рисунок с ракетой в космосе"/>
          <p:cNvPicPr/>
          <p:nvPr/>
        </p:nvPicPr>
        <p:blipFill>
          <a:blip r:embed="rId3"/>
          <a:stretch/>
        </p:blipFill>
        <p:spPr>
          <a:xfrm>
            <a:off x="7510320" y="1084320"/>
            <a:ext cx="4681800" cy="3619440"/>
          </a:xfrm>
          <a:prstGeom prst="rect">
            <a:avLst/>
          </a:prstGeom>
          <a:ln w="0">
            <a:noFill/>
          </a:ln>
        </p:spPr>
      </p:pic>
      <p:sp>
        <p:nvSpPr>
          <p:cNvPr id="1192" name="Прямоугольник 5"/>
          <p:cNvSpPr/>
          <p:nvPr/>
        </p:nvSpPr>
        <p:spPr>
          <a:xfrm>
            <a:off x="8539200" y="5408640"/>
            <a:ext cx="32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лядны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Прямоугольник 2"/>
          <p:cNvSpPr/>
          <p:nvPr/>
        </p:nvSpPr>
        <p:spPr>
          <a:xfrm>
            <a:off x="5532120" y="5064120"/>
            <a:ext cx="4838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ктически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4" name="Рисунок 11" descr="Дети проводят опыт с жидкостями разного цвета"/>
          <p:cNvPicPr/>
          <p:nvPr/>
        </p:nvPicPr>
        <p:blipFill>
          <a:blip r:embed="rId1"/>
          <a:stretch/>
        </p:blipFill>
        <p:spPr>
          <a:xfrm>
            <a:off x="1589040" y="0"/>
            <a:ext cx="4888080" cy="3271680"/>
          </a:xfrm>
          <a:prstGeom prst="rect">
            <a:avLst/>
          </a:prstGeom>
          <a:ln w="0">
            <a:noFill/>
          </a:ln>
        </p:spPr>
      </p:pic>
      <p:pic>
        <p:nvPicPr>
          <p:cNvPr id="1195" name="Рисунок 12" descr="Дети сидят за столиками по группам"/>
          <p:cNvPicPr/>
          <p:nvPr/>
        </p:nvPicPr>
        <p:blipFill>
          <a:blip r:embed="rId2"/>
          <a:stretch/>
        </p:blipFill>
        <p:spPr>
          <a:xfrm>
            <a:off x="64771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1:32:30Z</dcterms:created>
  <dc:creator>Лариса</dc:creator>
  <dc:description/>
  <dc:language>en-US</dc:language>
  <cp:lastModifiedBy>Лариса</cp:lastModifiedBy>
  <dcterms:modified xsi:type="dcterms:W3CDTF">2019-01-31T02:09:45Z</dcterms:modified>
  <cp:revision>20</cp:revision>
  <dc:subject/>
  <dc:title>Методы и приемы по созданию условий для формирования целостной картины мира</dc:title>
</cp:coreProperties>
</file>