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A4D-FD6B-4168-BFD8-DF492DCD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D2F-FD41-479B-8AA7-8816CDB1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FB16F-6BE6-43C3-9323-F4912BE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FCB9-3AE4-491B-AC51-36D9C76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B1211-6998-43EA-8824-76CD2A4E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1D8C-5920-47B6-812E-B56D903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9A40B-3BD4-4DED-B64A-AF6A890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982C9-8217-41A6-958C-DD21E2B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A3633-75F9-4918-8FFF-B875DDD7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18488-C49D-44D8-A8DB-EE76F2CE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27CB5-E81D-4062-B898-9D39C448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7B7FC-2F53-4C51-9F17-AA64B171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D40-76E2-4C57-AC35-9FEAB65F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9AF5F-673C-484F-8842-71622488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9ACF6-4292-4461-9E0E-15617BF1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80C23-C948-4BF4-AAEA-1A62D804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D3CC-45C0-42AC-BC53-0DD2AD57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BA265-1281-42A1-A0B1-1F640CD9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6A81A-937A-411C-864E-BE30E9C1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74BD0-6775-4F35-A91A-F3DF69B0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5C1D2-2302-4258-B064-0FA7925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9D6AB-707B-4A07-813A-9A922436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56EF5-426F-407B-AA70-7E106EC47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737-0030-46CB-AAF0-0651D963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1B187-D5EA-4F4C-BA56-78E994DF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20334-BBD3-407E-BF4C-C41CBB9E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638E7-77CA-4DD3-BBA9-A2D5792D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62446-F9F8-4B3D-8482-9C2EE3B5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EAEA5-AA10-4A06-AA00-1BC707DC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F06C3-B51C-406D-883A-F2CC040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368DC-5EFB-4A37-B935-B9EC72C8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4D746-47DA-46DD-9003-73011CA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41B8F-F2FA-42EB-B858-8234FCE7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2D150-FDDE-4541-AC59-7E8BA270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4E3-8272-4F40-8020-11DCB1A7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3124C-E879-430D-A4AE-227220DE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666D0-5F33-4111-B264-BA06D437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6B453-1EC9-489B-88CA-171BC877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597DD-D3EF-4A9D-B7FE-EFF24E9F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49020-FCAD-4412-9E21-A0F2D829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A73BD-2C54-448D-99A9-0203F858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DB326-BEF4-4DB9-9B1D-5928F79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D336D-7E07-4AAA-ADDB-A2406843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F46CA-B896-4865-9810-3B91E52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8FA7D-538E-4353-B78D-EF636AB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8AA4-255C-4D23-AC8B-2BE7D40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F9DC3-22C0-467E-B41A-C76A00B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3FCF2-559C-422F-8728-254D7D1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C4E65-8D78-44E2-AB23-308AD69D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DDC64-4B18-4FE0-89D4-3F678E12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21955-B144-4B38-B0F4-2F426432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46DE1-68B0-4D33-A412-62F8F09A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FBC7D-400F-438E-8BAC-87885B98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798AA-7ED5-40DF-87E1-CFA44654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51B98-7DA9-4FA6-BB72-1561176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8CF0E-A533-46D5-9AE4-4F4ACE79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A311-2D5D-4760-A2CA-F25EF7DB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474F4-774F-40D9-9FB6-31B5C802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B07F9-9096-4E1A-9745-9609CE6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587AB-E4B9-44D8-AE4F-3BDC499A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4C087-DE8F-48BF-8D16-316EE7E4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4E7A6-2446-404A-9346-BB91790C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5EF11-437F-4FED-9138-F094ECCE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A3394-7DBB-441C-B9C5-B72BC015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5308A-7784-4B01-8E6E-E6D4F51A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7FDB1-FC04-43B3-A731-DC6BD488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DE5F3-7EC3-4FCE-9D9C-92000AD2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78F9-3994-4D35-A8DB-98931D1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424A4-C672-426C-8721-F2FCCB75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55C4B-9169-4418-A229-1382CDD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B101B-B2FD-405A-88D6-7270FC2E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F948E-3D24-4A47-BC34-59AF4A2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E6E91-4E32-4E42-877C-91FE5DB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B122A-8BB3-4353-9D5E-F878C62C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7C239-7486-4187-B2BC-EA3FF04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DEFC2-10D9-4888-882C-7FE9077C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122AE-78DC-4D1A-96AA-C4C7E04B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CF21D-23E0-4798-9FAA-EF5B794E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5C1D-EFA8-419C-864B-6E023B51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2A3D0-DD78-406D-9971-9B95435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0CB84-48CF-49E0-82F6-8BE23B68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05C6C-9A56-408F-BF9A-2C63D94D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AC255-B308-4517-8222-B7CE3FFC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480FD-D512-4C2E-BB2F-B3764E65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9BD0F-D8B0-4788-94DF-3CFFEA63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2EE64-CD55-4C60-A7AD-E1B0E0A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D376C-7006-4407-83A4-84B3EE3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8F9E1-D506-4B26-886F-47712E24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6DB7D-1FDA-4C9F-B2D1-8681B63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10A0-D630-42E2-B03C-4640BA3E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346B9-A5AE-4B88-8B1E-39CED7EF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47789-E5C0-45CE-9C33-343538A5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E713B-0DBA-4EF9-A3E7-C0106C00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2CD67-1335-4552-BD86-47EE522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A3DCC1-74AF-4B1A-AE1E-8C29088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E0E96-C621-44A4-87E3-C2B292DF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7B946-7A63-4F30-8FF5-D0F67B90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53E1F-859D-435E-B6A0-7C2F453D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6C1405-1450-4334-890F-0E04EB3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D63E5C-2CF4-4C9E-8288-9A9F143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A6DA-37AC-4BE4-823A-1E711DE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CC137-A43D-4EA9-925A-581DA96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D543C-0F91-4001-92C0-6F08E2AA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564E3-3AEA-4808-96EF-6ABE7850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691DD-BD17-4B26-B888-FC1EF30A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C4B204-37E0-433B-9334-2DD89E17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430DE-4461-4730-8BCA-F6ED1479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AA862B-FF56-4392-A0DB-34E83009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10E21-4802-43A7-BCE3-A1214CB6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F81C8-5C78-41FB-8EDC-DBED1729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50EE2-016B-4D95-88CB-B0787F0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011-73FB-41F7-8EC6-44962436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A073-70F3-494F-A872-D640948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815C9C-AFDA-433B-9F55-9FF44C6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78E45-A722-44B8-AB59-022E85E4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557AD-4498-415E-857C-3AB8074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FFC12-7B89-4E8D-A058-FEC1E738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86432-8A75-4721-B4ED-BDCB21B1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C881-58A6-4800-9B81-46A8678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8C59-E827-4985-8D2D-1F6B95A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4D1-B9B3-4BCF-A1A1-C1BB00C3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26D-FEF9-43DA-9493-EEA098AF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B5D1-6215-4079-AAF2-7A6EB5D7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89AE-F7B2-4243-BC8B-51D3584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3E68-8A91-46EF-9263-D60E42EC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4F71-91EE-4D8D-9D67-FF058652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E149-1611-4462-A03A-649A499A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688-49B8-4A37-A471-EEE7F29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2F7D-97D4-471B-AA72-D297571C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A6C3-9DB9-4F43-AE80-CC77CAD1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118F-5489-404B-9F26-EFEEE668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983EA-3936-4CBD-8293-39CF386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5F67-3462-4C00-917A-D85C4A3B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3582B-DE3C-4A75-B7CC-FE271FED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06CC-7560-4F92-8235-1A09113D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CD7B1-AD3B-40E5-A993-09680776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7614-92D1-4584-9233-9F0950B3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36685-79D0-45F9-9EE9-10DDE808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BEA-63DC-45A0-88AA-AEF5F4AA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CCBF-7DB1-401E-8A0F-163C30C9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722BC-2FA0-4488-9498-83FD4DB1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03BE-6B62-446A-8792-82C55437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B46C-FED8-4DEE-905E-B387F5E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8FAA-B3AF-4175-A9FD-CED7FEA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0AA8-999C-4622-9537-EFD01CB8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4632-CC5E-4725-A79D-E1DF5D36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CAF1E-2682-4C1D-859C-B753DD44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8F43-D558-46C5-9060-77B18A36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CA51-E915-47B7-8DB6-69D9AA5A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7D6-38F4-4DE9-872E-0FA4AB0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9F5AB-E16E-4DA8-811C-3C044197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502A4-41A5-4348-BE17-091588B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6CEDE-351F-4791-8255-9D59A296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F47E9-2E8D-4041-90F7-2C064CB7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197C-F83D-44B7-9CFF-42E50F6B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A9205-43E1-429D-BD86-E973A355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CCD2-0034-4F52-B3CE-BB43F990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8EEB-58AE-4229-8154-CBC8D71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5085-E4A7-4B70-973F-8B7A4C55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6A09-DE62-42A3-822E-5C82561B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A20-0D1C-473E-84A5-38B2FF3D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A6507-9484-46DB-8F29-178C1D78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F8B43-5ACD-4B2C-92F7-39210800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7FBB-CB73-4A26-AAEC-305F65F1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54F7-C219-4C51-96A0-0395439E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74CE6-55D0-4555-8277-DFE8B3B6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9C5B-1B42-4119-843A-53FF713F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5ADC-98AA-4225-9163-9D951DAC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38167-AD54-4F9C-8663-2854220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3E3D0-523F-4396-87DA-59098DF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A03E-BBE8-456F-ACA7-9164325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E65-BBA7-4CEF-B72C-CE9FBCA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BEE6-595F-4F3B-B020-231B4E8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219A-1DD5-4755-A819-191AC6ED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1692-D95B-432E-A6E8-70F13D4F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4DDA3-AD41-4FC6-8B21-9F3F1170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07651-A7B0-4B1C-89AC-B3ACA249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6BAB2-F578-4BA6-9D5F-6227F3F6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0BE60-BF17-4468-AAF9-5CDD48EC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AD64E-2B65-43C5-ABDD-9287967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DDFCF-321F-4D78-A084-90CE39C6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AF56-CBBB-428B-9774-4BD8F0C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303-9B97-40A6-AB3B-1484643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B5371-D13E-418D-92AD-8374B491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A18F3-70A9-499A-908D-5A74E06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F899F-59A8-4FF7-A10C-91DF16AE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8ED73-D31F-4722-BA58-229AF9F6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648F4-F18D-4A3B-8E58-8F5D6C58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487E8-4796-47AC-8D69-35E47270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42DF1-7D39-4D01-BDCC-E1E6FB53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0E4E9-CDF0-4A62-8763-B15FB2CA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2E55E-29DF-436F-AFA0-39AF20C2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0DE5-00C5-4281-9B44-B2BE58D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648-59E5-48D3-8079-115BAA9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4B0B9-2DDC-4639-810A-55CE469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C6B6-1A31-477D-96D3-F0407381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1DF6-61D8-44EC-9EAE-2BA6D67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CB955-6258-470F-8083-908F66E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4738-6809-4012-847C-9D8B90C1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3184-44B3-4AA8-9ED3-2C5EF156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2674-E5AC-4A8B-9CCC-CCD9CFB4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9F8DC-25F9-4DA4-88CD-28E3CEAA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C7C88-BF6A-44F9-9FF2-B0D23554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A698E-4B5A-4878-9EC0-2CF5F9C7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1377-23AE-4602-B7FF-9E44D98D73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9CA-0297-4406-AF84-93B29D72F30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2B34-10ED-456B-9B14-595FA071D2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EDE2-E107-4BCF-BBB8-F9AA220EFF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78CB-4595-473C-93F5-2205A20CD7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21E6-6D80-4BB0-A257-2871EF27F9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BB89-7A25-4731-959A-14689DD44C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679A-FBAC-462F-A1E5-72981AA329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E1C-EECB-4573-8998-7D34A101CB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B2B-3356-4260-A490-98E13A86A4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AE0C-E0BA-48F3-BA02-6DA57BD9BA9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5282-18E0-410D-BEBE-FA65C08F5FD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925C-2451-45A8-98C7-DC132FC2D4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564F-6622-4C61-9D34-FB094706BF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16BD-DFC5-42DF-8D17-13AD13441C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0B17-AAA5-4987-8498-467996C8E1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E18-FAF8-4401-AADE-1B3813C404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128680" y="1015560"/>
            <a:ext cx="9144000" cy="365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ы и приемы по созданию условий для формирования целостной картины мира</a:t>
            </a:r>
            <a:br>
              <a:rPr sz="4900"/>
            </a:b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Рисунок 1" descr="Использование игровых методов и приемов с целью обеспечения в детском саду."/>
          <p:cNvPicPr/>
          <p:nvPr/>
        </p:nvPicPr>
        <p:blipFill>
          <a:blip r:embed="rId1"/>
          <a:stretch/>
        </p:blipFill>
        <p:spPr>
          <a:xfrm>
            <a:off x="1808280" y="0"/>
            <a:ext cx="3511440" cy="25956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5319720" y="0"/>
            <a:ext cx="6095880" cy="319104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6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1808280" y="2595600"/>
            <a:ext cx="3511440" cy="293688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8" descr="ÐÐ°ÑÑÐ¸Ð½ÐºÐ¸ Ð¿Ð¾ Ð·Ð°Ð¿ÑÐ¾ÑÑ Ð¸Ð³ÑÐ¾Ð²ÑÐµ Ð¿ÑÐ¸ÐµÐ¼Ñ Ð² Ð´Ð¾Ñ"/>
          <p:cNvPicPr/>
          <p:nvPr/>
        </p:nvPicPr>
        <p:blipFill>
          <a:blip r:embed="rId4"/>
          <a:stretch/>
        </p:blipFill>
        <p:spPr>
          <a:xfrm>
            <a:off x="5319720" y="3191040"/>
            <a:ext cx="6429240" cy="3666960"/>
          </a:xfrm>
          <a:prstGeom prst="rect">
            <a:avLst/>
          </a:prstGeom>
          <a:ln w="0">
            <a:noFill/>
          </a:ln>
        </p:spPr>
      </p:pic>
      <p:sp>
        <p:nvSpPr>
          <p:cNvPr id="1200" name="Прямоугольник 1"/>
          <p:cNvSpPr/>
          <p:nvPr/>
        </p:nvSpPr>
        <p:spPr>
          <a:xfrm>
            <a:off x="1808280" y="6126120"/>
            <a:ext cx="392724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овые приё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Рисунок 18" descr="C:\Users\Лариса\Desktop\Новая папка (2)\2018-12-22 22.12.2018\22.12.2018 097.jpg"/>
          <p:cNvPicPr/>
          <p:nvPr/>
        </p:nvPicPr>
        <p:blipFill>
          <a:blip r:embed="rId1"/>
          <a:stretch/>
        </p:blipFill>
        <p:spPr>
          <a:xfrm>
            <a:off x="2887560" y="65160"/>
            <a:ext cx="3057480" cy="3413160"/>
          </a:xfrm>
          <a:prstGeom prst="rect">
            <a:avLst/>
          </a:prstGeom>
          <a:ln w="0">
            <a:noFill/>
          </a:ln>
        </p:spPr>
      </p:pic>
      <p:pic>
        <p:nvPicPr>
          <p:cNvPr id="1202" name="Рисунок 19" descr="C:\Users\Лариса\Desktop\Новая папка (2)\2018-12-22 22.12.2018\22.12.2018 098.jpg"/>
          <p:cNvPicPr/>
          <p:nvPr/>
        </p:nvPicPr>
        <p:blipFill>
          <a:blip r:embed="rId2"/>
          <a:stretch/>
        </p:blipFill>
        <p:spPr>
          <a:xfrm>
            <a:off x="5945040" y="0"/>
            <a:ext cx="2982960" cy="3679920"/>
          </a:xfrm>
          <a:prstGeom prst="rect">
            <a:avLst/>
          </a:prstGeom>
          <a:ln w="0">
            <a:noFill/>
          </a:ln>
        </p:spPr>
      </p:pic>
      <p:pic>
        <p:nvPicPr>
          <p:cNvPr id="1203" name="Рисунок 37" descr="C:\Users\Лариса\Desktop\Новая папка (2)\2018-12-22 22.12.2018\22.12.2018 300.jpg"/>
          <p:cNvPicPr/>
          <p:nvPr/>
        </p:nvPicPr>
        <p:blipFill>
          <a:blip r:embed="rId3"/>
          <a:stretch/>
        </p:blipFill>
        <p:spPr>
          <a:xfrm>
            <a:off x="8832960" y="0"/>
            <a:ext cx="3359160" cy="3679920"/>
          </a:xfrm>
          <a:prstGeom prst="rect">
            <a:avLst/>
          </a:prstGeom>
          <a:ln w="0">
            <a:noFill/>
          </a:ln>
        </p:spPr>
      </p:pic>
      <p:pic>
        <p:nvPicPr>
          <p:cNvPr id="1204" name="Рисунок 38" descr="C:\Users\Лариса\Desktop\Новая папка (2)\2018-12-22 22.12.2018\22.12.2018 303.jpg"/>
          <p:cNvPicPr/>
          <p:nvPr/>
        </p:nvPicPr>
        <p:blipFill>
          <a:blip r:embed="rId4"/>
          <a:stretch/>
        </p:blipFill>
        <p:spPr>
          <a:xfrm>
            <a:off x="2792520" y="3478320"/>
            <a:ext cx="3238560" cy="3379680"/>
          </a:xfrm>
          <a:prstGeom prst="rect">
            <a:avLst/>
          </a:prstGeom>
          <a:ln w="0">
            <a:noFill/>
          </a:ln>
        </p:spPr>
      </p:pic>
      <p:pic>
        <p:nvPicPr>
          <p:cNvPr id="1205" name="Рисунок 2" descr=""/>
          <p:cNvPicPr/>
          <p:nvPr/>
        </p:nvPicPr>
        <p:blipFill>
          <a:blip r:embed="rId5"/>
          <a:stretch/>
        </p:blipFill>
        <p:spPr>
          <a:xfrm>
            <a:off x="6031080" y="3679920"/>
            <a:ext cx="2666880" cy="317808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3" descr=""/>
          <p:cNvPicPr/>
          <p:nvPr/>
        </p:nvPicPr>
        <p:blipFill>
          <a:blip r:embed="rId6"/>
          <a:stretch/>
        </p:blipFill>
        <p:spPr>
          <a:xfrm>
            <a:off x="8697960" y="3679920"/>
            <a:ext cx="34941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Рисунок 3" descr=""/>
          <p:cNvPicPr/>
          <p:nvPr/>
        </p:nvPicPr>
        <p:blipFill>
          <a:blip r:embed="rId1"/>
          <a:stretch/>
        </p:blipFill>
        <p:spPr>
          <a:xfrm>
            <a:off x="1630440" y="2819520"/>
            <a:ext cx="78231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Picture 2" descr="http://900igr.net/up/datas/197469/031.jpg"/>
          <p:cNvPicPr/>
          <p:nvPr/>
        </p:nvPicPr>
        <p:blipFill>
          <a:blip r:embed="rId1"/>
          <a:stretch/>
        </p:blipFill>
        <p:spPr>
          <a:xfrm>
            <a:off x="1309680" y="135000"/>
            <a:ext cx="1066788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Прямоугольник 2"/>
          <p:cNvSpPr/>
          <p:nvPr/>
        </p:nvSpPr>
        <p:spPr>
          <a:xfrm>
            <a:off x="1879560" y="604800"/>
            <a:ext cx="45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Прямоугольник 3"/>
          <p:cNvSpPr/>
          <p:nvPr/>
        </p:nvSpPr>
        <p:spPr>
          <a:xfrm>
            <a:off x="2790720" y="604800"/>
            <a:ext cx="921240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развитие познавательно-исследовательской активности ребят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обогащение и закрепление багажа знаний относительно объектов и явлений, окружающих дете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развитие навыков трудовой деятельнос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знакомство с циклическими изменениями в природе (в младших группах дети получают представления о самом факте смены времён года, в средней — усваивают отличительные признаки каждого из сезонов, а в старшем дошкольном возрасте знакомятся с сопутствующими зиме, весне, лету и осени изменениями в животном и растительном мире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воспитание основ экологической культуры (малыши знакомятся с теми или иными явлениями природы, получают представления об экологической безопасности и на основе теоретического и практического опыта приходят к выводу о необходимости бережного отношения к окружающему миру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Прямоугольник 1"/>
          <p:cNvSpPr/>
          <p:nvPr/>
        </p:nvSpPr>
        <p:spPr>
          <a:xfrm>
            <a:off x="1841400" y="4888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Прямоугольник 2"/>
          <p:cNvSpPr/>
          <p:nvPr/>
        </p:nvSpPr>
        <p:spPr>
          <a:xfrm>
            <a:off x="3009960" y="49320"/>
            <a:ext cx="9005760" cy="66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формирование представления о целостном понимании предмета (так, дети в младшей группе должны уметь называть предмет и его предназначение, в средней к этому добавляется описание внешнего и внутреннего вида, то есть цвет, форма, материал, а в старших — отношение человека и его деятельности к существованию этого объекта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развитие способности ориентироваться в пространстве (если в младшем дошкольном возрасте это знакомство с помещениями детского сада, то в средней и старшей — прокладывание пути от дома в сади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знакомство с родным краем (в младших группах дети учатся называть свой город, село, посёлок, в средней — учат название своей улицы, номер дома, квартиры, а в старшей, подготовительной  получают представления об основных достопримечательностях края, его традициях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получение и закрепление информации о флоре и фауне (в младшей группе дети знакомятся с названиями животных и их детёнышей, в средней — средой обитания, особенностями разведения, ухода, в старшей — мерами, направленными на сохранение растительного и животного мира на планете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1b1c2a"/>
              </a:buClr>
              <a:buSzPct val="5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b1c2a"/>
                </a:solidFill>
                <a:latin typeface="Times New Roman"/>
                <a:ea typeface="Times New Roman"/>
              </a:rPr>
              <a:t>воспитание бережного отношения к окружающему миру через получение знаний об опасном для природы поведении человека, а также о мерах, направленных на сохранение и преумножение природных богатст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1700280" y="579600"/>
            <a:ext cx="91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особ достижения цели, представляющий собой определённым образом упорядоченную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Прямоугольник 5"/>
          <p:cNvSpPr/>
          <p:nvPr/>
        </p:nvSpPr>
        <p:spPr>
          <a:xfrm>
            <a:off x="1700280" y="1700280"/>
            <a:ext cx="97884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учения воспитатель использует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обу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пособы работы воспитателя, с помощью которых достигается усвоение детьми знаний, умений и навыков, а также развитие их познавательных способносте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– это часть мето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определяя основной метод обучения, которым он будет пользоваться на занятии, использует разнообразные приёмы для того, чтобы повысить его эффективность. Например, использу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основ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тизации знаний детей о весне, педагог дополняет это различны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ами, показом веток с распустившимися листьями, загадыванием загадки, чтением стихотворен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Прямоугольник 1"/>
          <p:cNvSpPr/>
          <p:nvPr/>
        </p:nvSpPr>
        <p:spPr>
          <a:xfrm>
            <a:off x="1508040" y="1095480"/>
            <a:ext cx="1068408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ормы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тодов и приемов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организации 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бразовательного проце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я целостной картины мира у дошкольник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есны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Художественное слово(чтение),объяснение, беседа, рассказ, (вопросы,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ситуативный разговор, заучивание, загадки,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каз, просьба, пояснение, напоминание,совет,поощрение.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лядные: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матривание иллюстраций и книг, наблюд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курсия, демонстрация,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матривание ,( показ,  пояснение, просьба, вопрос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ие: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гра-экспериментирование, исследовательская, проектная деятельность (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анализ ,синтез, сравнение,)</a:t>
            </a:r>
            <a:r>
              <a:rPr b="1" lang="ru-RU" sz="2400" spc="-1" strike="noStrike">
                <a:solidFill>
                  <a:srgbClr val="111111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вающие игры, сюжетно-ролевые игры , физкультурные досуги, творческие задания, конструирование, трудовые поручения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одвижные игры, игры-забавы, нсцениров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сение игрушек, создание игровых ситуаций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годня мы будем птичками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игрушек, предмето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7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Рисунок 1" descr="Воспитатель что-то объясняет детям в уголке природы"/>
          <p:cNvPicPr/>
          <p:nvPr/>
        </p:nvPicPr>
        <p:blipFill>
          <a:blip r:embed="rId1"/>
          <a:stretch/>
        </p:blipFill>
        <p:spPr>
          <a:xfrm>
            <a:off x="1666800" y="0"/>
            <a:ext cx="4610160" cy="3343320"/>
          </a:xfrm>
          <a:prstGeom prst="rect">
            <a:avLst/>
          </a:prstGeom>
          <a:ln w="0">
            <a:noFill/>
          </a:ln>
        </p:spPr>
      </p:pic>
      <p:pic>
        <p:nvPicPr>
          <p:cNvPr id="1186" name="Рисунок 2" descr="Девочка показывает на картинки на магнитной доске"/>
          <p:cNvPicPr/>
          <p:nvPr/>
        </p:nvPicPr>
        <p:blipFill>
          <a:blip r:embed="rId2"/>
          <a:stretch/>
        </p:blipFill>
        <p:spPr>
          <a:xfrm>
            <a:off x="6276960" y="0"/>
            <a:ext cx="5305320" cy="334332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3" descr="Две девочки читают книгу"/>
          <p:cNvPicPr/>
          <p:nvPr/>
        </p:nvPicPr>
        <p:blipFill>
          <a:blip r:embed="rId3"/>
          <a:stretch/>
        </p:blipFill>
        <p:spPr>
          <a:xfrm>
            <a:off x="1666800" y="3343320"/>
            <a:ext cx="4610160" cy="3417840"/>
          </a:xfrm>
          <a:prstGeom prst="rect">
            <a:avLst/>
          </a:prstGeom>
          <a:ln w="0">
            <a:noFill/>
          </a:ln>
        </p:spPr>
      </p:pic>
      <p:sp>
        <p:nvSpPr>
          <p:cNvPr id="1188" name="Прямоугольник 3"/>
          <p:cNvSpPr/>
          <p:nvPr/>
        </p:nvSpPr>
        <p:spPr>
          <a:xfrm>
            <a:off x="7547040" y="4605480"/>
            <a:ext cx="33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словесные приё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Рисунок 4" descr="Дети раскладывают картинки с овощами"/>
          <p:cNvPicPr/>
          <p:nvPr/>
        </p:nvPicPr>
        <p:blipFill>
          <a:blip r:embed="rId1"/>
          <a:stretch/>
        </p:blipFill>
        <p:spPr>
          <a:xfrm>
            <a:off x="1795320" y="0"/>
            <a:ext cx="5715000" cy="3448080"/>
          </a:xfrm>
          <a:prstGeom prst="rect">
            <a:avLst/>
          </a:prstGeom>
          <a:ln w="0">
            <a:noFill/>
          </a:ln>
        </p:spPr>
      </p:pic>
      <p:pic>
        <p:nvPicPr>
          <p:cNvPr id="1190" name="Рисунок 10" descr="Лэпбук Фрукты-овощи"/>
          <p:cNvPicPr/>
          <p:nvPr/>
        </p:nvPicPr>
        <p:blipFill>
          <a:blip r:embed="rId2"/>
          <a:stretch/>
        </p:blipFill>
        <p:spPr>
          <a:xfrm>
            <a:off x="1795320" y="3448080"/>
            <a:ext cx="5715000" cy="2836800"/>
          </a:xfrm>
          <a:prstGeom prst="rect">
            <a:avLst/>
          </a:prstGeom>
          <a:ln w="0">
            <a:noFill/>
          </a:ln>
        </p:spPr>
      </p:pic>
      <p:pic>
        <p:nvPicPr>
          <p:cNvPr id="1191" name="Рисунок 13" descr="Воспитательница показывает детям рисунок с ракетой в космосе"/>
          <p:cNvPicPr/>
          <p:nvPr/>
        </p:nvPicPr>
        <p:blipFill>
          <a:blip r:embed="rId3"/>
          <a:stretch/>
        </p:blipFill>
        <p:spPr>
          <a:xfrm>
            <a:off x="7510320" y="1084320"/>
            <a:ext cx="4681800" cy="3619440"/>
          </a:xfrm>
          <a:prstGeom prst="rect">
            <a:avLst/>
          </a:prstGeom>
          <a:ln w="0">
            <a:noFill/>
          </a:ln>
        </p:spPr>
      </p:pic>
      <p:sp>
        <p:nvSpPr>
          <p:cNvPr id="1192" name="Прямоугольник 5"/>
          <p:cNvSpPr/>
          <p:nvPr/>
        </p:nvSpPr>
        <p:spPr>
          <a:xfrm>
            <a:off x="8539200" y="5408640"/>
            <a:ext cx="328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глядные приё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Прямоугольник 2"/>
          <p:cNvSpPr/>
          <p:nvPr/>
        </p:nvSpPr>
        <p:spPr>
          <a:xfrm>
            <a:off x="5532120" y="5064120"/>
            <a:ext cx="4838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7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ктические приёмы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4" name="Рисунок 11" descr="Дети проводят опыт с жидкостями разного цвета"/>
          <p:cNvPicPr/>
          <p:nvPr/>
        </p:nvPicPr>
        <p:blipFill>
          <a:blip r:embed="rId1"/>
          <a:stretch/>
        </p:blipFill>
        <p:spPr>
          <a:xfrm>
            <a:off x="1589040" y="0"/>
            <a:ext cx="4888080" cy="3271680"/>
          </a:xfrm>
          <a:prstGeom prst="rect">
            <a:avLst/>
          </a:prstGeom>
          <a:ln w="0">
            <a:noFill/>
          </a:ln>
        </p:spPr>
      </p:pic>
      <p:pic>
        <p:nvPicPr>
          <p:cNvPr id="1195" name="Рисунок 12" descr="Дети сидят за столиками по группам"/>
          <p:cNvPicPr/>
          <p:nvPr/>
        </p:nvPicPr>
        <p:blipFill>
          <a:blip r:embed="rId2"/>
          <a:stretch/>
        </p:blipFill>
        <p:spPr>
          <a:xfrm>
            <a:off x="64771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1:32:30Z</dcterms:created>
  <dc:creator>Лариса</dc:creator>
  <dc:description/>
  <dc:language>en-US</dc:language>
  <cp:lastModifiedBy>Лариса</cp:lastModifiedBy>
  <dcterms:modified xsi:type="dcterms:W3CDTF">2019-01-31T02:09:45Z</dcterms:modified>
  <cp:revision>20</cp:revision>
  <dc:subject/>
  <dc:title>Методы и приемы по созданию условий для формирования целостной картины мира</dc:title>
</cp:coreProperties>
</file>