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23.png" ContentType="image/png"/>
  <Override PartName="/ppt/media/image28.png" ContentType="image/png"/>
  <Override PartName="/ppt/media/image30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arrow.wav" ContentType="audio/x-wav"/>
  <Override PartName="/ppt/media/image46.jpeg" ContentType="image/jpeg"/>
  <Override PartName="/ppt/media/image45.png" ContentType="image/png"/>
  <Override PartName="/ppt/media/image39.png" ContentType="image/png"/>
  <Override PartName="/ppt/media/image9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F47-F026-4247-B0DA-01F3140E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863-97F0-4ABA-AB7D-8D880537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DC9-02F2-4453-93A0-3F1F83F4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4BD-9CB3-4D14-AEF8-5B319E25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333-24C4-487B-987A-00E899EE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B8E-1881-4773-9376-3E221934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965-A3F5-4B70-A89F-BCE04D3F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C73-CA40-45A7-B707-FF08F4F3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6B0-234A-4C92-A8A0-AE2760F6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D65-7121-46AF-BD71-76BA4565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B2E-1028-418D-A3D9-6B6E8A20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C9A-A7A1-47CA-A11A-3D056CD7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67B4-B4FF-49FF-AC47-E8902F5BF9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png"/><Relationship Id="rId3" Type="http://schemas.openxmlformats.org/officeDocument/2006/relationships/image" Target="../media/image6.png"/><Relationship Id="rId4" Type="http://schemas.openxmlformats.org/officeDocument/2006/relationships/image" Target="../media/image39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27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29.png"/><Relationship Id="rId5" Type="http://schemas.openxmlformats.org/officeDocument/2006/relationships/image" Target="../media/image8.png"/><Relationship Id="rId6" Type="http://schemas.openxmlformats.org/officeDocument/2006/relationships/image" Target="../media/image40.png"/><Relationship Id="rId7" Type="http://schemas.openxmlformats.org/officeDocument/2006/relationships/image" Target="../media/image10.png"/><Relationship Id="rId8" Type="http://schemas.openxmlformats.org/officeDocument/2006/relationships/image" Target="../media/image41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2.png"/><Relationship Id="rId3" Type="http://schemas.openxmlformats.org/officeDocument/2006/relationships/image" Target="../media/image6.png"/><Relationship Id="rId4" Type="http://schemas.openxmlformats.org/officeDocument/2006/relationships/image" Target="../media/image43.png"/><Relationship Id="rId5" Type="http://schemas.openxmlformats.org/officeDocument/2006/relationships/image" Target="../media/image8.png"/><Relationship Id="rId6" Type="http://schemas.openxmlformats.org/officeDocument/2006/relationships/image" Target="../media/image44.png"/><Relationship Id="rId7" Type="http://schemas.openxmlformats.org/officeDocument/2006/relationships/image" Target="../media/image10.png"/><Relationship Id="rId8" Type="http://schemas.openxmlformats.org/officeDocument/2006/relationships/image" Target="../media/image45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image" Target="../media/image17.pn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10.png"/><Relationship Id="rId8" Type="http://schemas.openxmlformats.org/officeDocument/2006/relationships/image" Target="../media/image19.png"/><Relationship Id="rId9" Type="http://schemas.openxmlformats.org/officeDocument/2006/relationships/audio" Target="../media/arrow.wav"/><Relationship Id="rId10" Type="http://schemas.openxmlformats.org/officeDocument/2006/relationships/audio" Target="../media/chimes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10.png"/><Relationship Id="rId8" Type="http://schemas.openxmlformats.org/officeDocument/2006/relationships/image" Target="../media/image23.png"/><Relationship Id="rId9" Type="http://schemas.openxmlformats.org/officeDocument/2006/relationships/audio" Target="../media/arrow.wav"/><Relationship Id="rId10" Type="http://schemas.openxmlformats.org/officeDocument/2006/relationships/audio" Target="../media/chimes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6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27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29.png"/><Relationship Id="rId5" Type="http://schemas.openxmlformats.org/officeDocument/2006/relationships/image" Target="../media/image8.png"/><Relationship Id="rId6" Type="http://schemas.openxmlformats.org/officeDocument/2006/relationships/image" Target="../media/image30.png"/><Relationship Id="rId7" Type="http://schemas.openxmlformats.org/officeDocument/2006/relationships/image" Target="../media/image10.png"/><Relationship Id="rId8" Type="http://schemas.openxmlformats.org/officeDocument/2006/relationships/image" Target="../media/image31.png"/><Relationship Id="rId9" Type="http://schemas.openxmlformats.org/officeDocument/2006/relationships/audio" Target="../media/arrow.wav"/><Relationship Id="rId10" Type="http://schemas.openxmlformats.org/officeDocument/2006/relationships/audio" Target="../media/chimes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audio" Target="../media/arrow.wav"/><Relationship Id="rId10" Type="http://schemas.openxmlformats.org/officeDocument/2006/relationships/audio" Target="../media/chimes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35.png"/><Relationship Id="rId5" Type="http://schemas.openxmlformats.org/officeDocument/2006/relationships/image" Target="../media/image8.png"/><Relationship Id="rId6" Type="http://schemas.openxmlformats.org/officeDocument/2006/relationships/image" Target="../media/image36.png"/><Relationship Id="rId7" Type="http://schemas.openxmlformats.org/officeDocument/2006/relationships/image" Target="../media/image10.png"/><Relationship Id="rId8" Type="http://schemas.openxmlformats.org/officeDocument/2006/relationships/image" Target="../media/image37.png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4500720" y="2205000"/>
            <a:ext cx="3816360" cy="44132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2054160" y="60480"/>
            <a:ext cx="4907160" cy="1976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26040" y="2492280"/>
            <a:ext cx="27990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ери е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зайчи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5" descr=""/>
          <p:cNvPicPr/>
          <p:nvPr/>
        </p:nvPicPr>
        <p:blipFill>
          <a:blip r:embed="rId2"/>
          <a:stretch/>
        </p:blipFill>
        <p:spPr>
          <a:xfrm>
            <a:off x="603360" y="139680"/>
            <a:ext cx="527364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42" name="Группа 9"/>
          <p:cNvGrpSpPr/>
          <p:nvPr/>
        </p:nvGrpSpPr>
        <p:grpSpPr>
          <a:xfrm>
            <a:off x="684360" y="4508640"/>
            <a:ext cx="2303280" cy="2116080"/>
            <a:chOff x="684360" y="4508640"/>
            <a:chExt cx="2303280" cy="2116080"/>
          </a:xfrm>
        </p:grpSpPr>
        <p:pic>
          <p:nvPicPr>
            <p:cNvPr id="143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684360" y="4508640"/>
              <a:ext cx="224460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819360" y="4657320"/>
              <a:ext cx="216828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Группа 12"/>
          <p:cNvGrpSpPr/>
          <p:nvPr/>
        </p:nvGrpSpPr>
        <p:grpSpPr>
          <a:xfrm>
            <a:off x="1835280" y="2205000"/>
            <a:ext cx="3563640" cy="1863720"/>
            <a:chOff x="1835280" y="2205000"/>
            <a:chExt cx="3563640" cy="1863720"/>
          </a:xfrm>
        </p:grpSpPr>
        <p:pic>
          <p:nvPicPr>
            <p:cNvPr id="146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835280" y="2227320"/>
              <a:ext cx="328140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350520" y="2205000"/>
              <a:ext cx="204840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Группа 13"/>
          <p:cNvGrpSpPr/>
          <p:nvPr/>
        </p:nvGrpSpPr>
        <p:grpSpPr>
          <a:xfrm>
            <a:off x="3419640" y="4508640"/>
            <a:ext cx="2592360" cy="2092320"/>
            <a:chOff x="3419640" y="4508640"/>
            <a:chExt cx="2592360" cy="2092320"/>
          </a:xfrm>
        </p:grpSpPr>
        <p:pic>
          <p:nvPicPr>
            <p:cNvPr id="149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341964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355392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5" descr=""/>
          <p:cNvPicPr/>
          <p:nvPr/>
        </p:nvPicPr>
        <p:blipFill>
          <a:blip r:embed="rId2"/>
          <a:stretch/>
        </p:blipFill>
        <p:spPr>
          <a:xfrm>
            <a:off x="701640" y="139680"/>
            <a:ext cx="50767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54" name="Группа 9"/>
          <p:cNvGrpSpPr/>
          <p:nvPr/>
        </p:nvGrpSpPr>
        <p:grpSpPr>
          <a:xfrm>
            <a:off x="4572000" y="2205000"/>
            <a:ext cx="2303640" cy="2116080"/>
            <a:chOff x="4572000" y="2205000"/>
            <a:chExt cx="2303640" cy="2116080"/>
          </a:xfrm>
        </p:grpSpPr>
        <p:pic>
          <p:nvPicPr>
            <p:cNvPr id="155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572000" y="2205000"/>
              <a:ext cx="224928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702680" y="2352960"/>
              <a:ext cx="217296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Группа 12"/>
          <p:cNvGrpSpPr/>
          <p:nvPr/>
        </p:nvGrpSpPr>
        <p:grpSpPr>
          <a:xfrm>
            <a:off x="1187280" y="4653000"/>
            <a:ext cx="3564000" cy="1863720"/>
            <a:chOff x="1187280" y="4653000"/>
            <a:chExt cx="3564000" cy="1863720"/>
          </a:xfrm>
        </p:grpSpPr>
        <p:pic>
          <p:nvPicPr>
            <p:cNvPr id="158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187280" y="4672440"/>
              <a:ext cx="3280320" cy="18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03240" y="4653000"/>
              <a:ext cx="2048040" cy="155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Группа 13"/>
          <p:cNvGrpSpPr/>
          <p:nvPr/>
        </p:nvGrpSpPr>
        <p:grpSpPr>
          <a:xfrm>
            <a:off x="468360" y="1989000"/>
            <a:ext cx="2590920" cy="2092320"/>
            <a:chOff x="468360" y="1989000"/>
            <a:chExt cx="2590920" cy="2092320"/>
          </a:xfrm>
        </p:grpSpPr>
        <p:pic>
          <p:nvPicPr>
            <p:cNvPr id="161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468360" y="1989000"/>
              <a:ext cx="25909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603360" y="213948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5" descr=""/>
          <p:cNvPicPr/>
          <p:nvPr/>
        </p:nvPicPr>
        <p:blipFill>
          <a:blip r:embed="rId2"/>
          <a:stretch/>
        </p:blipFill>
        <p:spPr>
          <a:xfrm>
            <a:off x="603360" y="139680"/>
            <a:ext cx="527364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9"/>
          <p:cNvGrpSpPr/>
          <p:nvPr/>
        </p:nvGrpSpPr>
        <p:grpSpPr>
          <a:xfrm>
            <a:off x="684360" y="4508640"/>
            <a:ext cx="2303280" cy="2116080"/>
            <a:chOff x="684360" y="4508640"/>
            <a:chExt cx="2303280" cy="2116080"/>
          </a:xfrm>
        </p:grpSpPr>
        <p:pic>
          <p:nvPicPr>
            <p:cNvPr id="167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684360" y="4508640"/>
              <a:ext cx="224460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819360" y="4657320"/>
              <a:ext cx="216828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12"/>
          <p:cNvGrpSpPr/>
          <p:nvPr/>
        </p:nvGrpSpPr>
        <p:grpSpPr>
          <a:xfrm>
            <a:off x="1835280" y="2205000"/>
            <a:ext cx="3563640" cy="1863720"/>
            <a:chOff x="1835280" y="2205000"/>
            <a:chExt cx="3563640" cy="1863720"/>
          </a:xfrm>
        </p:grpSpPr>
        <p:pic>
          <p:nvPicPr>
            <p:cNvPr id="170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835280" y="2227320"/>
              <a:ext cx="328140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350520" y="2205000"/>
              <a:ext cx="204840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2" name="Группа 13"/>
          <p:cNvGrpSpPr/>
          <p:nvPr/>
        </p:nvGrpSpPr>
        <p:grpSpPr>
          <a:xfrm>
            <a:off x="3419640" y="4508640"/>
            <a:ext cx="2592360" cy="2092320"/>
            <a:chOff x="3419640" y="4508640"/>
            <a:chExt cx="2592360" cy="2092320"/>
          </a:xfrm>
        </p:grpSpPr>
        <p:pic>
          <p:nvPicPr>
            <p:cNvPr id="173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341964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355392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139680"/>
            <a:ext cx="52801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9"/>
          <p:cNvGrpSpPr/>
          <p:nvPr/>
        </p:nvGrpSpPr>
        <p:grpSpPr>
          <a:xfrm>
            <a:off x="4716360" y="2133720"/>
            <a:ext cx="2303640" cy="2114280"/>
            <a:chOff x="4716360" y="2133720"/>
            <a:chExt cx="2303640" cy="2114280"/>
          </a:xfrm>
        </p:grpSpPr>
        <p:pic>
          <p:nvPicPr>
            <p:cNvPr id="47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716360" y="2133720"/>
              <a:ext cx="2247840" cy="21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848840" y="2279880"/>
              <a:ext cx="217116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Группа 12"/>
          <p:cNvGrpSpPr/>
          <p:nvPr/>
        </p:nvGrpSpPr>
        <p:grpSpPr>
          <a:xfrm>
            <a:off x="395280" y="2205000"/>
            <a:ext cx="3564000" cy="1863720"/>
            <a:chOff x="395280" y="2205000"/>
            <a:chExt cx="3564000" cy="1863720"/>
          </a:xfrm>
        </p:grpSpPr>
        <p:pic>
          <p:nvPicPr>
            <p:cNvPr id="50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395280" y="2227320"/>
              <a:ext cx="328068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1911240" y="2205000"/>
              <a:ext cx="204804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Группа 13"/>
          <p:cNvGrpSpPr/>
          <p:nvPr/>
        </p:nvGrpSpPr>
        <p:grpSpPr>
          <a:xfrm>
            <a:off x="2124000" y="4508640"/>
            <a:ext cx="2592360" cy="2092320"/>
            <a:chOff x="2124000" y="4508640"/>
            <a:chExt cx="2592360" cy="2092320"/>
          </a:xfrm>
        </p:grpSpPr>
        <p:pic>
          <p:nvPicPr>
            <p:cNvPr id="53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212400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226152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139680"/>
            <a:ext cx="52801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9"/>
          <p:cNvGrpSpPr/>
          <p:nvPr/>
        </p:nvGrpSpPr>
        <p:grpSpPr>
          <a:xfrm>
            <a:off x="2268360" y="4437000"/>
            <a:ext cx="2303640" cy="2116080"/>
            <a:chOff x="2268360" y="4437000"/>
            <a:chExt cx="2303640" cy="2116080"/>
          </a:xfrm>
        </p:grpSpPr>
        <p:pic>
          <p:nvPicPr>
            <p:cNvPr id="59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2268360" y="4437000"/>
              <a:ext cx="225036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398320" y="4583880"/>
              <a:ext cx="217368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Группа 12"/>
          <p:cNvGrpSpPr/>
          <p:nvPr/>
        </p:nvGrpSpPr>
        <p:grpSpPr>
          <a:xfrm>
            <a:off x="395280" y="2205000"/>
            <a:ext cx="3564000" cy="1863720"/>
            <a:chOff x="395280" y="2205000"/>
            <a:chExt cx="3564000" cy="1863720"/>
          </a:xfrm>
        </p:grpSpPr>
        <p:pic>
          <p:nvPicPr>
            <p:cNvPr id="62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395280" y="2227320"/>
              <a:ext cx="328068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1911240" y="2205000"/>
              <a:ext cx="204804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Группа 13"/>
          <p:cNvGrpSpPr/>
          <p:nvPr/>
        </p:nvGrpSpPr>
        <p:grpSpPr>
          <a:xfrm>
            <a:off x="4500720" y="2060640"/>
            <a:ext cx="2592360" cy="2092320"/>
            <a:chOff x="4500720" y="2060640"/>
            <a:chExt cx="2592360" cy="2092320"/>
          </a:xfrm>
        </p:grpSpPr>
        <p:pic>
          <p:nvPicPr>
            <p:cNvPr id="65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4500720" y="2060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4638960" y="220680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5" descr=""/>
          <p:cNvPicPr/>
          <p:nvPr/>
        </p:nvPicPr>
        <p:blipFill>
          <a:blip r:embed="rId2"/>
          <a:stretch/>
        </p:blipFill>
        <p:spPr>
          <a:xfrm>
            <a:off x="1060560" y="139680"/>
            <a:ext cx="4572000" cy="1603440"/>
          </a:xfrm>
          <a:prstGeom prst="rect">
            <a:avLst/>
          </a:prstGeom>
          <a:ln w="0">
            <a:noFill/>
          </a:ln>
        </p:spPr>
      </p:pic>
      <p:grpSp>
        <p:nvGrpSpPr>
          <p:cNvPr id="70" name="Группа 9"/>
          <p:cNvGrpSpPr/>
          <p:nvPr/>
        </p:nvGrpSpPr>
        <p:grpSpPr>
          <a:xfrm>
            <a:off x="4572000" y="2205000"/>
            <a:ext cx="2303640" cy="2116080"/>
            <a:chOff x="4572000" y="2205000"/>
            <a:chExt cx="2303640" cy="2116080"/>
          </a:xfrm>
        </p:grpSpPr>
        <p:pic>
          <p:nvPicPr>
            <p:cNvPr id="71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572000" y="2205000"/>
              <a:ext cx="224928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702680" y="2352960"/>
              <a:ext cx="217296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Группа 12"/>
          <p:cNvGrpSpPr/>
          <p:nvPr/>
        </p:nvGrpSpPr>
        <p:grpSpPr>
          <a:xfrm>
            <a:off x="395280" y="2205000"/>
            <a:ext cx="3564000" cy="1863720"/>
            <a:chOff x="395280" y="2205000"/>
            <a:chExt cx="3564000" cy="1863720"/>
          </a:xfrm>
        </p:grpSpPr>
        <p:pic>
          <p:nvPicPr>
            <p:cNvPr id="74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395280" y="2227320"/>
              <a:ext cx="328068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1911240" y="2205000"/>
              <a:ext cx="204804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Группа 13"/>
          <p:cNvGrpSpPr/>
          <p:nvPr/>
        </p:nvGrpSpPr>
        <p:grpSpPr>
          <a:xfrm>
            <a:off x="2050920" y="4508640"/>
            <a:ext cx="2592360" cy="2092320"/>
            <a:chOff x="2050920" y="4508640"/>
            <a:chExt cx="2592360" cy="2092320"/>
          </a:xfrm>
        </p:grpSpPr>
        <p:pic>
          <p:nvPicPr>
            <p:cNvPr id="77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205092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218808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5" descr=""/>
          <p:cNvPicPr/>
          <p:nvPr/>
        </p:nvPicPr>
        <p:blipFill>
          <a:blip r:embed="rId2"/>
          <a:stretch/>
        </p:blipFill>
        <p:spPr>
          <a:xfrm>
            <a:off x="701640" y="139680"/>
            <a:ext cx="50767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82" name="Группа 9"/>
          <p:cNvGrpSpPr/>
          <p:nvPr/>
        </p:nvGrpSpPr>
        <p:grpSpPr>
          <a:xfrm>
            <a:off x="4572000" y="2205000"/>
            <a:ext cx="2303640" cy="2116080"/>
            <a:chOff x="4572000" y="2205000"/>
            <a:chExt cx="2303640" cy="2116080"/>
          </a:xfrm>
        </p:grpSpPr>
        <p:pic>
          <p:nvPicPr>
            <p:cNvPr id="83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572000" y="2205000"/>
              <a:ext cx="224928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702680" y="2352960"/>
              <a:ext cx="217296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Группа 12"/>
          <p:cNvGrpSpPr/>
          <p:nvPr/>
        </p:nvGrpSpPr>
        <p:grpSpPr>
          <a:xfrm>
            <a:off x="1187280" y="4653000"/>
            <a:ext cx="3564000" cy="1863720"/>
            <a:chOff x="1187280" y="4653000"/>
            <a:chExt cx="3564000" cy="1863720"/>
          </a:xfrm>
        </p:grpSpPr>
        <p:pic>
          <p:nvPicPr>
            <p:cNvPr id="86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187280" y="4672440"/>
              <a:ext cx="3280320" cy="18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03240" y="4653000"/>
              <a:ext cx="2048040" cy="155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Группа 13"/>
          <p:cNvGrpSpPr/>
          <p:nvPr/>
        </p:nvGrpSpPr>
        <p:grpSpPr>
          <a:xfrm>
            <a:off x="468360" y="1989000"/>
            <a:ext cx="2590920" cy="2092320"/>
            <a:chOff x="468360" y="1989000"/>
            <a:chExt cx="2590920" cy="2092320"/>
          </a:xfrm>
        </p:grpSpPr>
        <p:pic>
          <p:nvPicPr>
            <p:cNvPr id="89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468360" y="1989000"/>
              <a:ext cx="25909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603360" y="213948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5" descr=""/>
          <p:cNvPicPr/>
          <p:nvPr/>
        </p:nvPicPr>
        <p:blipFill>
          <a:blip r:embed="rId2"/>
          <a:stretch/>
        </p:blipFill>
        <p:spPr>
          <a:xfrm>
            <a:off x="853920" y="139680"/>
            <a:ext cx="4761000" cy="1603440"/>
          </a:xfrm>
          <a:prstGeom prst="rect">
            <a:avLst/>
          </a:prstGeom>
          <a:ln w="0">
            <a:noFill/>
          </a:ln>
        </p:spPr>
      </p:pic>
      <p:grpSp>
        <p:nvGrpSpPr>
          <p:cNvPr id="94" name="Группа 9"/>
          <p:cNvGrpSpPr/>
          <p:nvPr/>
        </p:nvGrpSpPr>
        <p:grpSpPr>
          <a:xfrm>
            <a:off x="684360" y="4508640"/>
            <a:ext cx="2303280" cy="2116080"/>
            <a:chOff x="684360" y="4508640"/>
            <a:chExt cx="2303280" cy="2116080"/>
          </a:xfrm>
        </p:grpSpPr>
        <p:pic>
          <p:nvPicPr>
            <p:cNvPr id="95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684360" y="4508640"/>
              <a:ext cx="224460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819360" y="4657320"/>
              <a:ext cx="216828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Группа 12"/>
          <p:cNvGrpSpPr/>
          <p:nvPr/>
        </p:nvGrpSpPr>
        <p:grpSpPr>
          <a:xfrm>
            <a:off x="1835280" y="2205000"/>
            <a:ext cx="3563640" cy="1863720"/>
            <a:chOff x="1835280" y="2205000"/>
            <a:chExt cx="3563640" cy="1863720"/>
          </a:xfrm>
        </p:grpSpPr>
        <p:pic>
          <p:nvPicPr>
            <p:cNvPr id="98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835280" y="2227320"/>
              <a:ext cx="328140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350520" y="2205000"/>
              <a:ext cx="204840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Группа 13"/>
          <p:cNvGrpSpPr/>
          <p:nvPr/>
        </p:nvGrpSpPr>
        <p:grpSpPr>
          <a:xfrm>
            <a:off x="3419640" y="4508640"/>
            <a:ext cx="2592360" cy="2092320"/>
            <a:chOff x="3419640" y="4508640"/>
            <a:chExt cx="2592360" cy="2092320"/>
          </a:xfrm>
        </p:grpSpPr>
        <p:pic>
          <p:nvPicPr>
            <p:cNvPr id="101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341964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355392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701640" y="139680"/>
            <a:ext cx="50767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9"/>
          <p:cNvGrpSpPr/>
          <p:nvPr/>
        </p:nvGrpSpPr>
        <p:grpSpPr>
          <a:xfrm>
            <a:off x="4572000" y="2205000"/>
            <a:ext cx="2303640" cy="2116080"/>
            <a:chOff x="4572000" y="2205000"/>
            <a:chExt cx="2303640" cy="2116080"/>
          </a:xfrm>
        </p:grpSpPr>
        <p:pic>
          <p:nvPicPr>
            <p:cNvPr id="107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572000" y="2205000"/>
              <a:ext cx="224928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702680" y="2352960"/>
              <a:ext cx="217296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Группа 12"/>
          <p:cNvGrpSpPr/>
          <p:nvPr/>
        </p:nvGrpSpPr>
        <p:grpSpPr>
          <a:xfrm>
            <a:off x="1187280" y="4653000"/>
            <a:ext cx="3564000" cy="1863720"/>
            <a:chOff x="1187280" y="4653000"/>
            <a:chExt cx="3564000" cy="1863720"/>
          </a:xfrm>
        </p:grpSpPr>
        <p:pic>
          <p:nvPicPr>
            <p:cNvPr id="110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1187280" y="4672440"/>
              <a:ext cx="3280320" cy="18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2703240" y="4653000"/>
              <a:ext cx="2048040" cy="155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Группа 13"/>
          <p:cNvGrpSpPr/>
          <p:nvPr/>
        </p:nvGrpSpPr>
        <p:grpSpPr>
          <a:xfrm>
            <a:off x="468360" y="1989000"/>
            <a:ext cx="2590920" cy="2092320"/>
            <a:chOff x="468360" y="1989000"/>
            <a:chExt cx="2590920" cy="2092320"/>
          </a:xfrm>
        </p:grpSpPr>
        <p:pic>
          <p:nvPicPr>
            <p:cNvPr id="113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468360" y="1989000"/>
              <a:ext cx="259092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603360" y="213948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5" descr=""/>
          <p:cNvPicPr/>
          <p:nvPr/>
        </p:nvPicPr>
        <p:blipFill>
          <a:blip r:embed="rId2"/>
          <a:stretch/>
        </p:blipFill>
        <p:spPr>
          <a:xfrm>
            <a:off x="811080" y="139680"/>
            <a:ext cx="508320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18" name="Группа 9"/>
          <p:cNvGrpSpPr/>
          <p:nvPr/>
        </p:nvGrpSpPr>
        <p:grpSpPr>
          <a:xfrm>
            <a:off x="2268360" y="4437000"/>
            <a:ext cx="2303640" cy="2116080"/>
            <a:chOff x="2268360" y="4437000"/>
            <a:chExt cx="2303640" cy="2116080"/>
          </a:xfrm>
        </p:grpSpPr>
        <p:pic>
          <p:nvPicPr>
            <p:cNvPr id="119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2268360" y="4437000"/>
              <a:ext cx="225036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398320" y="4583880"/>
              <a:ext cx="217368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Группа 12"/>
          <p:cNvGrpSpPr/>
          <p:nvPr/>
        </p:nvGrpSpPr>
        <p:grpSpPr>
          <a:xfrm>
            <a:off x="395280" y="2205000"/>
            <a:ext cx="3564000" cy="1863720"/>
            <a:chOff x="395280" y="2205000"/>
            <a:chExt cx="3564000" cy="1863720"/>
          </a:xfrm>
        </p:grpSpPr>
        <p:pic>
          <p:nvPicPr>
            <p:cNvPr id="122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395280" y="2227320"/>
              <a:ext cx="3280680" cy="18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1911240" y="2205000"/>
              <a:ext cx="2048040" cy="15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Группа 13"/>
          <p:cNvGrpSpPr/>
          <p:nvPr/>
        </p:nvGrpSpPr>
        <p:grpSpPr>
          <a:xfrm>
            <a:off x="4500720" y="2060640"/>
            <a:ext cx="2592360" cy="2092320"/>
            <a:chOff x="4500720" y="2060640"/>
            <a:chExt cx="2592360" cy="2092320"/>
          </a:xfrm>
        </p:grpSpPr>
        <p:pic>
          <p:nvPicPr>
            <p:cNvPr id="125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4500720" y="2060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4638960" y="220680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D:\клипарты\сказки\0_4bd2b_c74d7813_XXXL.png"/>
          <p:cNvPicPr/>
          <p:nvPr/>
        </p:nvPicPr>
        <p:blipFill>
          <a:blip r:embed="rId1"/>
          <a:stretch/>
        </p:blipFill>
        <p:spPr>
          <a:xfrm>
            <a:off x="5830920" y="3027240"/>
            <a:ext cx="3313080" cy="383076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139680"/>
            <a:ext cx="5280120" cy="1603440"/>
          </a:xfrm>
          <a:prstGeom prst="rect">
            <a:avLst/>
          </a:prstGeom>
          <a:ln w="0">
            <a:noFill/>
          </a:ln>
        </p:spPr>
      </p:pic>
      <p:grpSp>
        <p:nvGrpSpPr>
          <p:cNvPr id="130" name="Группа 9"/>
          <p:cNvGrpSpPr/>
          <p:nvPr/>
        </p:nvGrpSpPr>
        <p:grpSpPr>
          <a:xfrm>
            <a:off x="468360" y="2421000"/>
            <a:ext cx="2303280" cy="2116080"/>
            <a:chOff x="468360" y="2421000"/>
            <a:chExt cx="2303280" cy="2116080"/>
          </a:xfrm>
        </p:grpSpPr>
        <p:pic>
          <p:nvPicPr>
            <p:cNvPr id="131" name="Picture 6" descr="http://go2.imgsmail.ru/imgpreview?key=197e876c36b0c285&amp;mb=imgdb_preview_593"/>
            <p:cNvPicPr/>
            <p:nvPr/>
          </p:nvPicPr>
          <p:blipFill>
            <a:blip r:embed="rId3"/>
            <a:stretch/>
          </p:blipFill>
          <p:spPr>
            <a:xfrm>
              <a:off x="468360" y="2421000"/>
              <a:ext cx="2248200" cy="21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600120" y="2572560"/>
              <a:ext cx="2171520" cy="15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Группа 12"/>
          <p:cNvGrpSpPr/>
          <p:nvPr/>
        </p:nvGrpSpPr>
        <p:grpSpPr>
          <a:xfrm>
            <a:off x="3492360" y="2060640"/>
            <a:ext cx="3562560" cy="1863720"/>
            <a:chOff x="3492360" y="2060640"/>
            <a:chExt cx="3562560" cy="1863720"/>
          </a:xfrm>
        </p:grpSpPr>
        <p:pic>
          <p:nvPicPr>
            <p:cNvPr id="134" name="Picture 8" descr="http://www.coollady.ru/pic/0002/046/19_1.jpg"/>
            <p:cNvPicPr/>
            <p:nvPr/>
          </p:nvPicPr>
          <p:blipFill>
            <a:blip r:embed="rId5"/>
            <a:stretch/>
          </p:blipFill>
          <p:spPr>
            <a:xfrm>
              <a:off x="3492360" y="2084760"/>
              <a:ext cx="3278160" cy="18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5007240" y="2060640"/>
              <a:ext cx="2047680" cy="15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Группа 13"/>
          <p:cNvGrpSpPr/>
          <p:nvPr/>
        </p:nvGrpSpPr>
        <p:grpSpPr>
          <a:xfrm>
            <a:off x="2124000" y="4508640"/>
            <a:ext cx="2592360" cy="2092320"/>
            <a:chOff x="2124000" y="4508640"/>
            <a:chExt cx="2592360" cy="2092320"/>
          </a:xfrm>
        </p:grpSpPr>
        <p:pic>
          <p:nvPicPr>
            <p:cNvPr id="137" name="Picture 4" descr="http://abcteacher.ucoz.ru/pic_food/lettuce.jpg"/>
            <p:cNvPicPr/>
            <p:nvPr/>
          </p:nvPicPr>
          <p:blipFill>
            <a:blip r:embed="rId7"/>
            <a:stretch/>
          </p:blipFill>
          <p:spPr>
            <a:xfrm>
              <a:off x="2124000" y="4508640"/>
              <a:ext cx="2592360" cy="20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Прямоугольник 8" descr=""/>
            <p:cNvPicPr/>
            <p:nvPr/>
          </p:nvPicPr>
          <p:blipFill>
            <a:blip r:embed="rId8"/>
            <a:stretch/>
          </p:blipFill>
          <p:spPr>
            <a:xfrm>
              <a:off x="2261520" y="4657320"/>
              <a:ext cx="2225160" cy="15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Стрелка вправо 14">
            <a:hlinkClick r:id="" action="ppaction://hlinkshowjump?jump=nextslide"/>
          </p:cNvPr>
          <p:cNvSpPr/>
          <p:nvPr/>
        </p:nvSpPr>
        <p:spPr>
          <a:xfrm>
            <a:off x="7812000" y="260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Unattended</cp:lastModifiedBy>
  <dcterms:modified xsi:type="dcterms:W3CDTF">2019-05-05T11:42:10Z</dcterms:modified>
  <cp:revision>29</cp:revision>
  <dc:subject/>
  <dc:title>Слайд 1</dc:title>
</cp:coreProperties>
</file>