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988E-5A17-4262-B218-42AFA8853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ED74-0E6A-429E-A1B6-63114D821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6E8-CC2C-4425-B40B-D81873A4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C7B-8D8A-4D40-BA22-4568CC7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114-3A0F-4879-9E89-34103FBD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081-291E-4927-BE03-382FA216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8804-DFAA-4B62-94FF-8F9CA3A9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35A-B6C5-49D7-8A82-3932B91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01C-A57A-429B-984E-4099025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2E5-5FC9-4DE5-9F80-49F9AEA8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FFBF-9171-410E-846F-194304A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51C-E1AC-4E94-984E-7C5D69D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2DD-A351-4CA2-9688-883C053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C4F-CBB5-4ADD-9B9F-CA5CFC6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D3F-61AD-4954-9F56-DF3D2AA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EC5-62BC-42CA-9F0A-72330ABC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C40F-8EEF-43FE-9222-F379AC24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BFD3-445C-4C98-B7F6-EBAC4396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529-D6A3-4472-85C4-AF4F055A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822-2588-41FF-AC08-A91F470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CE4-39CB-4822-9768-A6B3048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C8B-8BF1-44C8-96BF-6B095F4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E8E-5438-4CEB-8E5E-5055020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7E5-8EEB-4992-83EB-53F7EDB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279-53B2-4DBE-8E8C-6C0D63F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F38-9E12-4320-A2BB-04498C9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823F-8288-4A46-AFA0-DB823154DD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5C7-50AD-46D5-8391-6DFBA03A43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d1a6e9b7-5eda-4be9-bff2-3197b9f145e7/9_77.sw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19280" y="4927680"/>
            <a:ext cx="51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Roboto Slab"/>
                <a:ea typeface="Arial"/>
              </a:rPr>
              <a:t>Орешкова Виктория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20720" y="2951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838"/>
                </a:solidFill>
                <a:latin typeface="Roboto Slab"/>
                <a:ea typeface="Arial"/>
              </a:rPr>
              <a:t>Организация в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838"/>
                </a:solidFill>
                <a:latin typeface="Roboto Slab"/>
                <a:ea typeface="Arial"/>
              </a:rPr>
              <a:t>и вывод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636480" y="1482840"/>
            <a:ext cx="83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Д.З. </a:t>
            </a:r>
            <a:r>
              <a:rPr b="1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§3.2, </a:t>
            </a:r>
            <a:r>
              <a:rPr b="0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 №6, 8, 9, 10, 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Reading Icon"/>
          <p:cNvPicPr/>
          <p:nvPr/>
        </p:nvPicPr>
        <p:blipFill>
          <a:blip r:embed="rId2"/>
          <a:stretch/>
        </p:blipFill>
        <p:spPr>
          <a:xfrm>
            <a:off x="6429240" y="3997440"/>
            <a:ext cx="1989360" cy="200340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1619280" y="620640"/>
            <a:ext cx="64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903320" y="5873760"/>
            <a:ext cx="69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программу вычисления площад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а прямоугольника так, чтобы пользо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вводил длины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5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25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25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25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-157320" y="260280"/>
            <a:ext cx="9301320" cy="6232680"/>
          </a:xfrm>
          <a:prstGeom prst="rect">
            <a:avLst/>
          </a:prstGeom>
          <a:ln w="0">
            <a:noFill/>
          </a:ln>
        </p:spPr>
      </p:pic>
    </p:spTree>
  </p:cSld>
  <p:transition advTm="9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1619280" y="620640"/>
            <a:ext cx="64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903320" y="5873760"/>
            <a:ext cx="69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программу вычисления площад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а прямоугольника так, чтобы пользо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вводил длины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Arial"/>
                <a:ea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68360" y="126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1"/>
              </a:rPr>
              <a:t>http://files.school-collection.edu.ru/dlrstore/d1a6e9b7-5eda-4be9-bff2-3197b9f145e7/9_77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команда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00040" y="3286080"/>
            <a:ext cx="820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11"/>
          <p:cNvSpPr/>
          <p:nvPr/>
        </p:nvSpPr>
        <p:spPr>
          <a:xfrm>
            <a:off x="3000240" y="5715000"/>
            <a:ext cx="6072480" cy="714240"/>
          </a:xfrm>
          <a:prstGeom prst="wedgeRoundRectCallout">
            <a:avLst>
              <a:gd name="adj1" fmla="val -48972"/>
              <a:gd name="adj2" fmla="val -230324"/>
              <a:gd name="adj3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http://worddreams.files.wordpress.com/2010/05/tips-for-article-writers2.jpg?w=500"/>
          <p:cNvPicPr/>
          <p:nvPr/>
        </p:nvPicPr>
        <p:blipFill>
          <a:blip r:embed="rId1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33440" y="1714680"/>
          <a:ext cx="8639280" cy="2963520"/>
        </p:xfrm>
        <a:graphic>
          <a:graphicData uri="http://schemas.openxmlformats.org/drawingml/2006/table">
            <a:tbl>
              <a:tblPr/>
              <a:tblGrid>
                <a:gridCol w="3209760"/>
                <a:gridCol w="3567240"/>
                <a:gridCol w="1862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300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  <a:ea typeface="Arial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  <a:ea typeface="Arial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1619280" y="857160"/>
            <a:ext cx="64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43240" y="56624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ходный код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25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" descr="Reading Icon"/>
          <p:cNvPicPr/>
          <p:nvPr/>
        </p:nvPicPr>
        <p:blipFill>
          <a:blip r:embed="rId1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68360" y="5877000"/>
            <a:ext cx="7704000" cy="431640"/>
          </a:xfrm>
          <a:prstGeom prst="rect">
            <a:avLst/>
          </a:prstGeom>
          <a:solidFill>
            <a:srgbClr val="549e3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7"/>
          <p:cNvGraphicFramePr/>
          <p:nvPr/>
        </p:nvGraphicFramePr>
        <p:xfrm>
          <a:off x="7308720" y="587700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5877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 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 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ле выполнения оператора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84360" y="2786040"/>
            <a:ext cx="7387920" cy="1909440"/>
          </a:xfrm>
          <a:prstGeom prst="rect">
            <a:avLst/>
          </a:prstGeom>
          <a:noFill/>
          <a:ln w="9360">
            <a:solidFill>
              <a:srgbClr val="d7e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pp.userapi.com/c824603/v824603647/ce1ba/X1gqO5NwY30.jpg"/>
          <p:cNvPicPr/>
          <p:nvPr/>
        </p:nvPicPr>
        <p:blipFill>
          <a:blip r:embed="rId1"/>
          <a:stretch/>
        </p:blipFill>
        <p:spPr>
          <a:xfrm>
            <a:off x="-4680" y="5889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3" name="Овал 2"/>
          <p:cNvSpPr/>
          <p:nvPr/>
        </p:nvSpPr>
        <p:spPr>
          <a:xfrm>
            <a:off x="1619280" y="3789360"/>
            <a:ext cx="720720" cy="1008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3500280" y="785880"/>
            <a:ext cx="642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s://pp.userapi.com/c824603/v824603647/ce1ba/X1gqO5NwY30.jpg"/>
          <p:cNvPicPr/>
          <p:nvPr/>
        </p:nvPicPr>
        <p:blipFill>
          <a:blip r:embed="rId2"/>
          <a:srcRect l="53855" t="0" r="39897" b="81087"/>
          <a:stretch/>
        </p:blipFill>
        <p:spPr>
          <a:xfrm>
            <a:off x="6715080" y="598320"/>
            <a:ext cx="571680" cy="9734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7358040" y="714240"/>
            <a:ext cx="4287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5f51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home</cp:lastModifiedBy>
  <dcterms:modified xsi:type="dcterms:W3CDTF">2019-05-05T14:17:16Z</dcterms:modified>
  <cp:revision>126</cp:revision>
  <dc:subject/>
  <dc:title>Презентация PowerPoint</dc:title>
</cp:coreProperties>
</file>