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57DE-F1E0-4AAD-BAB7-A2FFCD9A0A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DB32-185A-47B5-A5A3-616F2B07BC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58A-EA14-437F-827E-872B2BCB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CC48-7D89-455A-98B6-2A9CFA1F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523-C32C-4E8A-A246-C76BAF1E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953-AE9F-44C1-9405-312DEB20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746D-4AB2-4BB6-9E83-0712F707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76CB-C8BF-4D77-96C4-5A18027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17F9-F8BA-40DF-9E96-F96F70B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F220-E18D-470C-9ABB-6F70EFD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8095-E0DD-4A5B-8C4F-02799FDD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F867-2B9D-49CE-887E-58BC5515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1D8-6A43-4B24-B358-49D81C9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D5A-5738-451A-AEE6-8B16F848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AE60-D9BD-4CD4-AE54-DD1144D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862F-E935-4BCC-96DF-743EBDA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C20B-1993-4DEC-89F4-F49B38FB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F4D7-4755-49BC-8DF6-F78A8439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0394-C052-4463-9547-207A505F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089-3286-4C85-B90D-4F865625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E29-2205-45F6-80B4-CC0825B3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AD65-2ECA-4AC8-8606-7DC3D58C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9E0-7ABA-4278-AEE7-BA080E2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523-07AA-4D15-83AE-86B06319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71B-9AF3-4FDC-88AE-DB97AE2A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4EC-7D6D-4AD8-A2BE-A0F4B719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6AE5-FC6D-4CBF-9EC9-A988E91DE6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9E13-CA9A-488E-A138-BFA9836ABD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d1a6e9b7-5eda-4be9-bff2-3197b9f145e7/9_77.sw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19280" y="4927680"/>
            <a:ext cx="51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Roboto Slab"/>
                <a:ea typeface="Arial"/>
              </a:rPr>
              <a:t>Орешкова Виктория Викто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20720" y="29512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838"/>
                </a:solidFill>
                <a:latin typeface="Roboto Slab"/>
                <a:ea typeface="Arial"/>
              </a:rPr>
              <a:t>Организация в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3838"/>
                </a:solidFill>
                <a:latin typeface="Roboto Slab"/>
                <a:ea typeface="Arial"/>
              </a:rPr>
              <a:t>и вывод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636480" y="1482840"/>
            <a:ext cx="830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b3838"/>
                </a:solidFill>
                <a:latin typeface="Arial"/>
                <a:ea typeface="Arial"/>
              </a:rPr>
              <a:t>Д.З. </a:t>
            </a:r>
            <a:r>
              <a:rPr b="1" lang="ru-RU" sz="4400" spc="-1" strike="noStrike">
                <a:solidFill>
                  <a:srgbClr val="3b3838"/>
                </a:solidFill>
                <a:latin typeface="Arial"/>
                <a:ea typeface="Arial"/>
              </a:rPr>
              <a:t>§3.2, </a:t>
            </a:r>
            <a:r>
              <a:rPr b="0" lang="ru-RU" sz="4400" spc="-1" strike="noStrike">
                <a:solidFill>
                  <a:srgbClr val="3b3838"/>
                </a:solidFill>
                <a:latin typeface="Arial"/>
                <a:ea typeface="Arial"/>
              </a:rPr>
              <a:t> №6, 8, 9, 10, 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Reading Icon"/>
          <p:cNvPicPr/>
          <p:nvPr/>
        </p:nvPicPr>
        <p:blipFill>
          <a:blip r:embed="rId2"/>
          <a:stretch/>
        </p:blipFill>
        <p:spPr>
          <a:xfrm>
            <a:off x="6429240" y="3997440"/>
            <a:ext cx="1989360" cy="200340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771640" y="247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3838"/>
                </a:solidFill>
                <a:latin typeface="Roboto Slab"/>
                <a:ea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6" descr=""/>
          <p:cNvPicPr/>
          <p:nvPr/>
        </p:nvPicPr>
        <p:blipFill>
          <a:blip r:embed="rId1"/>
          <a:srcRect l="30835" t="46298" r="0" b="0"/>
          <a:stretch/>
        </p:blipFill>
        <p:spPr>
          <a:xfrm>
            <a:off x="0" y="857160"/>
            <a:ext cx="1863720" cy="157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1619280" y="620640"/>
            <a:ext cx="64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ы длины сторон прямо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его площадь и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900000" y="1565280"/>
            <a:ext cx="82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yamougoln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s, p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 ('Программа расчёта площади и периметра прямоугольника по длине его сторон.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=7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=3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: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:=(a+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('s=', s:5:2, ' p=', p:5: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903320" y="5873760"/>
            <a:ext cx="69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программу вычисления площад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а прямоугольника так, чтобы пользо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вводил длины его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5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25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25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25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-157320" y="260280"/>
            <a:ext cx="9301320" cy="6232680"/>
          </a:xfrm>
          <a:prstGeom prst="rect">
            <a:avLst/>
          </a:prstGeom>
          <a:ln w="0">
            <a:noFill/>
          </a:ln>
        </p:spPr>
      </p:pic>
    </p:spTree>
  </p:cSld>
  <p:transition advTm="9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4"/>
          <p:cNvSpPr/>
          <p:nvPr/>
        </p:nvSpPr>
        <p:spPr>
          <a:xfrm>
            <a:off x="2771640" y="247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3838"/>
                </a:solidFill>
                <a:latin typeface="Roboto Slab"/>
                <a:ea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46" descr=""/>
          <p:cNvPicPr/>
          <p:nvPr/>
        </p:nvPicPr>
        <p:blipFill>
          <a:blip r:embed="rId1"/>
          <a:srcRect l="30835" t="46298" r="0" b="0"/>
          <a:stretch/>
        </p:blipFill>
        <p:spPr>
          <a:xfrm>
            <a:off x="0" y="857160"/>
            <a:ext cx="1863720" cy="15796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1619280" y="620640"/>
            <a:ext cx="64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ны длины сторон прямоуг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йти его площадь и пери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900000" y="1565280"/>
            <a:ext cx="82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yamougoln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s, p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 ('Программа расчёта площади и периметра прямоугольника по длине его сторон.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=7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=3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: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:=(a+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('s=', s:5:2, ' p=', p:5: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903320" y="5873760"/>
            <a:ext cx="698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ь программу вычисления площад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ериметра прямоугольника так, чтобы пользо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вводил длины его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Arial"/>
                <a:ea typeface="Arial"/>
              </a:rPr>
              <a:t>Источники 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468360" y="1268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b9f25"/>
                </a:solidFill>
                <a:uFillTx/>
                <a:latin typeface="Arial"/>
                <a:ea typeface="Arial"/>
                <a:hlinkClick r:id="rId1"/>
              </a:rPr>
              <a:t>http://files.school-collection.edu.ru/dlrstore/d1a6e9b7-5eda-4be9-bff2-3197b9f145e7/9_77.sw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- команда ввода-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00040" y="3286080"/>
            <a:ext cx="820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ая прямоугольная выноска 11"/>
          <p:cNvSpPr/>
          <p:nvPr/>
        </p:nvSpPr>
        <p:spPr>
          <a:xfrm>
            <a:off x="3000240" y="5715000"/>
            <a:ext cx="6072480" cy="714240"/>
          </a:xfrm>
          <a:prstGeom prst="wedgeRoundRectCallout">
            <a:avLst>
              <a:gd name="adj1" fmla="val -48972"/>
              <a:gd name="adj2" fmla="val -230324"/>
              <a:gd name="adj3" fmla="val 16667"/>
            </a:avLst>
          </a:prstGeom>
          <a:solidFill>
            <a:srgbClr val="549e39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http://worddreams.files.wordpress.com/2010/05/tips-for-article-writers2.jpg?w=500"/>
          <p:cNvPicPr/>
          <p:nvPr/>
        </p:nvPicPr>
        <p:blipFill>
          <a:blip r:embed="rId1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33440" y="1714680"/>
          <a:ext cx="8639280" cy="2963520"/>
        </p:xfrm>
        <a:graphic>
          <a:graphicData uri="http://schemas.openxmlformats.org/drawingml/2006/table">
            <a:tbl>
              <a:tblPr/>
              <a:tblGrid>
                <a:gridCol w="3209760"/>
                <a:gridCol w="3567240"/>
                <a:gridCol w="1862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 300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  <a:ea typeface="Arial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  <a:ea typeface="Arial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  <a:ea typeface="Arial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4"/>
          <p:cNvSpPr/>
          <p:nvPr/>
        </p:nvSpPr>
        <p:spPr>
          <a:xfrm>
            <a:off x="2771640" y="2476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3838"/>
                </a:solidFill>
                <a:latin typeface="Roboto Slab"/>
                <a:ea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6" descr=""/>
          <p:cNvPicPr/>
          <p:nvPr/>
        </p:nvPicPr>
        <p:blipFill>
          <a:blip r:embed="rId1"/>
          <a:srcRect l="30835" t="46298" r="0" b="0"/>
          <a:stretch/>
        </p:blipFill>
        <p:spPr>
          <a:xfrm>
            <a:off x="0" y="857160"/>
            <a:ext cx="1863720" cy="1579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1619280" y="857160"/>
            <a:ext cx="64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ны длины сторон прямоуголь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йти его площадь и перимет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900000" y="1565280"/>
            <a:ext cx="82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yamougolni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s, p: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 ('Программа расчёта площади и периметра прямоугольника по длине его сторон.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:=7.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:=3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: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:=(a+b)*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e ('s=', s:5:2, ' p=', p:5: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43240" y="56624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сходный код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25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6" descr="Reading Icon"/>
          <p:cNvPicPr/>
          <p:nvPr/>
        </p:nvPicPr>
        <p:blipFill>
          <a:blip r:embed="rId1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5f51"/>
                </a:solidFill>
                <a:latin typeface="Calibri"/>
                <a:ea typeface="Arial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68360" y="5877000"/>
            <a:ext cx="7704000" cy="431640"/>
          </a:xfrm>
          <a:prstGeom prst="rect">
            <a:avLst/>
          </a:prstGeom>
          <a:solidFill>
            <a:srgbClr val="549e3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7"/>
          <p:cNvGraphicFramePr/>
          <p:nvPr/>
        </p:nvGraphicFramePr>
        <p:xfrm>
          <a:off x="7308720" y="587700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5877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 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 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ле выполнения оператора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  <a:ea typeface="Arial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84360" y="2786040"/>
            <a:ext cx="7387920" cy="1909440"/>
          </a:xfrm>
          <a:prstGeom prst="rect">
            <a:avLst/>
          </a:prstGeom>
          <a:noFill/>
          <a:ln w="9360">
            <a:solidFill>
              <a:srgbClr val="d7e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1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s://pp.userapi.com/c824603/v824603647/ce1ba/X1gqO5NwY30.jpg"/>
          <p:cNvPicPr/>
          <p:nvPr/>
        </p:nvPicPr>
        <p:blipFill>
          <a:blip r:embed="rId1"/>
          <a:stretch/>
        </p:blipFill>
        <p:spPr>
          <a:xfrm>
            <a:off x="-4680" y="5889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3" name="Овал 2"/>
          <p:cNvSpPr/>
          <p:nvPr/>
        </p:nvSpPr>
        <p:spPr>
          <a:xfrm>
            <a:off x="1619280" y="3789360"/>
            <a:ext cx="720720" cy="1008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3500280" y="785880"/>
            <a:ext cx="64296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s://pp.userapi.com/c824603/v824603647/ce1ba/X1gqO5NwY30.jpg"/>
          <p:cNvPicPr/>
          <p:nvPr/>
        </p:nvPicPr>
        <p:blipFill>
          <a:blip r:embed="rId2"/>
          <a:srcRect l="53855" t="0" r="39897" b="81087"/>
          <a:stretch/>
        </p:blipFill>
        <p:spPr>
          <a:xfrm>
            <a:off x="6715080" y="598320"/>
            <a:ext cx="571680" cy="9734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7358040" y="714240"/>
            <a:ext cx="428760" cy="8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5f51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solidFill>
            <a:srgbClr val="dbe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home</cp:lastModifiedBy>
  <dcterms:modified xsi:type="dcterms:W3CDTF">2019-05-05T14:17:16Z</dcterms:modified>
  <cp:revision>126</cp:revision>
  <dc:subject/>
  <dc:title>Презентация PowerPoint</dc:title>
</cp:coreProperties>
</file>