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615-2357-414C-95B6-73F12D77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2F5-EC16-4FE9-9D1B-56AF4B5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4EA-4100-443E-BD40-2547A5FF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242-22E8-4CFB-8483-386B642A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1E4-7EDC-4F80-8690-0B281203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023-5AA4-4C1C-8587-AB692727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16A-65B3-4124-A1C3-3ADB3ECE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4D1-A0ED-42E2-873E-2B2B19FF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BBD-2690-4857-A790-6CCA710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D95-8F4A-4CC7-B262-88F2A00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4BA-7566-41C8-8777-1D58549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1F0-E4FE-4C3B-ADFC-25BE9E19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6A09-1C17-48CE-BE0B-6A51B7A2E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152280"/>
            <a:ext cx="8839440" cy="990720"/>
            <a:chOff x="152280" y="152280"/>
            <a:chExt cx="8839440" cy="990720"/>
          </a:xfrm>
        </p:grpSpPr>
        <p:sp>
          <p:nvSpPr>
            <p:cNvPr id="43" name="AutoShape 4"/>
            <p:cNvSpPr/>
            <p:nvPr/>
          </p:nvSpPr>
          <p:spPr>
            <a:xfrm>
              <a:off x="152280" y="152280"/>
              <a:ext cx="8839440" cy="9907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WordArt 5"/>
            <p:cNvSpPr txBox="1"/>
            <p:nvPr/>
          </p:nvSpPr>
          <p:spPr>
            <a:xfrm>
              <a:off x="324000" y="209880"/>
              <a:ext cx="8534160" cy="85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 Rounded MT Bold"/>
                </a:rPr>
                <a:t>BODY PARTS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45" name="Picture 7" descr="circus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09480" y="1752480"/>
            <a:ext cx="3562560" cy="3067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2057400" y="4572000"/>
            <a:ext cx="533520" cy="533520"/>
          </a:xfrm>
          <a:prstGeom prst="upArrow">
            <a:avLst>
              <a:gd name="adj1" fmla="val 55361"/>
              <a:gd name="adj2" fmla="val 52083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1143000" y="54100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Rounded MT Bold"/>
              </a:rPr>
              <a:t>ENTER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pic>
        <p:nvPicPr>
          <p:cNvPr id="48" name="Picture 10" descr="G:\490185_1075b_th.png"/>
          <p:cNvPicPr/>
          <p:nvPr/>
        </p:nvPicPr>
        <p:blipFill>
          <a:blip r:embed="rId7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23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24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WordArt 25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82" name="WordArt 26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mouth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583" name="Group 27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584" name="Group 28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585" name="Group 29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586" name="Oval 30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Group 32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589" name="Oval 33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Oval 35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" name="Group 36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593" name="Freeform 37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8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595" name="Group 39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596" name="Freeform 40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Freeform 41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42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43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44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Group 45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602" name="Oval 46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Oval 47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AutoShape 48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AutoShape 49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Group 50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607" name="Oval 51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Oval 52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Group 53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610" name="Oval 54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Oval 55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Oval 56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613" name="WordArt 57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614" name="Group 58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615" name="Group 59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616" name="Freeform 60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" name="Group 61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618" name="Freeform 62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63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64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65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66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3" name="Group 67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624" name="Freeform 68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69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70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71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72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73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630" name="Group 74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631" name="Oval 75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76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AutoShape 77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AutoShape 78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Group 79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636" name="Oval 80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Oval 81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" name="Group 82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639" name="Oval 83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84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Oval 85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2" name="WordArt 86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643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3" descr="nose"/>
          <p:cNvPicPr/>
          <p:nvPr/>
        </p:nvPicPr>
        <p:blipFill>
          <a:blip r:embed="rId2"/>
          <a:stretch/>
        </p:blipFill>
        <p:spPr>
          <a:xfrm>
            <a:off x="6648480" y="2476440"/>
            <a:ext cx="314280" cy="3193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5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26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4" name="WordArt 27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Rounded MT Bold"/>
              </a:rPr>
              <a:t>Click my nose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55" name="Group 28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56" name="Group 29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57" name="Group 30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58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Oval 32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Group 33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61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35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Oval 36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Group 37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65" name="Freeform 38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" name="Group 39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67" name="Group 40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68" name="Freeform 41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Freeform 42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Freeform 43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44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Line 45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" name="Group 46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74" name="Oval 47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Oval 48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AutoShape 49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AutoShape 50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" name="Group 51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79" name="Oval 52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Oval 53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Group 54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82" name="Oval 55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56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Oval 57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85" name="WordArt 58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7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86" name="Group 59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87" name="Group 60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88" name="Freeform 61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62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90" name="Freeform 63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64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65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66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67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68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96" name="Freeform 69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70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71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72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73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Group 74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102" name="Group 75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103" name="Oval 76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Oval 77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78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79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80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108" name="Oval 81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Oval 82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83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111" name="Oval 84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Oval 85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Oval 86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4" name="WordArt 87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9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115" name="Picture 10" descr="G:\490185_1075b_th.png"/>
          <p:cNvPicPr/>
          <p:nvPr/>
        </p:nvPicPr>
        <p:blipFill>
          <a:blip r:embed="rId11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23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20" name="WordArt 24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fee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121" name="Group 25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122" name="Group 26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123" name="Group 27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124" name="Oval 28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Oval 29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30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127" name="Oval 31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32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Oval 33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34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131" name="Freeform 35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36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133" name="Group 37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134" name="Freeform 38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Freeform 39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40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41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43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140" name="Oval 44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Oval 45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AutoShape 46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47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" name="Group 48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145" name="Oval 49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Oval 50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148" name="Oval 52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Oval 53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Oval 54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51" name="WordArt 55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152" name="Group 56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153" name="Group 57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154" name="Freeform 58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Group 59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156" name="Freeform 60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61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62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63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64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65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162" name="Freeform 66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67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68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9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70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71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168" name="Group 72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169" name="Oval 73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Oval 74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75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76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77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174" name="Oval 78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Oval 79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80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177" name="Oval 81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82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83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0" name="WordArt 84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181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26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186" name="WordArt 27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eye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187" name="Group 28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188" name="Group 29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189" name="Group 30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190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32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33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193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35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Oval 36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37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197" name="Freeform 38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Group 39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199" name="Group 40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200" name="Freeform 41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42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Freeform 43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Line 44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Line 45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5" name="Group 46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206" name="Oval 47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48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AutoShape 49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AutoShape 50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51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211" name="Oval 52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53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54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214" name="Oval 55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56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57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17" name="WordArt 58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219" name="Group 60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220" name="Freeform 61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62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222" name="Freeform 63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64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65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66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7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68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228" name="Freeform 69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0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71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72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73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74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234" name="Group 75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235" name="Oval 76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77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78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AutoShape 79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80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240" name="Oval 81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82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3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243" name="Oval 84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Oval 85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Oval 86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6" name="WordArt 87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247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3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24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252" name="WordArt 25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body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254" name="Group 27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255" name="Group 28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256" name="Oval 29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30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31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259" name="Oval 32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33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Oval 34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Group 35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263" name="Freeform 36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" name="Group 37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265" name="Group 38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266" name="Freeform 39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Freeform 40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41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42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43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" name="Group 44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272" name="Oval 45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Oval 46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AutoShape 47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48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Group 49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277" name="Oval 50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Oval 51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52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280" name="Oval 53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Oval 54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Oval 55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83" name="WordArt 56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284" name="Group 57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285" name="Group 58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286" name="Freeform 59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60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288" name="Freeform 61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2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3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4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5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66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294" name="Freeform 67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8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9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70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71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72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300" name="Group 73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301" name="Oval 74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75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AutoShape 76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77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78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306" name="Oval 79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80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81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309" name="Oval 82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83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84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12" name="WordArt 85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313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6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7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28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318" name="WordArt 29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ear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319" name="Group 30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320" name="Group 31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321" name="Group 32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322" name="Oval 33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4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35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325" name="Oval 36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7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7" name="Oval 38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39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329" name="Freeform 40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41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331" name="Group 42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332" name="Freeform 43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Freeform 44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45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6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47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48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338" name="Oval 49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Oval 50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51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52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Group 53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343" name="Oval 54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Oval 55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56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346" name="Oval 57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Oval 58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Oval 59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349" name="WordArt 60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350" name="Group 61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351" name="Group 62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352" name="Freeform 63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64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354" name="Freeform 65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66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67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68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69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70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360" name="Freeform 71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72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73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74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75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76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366" name="Group 77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367" name="Oval 78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Oval 79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utoShape 80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utoShape 81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82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372" name="Oval 83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Oval 84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85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375" name="Oval 86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Oval 87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Oval 88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8" name="WordArt 89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379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5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384" name="WordArt 6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hand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385" name="Group 7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386" name="Group 8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387" name="Group 9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388" name="Oval 10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Group 12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391" name="Oval 13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1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Oval 15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16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395" name="Freeform 17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18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397" name="Group 19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398" name="Freeform 20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21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22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3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24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25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404" name="Oval 26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Oval 27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28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29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30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409" name="Oval 31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Oval 32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33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412" name="Oval 34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Oval 35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Oval 36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15" name="WordArt 37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416" name="Group 38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417" name="Group 39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418" name="Freeform 40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41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420" name="Freeform 42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43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44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45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46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47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426" name="Freeform 48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9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50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51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52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Group 53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432" name="Group 54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433" name="Oval 55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56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AutoShape 57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AutoShape 58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Group 59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438" name="Oval 60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61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62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441" name="Oval 63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64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65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44" name="WordArt 66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445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6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7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28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hair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451" name="Group 30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452" name="Group 31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453" name="Group 32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454" name="Oval 33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4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457" name="Oval 36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37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Oval 38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Group 39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461" name="Freeform 40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Group 41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463" name="Group 42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464" name="Freeform 43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Freeform 44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45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9" name="Group 48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470" name="Oval 49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Oval 50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AutoShape 51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AutoShape 52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53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475" name="Oval 54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Oval 55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56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478" name="Oval 57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Oval 58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Oval 59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481" name="WordArt 60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482" name="Group 61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483" name="Group 62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484" name="Freeform 63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5" name="Group 64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486" name="Freeform 65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66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67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68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9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Group 70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492" name="Freeform 71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72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73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74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75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76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498" name="Group 77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499" name="Oval 78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Oval 79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utoShape 80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utoShape 81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Group 82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504" name="Oval 83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Oval 84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85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507" name="Oval 86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87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Oval 88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0" name="WordArt 89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511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24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prstGeom prst="rightArrow">
            <a:avLst>
              <a:gd name="adj1" fmla="val 43750"/>
              <a:gd name="adj2" fmla="val 600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25"/>
          <p:cNvSpPr/>
          <p:nvPr/>
        </p:nvSpPr>
        <p:spPr>
          <a:xfrm>
            <a:off x="152280" y="152280"/>
            <a:ext cx="1067040" cy="655344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6553440"/>
              <a:gd name="textAreaBottom" fmla="*/ 6501600 h 6553440"/>
            </a:gdLst>
            <a:ahLst/>
            <a:rect l="textAreaLeft" t="textAreaTop" r="textAreaRight" b="textAreaBottom"/>
            <a:pathLst>
              <a:path w="21600" h="132623">
                <a:moveTo>
                  <a:pt x="3600" y="0"/>
                </a:moveTo>
                <a:arcTo wR="3600" hR="3600" stAng="16200000" swAng="-5400000"/>
                <a:lnTo>
                  <a:pt x="0" y="129023"/>
                </a:lnTo>
                <a:arcTo wR="3600" hR="3600" stAng="10800000" swAng="-5400000"/>
                <a:lnTo>
                  <a:pt x="18000" y="1326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26"/>
          <p:cNvSpPr txBox="1"/>
          <p:nvPr/>
        </p:nvSpPr>
        <p:spPr>
          <a:xfrm rot="5400000">
            <a:off x="-2524320" y="2981160"/>
            <a:ext cx="6400800" cy="895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Rounded MT Bold"/>
              </a:rPr>
              <a:t>BODY PAR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516" name="WordArt 27"/>
          <p:cNvSpPr txBox="1"/>
          <p:nvPr/>
        </p:nvSpPr>
        <p:spPr>
          <a:xfrm>
            <a:off x="1523880" y="30492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Rounded MT Bold"/>
              </a:rPr>
              <a:t>Click my arm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Rounded MT Bold"/>
              <a:ea typeface="Arial Rounded MT Bold"/>
            </a:endParaRPr>
          </a:p>
        </p:txBody>
      </p:sp>
      <p:grpSp>
        <p:nvGrpSpPr>
          <p:cNvPr id="517" name="Group 28"/>
          <p:cNvGrpSpPr/>
          <p:nvPr/>
        </p:nvGrpSpPr>
        <p:grpSpPr>
          <a:xfrm>
            <a:off x="1523880" y="4038480"/>
            <a:ext cx="3547080" cy="2727000"/>
            <a:chOff x="1523880" y="4038480"/>
            <a:chExt cx="3547080" cy="2727000"/>
          </a:xfrm>
        </p:grpSpPr>
        <p:grpSp>
          <p:nvGrpSpPr>
            <p:cNvPr id="518" name="Group 29"/>
            <p:cNvGrpSpPr/>
            <p:nvPr/>
          </p:nvGrpSpPr>
          <p:grpSpPr>
            <a:xfrm>
              <a:off x="1523880" y="4038480"/>
              <a:ext cx="3547080" cy="2727000"/>
              <a:chOff x="1523880" y="4038480"/>
              <a:chExt cx="3547080" cy="2727000"/>
            </a:xfrm>
          </p:grpSpPr>
          <p:grpSp>
            <p:nvGrpSpPr>
              <p:cNvPr id="519" name="Group 30"/>
              <p:cNvGrpSpPr/>
              <p:nvPr/>
            </p:nvGrpSpPr>
            <p:grpSpPr>
              <a:xfrm>
                <a:off x="1523880" y="4038480"/>
                <a:ext cx="2611440" cy="1684440"/>
                <a:chOff x="1523880" y="4038480"/>
                <a:chExt cx="2611440" cy="1684440"/>
              </a:xfrm>
            </p:grpSpPr>
            <p:sp>
              <p:nvSpPr>
                <p:cNvPr id="520" name="Oval 31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53966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Oval 32"/>
                <p:cNvSpPr/>
                <p:nvPr/>
              </p:nvSpPr>
              <p:spPr>
                <a:xfrm>
                  <a:off x="1523880" y="4038480"/>
                  <a:ext cx="2611440" cy="16844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1185" dir="847803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33"/>
              <p:cNvGrpSpPr/>
              <p:nvPr/>
            </p:nvGrpSpPr>
            <p:grpSpPr>
              <a:xfrm>
                <a:off x="2951280" y="5298840"/>
                <a:ext cx="1136520" cy="734040"/>
                <a:chOff x="2951280" y="5298840"/>
                <a:chExt cx="1136520" cy="734040"/>
              </a:xfrm>
            </p:grpSpPr>
            <p:sp>
              <p:nvSpPr>
                <p:cNvPr id="523" name="Oval 34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80486" dir="2048904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Oval 35"/>
                <p:cNvSpPr/>
                <p:nvPr/>
              </p:nvSpPr>
              <p:spPr>
                <a:xfrm rot="224400">
                  <a:off x="2971440" y="5333760"/>
                  <a:ext cx="1095480" cy="6638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  <a:effectLst>
                  <a:outerShdw dist="68321" dir="6718175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Oval 36"/>
              <p:cNvSpPr/>
              <p:nvPr/>
            </p:nvSpPr>
            <p:spPr>
              <a:xfrm>
                <a:off x="3809880" y="5867280"/>
                <a:ext cx="3272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63504" dir="318390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Group 37"/>
              <p:cNvGrpSpPr/>
              <p:nvPr/>
            </p:nvGrpSpPr>
            <p:grpSpPr>
              <a:xfrm>
                <a:off x="4038480" y="5867280"/>
                <a:ext cx="1032480" cy="898200"/>
                <a:chOff x="4038480" y="5867280"/>
                <a:chExt cx="1032480" cy="898200"/>
              </a:xfrm>
            </p:grpSpPr>
            <p:sp>
              <p:nvSpPr>
                <p:cNvPr id="527" name="Freeform 38"/>
                <p:cNvSpPr/>
                <p:nvPr/>
              </p:nvSpPr>
              <p:spPr>
                <a:xfrm>
                  <a:off x="4160880" y="5867280"/>
                  <a:ext cx="614880" cy="163800"/>
                </a:xfrm>
                <a:custGeom>
                  <a:avLst/>
                  <a:gdLst/>
                  <a:ahLst/>
                  <a:rect l="l" t="t" r="r" b="b"/>
                  <a:pathLst>
                    <a:path w="968" h="258">
                      <a:moveTo>
                        <a:pt x="0" y="93"/>
                      </a:moveTo>
                      <a:cubicBezTo>
                        <a:pt x="6" y="88"/>
                        <a:pt x="24" y="65"/>
                        <a:pt x="38" y="53"/>
                      </a:cubicBezTo>
                      <a:cubicBezTo>
                        <a:pt x="52" y="41"/>
                        <a:pt x="63" y="26"/>
                        <a:pt x="83" y="18"/>
                      </a:cubicBezTo>
                      <a:cubicBezTo>
                        <a:pt x="103" y="10"/>
                        <a:pt x="133" y="4"/>
                        <a:pt x="158" y="3"/>
                      </a:cubicBezTo>
                      <a:cubicBezTo>
                        <a:pt x="183" y="2"/>
                        <a:pt x="207" y="0"/>
                        <a:pt x="233" y="10"/>
                      </a:cubicBezTo>
                      <a:cubicBezTo>
                        <a:pt x="259" y="20"/>
                        <a:pt x="281" y="34"/>
                        <a:pt x="315" y="63"/>
                      </a:cubicBezTo>
                      <a:cubicBezTo>
                        <a:pt x="349" y="92"/>
                        <a:pt x="410" y="151"/>
                        <a:pt x="435" y="183"/>
                      </a:cubicBezTo>
                      <a:cubicBezTo>
                        <a:pt x="460" y="215"/>
                        <a:pt x="460" y="258"/>
                        <a:pt x="465" y="258"/>
                      </a:cubicBezTo>
                      <a:cubicBezTo>
                        <a:pt x="470" y="258"/>
                        <a:pt x="451" y="214"/>
                        <a:pt x="465" y="183"/>
                      </a:cubicBezTo>
                      <a:cubicBezTo>
                        <a:pt x="479" y="152"/>
                        <a:pt x="513" y="94"/>
                        <a:pt x="548" y="70"/>
                      </a:cubicBezTo>
                      <a:cubicBezTo>
                        <a:pt x="583" y="46"/>
                        <a:pt x="628" y="39"/>
                        <a:pt x="675" y="40"/>
                      </a:cubicBezTo>
                      <a:cubicBezTo>
                        <a:pt x="722" y="41"/>
                        <a:pt x="790" y="61"/>
                        <a:pt x="833" y="78"/>
                      </a:cubicBezTo>
                      <a:cubicBezTo>
                        <a:pt x="876" y="95"/>
                        <a:pt x="913" y="126"/>
                        <a:pt x="935" y="141"/>
                      </a:cubicBezTo>
                      <a:cubicBezTo>
                        <a:pt x="957" y="156"/>
                        <a:pt x="961" y="163"/>
                        <a:pt x="968" y="168"/>
                      </a:cubicBezTo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Group 39"/>
                <p:cNvGrpSpPr/>
                <p:nvPr/>
              </p:nvGrpSpPr>
              <p:grpSpPr>
                <a:xfrm>
                  <a:off x="4038480" y="5968440"/>
                  <a:ext cx="1032480" cy="797040"/>
                  <a:chOff x="4038480" y="5968440"/>
                  <a:chExt cx="1032480" cy="797040"/>
                </a:xfrm>
              </p:grpSpPr>
              <p:grpSp>
                <p:nvGrpSpPr>
                  <p:cNvPr id="529" name="Group 40"/>
                  <p:cNvGrpSpPr/>
                  <p:nvPr/>
                </p:nvGrpSpPr>
                <p:grpSpPr>
                  <a:xfrm>
                    <a:off x="4744800" y="6314400"/>
                    <a:ext cx="326160" cy="451080"/>
                    <a:chOff x="4744800" y="6314400"/>
                    <a:chExt cx="326160" cy="451080"/>
                  </a:xfrm>
                </p:grpSpPr>
                <p:sp>
                  <p:nvSpPr>
                    <p:cNvPr id="530" name="Freeform 41"/>
                    <p:cNvSpPr/>
                    <p:nvPr/>
                  </p:nvSpPr>
                  <p:spPr>
                    <a:xfrm>
                      <a:off x="4744800" y="6314400"/>
                      <a:ext cx="21204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540">
                          <a:moveTo>
                            <a:pt x="0" y="0"/>
                          </a:moveTo>
                          <a:lnTo>
                            <a:pt x="374" y="360"/>
                          </a:lnTo>
                          <a:lnTo>
                            <a:pt x="374" y="54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42"/>
                    <p:cNvSpPr/>
                    <p:nvPr/>
                  </p:nvSpPr>
                  <p:spPr>
                    <a:xfrm>
                      <a:off x="4864680" y="6611760"/>
                      <a:ext cx="9648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210">
                          <a:moveTo>
                            <a:pt x="374" y="0"/>
                          </a:moveTo>
                          <a:cubicBezTo>
                            <a:pt x="311" y="75"/>
                            <a:pt x="249" y="150"/>
                            <a:pt x="187" y="180"/>
                          </a:cubicBezTo>
                          <a:cubicBezTo>
                            <a:pt x="125" y="210"/>
                            <a:pt x="62" y="195"/>
                            <a:pt x="0" y="18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43"/>
                    <p:cNvSpPr/>
                    <p:nvPr/>
                  </p:nvSpPr>
                  <p:spPr>
                    <a:xfrm>
                      <a:off x="4959720" y="6620760"/>
                      <a:ext cx="576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40">
                          <a:moveTo>
                            <a:pt x="0" y="0"/>
                          </a:moveTo>
                          <a:cubicBezTo>
                            <a:pt x="78" y="135"/>
                            <a:pt x="156" y="270"/>
                            <a:pt x="187" y="360"/>
                          </a:cubicBezTo>
                          <a:cubicBezTo>
                            <a:pt x="218" y="450"/>
                            <a:pt x="202" y="495"/>
                            <a:pt x="187" y="540"/>
                          </a:cubicBezTo>
                        </a:path>
                      </a:pathLst>
                    </a:cu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44"/>
                    <p:cNvSpPr/>
                    <p:nvPr/>
                  </p:nvSpPr>
                  <p:spPr>
                    <a:xfrm>
                      <a:off x="4961520" y="6611760"/>
                      <a:ext cx="105840" cy="101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45"/>
                    <p:cNvSpPr/>
                    <p:nvPr/>
                  </p:nvSpPr>
                  <p:spPr>
                    <a:xfrm>
                      <a:off x="4966560" y="6616080"/>
                      <a:ext cx="104400" cy="18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46"/>
                  <p:cNvGrpSpPr/>
                  <p:nvPr/>
                </p:nvGrpSpPr>
                <p:grpSpPr>
                  <a:xfrm>
                    <a:off x="4073760" y="5968440"/>
                    <a:ext cx="763560" cy="488160"/>
                    <a:chOff x="4073760" y="5968440"/>
                    <a:chExt cx="763560" cy="488160"/>
                  </a:xfrm>
                </p:grpSpPr>
                <p:sp>
                  <p:nvSpPr>
                    <p:cNvPr id="536" name="Oval 47"/>
                    <p:cNvSpPr/>
                    <p:nvPr/>
                  </p:nvSpPr>
                  <p:spPr>
                    <a:xfrm rot="20497800">
                      <a:off x="4129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Oval 48"/>
                    <p:cNvSpPr/>
                    <p:nvPr/>
                  </p:nvSpPr>
                  <p:spPr>
                    <a:xfrm rot="1094400">
                      <a:off x="4462920" y="6008040"/>
                      <a:ext cx="318240" cy="40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AutoShape 49"/>
                    <p:cNvSpPr/>
                    <p:nvPr/>
                  </p:nvSpPr>
                  <p:spPr>
                    <a:xfrm>
                      <a:off x="4248720" y="6279120"/>
                      <a:ext cx="73800" cy="102240"/>
                    </a:xfrm>
                    <a:prstGeom prst="hexagon">
                      <a:avLst>
                        <a:gd name="adj" fmla="val 3076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AutoShape 50"/>
                    <p:cNvSpPr/>
                    <p:nvPr/>
                  </p:nvSpPr>
                  <p:spPr>
                    <a:xfrm>
                      <a:off x="4524840" y="6277680"/>
                      <a:ext cx="73440" cy="102240"/>
                    </a:xfrm>
                    <a:prstGeom prst="hexagon">
                      <a:avLst>
                        <a:gd name="adj" fmla="val 33079"/>
                        <a:gd name="vf" fmla="val 11547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51"/>
                  <p:cNvGrpSpPr/>
                  <p:nvPr/>
                </p:nvGrpSpPr>
                <p:grpSpPr>
                  <a:xfrm>
                    <a:off x="4568760" y="6417000"/>
                    <a:ext cx="212040" cy="102240"/>
                    <a:chOff x="4568760" y="6417000"/>
                    <a:chExt cx="212040" cy="102240"/>
                  </a:xfrm>
                </p:grpSpPr>
                <p:sp>
                  <p:nvSpPr>
                    <p:cNvPr id="541" name="Oval 52"/>
                    <p:cNvSpPr/>
                    <p:nvPr/>
                  </p:nvSpPr>
                  <p:spPr>
                    <a:xfrm>
                      <a:off x="4668480" y="6457680"/>
                      <a:ext cx="112320" cy="54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Oval 53"/>
                    <p:cNvSpPr/>
                    <p:nvPr/>
                  </p:nvSpPr>
                  <p:spPr>
                    <a:xfrm>
                      <a:off x="4568760" y="6417000"/>
                      <a:ext cx="10584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54"/>
                  <p:cNvGrpSpPr/>
                  <p:nvPr/>
                </p:nvGrpSpPr>
                <p:grpSpPr>
                  <a:xfrm>
                    <a:off x="4038480" y="6417000"/>
                    <a:ext cx="307440" cy="120240"/>
                    <a:chOff x="4038480" y="6417000"/>
                    <a:chExt cx="307440" cy="120240"/>
                  </a:xfrm>
                </p:grpSpPr>
                <p:sp>
                  <p:nvSpPr>
                    <p:cNvPr id="544" name="Oval 55"/>
                    <p:cNvSpPr/>
                    <p:nvPr/>
                  </p:nvSpPr>
                  <p:spPr>
                    <a:xfrm>
                      <a:off x="4233600" y="6430320"/>
                      <a:ext cx="112320" cy="86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Oval 56"/>
                    <p:cNvSpPr/>
                    <p:nvPr/>
                  </p:nvSpPr>
                  <p:spPr>
                    <a:xfrm>
                      <a:off x="4142880" y="6417000"/>
                      <a:ext cx="105840" cy="101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Oval 57"/>
                    <p:cNvSpPr/>
                    <p:nvPr/>
                  </p:nvSpPr>
                  <p:spPr>
                    <a:xfrm>
                      <a:off x="4038480" y="6466680"/>
                      <a:ext cx="128520" cy="70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WordArt 58"/>
            <p:cNvSpPr txBox="1"/>
            <p:nvPr/>
          </p:nvSpPr>
          <p:spPr>
            <a:xfrm>
              <a:off x="1719000" y="4556160"/>
              <a:ext cx="198144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latin typeface="Arial Rounded MT Bold"/>
                </a:rPr>
                <a:t>oops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548" name="Group 59"/>
          <p:cNvGrpSpPr/>
          <p:nvPr/>
        </p:nvGrpSpPr>
        <p:grpSpPr>
          <a:xfrm>
            <a:off x="2590920" y="1523880"/>
            <a:ext cx="1399680" cy="1355400"/>
            <a:chOff x="2590920" y="1523880"/>
            <a:chExt cx="1399680" cy="1355400"/>
          </a:xfrm>
        </p:grpSpPr>
        <p:grpSp>
          <p:nvGrpSpPr>
            <p:cNvPr id="549" name="Group 60"/>
            <p:cNvGrpSpPr/>
            <p:nvPr/>
          </p:nvGrpSpPr>
          <p:grpSpPr>
            <a:xfrm>
              <a:off x="2648880" y="2142720"/>
              <a:ext cx="1341720" cy="736560"/>
              <a:chOff x="2648880" y="2142720"/>
              <a:chExt cx="1341720" cy="736560"/>
            </a:xfrm>
          </p:grpSpPr>
          <p:sp>
            <p:nvSpPr>
              <p:cNvPr id="550" name="Freeform 61"/>
              <p:cNvSpPr/>
              <p:nvPr/>
            </p:nvSpPr>
            <p:spPr>
              <a:xfrm>
                <a:off x="3017880" y="2208240"/>
                <a:ext cx="614520" cy="164880"/>
              </a:xfrm>
              <a:custGeom>
                <a:avLst/>
                <a:gdLst/>
                <a:ahLst/>
                <a:rect l="l" t="t" r="r" b="b"/>
                <a:pathLst>
                  <a:path w="387" h="104">
                    <a:moveTo>
                      <a:pt x="0" y="38"/>
                    </a:moveTo>
                    <a:cubicBezTo>
                      <a:pt x="9" y="33"/>
                      <a:pt x="36" y="10"/>
                      <a:pt x="51" y="5"/>
                    </a:cubicBezTo>
                    <a:cubicBezTo>
                      <a:pt x="66" y="0"/>
                      <a:pt x="81" y="2"/>
                      <a:pt x="93" y="5"/>
                    </a:cubicBezTo>
                    <a:cubicBezTo>
                      <a:pt x="104" y="9"/>
                      <a:pt x="112" y="15"/>
                      <a:pt x="126" y="26"/>
                    </a:cubicBezTo>
                    <a:cubicBezTo>
                      <a:pt x="140" y="38"/>
                      <a:pt x="164" y="61"/>
                      <a:pt x="174" y="74"/>
                    </a:cubicBezTo>
                    <a:cubicBezTo>
                      <a:pt x="184" y="87"/>
                      <a:pt x="184" y="104"/>
                      <a:pt x="186" y="104"/>
                    </a:cubicBezTo>
                    <a:cubicBezTo>
                      <a:pt x="188" y="104"/>
                      <a:pt x="179" y="86"/>
                      <a:pt x="186" y="74"/>
                    </a:cubicBezTo>
                    <a:cubicBezTo>
                      <a:pt x="193" y="62"/>
                      <a:pt x="216" y="39"/>
                      <a:pt x="231" y="29"/>
                    </a:cubicBezTo>
                    <a:cubicBezTo>
                      <a:pt x="246" y="19"/>
                      <a:pt x="263" y="14"/>
                      <a:pt x="279" y="13"/>
                    </a:cubicBezTo>
                    <a:cubicBezTo>
                      <a:pt x="295" y="12"/>
                      <a:pt x="311" y="18"/>
                      <a:pt x="327" y="25"/>
                    </a:cubicBezTo>
                    <a:cubicBezTo>
                      <a:pt x="343" y="32"/>
                      <a:pt x="364" y="50"/>
                      <a:pt x="374" y="57"/>
                    </a:cubicBezTo>
                    <a:cubicBezTo>
                      <a:pt x="384" y="64"/>
                      <a:pt x="384" y="66"/>
                      <a:pt x="387" y="6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1" name="Group 62"/>
              <p:cNvGrpSpPr/>
              <p:nvPr/>
            </p:nvGrpSpPr>
            <p:grpSpPr>
              <a:xfrm>
                <a:off x="2648880" y="2142720"/>
                <a:ext cx="398880" cy="523800"/>
                <a:chOff x="2648880" y="2142720"/>
                <a:chExt cx="398880" cy="523800"/>
              </a:xfrm>
            </p:grpSpPr>
            <p:sp>
              <p:nvSpPr>
                <p:cNvPr id="552" name="Freeform 63"/>
                <p:cNvSpPr/>
                <p:nvPr/>
              </p:nvSpPr>
              <p:spPr>
                <a:xfrm flipH="1" flipV="1">
                  <a:off x="2788560" y="2310840"/>
                  <a:ext cx="259200" cy="35568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64"/>
                <p:cNvSpPr/>
                <p:nvPr/>
              </p:nvSpPr>
              <p:spPr>
                <a:xfrm flipH="1" flipV="1">
                  <a:off x="2782800" y="2258640"/>
                  <a:ext cx="117720" cy="6228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65"/>
                <p:cNvSpPr/>
                <p:nvPr/>
              </p:nvSpPr>
              <p:spPr>
                <a:xfrm flipH="1" flipV="1">
                  <a:off x="2714400" y="2142360"/>
                  <a:ext cx="70560" cy="168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66"/>
                <p:cNvSpPr/>
                <p:nvPr/>
              </p:nvSpPr>
              <p:spPr>
                <a:xfrm flipH="1" flipV="1">
                  <a:off x="2653560" y="2202840"/>
                  <a:ext cx="129600" cy="118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67"/>
                <p:cNvSpPr/>
                <p:nvPr/>
              </p:nvSpPr>
              <p:spPr>
                <a:xfrm flipH="1" flipV="1">
                  <a:off x="2648880" y="2294280"/>
                  <a:ext cx="127440" cy="22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68"/>
              <p:cNvGrpSpPr/>
              <p:nvPr/>
            </p:nvGrpSpPr>
            <p:grpSpPr>
              <a:xfrm>
                <a:off x="3537720" y="2146680"/>
                <a:ext cx="452880" cy="601560"/>
                <a:chOff x="3537720" y="2146680"/>
                <a:chExt cx="452880" cy="601560"/>
              </a:xfrm>
            </p:grpSpPr>
            <p:sp>
              <p:nvSpPr>
                <p:cNvPr id="558" name="Freeform 69"/>
                <p:cNvSpPr/>
                <p:nvPr/>
              </p:nvSpPr>
              <p:spPr>
                <a:xfrm flipV="1" rot="523800">
                  <a:off x="3567600" y="2317320"/>
                  <a:ext cx="246960" cy="414000"/>
                </a:xfrm>
                <a:custGeom>
                  <a:avLst/>
                  <a:gdLst/>
                  <a:ahLst/>
                  <a:rect l="l" t="t" r="r" b="b"/>
                  <a:pathLst>
                    <a:path w="374" h="540">
                      <a:moveTo>
                        <a:pt x="0" y="0"/>
                      </a:moveTo>
                      <a:lnTo>
                        <a:pt x="374" y="360"/>
                      </a:lnTo>
                      <a:lnTo>
                        <a:pt x="374" y="54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70"/>
                <p:cNvSpPr/>
                <p:nvPr/>
              </p:nvSpPr>
              <p:spPr>
                <a:xfrm flipV="1" rot="523800">
                  <a:off x="3741120" y="2271240"/>
                  <a:ext cx="112320" cy="72360"/>
                </a:xfrm>
                <a:custGeom>
                  <a:avLst/>
                  <a:gdLst/>
                  <a:ahLst/>
                  <a:rect l="l" t="t" r="r" b="b"/>
                  <a:pathLst>
                    <a:path w="374" h="210">
                      <a:moveTo>
                        <a:pt x="374" y="0"/>
                      </a:moveTo>
                      <a:cubicBezTo>
                        <a:pt x="311" y="75"/>
                        <a:pt x="249" y="150"/>
                        <a:pt x="187" y="180"/>
                      </a:cubicBezTo>
                      <a:cubicBezTo>
                        <a:pt x="125" y="210"/>
                        <a:pt x="62" y="195"/>
                        <a:pt x="0" y="18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71"/>
                <p:cNvSpPr/>
                <p:nvPr/>
              </p:nvSpPr>
              <p:spPr>
                <a:xfrm flipV="1" rot="523800">
                  <a:off x="3861720" y="2150280"/>
                  <a:ext cx="67320" cy="195120"/>
                </a:xfrm>
                <a:custGeom>
                  <a:avLst/>
                  <a:gdLst/>
                  <a:ahLst/>
                  <a:rect l="l" t="t" r="r" b="b"/>
                  <a:pathLst>
                    <a:path w="218" h="540">
                      <a:moveTo>
                        <a:pt x="0" y="0"/>
                      </a:moveTo>
                      <a:cubicBezTo>
                        <a:pt x="78" y="135"/>
                        <a:pt x="156" y="270"/>
                        <a:pt x="187" y="360"/>
                      </a:cubicBezTo>
                      <a:cubicBezTo>
                        <a:pt x="218" y="450"/>
                        <a:pt x="202" y="495"/>
                        <a:pt x="187" y="54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72"/>
                <p:cNvSpPr/>
                <p:nvPr/>
              </p:nvSpPr>
              <p:spPr>
                <a:xfrm flipV="1">
                  <a:off x="3847680" y="2234520"/>
                  <a:ext cx="142920" cy="117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73"/>
                <p:cNvSpPr/>
                <p:nvPr/>
              </p:nvSpPr>
              <p:spPr>
                <a:xfrm flipV="1">
                  <a:off x="3855240" y="2342160"/>
                  <a:ext cx="12348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Group 74"/>
              <p:cNvGrpSpPr/>
              <p:nvPr/>
            </p:nvGrpSpPr>
            <p:grpSpPr>
              <a:xfrm>
                <a:off x="2895840" y="2311200"/>
                <a:ext cx="797040" cy="568080"/>
                <a:chOff x="2895840" y="2311200"/>
                <a:chExt cx="797040" cy="568080"/>
              </a:xfrm>
            </p:grpSpPr>
            <p:grpSp>
              <p:nvGrpSpPr>
                <p:cNvPr id="564" name="Group 75"/>
                <p:cNvGrpSpPr/>
                <p:nvPr/>
              </p:nvGrpSpPr>
              <p:grpSpPr>
                <a:xfrm>
                  <a:off x="2931480" y="2311200"/>
                  <a:ext cx="761400" cy="487440"/>
                  <a:chOff x="2931480" y="2311200"/>
                  <a:chExt cx="761400" cy="487440"/>
                </a:xfrm>
              </p:grpSpPr>
              <p:sp>
                <p:nvSpPr>
                  <p:cNvPr id="565" name="Oval 76"/>
                  <p:cNvSpPr/>
                  <p:nvPr/>
                </p:nvSpPr>
                <p:spPr>
                  <a:xfrm rot="20497800">
                    <a:off x="298764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Oval 77"/>
                  <p:cNvSpPr/>
                  <p:nvPr/>
                </p:nvSpPr>
                <p:spPr>
                  <a:xfrm rot="1094400">
                    <a:off x="3319560" y="2350800"/>
                    <a:ext cx="317160" cy="40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AutoShape 78"/>
                  <p:cNvSpPr/>
                  <p:nvPr/>
                </p:nvSpPr>
                <p:spPr>
                  <a:xfrm>
                    <a:off x="3106440" y="2621160"/>
                    <a:ext cx="73440" cy="101880"/>
                  </a:xfrm>
                  <a:prstGeom prst="hexagon">
                    <a:avLst>
                      <a:gd name="adj" fmla="val 3076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AutoShape 79"/>
                  <p:cNvSpPr/>
                  <p:nvPr/>
                </p:nvSpPr>
                <p:spPr>
                  <a:xfrm>
                    <a:off x="3381480" y="2620080"/>
                    <a:ext cx="73440" cy="101880"/>
                  </a:xfrm>
                  <a:prstGeom prst="hexagon">
                    <a:avLst>
                      <a:gd name="adj" fmla="val 33079"/>
                      <a:gd name="vf" fmla="val 11547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Group 80"/>
                <p:cNvGrpSpPr/>
                <p:nvPr/>
              </p:nvGrpSpPr>
              <p:grpSpPr>
                <a:xfrm>
                  <a:off x="3426120" y="2759040"/>
                  <a:ext cx="210960" cy="102960"/>
                  <a:chOff x="3426120" y="2759040"/>
                  <a:chExt cx="210960" cy="102960"/>
                </a:xfrm>
              </p:grpSpPr>
              <p:sp>
                <p:nvSpPr>
                  <p:cNvPr id="570" name="Oval 81"/>
                  <p:cNvSpPr/>
                  <p:nvPr/>
                </p:nvSpPr>
                <p:spPr>
                  <a:xfrm>
                    <a:off x="3525480" y="2800080"/>
                    <a:ext cx="111600" cy="54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Oval 82"/>
                  <p:cNvSpPr/>
                  <p:nvPr/>
                </p:nvSpPr>
                <p:spPr>
                  <a:xfrm>
                    <a:off x="3426120" y="2759040"/>
                    <a:ext cx="105480" cy="102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Group 83"/>
                <p:cNvGrpSpPr/>
                <p:nvPr/>
              </p:nvGrpSpPr>
              <p:grpSpPr>
                <a:xfrm>
                  <a:off x="2895840" y="2759040"/>
                  <a:ext cx="306360" cy="120240"/>
                  <a:chOff x="2895840" y="2759040"/>
                  <a:chExt cx="306360" cy="120240"/>
                </a:xfrm>
              </p:grpSpPr>
              <p:sp>
                <p:nvSpPr>
                  <p:cNvPr id="573" name="Oval 84"/>
                  <p:cNvSpPr/>
                  <p:nvPr/>
                </p:nvSpPr>
                <p:spPr>
                  <a:xfrm>
                    <a:off x="3090240" y="2772360"/>
                    <a:ext cx="111960" cy="86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Oval 85"/>
                  <p:cNvSpPr/>
                  <p:nvPr/>
                </p:nvSpPr>
                <p:spPr>
                  <a:xfrm>
                    <a:off x="2999880" y="2759040"/>
                    <a:ext cx="105480" cy="101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86"/>
                  <p:cNvSpPr/>
                  <p:nvPr/>
                </p:nvSpPr>
                <p:spPr>
                  <a:xfrm>
                    <a:off x="2895840" y="2808720"/>
                    <a:ext cx="128160" cy="70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6" name="WordArt 87"/>
            <p:cNvSpPr txBox="1"/>
            <p:nvPr/>
          </p:nvSpPr>
          <p:spPr>
            <a:xfrm>
              <a:off x="2590920" y="1523880"/>
              <a:ext cx="13716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Arial Rounded MT Bold"/>
                </a:rPr>
                <a:t>Yes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Rounded MT Bold"/>
                <a:ea typeface="Arial Rounded MT Bold"/>
              </a:endParaRPr>
            </a:p>
          </p:txBody>
        </p:sp>
      </p:grpSp>
      <p:pic>
        <p:nvPicPr>
          <p:cNvPr id="577" name="Picture 10" descr="G:\490185_1075b_th.png"/>
          <p:cNvPicPr/>
          <p:nvPr/>
        </p:nvPicPr>
        <p:blipFill>
          <a:blip r:embed="rId10"/>
          <a:stretch/>
        </p:blipFill>
        <p:spPr>
          <a:xfrm>
            <a:off x="4419720" y="1447920"/>
            <a:ext cx="4343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6:47:21Z</dcterms:created>
  <dc:creator>Gabi</dc:creator>
  <dc:description/>
  <dc:language>en-US</dc:language>
  <cp:lastModifiedBy>user</cp:lastModifiedBy>
  <dcterms:modified xsi:type="dcterms:W3CDTF">2019-05-06T16:19:11Z</dcterms:modified>
  <cp:revision>2</cp:revision>
  <dc:subject/>
  <dc:title>Slide 1</dc:title>
</cp:coreProperties>
</file>