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974-9215-4C91-BF05-27C4527E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496-ECA1-4023-A33B-23FED809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0A1-3D99-4B1A-8232-913629C6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A2F-2232-440F-B7F4-1C41F144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3CA-5916-4295-8438-2D63BA49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9B3-EB31-49EC-8FA9-38C78C5C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EB3-73C4-4861-A859-35E62A48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BB1-5FCB-4839-BFAB-4C8FDA37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B4F-88D6-4508-8CA5-5E801410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50D-2713-46A1-BA56-BB037379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182-6801-42B9-B7E2-8FDE476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67E-7805-4371-A910-F4F98A4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AAED-8856-4B99-8FD0-B1A80E653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ssian7.ru/post/sekrety-cygan-kotorye-neobkhodimo-zna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9"/>
          <p:cNvSpPr/>
          <p:nvPr/>
        </p:nvSpPr>
        <p:spPr>
          <a:xfrm rot="859200">
            <a:off x="926640" y="367920"/>
            <a:ext cx="7583760" cy="49467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lice"/>
              </a:rPr>
              <a:t>Цыгане – нация ми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1"/>
          <p:cNvSpPr/>
          <p:nvPr/>
        </p:nvSpPr>
        <p:spPr>
          <a:xfrm>
            <a:off x="2592360" y="4599000"/>
            <a:ext cx="3824280" cy="2070000"/>
          </a:xfrm>
          <a:prstGeom prst="ellipse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aaaaaa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4777920"/>
            <a:ext cx="9144000" cy="17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учащиеся 5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ОУ «СШ №30 с УИО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7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882720" y="317520"/>
            <a:ext cx="71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Фестиваль «Россия – наш общий д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минация «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Лучшая электронная през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национальн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431640" y="324000"/>
            <a:ext cx="8280720" cy="6210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6280" y="98280"/>
            <a:ext cx="8229600" cy="104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lice"/>
              </a:rPr>
              <a:t>Культура на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5560" y="953640"/>
            <a:ext cx="85964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терату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сни, байки, мифы, семей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енды, пословицы, поговорки и сказки (страшилки, поучительные, анекдо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е место занима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сни, роман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нематогра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 в наше время, то есть находится в заро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зы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лассическая музыка, джаз, фламенко, русский шансон, рок и эст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8650781d46a8345cfd0a69eae255916dbc81cc88261407"/>
          <p:cNvPicPr/>
          <p:nvPr/>
        </p:nvPicPr>
        <p:blipFill>
          <a:blip r:embed="rId2"/>
          <a:stretch/>
        </p:blipFill>
        <p:spPr>
          <a:xfrm>
            <a:off x="5832360" y="2843280"/>
            <a:ext cx="3168720" cy="3917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76280" y="2573280"/>
            <a:ext cx="5310000" cy="473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учи музыкальными от природы, цыган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грают на множестве инструмен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ни освоили лютню, арфу, балалайку, аккордеон, барабаны и так дал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оссии самыми «цыганскими» инструментами счит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итара и скрип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                                                    Цыганская                     ве                                                    венгерка», более                                              известная как «цыганоч                    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цыганочк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по                                                   появилась в                                           о                                                     России в XIX ве                                                   в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385920" y="4135320"/>
            <a:ext cx="3600360" cy="273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rot="859200">
            <a:off x="-1053720" y="907920"/>
            <a:ext cx="12131640" cy="49467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360" y="406080"/>
            <a:ext cx="8685360" cy="54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Alice"/>
              </a:rPr>
              <a:t>Список  источников:</a:t>
            </a: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Секреты цыган, которые необходимо знать каждом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Русская Семерка 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ssian7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ic.academic.ru/dic.nsf/brokgauz_efron/11254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ypsy-life.net/mif-25.ht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igane.clan.su/forum/24-482-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andevu-zip.narod.ru/caucase/india.ht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/search?tex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5"/>
          <p:cNvSpPr/>
          <p:nvPr/>
        </p:nvSpPr>
        <p:spPr>
          <a:xfrm>
            <a:off x="115920" y="189000"/>
            <a:ext cx="5354640" cy="6669000"/>
          </a:xfrm>
          <a:custGeom>
            <a:avLst/>
            <a:gdLst>
              <a:gd name="textAreaLeft" fmla="*/ 99000 w 5354640"/>
              <a:gd name="textAreaRight" fmla="*/ 5255640 w 5354640"/>
              <a:gd name="textAreaTop" fmla="*/ 99000 h 6669000"/>
              <a:gd name="textAreaBottom" fmla="*/ 6570000 h 6669000"/>
            </a:gdLst>
            <a:ahLst/>
            <a:rect l="textAreaLeft" t="textAreaTop" r="textAreaRight" b="textAreaBottom"/>
            <a:pathLst>
              <a:path w="21600" h="26902">
                <a:moveTo>
                  <a:pt x="1367" y="0"/>
                </a:moveTo>
                <a:arcTo wR="1367" hR="1367" stAng="16200000" swAng="-5400000"/>
                <a:lnTo>
                  <a:pt x="0" y="25535"/>
                </a:lnTo>
                <a:arcTo wR="1367" hR="1367" stAng="10800000" swAng="-5400000"/>
                <a:lnTo>
                  <a:pt x="20233" y="26902"/>
                </a:lnTo>
                <a:arcTo wR="1367" hR="1367" stAng="5400000" swAng="-5400000"/>
                <a:lnTo>
                  <a:pt x="21600" y="1367"/>
                </a:lnTo>
                <a:arcTo wR="1367" hR="1367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e5e5e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 Box 7" descr=""/>
          <p:cNvPicPr/>
          <p:nvPr/>
        </p:nvPicPr>
        <p:blipFill>
          <a:blip r:embed="rId2"/>
          <a:stretch/>
        </p:blipFill>
        <p:spPr>
          <a:xfrm>
            <a:off x="79200" y="189000"/>
            <a:ext cx="5340600" cy="751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871087095"/>
          <p:cNvPicPr/>
          <p:nvPr/>
        </p:nvPicPr>
        <p:blipFill>
          <a:blip r:embed="rId3"/>
          <a:stretch/>
        </p:blipFill>
        <p:spPr>
          <a:xfrm>
            <a:off x="5337000" y="1042920"/>
            <a:ext cx="36784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"/>
          <p:cNvSpPr/>
          <p:nvPr/>
        </p:nvSpPr>
        <p:spPr>
          <a:xfrm>
            <a:off x="431640" y="189000"/>
            <a:ext cx="8280720" cy="477036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717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lice"/>
              </a:rPr>
              <a:t>Национальные симв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6280" y="628200"/>
            <a:ext cx="8229600" cy="469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апрел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циональный день цы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ыганский флаг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ит из двух горизонтальных полей, зеленого (земля), и синего (неба). В центра флага находится красное восьмиспицевое колесо-чакра, это символ цыганской души и напоминание о традиционном кочевом образе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ыганский гим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«Джелем, джелем»; его уникальность в том, что слова и мелодия при его исполнении могут в некоторой степени варьироваться. Под цыганский гимн не встают, но танцую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цыганской символики используют также изображение колеса, кибитки, игральных карт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шадиной подко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drapeau_Rom"/>
          <p:cNvPicPr/>
          <p:nvPr/>
        </p:nvPicPr>
        <p:blipFill>
          <a:blip r:embed="rId2"/>
          <a:stretch/>
        </p:blipFill>
        <p:spPr>
          <a:xfrm>
            <a:off x="5845320" y="4660920"/>
            <a:ext cx="3298680" cy="219708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45 из 7062"/>
          <p:cNvPicPr/>
          <p:nvPr/>
        </p:nvPicPr>
        <p:blipFill>
          <a:blip r:embed="rId3"/>
          <a:stretch/>
        </p:blipFill>
        <p:spPr>
          <a:xfrm>
            <a:off x="260280" y="4367160"/>
            <a:ext cx="290664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"/>
          <p:cNvSpPr/>
          <p:nvPr/>
        </p:nvSpPr>
        <p:spPr>
          <a:xfrm>
            <a:off x="297000" y="324000"/>
            <a:ext cx="8189640" cy="6345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lice"/>
              </a:rPr>
              <a:t>традиции и обычаи цыг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5832360" cy="585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3831980"/>
          <p:cNvPicPr/>
          <p:nvPr/>
        </p:nvPicPr>
        <p:blipFill>
          <a:blip r:embed="rId2"/>
          <a:stretch/>
        </p:blipFill>
        <p:spPr>
          <a:xfrm>
            <a:off x="5742000" y="907920"/>
            <a:ext cx="3282840" cy="4326120"/>
          </a:xfrm>
          <a:prstGeom prst="rect">
            <a:avLst/>
          </a:prstGeom>
          <a:ln w="0">
            <a:noFill/>
          </a:ln>
        </p:spPr>
      </p:pic>
      <p:pic>
        <p:nvPicPr>
          <p:cNvPr id="62" name="i-main-pic" descr="Картинка 65 из 367"/>
          <p:cNvPicPr/>
          <p:nvPr/>
        </p:nvPicPr>
        <p:blipFill>
          <a:blip r:embed="rId3"/>
          <a:stretch/>
        </p:blipFill>
        <p:spPr>
          <a:xfrm>
            <a:off x="19080" y="892080"/>
            <a:ext cx="5857920" cy="3917880"/>
          </a:xfrm>
          <a:prstGeom prst="rect">
            <a:avLst/>
          </a:prstGeom>
          <a:ln w="0">
            <a:noFill/>
          </a:ln>
        </p:spPr>
      </p:pic>
      <p:pic>
        <p:nvPicPr>
          <p:cNvPr id="63" name="i-main-pic" descr="Картинка 57 из 3605"/>
          <p:cNvPicPr/>
          <p:nvPr/>
        </p:nvPicPr>
        <p:blipFill>
          <a:blip r:embed="rId4"/>
          <a:stretch/>
        </p:blipFill>
        <p:spPr>
          <a:xfrm>
            <a:off x="2362320" y="3738600"/>
            <a:ext cx="4271760" cy="311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3832029"/>
          <p:cNvPicPr/>
          <p:nvPr/>
        </p:nvPicPr>
        <p:blipFill>
          <a:blip r:embed="rId5"/>
          <a:stretch/>
        </p:blipFill>
        <p:spPr>
          <a:xfrm>
            <a:off x="25560" y="3738600"/>
            <a:ext cx="2566800" cy="313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55 из 269"/>
          <p:cNvPicPr/>
          <p:nvPr/>
        </p:nvPicPr>
        <p:blipFill>
          <a:blip r:embed="rId1"/>
          <a:stretch/>
        </p:blipFill>
        <p:spPr>
          <a:xfrm>
            <a:off x="187200" y="1584360"/>
            <a:ext cx="5072040" cy="380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278320" y="953640"/>
            <a:ext cx="3686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особенностью цыганского дома является наличие специального, очень большого помещения, возведённого часто в ущерб другим помещениям, называемого «зало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ла нужна для вмещения большого количества гостей, предполагаемых в случае какого-либо праздника: семейного сбора, свадьбы, дня рождения. Обычно на такие праздники приглашаются все географически досягаемые родствен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помогает поддерживать контакт внутри большой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36640" y="142560"/>
            <a:ext cx="42116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ыганский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431640" y="324000"/>
            <a:ext cx="8280720" cy="6210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142560"/>
            <a:ext cx="8229600" cy="85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lice"/>
              </a:rPr>
              <a:t>Блюда цыганской кух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1640" y="907920"/>
            <a:ext cx="83664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ня цыган очень прос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ще всего цыгане употребляют курицу, баранину, говядину. Особенно любят супы из свеклы, квашеной капу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ршированная рыба и дичь, мясо, обжаренное на сковороде, а затем тушенное с зеленью, быстро обжаренный на вертеле шашлык, лепешки с мясным фаршем и болгарским перцем. Мясо подается с овощами, популярный гарнир - томаты, фаршированные перченой брынз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ток - ви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обенно молдавск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ные изделия цыган - пресные лепеш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колобки пугачо, которые готовились на кост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м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ганским пирогом считается сывьяк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адкий пирог. Начинкой для него служат творог, мак, изюм, курага, другие сушеные фрукты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е национальное блюдо цыган – ёж, жареный или тушё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86788ebfce85"/>
          <p:cNvPicPr/>
          <p:nvPr/>
        </p:nvPicPr>
        <p:blipFill>
          <a:blip r:embed="rId2"/>
          <a:stretch/>
        </p:blipFill>
        <p:spPr>
          <a:xfrm>
            <a:off x="6141960" y="4703760"/>
            <a:ext cx="2809800" cy="2108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9279f71a5dfa5fd35f"/>
          <p:cNvPicPr/>
          <p:nvPr/>
        </p:nvPicPr>
        <p:blipFill>
          <a:blip r:embed="rId3"/>
          <a:stretch/>
        </p:blipFill>
        <p:spPr>
          <a:xfrm>
            <a:off x="14400" y="4675320"/>
            <a:ext cx="2746440" cy="2060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220680" y="6230880"/>
            <a:ext cx="2101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ареная св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378480" y="4765680"/>
            <a:ext cx="1260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ывья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-main-pic" descr="Картинка 8 из 516"/>
          <p:cNvPicPr/>
          <p:nvPr/>
        </p:nvPicPr>
        <p:blipFill>
          <a:blip r:embed="rId4"/>
          <a:stretch/>
        </p:blipFill>
        <p:spPr>
          <a:xfrm>
            <a:off x="2760840" y="4680000"/>
            <a:ext cx="338112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5"/>
          <p:cNvSpPr/>
          <p:nvPr/>
        </p:nvSpPr>
        <p:spPr>
          <a:xfrm>
            <a:off x="431640" y="324000"/>
            <a:ext cx="8506080" cy="6345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877000" y="857160"/>
            <a:ext cx="30160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Трепетное отношение к такой ценности, как семья, выражается в любви к детям, уважении к старшим членам семьи, признании интересов семьи выше личных, и многими другими способами, слегка различающимися у разных цыганских народносте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41280" y="9684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476280" y="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lice"/>
              </a:rPr>
              <a:t>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300px-Sorokin-Spanish_Romani_people"/>
          <p:cNvPicPr/>
          <p:nvPr/>
        </p:nvPicPr>
        <p:blipFill>
          <a:blip r:embed="rId2"/>
          <a:stretch/>
        </p:blipFill>
        <p:spPr>
          <a:xfrm>
            <a:off x="0" y="907920"/>
            <a:ext cx="587700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431640" y="324000"/>
            <a:ext cx="8280720" cy="6210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142560"/>
            <a:ext cx="8229600" cy="104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560" y="953640"/>
            <a:ext cx="85964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и придаётся очень большое значение, и поэтому с ней связано много обыч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«цыганским» профессиям относят профессии, связанные с музыкой, актёрским ремеслом, шоу-бизнесом, работой с железом и техникой, «магическими услугами», работой с животными, педагогикой и психологией (особенно для женщин), а также ювелирное ремесло и ремёсла, связанные с кустарным изготовлением предметов быта, таких как корзины, верёвки, кирпичи, по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жчины разводят лоша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нщины – гад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300px-Gypsy_Smith"/>
          <p:cNvPicPr/>
          <p:nvPr/>
        </p:nvPicPr>
        <p:blipFill>
          <a:blip r:embed="rId2"/>
          <a:stretch/>
        </p:blipFill>
        <p:spPr>
          <a:xfrm>
            <a:off x="4976640" y="3433680"/>
            <a:ext cx="360072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6"/>
          <p:cNvSpPr/>
          <p:nvPr/>
        </p:nvSpPr>
        <p:spPr>
          <a:xfrm>
            <a:off x="431640" y="324000"/>
            <a:ext cx="8280720" cy="6210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280" y="142560"/>
            <a:ext cx="4861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lice"/>
              </a:rPr>
              <a:t>Г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2000" y="1179000"/>
            <a:ext cx="5214960" cy="507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ание только у цыган стало массовой профессией. За столетия был выработан ряд приемов - элементы афёры. Постоянное общение с людьми делало цыганок психологами. Благодаря богатому жизненному опыту, они действительно могли сделать достоверный прогноз, дать хороший совет. Цыганки выполняли в обществе ту функцию, которую сейчас выполняют «телефо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я» и тому подоб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3831984"/>
          <p:cNvPicPr/>
          <p:nvPr/>
        </p:nvPicPr>
        <p:blipFill>
          <a:blip r:embed="rId2"/>
          <a:stretch/>
        </p:blipFill>
        <p:spPr>
          <a:xfrm>
            <a:off x="5470560" y="17640"/>
            <a:ext cx="3686040" cy="36813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13 из 367"/>
          <p:cNvPicPr/>
          <p:nvPr/>
        </p:nvPicPr>
        <p:blipFill>
          <a:blip r:embed="rId3"/>
          <a:stretch/>
        </p:blipFill>
        <p:spPr>
          <a:xfrm>
            <a:off x="3681360" y="3738600"/>
            <a:ext cx="4160880" cy="311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49:07Z</dcterms:created>
  <dc:creator>WiZaRd</dc:creator>
  <dc:description/>
  <dc:language>en-US</dc:language>
  <cp:lastModifiedBy>Анатолий Солодилов</cp:lastModifiedBy>
  <dcterms:modified xsi:type="dcterms:W3CDTF">2019-05-06T13:54:31Z</dcterms:modified>
  <cp:revision>41</cp:revision>
  <dc:subject/>
  <dc:title>Слайд 1</dc:title>
</cp:coreProperties>
</file>