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gif" ContentType="image/gif"/>
  <Override PartName="/ppt/media/image10.png" ContentType="image/png"/>
  <Override PartName="/ppt/media/image5.png" ContentType="image/png"/>
  <Override PartName="/ppt/media/image2.gif" ContentType="image/gif"/>
  <Override PartName="/ppt/media/image11.png" ContentType="image/png"/>
  <Override PartName="/ppt/media/image6.png" ContentType="image/png"/>
  <Override PartName="/ppt/media/image14.wmf" ContentType="image/x-wmf"/>
  <Override PartName="/ppt/media/image3.wmf" ContentType="image/x-wmf"/>
  <Override PartName="/ppt/media/image1.gif" ContentType="image/gif"/>
  <Override PartName="/ppt/media/image4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80850A-4AF5-4ABB-9356-9E24FCF81F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CA978-392C-4075-9BAB-C4EC69BDFF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48A040-F4AC-4114-97DB-E3A7701369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614C47-04F8-4DDD-BFD3-C2A3882510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B9505-8030-43C3-92D4-BACF16EE2C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CB540F-E706-4105-B3C4-FD7304D0FC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42DA18-F83E-4189-B3C4-4F1DB84A85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BDFE4E-4E51-4E41-B150-B7D408509C5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117384-09EC-4578-9A09-27F63BC939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6AD90B-BEAA-4A84-B54E-0AB6F3B5F5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2AE483-D2E1-42B2-AEC8-601291D48C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6C0591-B906-443B-BE4A-6336091AB6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6C75D-3C21-427E-8DE0-4984E93950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FD315-2E4F-45ED-9A68-025D408F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30DD8-74CF-4455-B2D8-303FD0A3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CEADA-B9ED-4AC9-9C80-D1E9B0711E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D1D63-E9D7-4A99-96BF-8A61F73E05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516CAF-7125-4F31-A50E-AEA8316B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71E9E3-5659-44BB-B4B4-E2EA475F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E7924-BC00-4FCE-AFCD-EDA9BB20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53DD6-4532-48F0-921D-F712E0338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C1A88E-62F8-4FC2-BD00-E9149BA7A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D7B2DF-5BE2-4039-9F60-8DA088CA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D8E25-9BC5-457B-86FB-229A612A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C2AC33-2E0F-442B-9641-A7544FDC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8D7B9E-A74D-41AB-A640-B436127C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C1BFC-F131-4453-8516-7C723A64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473E4A-FB2F-43AA-9A1F-17D498D7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D9F089-145D-42FB-8465-CE233801BA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03487-57A2-4660-AEC7-268A7698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EBB34-60B5-4B7A-B5FD-8103836F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FC6B2-A7A3-4DEF-AA0B-7D208C50C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D24B6-798E-4F59-ADAE-32FB422C7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62B72-F17F-4917-ACDD-346915DE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E74D8-774F-459E-B329-8E0B3583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F8B00-8324-43FA-9423-1576F425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e8f5"/>
            </a:gs>
            <a:gs pos="100000">
              <a:srgbClr val="9ab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.1.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CE458CF-561C-44C9-A0E7-214A2634A67F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e8f5"/>
            </a:gs>
            <a:gs pos="100000">
              <a:srgbClr val="9ab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.1.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1DA405F-D660-434C-99E0-4DF7201D69B7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84000" y="1339920"/>
            <a:ext cx="7993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идактические игры и игровые приемы на уроках русского язык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spcAft>
                <a:spcPts val="140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помогает формированию фонематического восприятия слова, обогащает ребенка новыми сведениями, активирует мыслительную деятельность, внимание, а главное- стимулирует реч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3527280" y="620640"/>
            <a:ext cx="25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8459640" y="2852640"/>
            <a:ext cx="503280" cy="3527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 rot="16200000">
            <a:off x="6874560" y="4510800"/>
            <a:ext cx="503280" cy="3527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 rot="5400000">
            <a:off x="1837440" y="-1321560"/>
            <a:ext cx="503280" cy="3527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4"/>
          <a:stretch/>
        </p:blipFill>
        <p:spPr>
          <a:xfrm>
            <a:off x="252360" y="289080"/>
            <a:ext cx="503280" cy="352728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7"/>
          <p:cNvSpPr/>
          <p:nvPr/>
        </p:nvSpPr>
        <p:spPr>
          <a:xfrm flipV="1">
            <a:off x="3898800" y="6832440"/>
            <a:ext cx="1346400" cy="46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-9000" bIns="162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900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324000" y="404640"/>
            <a:ext cx="82296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нить словосочетания одним слово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28404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межуток времени в 60 мину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28404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еннослужащий, стоящий на пост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28404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бенок, любящий сладко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28404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чень смешной филь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и слова на две групп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28404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родственные слова. Выдели корен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чи предложения,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омы и Жоры есть …………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жды они пошли в…………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друг из кустов выскочил…………….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 ребята долго вспоминали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ь рассказ, используя опорные сло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28404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а, снежок, морозец, деревья, холод, снегир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6227640" y="3645000"/>
            <a:ext cx="2087640" cy="14540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4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гровые зад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50004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285840" y="0"/>
            <a:ext cx="8286840" cy="25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8000" spc="-1" strike="noStrike">
                <a:solidFill>
                  <a:srgbClr val="000000"/>
                </a:solidFill>
                <a:latin typeface="Times New Roman"/>
              </a:rPr>
              <a:t>Спасибо, за              внимание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3544920" y="2421000"/>
            <a:ext cx="185112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1116000" y="4940280"/>
            <a:ext cx="3378240" cy="785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 rot="10800000">
            <a:off x="4572000" y="4871520"/>
            <a:ext cx="3378240" cy="785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3"/>
          <a:stretch/>
        </p:blipFill>
        <p:spPr>
          <a:xfrm>
            <a:off x="1187280" y="1268280"/>
            <a:ext cx="3378240" cy="785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4"/>
          <a:stretch/>
        </p:blipFill>
        <p:spPr>
          <a:xfrm rot="10800000">
            <a:off x="4643280" y="1270800"/>
            <a:ext cx="3378240" cy="7858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7"/>
          <p:cNvSpPr/>
          <p:nvPr/>
        </p:nvSpPr>
        <p:spPr>
          <a:xfrm>
            <a:off x="1295280" y="720720"/>
            <a:ext cx="7344000" cy="19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гра «Выбери три слов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400"/>
              </a:spcBef>
              <a:spcAft>
                <a:spcPts val="140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06200" y="1871640"/>
            <a:ext cx="9026640" cy="33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Цель: Проследить за формированием орфографического навыка с учетом этапа работы над орфографией. Подбор слов зависит от изучаемых или пройденных тем. Например, несклоняемые имена существительные. На 9 карточках записаны девять слов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-й набор: рыбка, депо, чулок, плато, варенье, стул, ручьи, кафе, гриб. (депо, плато, кафе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-й набор: жалюзи, склад, ворона, град, съемка, клад, тире, подъем, реле. (жалюзи, тире, реле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Двое берут по очереди карточки, выигрывает тот, у кого первого окажутся три слова , имеющую одинаковую орфограмму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34920" y="549360"/>
            <a:ext cx="1538280" cy="981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1224000" y="146160"/>
            <a:ext cx="7343640" cy="64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гра « Шифровальщики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ь: развитие фонетико-фонематического восприятия и процессов анализа и синтеза, обогащение словарного запаса учащихся, развитие логического мыш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д: Играют в парах: один в роли шифровальщика, другой - отгадчика. Шифровальщик задумывает слово и шифрует его. Играющие могут попробовать свои силы в расшифровке словосочетаний и предло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400"/>
              </a:spcBef>
              <a:spcAft>
                <a:spcPts val="140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150920" y="3789360"/>
            <a:ext cx="756144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гадчику предстоит не только отгадать слова, но и выбрать из каждой группы лишнее слово. Например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алтрек, лажок, раукжк, зоонкв ( тарелка, ложка, кружка, звонок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арз, страа, енкл, роамкша ( роза, астра, клен, ромашк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наеат, здзеав, отрбиа, сген ( планета, звезда, орбита, снег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468360" y="981000"/>
            <a:ext cx="85694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У двух  матерей  по пять сыновей, все  в одно имя . (Ру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Я  травянистое растение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С цветком  сиреневого цве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Но переставьте удар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        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И превращусь  я  в конфету. (Ири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Серый, усатый , весь полосатый. Кто  такой ?  (Ко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2320920" cy="18036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2556000" y="482760"/>
            <a:ext cx="3671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t">
            <a:noAutofit/>
          </a:bodyPr>
          <a:p>
            <a:pPr algn="ctr">
              <a:lnSpc>
                <a:spcPct val="95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Отгадайте загад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272880" y="1093680"/>
            <a:ext cx="3437280" cy="2349720"/>
          </a:xfrm>
          <a:prstGeom prst="rect">
            <a:avLst/>
          </a:prstGeom>
          <a:ln w="190440">
            <a:solidFill>
              <a:srgbClr val="c8c6bd"/>
            </a:solidFill>
            <a:miter/>
          </a:ln>
        </p:spPr>
      </p:pic>
      <p:pic>
        <p:nvPicPr>
          <p:cNvPr id="115" name="Picture 4" descr=""/>
          <p:cNvPicPr/>
          <p:nvPr/>
        </p:nvPicPr>
        <p:blipFill>
          <a:blip r:embed="rId2"/>
          <a:stretch/>
        </p:blipFill>
        <p:spPr>
          <a:xfrm>
            <a:off x="285840" y="3890880"/>
            <a:ext cx="4214880" cy="2610000"/>
          </a:xfrm>
          <a:prstGeom prst="rect">
            <a:avLst/>
          </a:prstGeom>
          <a:ln w="190440">
            <a:solidFill>
              <a:srgbClr val="c8c6bd"/>
            </a:solidFill>
            <a:miter/>
          </a:ln>
        </p:spPr>
      </p:pic>
      <p:sp>
        <p:nvSpPr>
          <p:cNvPr id="116" name="Rectangle 7"/>
          <p:cNvSpPr/>
          <p:nvPr/>
        </p:nvSpPr>
        <p:spPr>
          <a:xfrm>
            <a:off x="1354320" y="0"/>
            <a:ext cx="60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Разгадайте ребусы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3"/>
          <a:stretch/>
        </p:blipFill>
        <p:spPr>
          <a:xfrm>
            <a:off x="4067280" y="1162080"/>
            <a:ext cx="3989160" cy="2214360"/>
          </a:xfrm>
          <a:prstGeom prst="rect">
            <a:avLst/>
          </a:prstGeom>
          <a:ln w="76320">
            <a:solidFill>
              <a:srgbClr val="292929"/>
            </a:solidFill>
            <a:miter/>
          </a:ln>
        </p:spPr>
      </p:pic>
      <p:pic>
        <p:nvPicPr>
          <p:cNvPr id="118" name="Picture 6" descr=""/>
          <p:cNvPicPr/>
          <p:nvPr/>
        </p:nvPicPr>
        <p:blipFill>
          <a:blip r:embed="rId4"/>
          <a:stretch/>
        </p:blipFill>
        <p:spPr>
          <a:xfrm>
            <a:off x="4932360" y="3886200"/>
            <a:ext cx="3805200" cy="2246400"/>
          </a:xfrm>
          <a:prstGeom prst="rect">
            <a:avLst/>
          </a:prstGeom>
          <a:ln w="76320">
            <a:solidFill>
              <a:srgbClr val="292929"/>
            </a:solidFill>
            <a:miter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5257800" y="549360"/>
            <a:ext cx="3738600" cy="2849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228600" y="1347840"/>
            <a:ext cx="3489480" cy="5029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22" name="Picture 4" descr=""/>
          <p:cNvPicPr/>
          <p:nvPr/>
        </p:nvPicPr>
        <p:blipFill>
          <a:blip r:embed="rId3"/>
          <a:stretch/>
        </p:blipFill>
        <p:spPr>
          <a:xfrm>
            <a:off x="4191120" y="3716280"/>
            <a:ext cx="3952800" cy="2976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23" name="Прямоугольник 1"/>
          <p:cNvSpPr/>
          <p:nvPr/>
        </p:nvSpPr>
        <p:spPr>
          <a:xfrm>
            <a:off x="-22320" y="0"/>
            <a:ext cx="5483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йдите знач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фразеологиз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8360" y="357120"/>
          <a:ext cx="2087640" cy="5937480"/>
        </p:xfrm>
        <a:graphic>
          <a:graphicData uri="http://schemas.openxmlformats.org/drawingml/2006/table">
            <a:tbl>
              <a:tblPr/>
              <a:tblGrid>
                <a:gridCol w="2087640"/>
              </a:tblGrid>
              <a:tr h="5937480">
                <a:tc>
                  <a:txBody>
                    <a:bodyPr tIns="774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Rectangle 233"/>
          <p:cNvSpPr/>
          <p:nvPr/>
        </p:nvSpPr>
        <p:spPr>
          <a:xfrm>
            <a:off x="395280" y="357120"/>
            <a:ext cx="867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полните клет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иноним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"/>
          <p:cNvPicPr/>
          <p:nvPr/>
        </p:nvPicPr>
        <p:blipFill>
          <a:blip r:embed="rId1"/>
          <a:stretch/>
        </p:blipFill>
        <p:spPr>
          <a:xfrm>
            <a:off x="1332000" y="1755720"/>
            <a:ext cx="6624720" cy="489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863640" y="1008000"/>
            <a:ext cx="4716360" cy="270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28000" y="4756320"/>
            <a:ext cx="2016000" cy="21016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324000" y="3311640"/>
            <a:ext cx="8028000" cy="32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лючевое слово: Раздел науки о языке, в котором изучаются словосочетание и предложение, правила их постро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горизонтали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ложения, имеющие, кроме главных членов, хотя бы один второстепенны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говор двух или нескольких лиц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лены предложения, отвечающие на один и тот же вопрос и относящиеся к одному и тому же члену предло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ложения, в которых мы побуждаем кого-либо к действию, приказываем, проси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ово (или сочетание слов), называющее того, к кому обращаются с речь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вный член предло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ложение, которое состоит из двух или нескольких простых предлож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нак препинания, которым выделяется прямая реч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торостепенный член предло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079640" y="0"/>
            <a:ext cx="7343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РОССВО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28480" y="18900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еформированный текс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1"/>
          <p:cNvSpPr/>
          <p:nvPr/>
        </p:nvSpPr>
        <p:spPr>
          <a:xfrm>
            <a:off x="395280" y="836640"/>
            <a:ext cx="8209080" cy="48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____________ перемены в ле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приходом _______________ зимы в лесу всё изменилось. Заснул в ________ норе барсук. Под  ______________ кочкой уснула до весны гадюка. _________ куропатка сменила __________ ___________ одежду на _____________.  ____________ шубку надел горностай. Только _____________ кончик хвоста выдаёт _______________ зверь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лова для справок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долгожданный, глубокий, м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ховой, белый, летний, пёстрый, зимний, белый, чёрный, провор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ветлана Басова</dc:creator>
  <dc:description/>
  <dc:language>en-US</dc:language>
  <cp:lastModifiedBy>BASOVA</cp:lastModifiedBy>
  <dcterms:modified xsi:type="dcterms:W3CDTF">2019-05-06T19:00:28Z</dcterms:modified>
  <cp:revision>17</cp:revision>
  <dc:subject/>
  <dc:title>Презентация PowerPoint</dc:title>
</cp:coreProperties>
</file>