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gif" ContentType="image/gif"/>
  <Override PartName="/ppt/media/image10.png" ContentType="image/png"/>
  <Override PartName="/ppt/media/image5.png" ContentType="image/png"/>
  <Override PartName="/ppt/media/image2.gif" ContentType="image/gif"/>
  <Override PartName="/ppt/media/image11.png" ContentType="image/png"/>
  <Override PartName="/ppt/media/image6.png" ContentType="image/png"/>
  <Override PartName="/ppt/media/image14.wmf" ContentType="image/x-wmf"/>
  <Override PartName="/ppt/media/image3.wmf" ContentType="image/x-wmf"/>
  <Override PartName="/ppt/media/image1.gif" ContentType="image/gif"/>
  <Override PartName="/ppt/media/image4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DF6AE4-D87D-4CF8-A8B8-0917E387E4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1F6E51-E395-4AB1-9C25-1A51A73E7C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F22D37-A39A-44A6-9881-36343FAB615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6CA9A7-7F39-4F64-A895-B91752911B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292A22-0DE9-4192-BC3F-B2C88D9EFE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31AE56-2FD1-4F45-BE13-58518DBA3A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888F6A-D072-47B8-9F90-4EBA24612C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85E746-D95A-4241-A32D-C247B4A097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B87E65-F1EA-43BD-8994-F9040115F6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5B1658-EAD2-4CC0-8A95-44747B0214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544790-1E1B-4784-B88E-231D9A3FC8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DE567D-63F2-4F2E-BDE5-ACC32435B5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0207D-A737-4021-A6F8-8D525DB132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406C4-09E8-4A91-8D7A-50DBEE57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91B5A-71C3-4912-AFCD-3290B681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F2993-589B-4243-998C-093F217B71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3C8F65-DC4C-42C9-80FF-CBC67ED3B4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DBCC2A-23E5-48C1-B8CC-64E7FDD1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762233-7B0D-4701-B684-BD3FDE4B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F1F338-A157-4BB1-B433-A513F71C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C8B253-DAEB-4EC5-BAEC-64EEA8226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04C217-9133-40D8-9F11-56C63C9D9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1A8DE1-4A85-4B61-8698-6925BD0B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A69D5-FD50-43B5-A1FA-EF7F1410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60A39-D524-4DB5-A8EF-C6D323D4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FD1F2-4F38-4AF8-B4E6-2F8128A5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52D5F-4DC1-46B3-904C-2E8B265E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94604C-E368-418C-9F76-F863DD96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358541-BDB9-4FA0-BABA-55E44004E0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2ABA8-8F36-44B4-8C73-7CAA75B1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EE185-C5A2-450F-A887-97A0241A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A380E-F477-4827-AA01-B940B60EB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0CB17-4077-4F23-821F-672601B1B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78B97-521E-4AE2-B325-EE0F7FA3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B3E45-9F2B-4D11-958D-4D3F658E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41B04-7769-4CF6-AA5F-8B581213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e8f5"/>
            </a:gs>
            <a:gs pos="100000">
              <a:srgbClr val="9ab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.1.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966EB0E-6F0C-4D92-93D6-18753822E977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e8f5"/>
            </a:gs>
            <a:gs pos="100000">
              <a:srgbClr val="9ab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.1.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78704CB-5C9A-4D14-B88C-A4D0F390B991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84000" y="1339920"/>
            <a:ext cx="7993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идактические игры и игровые приемы на уроках русского язык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spcAft>
                <a:spcPts val="140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помогает формированию фонематического восприятия слова, обогащает ребенка новыми сведениями, активирует мыслительную деятельность, внимание, а главное- стимулирует реч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3527280" y="620640"/>
            <a:ext cx="25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8459640" y="2852640"/>
            <a:ext cx="503280" cy="3527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 rot="16200000">
            <a:off x="6874560" y="4510800"/>
            <a:ext cx="503280" cy="3527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 rot="5400000">
            <a:off x="1837440" y="-1321560"/>
            <a:ext cx="503280" cy="3527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4"/>
          <a:stretch/>
        </p:blipFill>
        <p:spPr>
          <a:xfrm>
            <a:off x="252360" y="289080"/>
            <a:ext cx="503280" cy="352728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7"/>
          <p:cNvSpPr/>
          <p:nvPr/>
        </p:nvSpPr>
        <p:spPr>
          <a:xfrm flipV="1">
            <a:off x="3898800" y="6832440"/>
            <a:ext cx="1346400" cy="46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-9000" bIns="162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900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324000" y="404640"/>
            <a:ext cx="82296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нить словосочетания одним слово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28404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межуток времени в 60 мину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28404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еннослужащий, стоящий на пост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28404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бенок, любящий сладко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28404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чень смешной филь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и слова на две групп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28404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родственные слова. Выдели корен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чи предложения,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омы и Жоры есть …………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жды они пошли в…………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друг из кустов выскочил…………….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 ребята долго вспоминали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ь рассказ, используя опорные сло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28404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а, снежок, морозец, деревья, холод, снегир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6227640" y="3645000"/>
            <a:ext cx="2087640" cy="14540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4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гровые зад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50004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285840" y="0"/>
            <a:ext cx="8286840" cy="25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8000" spc="-1" strike="noStrike">
                <a:solidFill>
                  <a:srgbClr val="000000"/>
                </a:solidFill>
                <a:latin typeface="Times New Roman"/>
              </a:rPr>
              <a:t>Спасибо, за              внимание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3544920" y="2421000"/>
            <a:ext cx="185112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1116000" y="4940280"/>
            <a:ext cx="3378240" cy="785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 rot="10800000">
            <a:off x="4572000" y="4871520"/>
            <a:ext cx="3378240" cy="785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3"/>
          <a:stretch/>
        </p:blipFill>
        <p:spPr>
          <a:xfrm>
            <a:off x="1187280" y="1268280"/>
            <a:ext cx="3378240" cy="785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4"/>
          <a:stretch/>
        </p:blipFill>
        <p:spPr>
          <a:xfrm rot="10800000">
            <a:off x="4643280" y="1270800"/>
            <a:ext cx="3378240" cy="7858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7"/>
          <p:cNvSpPr/>
          <p:nvPr/>
        </p:nvSpPr>
        <p:spPr>
          <a:xfrm>
            <a:off x="1295280" y="720720"/>
            <a:ext cx="7344000" cy="19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гра «Выбери три слов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400"/>
              </a:spcBef>
              <a:spcAft>
                <a:spcPts val="140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06200" y="1871640"/>
            <a:ext cx="9026640" cy="33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Цель: Проследить за формированием орфографического навыка с учетом этапа работы над орфографией. Подбор слов зависит от изучаемых или пройденных тем. Например, несклоняемые имена существительные. На 9 карточках записаны девять слов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-й набор: рыбка, депо, чулок, плато, варенье, стул, ручьи, кафе, гриб. (депо, плато, кафе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-й набор: жалюзи, склад, ворона, град, съемка, клад, тире, подъем, реле. (жалюзи, тире, реле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Двое берут по очереди карточки, выигрывает тот, у кого первого окажутся три слова , имеющую одинаковую орфограмму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34920" y="549360"/>
            <a:ext cx="1538280" cy="981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1224000" y="146160"/>
            <a:ext cx="7343640" cy="64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гра « Шифровальщики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ь: развитие фонетико-фонематического восприятия и процессов анализа и синтеза, обогащение словарного запаса учащихся, развитие логического мыш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д: Играют в парах: один в роли шифровальщика, другой - отгадчика. Шифровальщик задумывает слово и шифрует его. Играющие могут попробовать свои силы в расшифровке словосочетаний и предло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400"/>
              </a:spcBef>
              <a:spcAft>
                <a:spcPts val="140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150920" y="3789360"/>
            <a:ext cx="756144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гадчику предстоит не только отгадать слова, но и выбрать из каждой группы лишнее слово. Например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алтрек, лажок, раукжк, зоонкв ( тарелка, ложка, кружка, звонок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арз, страа, енкл, роамкша ( роза, астра, клен, ромашк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наеат, здзеав, отрбиа, сген ( планета, звезда, орбита, снег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468360" y="981000"/>
            <a:ext cx="85694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У двух  матерей  по пять сыновей, все  в одно имя . (Ру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Я  травянистое растение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С цветком  сиреневого цве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Но переставьте удар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        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И превращусь  я  в конфету. (Ири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Серый, усатый , весь полосатый. Кто  такой ?  (Ко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2320920" cy="18036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2556000" y="482760"/>
            <a:ext cx="3671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t">
            <a:noAutofit/>
          </a:bodyPr>
          <a:p>
            <a:pPr algn="ctr">
              <a:lnSpc>
                <a:spcPct val="95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Отгадайте загад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272880" y="1093680"/>
            <a:ext cx="3437280" cy="2349720"/>
          </a:xfrm>
          <a:prstGeom prst="rect">
            <a:avLst/>
          </a:prstGeom>
          <a:ln w="190440">
            <a:solidFill>
              <a:srgbClr val="c8c6bd"/>
            </a:solidFill>
            <a:miter/>
          </a:ln>
        </p:spPr>
      </p:pic>
      <p:pic>
        <p:nvPicPr>
          <p:cNvPr id="115" name="Picture 4" descr=""/>
          <p:cNvPicPr/>
          <p:nvPr/>
        </p:nvPicPr>
        <p:blipFill>
          <a:blip r:embed="rId2"/>
          <a:stretch/>
        </p:blipFill>
        <p:spPr>
          <a:xfrm>
            <a:off x="285840" y="3890880"/>
            <a:ext cx="4214880" cy="2610000"/>
          </a:xfrm>
          <a:prstGeom prst="rect">
            <a:avLst/>
          </a:prstGeom>
          <a:ln w="190440">
            <a:solidFill>
              <a:srgbClr val="c8c6bd"/>
            </a:solidFill>
            <a:miter/>
          </a:ln>
        </p:spPr>
      </p:pic>
      <p:sp>
        <p:nvSpPr>
          <p:cNvPr id="116" name="Rectangle 7"/>
          <p:cNvSpPr/>
          <p:nvPr/>
        </p:nvSpPr>
        <p:spPr>
          <a:xfrm>
            <a:off x="1354320" y="0"/>
            <a:ext cx="60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Разгадайте ребусы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3"/>
          <a:stretch/>
        </p:blipFill>
        <p:spPr>
          <a:xfrm>
            <a:off x="4067280" y="1162080"/>
            <a:ext cx="3989160" cy="2214360"/>
          </a:xfrm>
          <a:prstGeom prst="rect">
            <a:avLst/>
          </a:prstGeom>
          <a:ln w="76320">
            <a:solidFill>
              <a:srgbClr val="292929"/>
            </a:solidFill>
            <a:miter/>
          </a:ln>
        </p:spPr>
      </p:pic>
      <p:pic>
        <p:nvPicPr>
          <p:cNvPr id="118" name="Picture 6" descr=""/>
          <p:cNvPicPr/>
          <p:nvPr/>
        </p:nvPicPr>
        <p:blipFill>
          <a:blip r:embed="rId4"/>
          <a:stretch/>
        </p:blipFill>
        <p:spPr>
          <a:xfrm>
            <a:off x="4932360" y="3886200"/>
            <a:ext cx="3805200" cy="2246400"/>
          </a:xfrm>
          <a:prstGeom prst="rect">
            <a:avLst/>
          </a:prstGeom>
          <a:ln w="76320">
            <a:solidFill>
              <a:srgbClr val="292929"/>
            </a:solidFill>
            <a:miter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5257800" y="549360"/>
            <a:ext cx="3738600" cy="2849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228600" y="1347840"/>
            <a:ext cx="3489480" cy="5029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4191120" y="3716280"/>
            <a:ext cx="3952800" cy="2976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23" name="Прямоугольник 1"/>
          <p:cNvSpPr/>
          <p:nvPr/>
        </p:nvSpPr>
        <p:spPr>
          <a:xfrm>
            <a:off x="-22320" y="0"/>
            <a:ext cx="5483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йдите знач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фразеологиз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8360" y="357120"/>
          <a:ext cx="2087640" cy="5937480"/>
        </p:xfrm>
        <a:graphic>
          <a:graphicData uri="http://schemas.openxmlformats.org/drawingml/2006/table">
            <a:tbl>
              <a:tblPr/>
              <a:tblGrid>
                <a:gridCol w="2087640"/>
              </a:tblGrid>
              <a:tr h="5937480">
                <a:tc>
                  <a:txBody>
                    <a:bodyPr tIns="774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Rectangle 233"/>
          <p:cNvSpPr/>
          <p:nvPr/>
        </p:nvSpPr>
        <p:spPr>
          <a:xfrm>
            <a:off x="395280" y="357120"/>
            <a:ext cx="867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полните клет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иноним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"/>
          <p:cNvPicPr/>
          <p:nvPr/>
        </p:nvPicPr>
        <p:blipFill>
          <a:blip r:embed="rId1"/>
          <a:stretch/>
        </p:blipFill>
        <p:spPr>
          <a:xfrm>
            <a:off x="1332000" y="1755720"/>
            <a:ext cx="6624720" cy="489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863640" y="1008000"/>
            <a:ext cx="4716360" cy="270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28000" y="4756320"/>
            <a:ext cx="2016000" cy="21016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324000" y="3311640"/>
            <a:ext cx="8028000" cy="32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лючевое слово: Раздел науки о языке, в котором изучаются словосочетание и предложение, правила их постро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горизонтали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ложения, имеющие, кроме главных членов, хотя бы один второстепенны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говор двух или нескольких лиц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лены предложения, отвечающие на один и тот же вопрос и относящиеся к одному и тому же члену предло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ложения, в которых мы побуждаем кого-либо к действию, приказываем, проси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ово (или сочетание слов), называющее того, к кому обращаются с речь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вный член предло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ложение, которое состоит из двух или нескольких простых предлож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нак препинания, которым выделяется прямая реч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торостепенный член предло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079640" y="0"/>
            <a:ext cx="7343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РОССВО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28480" y="18900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еформированный текс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1"/>
          <p:cNvSpPr/>
          <p:nvPr/>
        </p:nvSpPr>
        <p:spPr>
          <a:xfrm>
            <a:off x="395280" y="836640"/>
            <a:ext cx="8209080" cy="48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____________ перемены в ле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приходом _______________ зимы в лесу всё изменилось. Заснул в ________ норе барсук. Под  ______________ кочкой уснула до весны гадюка. _________ куропатка сменила __________ ___________ одежду на _____________.  ____________ шубку надел горностай. Только _____________ кончик хвоста выдаёт _______________ зверь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лова для справок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долгожданный, глубокий, м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ховой, белый, летний, пёстрый, зимний, белый, чёрный, провор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ветлана Басова</dc:creator>
  <dc:description/>
  <dc:language>en-US</dc:language>
  <cp:lastModifiedBy>BASOVA</cp:lastModifiedBy>
  <dcterms:modified xsi:type="dcterms:W3CDTF">2019-05-06T19:00:28Z</dcterms:modified>
  <cp:revision>17</cp:revision>
  <dc:subject/>
  <dc:title>Презентация PowerPoint</dc:title>
</cp:coreProperties>
</file>