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73DA-2E7D-4EFB-A4BC-A55BE0EAE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0DF4-BEED-4362-8CD1-C0340288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441C-837C-4767-8864-B7AB7154C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6FA7-8855-4006-BDEF-078F1B8E3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9B89-914F-46CC-BA50-060DBB14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6903-7C93-4139-AB76-BE482B68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7E6E-4F1B-4EE3-BBA6-019CFC89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C25E-55CE-48C9-B5C4-E21B6398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05C7-540B-45A8-972C-F5E6BE13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E49F-7A66-465E-BD15-1FB74863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29AA-8D38-4153-A365-5BB931AB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4A00-E2C0-4967-9FBC-7E01BDE5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523B-889E-4F79-B2F1-F3D10088A0F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371600" y="457200"/>
            <a:ext cx="640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Изделия из дерев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" name="Picture 5" descr="119961024"/>
          <p:cNvPicPr/>
          <p:nvPr/>
        </p:nvPicPr>
        <p:blipFill>
          <a:blip r:embed="rId1"/>
          <a:stretch/>
        </p:blipFill>
        <p:spPr>
          <a:xfrm>
            <a:off x="228600" y="2590920"/>
            <a:ext cx="5867280" cy="372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58380340_49835506_images"/>
          <p:cNvPicPr/>
          <p:nvPr/>
        </p:nvPicPr>
        <p:blipFill>
          <a:blip r:embed="rId2"/>
          <a:stretch/>
        </p:blipFill>
        <p:spPr>
          <a:xfrm>
            <a:off x="6172200" y="2590920"/>
            <a:ext cx="28242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YKTGg4iIr4o"/>
          <p:cNvPicPr/>
          <p:nvPr/>
        </p:nvPicPr>
        <p:blipFill>
          <a:blip r:embed="rId1"/>
          <a:stretch/>
        </p:blipFill>
        <p:spPr>
          <a:xfrm>
            <a:off x="533520" y="228600"/>
            <a:ext cx="7848360" cy="58863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2514600" y="60958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арел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decorativnie-doski-1"/>
          <p:cNvPicPr/>
          <p:nvPr/>
        </p:nvPicPr>
        <p:blipFill>
          <a:blip r:embed="rId1"/>
          <a:stretch/>
        </p:blipFill>
        <p:spPr>
          <a:xfrm>
            <a:off x="838080" y="228600"/>
            <a:ext cx="7696440" cy="57801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2514600" y="60199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делочные дос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Мебел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0" name="Picture 4" descr="l7"/>
          <p:cNvPicPr/>
          <p:nvPr/>
        </p:nvPicPr>
        <p:blipFill>
          <a:blip r:embed="rId1"/>
          <a:stretch/>
        </p:blipFill>
        <p:spPr>
          <a:xfrm>
            <a:off x="1295280" y="1219320"/>
            <a:ext cx="6782040" cy="5086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2362320" y="61722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ол со стулья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store_apendix_big18428_7899"/>
          <p:cNvPicPr/>
          <p:nvPr/>
        </p:nvPicPr>
        <p:blipFill>
          <a:blip r:embed="rId1"/>
          <a:stretch/>
        </p:blipFill>
        <p:spPr>
          <a:xfrm>
            <a:off x="228600" y="228600"/>
            <a:ext cx="8763120" cy="51260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2057400" y="533412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альный гарнитур из дере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«Что лишнее?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5" name="Picture 4" descr="_1_18_1290"/>
          <p:cNvPicPr/>
          <p:nvPr/>
        </p:nvPicPr>
        <p:blipFill>
          <a:blip r:embed="rId1"/>
          <a:stretch/>
        </p:blipFill>
        <p:spPr>
          <a:xfrm>
            <a:off x="304920" y="152280"/>
            <a:ext cx="2082600" cy="3124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1-stulchiki-detskie-iz-dereva"/>
          <p:cNvPicPr/>
          <p:nvPr/>
        </p:nvPicPr>
        <p:blipFill>
          <a:blip r:embed="rId2"/>
          <a:stretch/>
        </p:blipFill>
        <p:spPr>
          <a:xfrm>
            <a:off x="6780240" y="0"/>
            <a:ext cx="2363760" cy="3152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Ложка-з-дерева-1259653779_99"/>
          <p:cNvPicPr/>
          <p:nvPr/>
        </p:nvPicPr>
        <p:blipFill>
          <a:blip r:embed="rId3"/>
          <a:stretch/>
        </p:blipFill>
        <p:spPr>
          <a:xfrm>
            <a:off x="380880" y="3581280"/>
            <a:ext cx="4496040" cy="2997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4f0cacc83dd70s"/>
          <p:cNvPicPr/>
          <p:nvPr/>
        </p:nvPicPr>
        <p:blipFill>
          <a:blip r:embed="rId4"/>
          <a:stretch/>
        </p:blipFill>
        <p:spPr>
          <a:xfrm>
            <a:off x="5334120" y="3581280"/>
            <a:ext cx="361944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1600200" y="30492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Загадк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533520" y="144792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Под крышей четыре нож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крыше – суп, да лож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5562720" y="17524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Стол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533520" y="2590920"/>
            <a:ext cx="7467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Разноцветные Подружк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Перепрятались друг в дружке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Мал, мала, меньш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6172200" y="34290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Матрешк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533520" y="4419720"/>
            <a:ext cx="571500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Утром, вечером и днём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Соберёмся за столом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Ждут нас каша, суп, окрошк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А поможет есть и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4343400" y="57150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Ложк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imes New Roman"/>
              </a:rPr>
              <a:t>Виды изделий из дерев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зные украш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груш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у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бе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езные украш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7" name="Picture 4" descr="jewelry-wood"/>
          <p:cNvPicPr/>
          <p:nvPr/>
        </p:nvPicPr>
        <p:blipFill>
          <a:blip r:embed="rId1"/>
          <a:stretch/>
        </p:blipFill>
        <p:spPr>
          <a:xfrm>
            <a:off x="1676520" y="1143000"/>
            <a:ext cx="5943600" cy="47894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2362320" y="60199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ерьг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shkatulka-derevo"/>
          <p:cNvPicPr/>
          <p:nvPr/>
        </p:nvPicPr>
        <p:blipFill>
          <a:blip r:embed="rId1"/>
          <a:stretch/>
        </p:blipFill>
        <p:spPr>
          <a:xfrm>
            <a:off x="762120" y="304920"/>
            <a:ext cx="7543800" cy="55483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4267080" y="5562720"/>
            <a:ext cx="1143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2743200" y="58672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Шкатул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Игрушк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3" name="Picture 5" descr="40-12-005-01b_enl"/>
          <p:cNvPicPr/>
          <p:nvPr/>
        </p:nvPicPr>
        <p:blipFill>
          <a:blip r:embed="rId1"/>
          <a:stretch/>
        </p:blipFill>
        <p:spPr>
          <a:xfrm>
            <a:off x="1752480" y="1143000"/>
            <a:ext cx="5973840" cy="5100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2362320" y="61722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ошадка-качал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wonderworld-natural-stacking-ring-bestcom2u-1407-31-bestcom2u@3"/>
          <p:cNvPicPr/>
          <p:nvPr/>
        </p:nvPicPr>
        <p:blipFill>
          <a:blip r:embed="rId1"/>
          <a:stretch/>
        </p:blipFill>
        <p:spPr>
          <a:xfrm>
            <a:off x="380880" y="152280"/>
            <a:ext cx="2819520" cy="5639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fl1396693980"/>
          <p:cNvPicPr/>
          <p:nvPr/>
        </p:nvPicPr>
        <p:blipFill>
          <a:blip r:embed="rId2"/>
          <a:stretch/>
        </p:blipFill>
        <p:spPr>
          <a:xfrm>
            <a:off x="3809880" y="304920"/>
            <a:ext cx="4745160" cy="48006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3657600" y="53341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ирамидки из дерев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v1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58323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2057400" y="594360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Матрешки из дерев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суд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1" name="Picture 4" descr="DSC00657"/>
          <p:cNvPicPr/>
          <p:nvPr/>
        </p:nvPicPr>
        <p:blipFill>
          <a:blip r:embed="rId1"/>
          <a:stretch/>
        </p:blipFill>
        <p:spPr>
          <a:xfrm>
            <a:off x="1295280" y="1066680"/>
            <a:ext cx="6782040" cy="50864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2286000" y="60199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Чаш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8"/>
          <p:cNvPicPr/>
          <p:nvPr/>
        </p:nvPicPr>
        <p:blipFill>
          <a:blip r:embed="rId1"/>
          <a:stretch/>
        </p:blipFill>
        <p:spPr>
          <a:xfrm>
            <a:off x="685800" y="228600"/>
            <a:ext cx="7810560" cy="58579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2133720" y="601992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ож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0T11:49:43Z</dcterms:created>
  <dc:creator>Admin</dc:creator>
  <dc:description/>
  <dc:language>en-US</dc:language>
  <cp:lastModifiedBy>Анна</cp:lastModifiedBy>
  <dcterms:modified xsi:type="dcterms:W3CDTF">2019-05-06T06:28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