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22C-BDCF-4A75-8807-165DE61D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B08-6C3B-4655-939A-8A2F2739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CDE-9D0A-4AA5-911F-83E00116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4CE-E0B6-414E-9D2E-11889C6F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E8B-CB05-4712-94FA-B2C4016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1A3-F81F-4461-8D6A-D40C97B6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298-65CC-4579-831E-19D58EA4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D344-4BB4-43D6-A8EF-EEFD9D60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CA7-8B71-4C73-9D84-5AE452F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24F-F567-42FB-8CD2-ADD7B227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50D-2CF7-42D5-9B98-62BB8F9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0CE-55F0-4B42-847A-87F1BB5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D14-1A66-45C2-8574-0D32E3F082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371600" y="45720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Изделия из дере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5" descr="119961024"/>
          <p:cNvPicPr/>
          <p:nvPr/>
        </p:nvPicPr>
        <p:blipFill>
          <a:blip r:embed="rId1"/>
          <a:stretch/>
        </p:blipFill>
        <p:spPr>
          <a:xfrm>
            <a:off x="228600" y="2590920"/>
            <a:ext cx="5867280" cy="372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8380340_49835506_images"/>
          <p:cNvPicPr/>
          <p:nvPr/>
        </p:nvPicPr>
        <p:blipFill>
          <a:blip r:embed="rId2"/>
          <a:stretch/>
        </p:blipFill>
        <p:spPr>
          <a:xfrm>
            <a:off x="6172200" y="2590920"/>
            <a:ext cx="2824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YKTGg4iIr4o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588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2514600" y="60958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рел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ecorativnie-doski-1"/>
          <p:cNvPicPr/>
          <p:nvPr/>
        </p:nvPicPr>
        <p:blipFill>
          <a:blip r:embed="rId1"/>
          <a:stretch/>
        </p:blipFill>
        <p:spPr>
          <a:xfrm>
            <a:off x="838080" y="228600"/>
            <a:ext cx="7696440" cy="5780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2514600" y="6019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очные до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ебе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l7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86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6172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 со стуль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tore_apendix_big18428_7899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5126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057400" y="53341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альный гарнитур из дере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«Что лишнее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_1_18_1290"/>
          <p:cNvPicPr/>
          <p:nvPr/>
        </p:nvPicPr>
        <p:blipFill>
          <a:blip r:embed="rId1"/>
          <a:stretch/>
        </p:blipFill>
        <p:spPr>
          <a:xfrm>
            <a:off x="304920" y="152280"/>
            <a:ext cx="2082600" cy="3124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-stulchiki-detskie-iz-dereva"/>
          <p:cNvPicPr/>
          <p:nvPr/>
        </p:nvPicPr>
        <p:blipFill>
          <a:blip r:embed="rId2"/>
          <a:stretch/>
        </p:blipFill>
        <p:spPr>
          <a:xfrm>
            <a:off x="6780240" y="0"/>
            <a:ext cx="2363760" cy="315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Ложка-з-дерева-1259653779_99"/>
          <p:cNvPicPr/>
          <p:nvPr/>
        </p:nvPicPr>
        <p:blipFill>
          <a:blip r:embed="rId3"/>
          <a:stretch/>
        </p:blipFill>
        <p:spPr>
          <a:xfrm>
            <a:off x="380880" y="3581280"/>
            <a:ext cx="4496040" cy="299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4f0cacc83dd70s"/>
          <p:cNvPicPr/>
          <p:nvPr/>
        </p:nvPicPr>
        <p:blipFill>
          <a:blip r:embed="rId4"/>
          <a:stretch/>
        </p:blipFill>
        <p:spPr>
          <a:xfrm>
            <a:off x="5334120" y="3581280"/>
            <a:ext cx="36194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600200" y="3049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гадк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33520" y="144792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Под крышей четыре но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рыше – суп, да лож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562720" y="1752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Сто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33520" y="259092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Разноцветные Подружк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Перепрятались друг в дружке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Мал, мала, мен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172200" y="3429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Матреш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33520" y="4419720"/>
            <a:ext cx="5715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Утром, вечером и днём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Соберёмся за столо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Ждут нас каша, суп, окрошк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А поможет есть 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343400" y="5715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Лож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imes New Roman"/>
              </a:rPr>
              <a:t>Виды изделий из дерев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зные украш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уш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б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зные украш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4" descr="jewelry-wood"/>
          <p:cNvPicPr/>
          <p:nvPr/>
        </p:nvPicPr>
        <p:blipFill>
          <a:blip r:embed="rId1"/>
          <a:stretch/>
        </p:blipFill>
        <p:spPr>
          <a:xfrm>
            <a:off x="1676520" y="1143000"/>
            <a:ext cx="5943600" cy="478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362320" y="6019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рь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hkatulka-derevo"/>
          <p:cNvPicPr/>
          <p:nvPr/>
        </p:nvPicPr>
        <p:blipFill>
          <a:blip r:embed="rId1"/>
          <a:stretch/>
        </p:blipFill>
        <p:spPr>
          <a:xfrm>
            <a:off x="762120" y="304920"/>
            <a:ext cx="7543800" cy="5548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267080" y="5562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743200" y="58672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катул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груш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40-12-005-01b_enl"/>
          <p:cNvPicPr/>
          <p:nvPr/>
        </p:nvPicPr>
        <p:blipFill>
          <a:blip r:embed="rId1"/>
          <a:stretch/>
        </p:blipFill>
        <p:spPr>
          <a:xfrm>
            <a:off x="1752480" y="1143000"/>
            <a:ext cx="5973840" cy="5100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362320" y="61722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ошадка-кач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onderworld-natural-stacking-ring-bestcom2u-1407-31-bestcom2u@3"/>
          <p:cNvPicPr/>
          <p:nvPr/>
        </p:nvPicPr>
        <p:blipFill>
          <a:blip r:embed="rId1"/>
          <a:stretch/>
        </p:blipFill>
        <p:spPr>
          <a:xfrm>
            <a:off x="380880" y="152280"/>
            <a:ext cx="2819520" cy="5639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l1396693980"/>
          <p:cNvPicPr/>
          <p:nvPr/>
        </p:nvPicPr>
        <p:blipFill>
          <a:blip r:embed="rId2"/>
          <a:stretch/>
        </p:blipFill>
        <p:spPr>
          <a:xfrm>
            <a:off x="3809880" y="304920"/>
            <a:ext cx="474516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57600" y="53341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ирамидки из дер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v1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3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057400" y="5943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атрешки из дере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су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DSC00657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286000" y="6019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8"/>
          <p:cNvPicPr/>
          <p:nvPr/>
        </p:nvPicPr>
        <p:blipFill>
          <a:blip r:embed="rId1"/>
          <a:stretch/>
        </p:blipFill>
        <p:spPr>
          <a:xfrm>
            <a:off x="685800" y="228600"/>
            <a:ext cx="7810560" cy="585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2133720" y="60199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ож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0T11:49:43Z</dcterms:created>
  <dc:creator>Admin</dc:creator>
  <dc:description/>
  <dc:language>en-US</dc:language>
  <cp:lastModifiedBy>Анна</cp:lastModifiedBy>
  <dcterms:modified xsi:type="dcterms:W3CDTF">2019-05-06T06:28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