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4AEA-C19C-43A8-BFA4-E1EC90DF2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276F-1869-46B9-BB2B-D911A7D6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D9A4-1FF7-4293-B62E-33E4206B5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6229-E1B3-4801-87E1-A5D4BFD2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61AD-2F83-4F0E-AAA1-C1B765FC2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DBBD-6321-4475-96B4-AA93806B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E3DD-8EB0-400C-96CC-22C3698E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3AB3-05F2-4C51-BFA6-8A907BB6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D761-B482-4A13-BD88-DFCC5E21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B829-F748-4D4B-920A-38DC98FD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87B9-50D1-4DA2-8970-1ED32F86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6A26-D7A8-4ED6-B9BE-2C22A91A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7131-4E8F-43D6-BAED-4E771B70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28A5-9D21-4124-9543-6941486C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6C8C-E9D2-470D-B5F8-0D524DA5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3718-E0CF-499B-BA84-6041FB6E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69FA-8D8A-41B8-B427-1A5A24366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3A2EB-63AD-439C-A541-E64FCBFA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0E41E-7C5D-47E4-9EB2-35C44987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8FC1D-1E3A-4BF0-ADE3-72706463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77B8B-96D6-41A3-B92B-F8C96394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654B1-107F-40A2-82B7-3DB74A06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5A91-66E1-4C83-8B33-8F878687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9C778-70EF-45BD-AAA3-6B06B3BB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014B9-ED3C-4444-938A-4F436BD2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F104E-456A-4AC0-9E5E-F0CB9F99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42FFD-F177-4485-A223-1110FE5D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47F86-04FE-4625-870E-09497489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0500E-FDC1-41DE-B38A-DCA46D1C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FB375-50FE-4F26-A193-D9C5B213A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EE597-3393-4494-9CF2-360E1EF29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5C8F1-6F71-49FC-97F0-9A733495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2A635-A169-4C46-B51A-98534C4C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AE77-B628-4782-A994-E97E6CF6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33DFC-F110-4136-8CC8-03BBEB80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40A7B-61DC-4E9D-AF11-702D27C8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2796F-E9CC-4B00-975D-BF3063C4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889F0-DC29-48BF-988D-1CA2C689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C39B7-FF25-4F9E-A39E-426D18C3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8AFA8-C9FF-484E-B7A5-A61B1A85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B189A-1B41-4AC3-8B89-9F04AF1E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D3812-815C-4C27-B079-9997B3687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2032C-7D70-4F46-B7CF-02054EC3B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03583-E46C-4BC7-9619-14016183E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E437-5A3A-4A31-9F5C-55F61B59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E4684-D119-4109-AA6C-A0D099EA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F8B1E-CDCB-46D4-AACA-E817C205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65C88-845B-4F59-A240-79A05009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C6677-1AE2-4201-8692-15E60D7D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6A529-5453-44B5-B9B2-1F24E2CF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6E422-AAE9-4F69-B78E-3EC606EC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48C61-D660-4993-A13E-68C8C3F6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6A69F-AC6C-4D5E-A222-FF7BF1D2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A03D7-0CCE-436C-9E6A-EA731306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05236-43D9-4B2D-BC64-9EC9970AC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C69A-0D3C-4316-B645-CB90DBA9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1353F-8681-418F-8ED0-262FD78A3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EC712-7975-4B02-8E2C-E945C6F3C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E6183-A893-4216-9BAE-AFB76454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4B5F4-B2D9-4B85-9331-A5CA5A61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CD778-B92C-4477-A58E-94AD6A29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64901-CD2A-4C26-A0CA-39E56AE9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5EA7F-CAC8-4503-B760-4994BCBA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F2F95-E92F-45B8-BBB9-61E3EB53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9C7BD-687D-4971-AA1B-52226746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9BEB1-901A-4CC5-A082-03A1D7F7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5398-6058-4919-BB2C-BB735B2B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ED4B6-8035-4676-9E5B-BED98B74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BB537-2703-4971-95F4-9019FF27E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3B457-7651-465F-9775-28F7F4DE9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5BBA0-A261-4859-826F-2FE548F19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14FA5-910E-457A-9531-149C6F56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BF6CC-D1F4-40B4-A702-0A79223A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A2457-6BBD-4A7B-81EB-6BD4E652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58114-0EFE-42E0-A7C8-D5F9C8D7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290A9-0CE0-49FA-B186-703F070E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B9287-8F38-4953-951D-C969B33E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5025-10F5-468F-8BE9-3AFDAD71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79500-622D-46AB-A002-D70D2255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897B6-3715-4A4A-8A55-99FE2844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243A7-4F34-4778-95A6-A21F734E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DCAAF-E691-4655-B462-32CBBE419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67710-9D32-4951-99A9-E45EDD555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A6BC5-DBD2-466A-BAA1-F3CDA3EBE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5A63C-1D45-4EE1-AB81-7894815F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9A8D3-215F-4E21-A452-521D579D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762B8-01FF-40E2-AAF1-E005FD2C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55E95-67E3-4BE0-B741-AA57D728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3D85-8F4B-4696-B24B-36F64E3D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C3D29-6FC6-4E59-B3B2-069B5104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604CE-8432-4C2A-B7BA-EBEAED38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1FF0F-8E6F-4327-AA18-07B60CD2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27E2F-DDC3-479D-A473-C085E349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26516-61C6-4A1F-BBE1-C6BE9476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956E3-C0CA-456E-915B-AD7A9302E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277E5-B290-44A2-9A88-BF008891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4A67-4FAD-44D0-9BC6-578C5BFA09B5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E8AB-A1E5-4D11-9BFA-6F6AA20D974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BCFA-E619-448A-8032-BE4B51F48E15}" type="datetime">
              <a:rPr b="0" lang="ru-RU" sz="10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AE4C-6712-4FF2-988D-717FDD66465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C404-809A-4E54-9592-323623F9483C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98D3-ED40-4889-B32C-87EA40C2ED4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DAD5-3E92-44F4-BEF0-32FF7E9E5B31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1D48-2676-4DCB-8D06-8FF5B9A7D0C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3BCD-6CAA-471B-9F2C-A3F8ABD0D2AF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608D-8261-487C-9237-E5C26A97120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CD9F-51D1-4744-B9D2-BBE102A33229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5B58-2A95-4174-9C1D-E28A3478475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2BA0-E6C5-42E8-B4ED-5627B646100F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9170-C65A-4385-8DAC-678ACE93F30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5A01-903E-43DD-BF48-20AC96E088E7}" type="datetime">
              <a:rPr b="0" lang="ru-RU" sz="10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CD5D-914E-4D10-A924-C06B050726F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Дата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32F7-A69E-4CDA-8EDB-8D358D4F292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WordArt 8"/>
          <p:cNvSpPr txBox="1"/>
          <p:nvPr/>
        </p:nvSpPr>
        <p:spPr>
          <a:xfrm>
            <a:off x="0" y="98100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День Матер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373" name="Rectangle 10"/>
          <p:cNvSpPr/>
          <p:nvPr/>
        </p:nvSpPr>
        <p:spPr>
          <a:xfrm>
            <a:off x="1643040" y="1747440"/>
            <a:ext cx="662472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Мама — первое слово,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Главное слово в каждой судьбе.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Мама жизнь подарила,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Мир подарила мне и тебе.</a:t>
            </a:r>
            <a:br>
              <a:rPr sz="4000"/>
            </a:b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2719-0EE4-4015-B72B-14E87D1071B9}" type="datetime">
              <a:rPr b="0" lang="ru-RU" sz="1200" spc="-1" strike="noStrike">
                <a:solidFill>
                  <a:srgbClr val="898989"/>
                </a:solidFill>
                <a:latin typeface="Lucida Sans Unicode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0DC1-EBAE-4B10-BD67-26705399EB42}" type="slidenum">
              <a:rPr b="0" lang="ru-RU" sz="1200" spc="-1" strike="noStrike">
                <a:solidFill>
                  <a:srgbClr val="898989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WordArt 4" descr=""/>
          <p:cNvPicPr/>
          <p:nvPr/>
        </p:nvPicPr>
        <p:blipFill>
          <a:blip r:embed="rId1"/>
          <a:stretch/>
        </p:blipFill>
        <p:spPr>
          <a:xfrm>
            <a:off x="-6480" y="171360"/>
            <a:ext cx="7918560" cy="162720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5"/>
          <p:cNvSpPr/>
          <p:nvPr/>
        </p:nvSpPr>
        <p:spPr>
          <a:xfrm>
            <a:off x="395280" y="1415880"/>
            <a:ext cx="78120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реди многочисленных праздников, отмечаемых в нашей стране,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День Матери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занимает особое место. Это праздник, к которому никто не может остаться равнодушны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 этот день хочется сказать слова благодарности всем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Матерям,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которые дарят детям любовь, добро, нежность и лас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E5DC-9D96-4479-83CA-B15054EE2058}" type="datetime">
              <a:rPr b="0" lang="ru-RU" sz="1200" spc="-1" strike="noStrike">
                <a:solidFill>
                  <a:srgbClr val="898989"/>
                </a:solidFill>
                <a:latin typeface="Lucida Sans Unicode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ECE2-2E82-45A2-AD3B-5BE82FBC1F94}" type="slidenum">
              <a:rPr b="0" lang="ru-RU" sz="1200" spc="-1" strike="noStrike">
                <a:solidFill>
                  <a:srgbClr val="898989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WordArt 7" descr=""/>
          <p:cNvPicPr/>
          <p:nvPr/>
        </p:nvPicPr>
        <p:blipFill>
          <a:blip r:embed="rId1"/>
          <a:stretch/>
        </p:blipFill>
        <p:spPr>
          <a:xfrm>
            <a:off x="-6480" y="274680"/>
            <a:ext cx="8693280" cy="168732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9"/>
          <p:cNvSpPr/>
          <p:nvPr/>
        </p:nvSpPr>
        <p:spPr>
          <a:xfrm>
            <a:off x="1187280" y="2349360"/>
            <a:ext cx="5905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пасибо вам, родные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И пусть каждой из вас почаще      говор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теплые слова ваши любимые дет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2464-AFA8-440E-88CE-76663F008119}" type="datetime">
              <a:rPr b="0" lang="ru-RU" sz="1200" spc="-1" strike="noStrike">
                <a:solidFill>
                  <a:srgbClr val="898989"/>
                </a:solidFill>
                <a:latin typeface="Lucida Sans Unicode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1E69-21D4-47CA-9F31-EF57BEB8D208}" type="slidenum">
              <a:rPr b="0" lang="ru-RU" sz="1200" spc="-1" strike="noStrike">
                <a:solidFill>
                  <a:srgbClr val="898989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WordArt 4"/>
          <p:cNvSpPr txBox="1"/>
          <p:nvPr/>
        </p:nvSpPr>
        <p:spPr>
          <a:xfrm>
            <a:off x="0" y="549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День Матер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500040" y="1567800"/>
            <a:ext cx="828036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Нет, наверно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ни одной страны, где бы не отмечал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ень Матер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0000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В России День матери стали отмечать сравнительно недав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Установленный Указом Президента Российской Федерации Б. Н. Ельцина № 120 «О Дне матери» от 30 января 1998 года, он празднуется в последнее воскресенье ноября, воздавая должное материнскому труду и их бескорыстной жертве ради блага своих де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7011-3B9D-447D-91E5-1F598439EEA9}" type="datetime">
              <a:rPr b="0" lang="ru-RU" sz="1200" spc="-1" strike="noStrike">
                <a:solidFill>
                  <a:srgbClr val="898989"/>
                </a:solidFill>
                <a:latin typeface="Lucida Sans Unicode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E592-FBB1-4B2B-AB75-D07471127D03}" type="slidenum">
              <a:rPr b="0" lang="ru-RU" sz="1200" spc="-1" strike="noStrike">
                <a:solidFill>
                  <a:srgbClr val="898989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WordArt 4"/>
          <p:cNvSpPr txBox="1"/>
          <p:nvPr/>
        </p:nvSpPr>
        <p:spPr>
          <a:xfrm>
            <a:off x="0" y="549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День Матер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179280" y="1176120"/>
            <a:ext cx="8964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8119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cc0000"/>
                </a:solidFill>
                <a:latin typeface="Monotype Corsiva"/>
              </a:rPr>
              <a:t>Новый праздник —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День Матери</a:t>
            </a:r>
            <a:r>
              <a:rPr b="0" lang="ru-RU" sz="4000" spc="-1" strike="noStrike">
                <a:solidFill>
                  <a:srgbClr val="cc0000"/>
                </a:solidFill>
                <a:latin typeface="Monotype Corsiva"/>
              </a:rPr>
              <a:t> — постепенно входит в российские дом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Monotype Corsiva"/>
              </a:rPr>
              <a:t>                 </a:t>
            </a:r>
            <a:r>
              <a:rPr b="0" lang="ru-RU" sz="4000" spc="-1" strike="noStrike">
                <a:solidFill>
                  <a:srgbClr val="cc0000"/>
                </a:solidFill>
                <a:latin typeface="Monotype Corsiva"/>
              </a:rPr>
              <a:t>И это замечательно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Monotype Corsiva"/>
              </a:rPr>
              <a:t>сколько бы   хороших, добрых слов мы не говорили нашим мамам, сколько бы поводов для этого ни придумали, лишними они не буду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21C1-4F4F-48FF-B05B-108C65FFACD0}" type="datetime">
              <a:rPr b="0" lang="ru-RU" sz="1200" spc="-1" strike="noStrike">
                <a:solidFill>
                  <a:srgbClr val="898989"/>
                </a:solidFill>
                <a:latin typeface="Lucida Sans Unicode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82CA-A9EE-45F5-AD2D-C20CE7FE147B}" type="slidenum">
              <a:rPr b="0" lang="ru-RU" sz="1200" spc="-1" strike="noStrike">
                <a:solidFill>
                  <a:srgbClr val="898989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WordArt 4"/>
          <p:cNvSpPr txBox="1"/>
          <p:nvPr/>
        </p:nvSpPr>
        <p:spPr>
          <a:xfrm>
            <a:off x="0" y="549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День Матер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324000" y="1452960"/>
            <a:ext cx="8569080" cy="48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Monotype Corsiva"/>
              </a:rPr>
              <a:t>ИСТОРИЯ ПРАЗДНИКА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Monotype Corsiva"/>
              </a:rPr>
              <a:t>    </a:t>
            </a:r>
            <a:r>
              <a:rPr b="1" lang="ru-RU" sz="3200" spc="-1" strike="noStrike">
                <a:solidFill>
                  <a:srgbClr val="a50021"/>
                </a:solidFill>
                <a:latin typeface="Monotype Corsiva"/>
              </a:rPr>
              <a:t>Чествование женщины-матери имеет многовековую истор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Monotype Corsiva"/>
              </a:rPr>
              <a:t>По некоторым источникам традиция празднования Дня матери берет начало еще в женских мистериях 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древнего Рима,</a:t>
            </a:r>
            <a:r>
              <a:rPr b="1" lang="ru-RU" sz="3200" spc="-1" strike="noStrike">
                <a:solidFill>
                  <a:srgbClr val="a50021"/>
                </a:solidFill>
                <a:latin typeface="Monotype Corsiva"/>
              </a:rPr>
              <a:t> предназначенных для почитания Великой Матери - богини, матери всех богов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.    </a:t>
            </a: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098A-C301-4863-A26A-8075DD23FA3C}" type="datetime">
              <a:rPr b="0" lang="ru-RU" sz="1200" spc="-1" strike="noStrike">
                <a:solidFill>
                  <a:srgbClr val="898989"/>
                </a:solidFill>
                <a:latin typeface="Lucida Sans Unicode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B87F-D242-467E-AE64-E9D598CE1D5B}" type="slidenum">
              <a:rPr b="0" lang="ru-RU" sz="1200" spc="-1" strike="noStrike">
                <a:solidFill>
                  <a:srgbClr val="898989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WordArt 4"/>
          <p:cNvSpPr txBox="1"/>
          <p:nvPr/>
        </p:nvSpPr>
        <p:spPr>
          <a:xfrm>
            <a:off x="0" y="549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День Матер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574560" y="1666080"/>
            <a:ext cx="8569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Monotype Corsiva"/>
              </a:rPr>
              <a:t>     </a:t>
            </a:r>
            <a:r>
              <a:rPr b="1" lang="ru-RU" sz="3200" spc="-1" strike="noStrike">
                <a:solidFill>
                  <a:srgbClr val="a50021"/>
                </a:solidFill>
                <a:latin typeface="Monotype Corsiva"/>
              </a:rPr>
              <a:t>С XVII по XIX век в 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Великобритании </a:t>
            </a:r>
            <a:r>
              <a:rPr b="1" lang="ru-RU" sz="3200" spc="-1" strike="noStrike">
                <a:solidFill>
                  <a:srgbClr val="a50021"/>
                </a:solidFill>
                <a:latin typeface="Monotype Corsiva"/>
              </a:rPr>
              <a:t>отмечалось так называемое «Материнское воскресенье» — четвёртое воскресенье Великого поста, посвящённое чествованию матерей по всей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BE46-0ECC-4283-9DC9-0454A8E288E9}" type="datetime">
              <a:rPr b="0" lang="ru-RU" sz="1200" spc="-1" strike="noStrike">
                <a:solidFill>
                  <a:srgbClr val="898989"/>
                </a:solidFill>
                <a:latin typeface="Lucida Sans Unicode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2990-A6A2-47CA-8314-A8865E19DE64}" type="slidenum">
              <a:rPr b="0" lang="ru-RU" sz="1200" spc="-1" strike="noStrike">
                <a:solidFill>
                  <a:srgbClr val="898989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WordArt 4"/>
          <p:cNvSpPr txBox="1"/>
          <p:nvPr/>
        </p:nvSpPr>
        <p:spPr>
          <a:xfrm>
            <a:off x="0" y="549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День Матер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503280" y="2071800"/>
            <a:ext cx="8640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 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США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«День матери»     — день единства матерей в борьбе за мир во всём мире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 1910 году штат Виргиния первый признал День Матери официальным праздником. В 1914 году, президент США Вудро Вильсон объявил второе воскресенье мая национальным праздником в честь всех американских мате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813F-8C75-4AC2-8745-C02724B2001A}" type="datetime">
              <a:rPr b="0" lang="ru-RU" sz="1200" spc="-1" strike="noStrike">
                <a:solidFill>
                  <a:srgbClr val="898989"/>
                </a:solidFill>
                <a:latin typeface="Lucida Sans Unicode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AE4F-DEF6-428D-8070-D703D4E88984}" type="slidenum">
              <a:rPr b="0" lang="ru-RU" sz="1200" spc="-1" strike="noStrike">
                <a:solidFill>
                  <a:srgbClr val="898989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WordArt 4"/>
          <p:cNvSpPr txBox="1"/>
          <p:nvPr/>
        </p:nvSpPr>
        <p:spPr>
          <a:xfrm>
            <a:off x="0" y="6429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День Матер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574560" y="1095480"/>
            <a:ext cx="856944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Monotype Corsiva"/>
              </a:rPr>
              <a:t>     </a:t>
            </a: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     </a:t>
            </a:r>
            <a:r>
              <a:rPr b="1" lang="ru-RU" sz="2800" spc="-1" strike="noStrike">
                <a:solidFill>
                  <a:srgbClr val="a50021"/>
                </a:solidFill>
                <a:latin typeface="Monotype Corsiva"/>
              </a:rPr>
              <a:t>День Матери во второе воскресенье мая отмечают также </a:t>
            </a: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Мальта, Дания, Финляндия, Германия, Италия, Турция, Австралия, Япония. </a:t>
            </a: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Мальтийцы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отмечают День матери с незапамятных времен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В </a:t>
            </a: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Эстонии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День матери отмечают с 1992 года во второе воскресенье мая. В этот день вывешиваются флаги. Накануне в детских садах проходят утренники, а в школах - концерты для мам; дети дарят мамам открыточки и подар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DD43-62A3-4F24-B4C8-E5FAE6E1F23F}" type="datetime">
              <a:rPr b="0" lang="ru-RU" sz="1200" spc="-1" strike="noStrike">
                <a:solidFill>
                  <a:srgbClr val="898989"/>
                </a:solidFill>
                <a:latin typeface="Lucida Sans Unicode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BC97-8B8B-41DC-8D6D-395903C05947}" type="slidenum">
              <a:rPr b="0" lang="ru-RU" sz="1200" spc="-1" strike="noStrike">
                <a:solidFill>
                  <a:srgbClr val="898989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WordArt 4"/>
          <p:cNvSpPr txBox="1"/>
          <p:nvPr/>
        </p:nvSpPr>
        <p:spPr>
          <a:xfrm>
            <a:off x="-684360" y="549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День Матер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401" name="Rectangle 5"/>
          <p:cNvSpPr/>
          <p:nvPr/>
        </p:nvSpPr>
        <p:spPr>
          <a:xfrm>
            <a:off x="324000" y="1069920"/>
            <a:ext cx="8569080" cy="55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 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Германии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первый День матери отмет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13 мая 1923 года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     В 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Финляндии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День матери стали отмечать официально с 1927 года во второе воскресенье мая. В этот день вывешивают флаги, дети готовят подарки для мам, а папы стараются в этот день на кухне, каждый в меру своих способностей и возможностей. Поздравляют также и бабушек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ff"/>
                </a:solidFill>
                <a:latin typeface="Monotype Corsiva"/>
              </a:rPr>
              <a:t>     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WordArt 4"/>
          <p:cNvSpPr txBox="1"/>
          <p:nvPr/>
        </p:nvSpPr>
        <p:spPr>
          <a:xfrm>
            <a:off x="0" y="549360"/>
            <a:ext cx="8229600" cy="129528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День Матер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2876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В </a:t>
            </a:r>
            <a:r>
              <a:rPr b="1" lang="ru-RU" sz="4000" spc="-1" strike="noStrike">
                <a:solidFill>
                  <a:srgbClr val="0000ff"/>
                </a:solidFill>
                <a:latin typeface="Monotype Corsiva"/>
              </a:rPr>
              <a:t>Украине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День матери начали отмечать еще в 1929 года, в Галичине, но со временем о нем подзабыли. Сегодня этот день отмечают во второе воскресенье мая, скромно, без торжеств</a:t>
            </a:r>
            <a:r>
              <a:rPr b="1" lang="ru-RU" sz="2700" spc="-1" strike="noStrike">
                <a:solidFill>
                  <a:srgbClr val="000000"/>
                </a:solidFill>
                <a:latin typeface="Monotype Corsiva"/>
              </a:rPr>
              <a:t>. 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22:27:56Z</dcterms:created>
  <dc:creator>Вера</dc:creator>
  <dc:description>http://aida.ucoz.ru</dc:description>
  <dc:language>en-US</dc:language>
  <cp:lastModifiedBy>BASOVA</cp:lastModifiedBy>
  <dcterms:modified xsi:type="dcterms:W3CDTF">2019-05-06T18:40:59Z</dcterms:modified>
  <cp:revision>51</cp:revision>
  <dc:subject/>
  <dc:title>Слайд 1</dc:title>
</cp:coreProperties>
</file>