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106-8F1E-4ADE-BC92-2F3C1775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EF7-E3EE-4B99-9A2D-1468B5C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EF0-14FF-4A6B-8DDB-ACE4ABF7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B98-7C19-4928-8E89-1492DC37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456A-F34B-4274-A832-CE8C2186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8753-53E1-4753-A7E7-1DA657B8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3A07-625F-4F75-BBAE-110E95D9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2111-D978-4CC3-BE8F-88F46326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12F8-AC8E-4395-99BC-367A0F2D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0D7E-2772-48AB-A797-29E7BBE1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34E9-5656-4D27-BECF-F14CA5FC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BAB-1FE5-44F9-81DA-6E2B6E68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5B01-3D88-45C2-BB25-AFCD8F87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C80E-9FA9-4477-BB5E-FDB25ED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D29E-2262-4F51-806A-D239BD13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7B72-DF13-4EC6-81F1-E497EACC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6231-1CB3-45A7-A0E6-3232D6F6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6C34-61E6-43C4-9EA6-F24E0C9B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B566-3DCA-41CA-9EDF-4EB81AAD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3AC32-8FBB-42E1-B81F-3444EDB5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67D3-1647-490F-BA10-45D50F82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7D0A-DCD7-44B3-A384-89D7B28B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368-589F-4BD8-BE82-E1372DD2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565F-16D5-425B-81BD-26B4F1D7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8D7B-CDE9-4330-A115-247148F3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8895-B5F9-474C-AB00-8E1AF7C2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E47D-6AC8-4DC6-B899-0FA4A41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D6F3C-9E4E-4C1E-8B19-8D599CA1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1DCF-C4DA-4DB7-9361-400C9EDF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5610-0CE1-4239-9275-9D06BDBF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09E3-4167-4641-8EB3-F7AB51E8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8C394-D6F2-4442-BAD2-5C50B987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CD91-0436-41FB-A2D4-4AF24706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5A7-FC94-4532-84E5-7A832181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3886-10F6-47FC-85FA-C58BB073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79929-857A-4A15-8E7B-7CCFC09B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4B07-EE5F-49A3-A708-B5CB8E1A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13E7-BB25-4624-9988-0EE6066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11A3-28E2-4B1F-8A2D-CD9AEBAD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D5738-1A23-4963-92E4-C268F5D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2617-C8CF-4952-A7AE-3D3EEBC1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B02FE-A319-4097-BDA6-7D637CD2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854B-1C48-4992-A452-E648399A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D09A0-24AB-4AD1-BB6E-F8AAE198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B18-34B0-4CD6-AAF9-EADC3924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ABDB9-3FF6-4715-9275-D0C0BCB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C4C7-7283-4BDE-BE07-1A07C754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B4510-FFD1-4123-8179-FC4D613C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16F1D-6F39-4108-930E-9F3D0E4A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56B06-9751-4D5B-903D-2F36B114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5365-45BD-4CD7-B898-748AECF9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3E2A-3DC9-4DA9-82FC-5E49AB1E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4754C-9A81-41D7-B528-03FE8419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5D55A-8533-4829-A06A-70B738A5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01890-513C-4BFC-8FB6-8BB18519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5DD-77E2-494A-9FD6-55F532A5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0FC6-8A87-43E4-8345-14F696EC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E7BB-33BC-4B8C-9811-6ABD8E78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81F2-9780-4CE8-8CB0-D5FBD1B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75A9C-FDBE-4DD3-8A1C-0330EA2E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149E-3638-4379-9745-1D70DC7C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2A748-21AE-45A7-9868-E77B5A36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9D647-0646-4DD0-B1A8-783E9CF2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47FF4-6EE1-4838-9BEA-D633D414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A0BF-D652-4E2F-9573-71C30F14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B4A23-7F28-42AA-B7B5-F381B47F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1A8-E48A-47AC-8232-BCF6A57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ED6E7-D77C-40A9-A406-C4C9A730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C7362-7647-4840-BD06-6B9A3739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DBD41-3421-46AB-BCCC-B9453F5A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299BF-9EF9-4288-8D14-FE108C4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2BFD9-2BAC-46E5-8C29-ADC2F3E7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31461-AEA4-43CD-9B51-4E77E5FE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F4EFD-DE56-4ABF-9330-DF397246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30A4E-434F-4554-85C3-E99A2151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032D4-1AB1-40F3-B67F-7AE9869A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B089E-E040-485B-9C65-A353847C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C1E-B83B-4A3E-8AED-2FF64012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4308B-7574-47F8-979A-CDD837D7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23303-167E-403A-9FC0-4EBBF7C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9C34-A6BA-4579-92C2-A8DB536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3FF4-1CEC-420D-A61E-24285E4A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B7043-155D-45F0-A01C-9AA97A78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4B18F-C96C-4493-BC32-61C7CE7D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226F-DC1D-4334-8938-C421AEFA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61148-BE16-45EA-B727-B954821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666F-5FB0-4C15-ADC3-E2464C74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D1D0D-B81A-4DF0-9DFC-9FA36FAC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114-99B7-4662-8C57-FB9861E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84194-5893-48C1-8289-4A4EB8CF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657D3-83E0-4955-82EF-AA44536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FE106-C4AB-448B-88C7-6BF39A7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2419D-4357-437D-9FC7-F052D0D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F4E86-E803-4A34-A1CB-A678B78A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60C7B-F40D-4EBE-A0AD-8C381F00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6922B-4023-4D5A-B91E-6B04E563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E26F-3B5E-43EE-8FAC-8B38BC4C75F2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4960-1AAC-4FC9-8E9E-BB92819CDD7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B4D1-FAAE-4C37-850C-3709EC5C2BB0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A402-9DDD-4C75-9726-DC65E6C4A5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9303-0793-4AC3-BCC4-2DCE2D74FF1B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81F9-15C0-49B9-BE3C-6C0F5F25F2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40A2-F919-49E0-97F0-34EC8CC3BF10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5BC3-2594-4A45-8C1B-C97FBEB1EC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437F-519B-4C54-8746-1C76322929BC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5974-263A-4231-B954-3398C6C8E8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3B44-A3B3-4DD7-A578-A50387E9A40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29B-E6F6-48FB-88B5-3A5EA2DAE5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B27C-6DE6-465D-985D-3846E6614564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68A-93AA-45F6-9AAC-9D32F649D1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DD4D-383D-4F64-B15B-78F268C80AFF}" type="datetime">
              <a:rPr b="0" lang="ru-RU" sz="10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C49-3673-4AEC-808F-C3793BAF50E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F2C6-07AD-44A8-A0E1-A061A5E12A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8"/>
          <p:cNvSpPr txBox="1"/>
          <p:nvPr/>
        </p:nvSpPr>
        <p:spPr>
          <a:xfrm>
            <a:off x="0" y="98100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1643040" y="1747440"/>
            <a:ext cx="662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ама — первое слово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Главное слово в каждой судьбе.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ама жизнь подарила,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Мир подарила мне и тебе.</a:t>
            </a: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30F5-E27D-4E38-A184-765600F7F151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95C9-251C-462C-A5AD-2EC1495A6922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WordArt 4" descr=""/>
          <p:cNvPicPr/>
          <p:nvPr/>
        </p:nvPicPr>
        <p:blipFill>
          <a:blip r:embed="rId1"/>
          <a:stretch/>
        </p:blipFill>
        <p:spPr>
          <a:xfrm>
            <a:off x="-6480" y="171360"/>
            <a:ext cx="7918560" cy="16272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395280" y="1415880"/>
            <a:ext cx="7812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реди многочисленных праздников, отмечаемых в нашей стране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занимает особое место. Это праздник, к которому никто не может остаться равнодуш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этот день хочется сказать слова благодарности всем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атерям,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которые дарят детям любовь, добро, нежность и лас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2BA9-BB9D-4294-A11B-D131FC276CDC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6B0E-2E87-4FDE-8C09-10D076AE64A3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WordArt 7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693280" cy="168732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1187280" y="2349360"/>
            <a:ext cx="5905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асибо вам, родны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 пусть каждой из вас почаще      говор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теплые слова ваши любимые д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6FB7-9F55-476A-8F37-83986383FA1F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D5FC-8C53-4009-8E15-CCE69CF2635F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500040" y="1567800"/>
            <a:ext cx="828036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ет, наверно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ни одной страны, где бы не отмеча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ень Матер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В России День матери стали отмечать сравнительно неда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8119"/>
                </a:solidFill>
                <a:latin typeface="Arial"/>
              </a:rPr>
              <a:t>Установленный Указом Президента Российской Федерации Б. Н. Ельцина № 120 «О Дне матери» от 30 января 1998 года, он празднуется в последнее воскресенье ноября, воздавая должное материнскому труду и их бескорыстной жертве ради блага своих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3DD5-AB42-4E35-9A96-4D9838DC4FFC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A741-1627-48BC-BA30-6529336EC463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79280" y="117612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8119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Новый праздник —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День Матери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 — постепенно входит в российские до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                 </a:t>
            </a: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И это замечательно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Monotype Corsiva"/>
              </a:rPr>
              <a:t>сколько бы   хороших, добрых слов мы не говорили нашим мамам, сколько бы поводов для этого ни придумали, лишними они не буду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1C33-52A9-4B12-918B-587DE925CC64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7DAA-020B-4205-9D35-E378F31951E6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324000" y="1452960"/>
            <a:ext cx="8569080" cy="48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onotype Corsiva"/>
              </a:rPr>
              <a:t>ИСТОРИЯ ПРАЗДНИКА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Чествование женщины-матери имеет многовековую истор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По некоторым источникам традиция празднования Дня матери берет начало еще в женских мистериях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древнего Рима,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 предназначенных для почитания Великой Матери - богини, матери всех богов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.    </a:t>
            </a: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6FF-43E6-4511-A019-47A341C12E24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4CF3-65C9-48E7-9088-C2CE6CE27D52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74560" y="1666080"/>
            <a:ext cx="8569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С XVII по XIX век в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Великобритании </a:t>
            </a:r>
            <a:r>
              <a:rPr b="1" lang="ru-RU" sz="3200" spc="-1" strike="noStrike">
                <a:solidFill>
                  <a:srgbClr val="a50021"/>
                </a:solidFill>
                <a:latin typeface="Monotype Corsiva"/>
              </a:rPr>
              <a:t>отмечалось так называемое «Материнское воскресенье» — четвёртое воскресенье Великого поста, посвящённое чествованию матерей по все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8E23-A793-408F-B5B3-B72A6BEFFCFF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65AA-14CB-42D2-ABEC-34CFC614BA4F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4"/>
          <p:cNvSpPr txBox="1"/>
          <p:nvPr/>
        </p:nvSpPr>
        <p:spPr>
          <a:xfrm>
            <a:off x="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503280" y="207180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ША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День матери»     — день единства матерей в борьбе за мир во всём мир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1910 году штат Виргиния первый признал День Матери официальным праздником. В 1914 году, президент США Вудро Вильсон объявил второе воскресенье мая национальным праздником в честь всех американских мат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119D-7F05-4A45-89EA-EF5B80B075C3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964C-04B6-4AF1-9E05-0D51D59BE8D9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4"/>
          <p:cNvSpPr txBox="1"/>
          <p:nvPr/>
        </p:nvSpPr>
        <p:spPr>
          <a:xfrm>
            <a:off x="0" y="6429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574560" y="1095480"/>
            <a:ext cx="856944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a50021"/>
                </a:solidFill>
                <a:latin typeface="Monotype Corsiva"/>
              </a:rPr>
              <a:t>День Матери во второе воскресенье мая отмечают также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альта, Дания, Финляндия, Германия, Италия, Турция, Австралия, Япония. 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Мальтийцы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тмечают День матери с незапамятных времен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Эстонии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День матери отмечают с 1992 года во второе воскресенье мая. В этот день вывешиваются флаги. Накануне в детских садах проходят утренники, а в школах - концерты для мам; дети дарят мамам открыточки и пода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87EE-5118-464B-97DD-66F7DE1B7C5A}" type="datetime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6A81-D877-442D-821B-A9226F99B6FC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4"/>
          <p:cNvSpPr txBox="1"/>
          <p:nvPr/>
        </p:nvSpPr>
        <p:spPr>
          <a:xfrm>
            <a:off x="-684360" y="549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4000" y="1069920"/>
            <a:ext cx="856908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Германии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первый День матери отмет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3 мая 1923 год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В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Финляндии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День матери стали отмечать официально с 1927 года во второе воскресенье мая. В этот день вывешивают флаги, дети готовят подарки для мам, а папы стараются в этот день на кухне, каждый в меру своих способностей и возможностей. Поздравляют также и бабуш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WordArt 4"/>
          <p:cNvSpPr txBox="1"/>
          <p:nvPr/>
        </p:nvSpPr>
        <p:spPr>
          <a:xfrm>
            <a:off x="0" y="54936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День Мате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Украине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ень матери начали отмечать еще в 1929 года, в Галичине, но со временем о нем подзабыли. Сегодня этот день отмечают во второе воскресенье мая, скромно, без торжеств</a:t>
            </a:r>
            <a:r>
              <a:rPr b="1" lang="ru-RU" sz="2700" spc="-1" strike="noStrike">
                <a:solidFill>
                  <a:srgbClr val="000000"/>
                </a:solidFill>
                <a:latin typeface="Monotype Corsiva"/>
              </a:rPr>
              <a:t>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22:27:56Z</dcterms:created>
  <dc:creator>Вера</dc:creator>
  <dc:description>http://aida.ucoz.ru</dc:description>
  <dc:language>en-US</dc:language>
  <cp:lastModifiedBy>BASOVA</cp:lastModifiedBy>
  <dcterms:modified xsi:type="dcterms:W3CDTF">2019-05-06T18:40:59Z</dcterms:modified>
  <cp:revision>51</cp:revision>
  <dc:subject/>
  <dc:title>Слайд 1</dc:title>
</cp:coreProperties>
</file>