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5.jpeg" ContentType="image/jpeg"/>
  <Override PartName="/ppt/media/image2.png" ContentType="image/png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6.jpeg" ContentType="image/jpeg"/>
  <Override PartName="/ppt/media/image37.jpeg" ContentType="image/jpeg"/>
  <Override PartName="/ppt/media/image31.jpeg" ContentType="image/jpeg"/>
  <Override PartName="/ppt/media/image41.png" ContentType="image/png"/>
  <Override PartName="/ppt/media/image44.jpeg" ContentType="image/jpeg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8.png" ContentType="image/png"/>
  <Override PartName="/ppt/media/image2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21D0-EBE4-4A32-A46F-6170EAE0EE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803C-58F5-4B43-AD05-8ECDC454CA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4ABA-EE6C-4026-AD1D-53386D5D07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2E8B-DB57-40D7-B01B-D55A190894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74E6-B4E1-406F-A870-3A102D273D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481A-36AB-4265-94A6-4299CC6EE5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F440-996F-408D-BA90-2F9C41AD63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6B99-8DCA-4447-9EDD-39614A80B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9CFB-372D-41F0-859C-36698C8E03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ACF4-1637-4ED5-A549-F6A0A97B4C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E394-DEE0-458E-AA90-6A1F576C35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655D-03A0-428E-BA2D-351E558B8A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C311-9378-4C31-AE84-BF6A225B0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F9DA-896E-474E-8337-E1D78AEC7F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A617-D528-4D21-8517-4A9715BB83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51B9-2265-4808-A593-2546360C5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7FDE-D547-4786-AD0A-B7F8B92251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6EAF-9E3F-4F29-903B-A54AAD3DA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26E5-E60B-4156-9837-6DAE5717F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47C3-7A42-4D4E-B9C6-B39C66B51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25BF-A8C5-4A7E-AE7B-F1254844B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1BFB-8C7B-42A7-A491-A023DA1443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C399-4AA3-484F-A63E-44DD25496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2144-4A25-4133-8B07-30F7C77321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C860-9305-4294-977D-4FDBE256BE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E98-6E58-4A54-99BA-DFA5283D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1F9-7EFC-4F1E-975F-D06F2D72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A42-CDCC-4FE0-9BD1-BA2B34E9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84C-9219-4274-9D7F-5E3AF2B2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4372-83FD-4631-9401-C3B1F8E9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EBC3-257C-442A-84DD-9A009030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D38F-997E-4E82-A38B-770BC961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38CA-E5DA-4C2E-91A7-21A4BBF3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BFC0-50E7-417B-9182-E42DCE14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8141-CB5F-4A17-895F-1015D776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0453-63DF-4F78-92F7-32D8C2B1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B9C-843E-4A62-9FB1-BAE0EDF5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F275-0AAF-4782-8966-3F5C42A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30D7-746A-420D-BFB3-34748B34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E59F-50A3-4B72-9EB5-B67B54E6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5282-E9A9-4200-93C9-626D11BB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B598-4104-4E00-BE9C-01F14EE3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861-A679-4314-B93E-3A959337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F7A-B56B-4E4D-A727-01E36DCB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860-1084-424C-9471-495E6D6C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0F7-823D-48D9-B1AC-F59785D7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EB0-D7A9-40B8-BA07-FD81DE9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46B-C2A1-4E63-AF33-FA275941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6C4-EA9B-40C6-9FB3-FA063018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148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388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889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C129-E82C-4F56-828F-C28D8FD774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>
                        <a:gd name="textAreaLeft" fmla="*/ 0 w 201600"/>
                        <a:gd name="textAreaRight" fmla="*/ 201960 w 2016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51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38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88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D2DA-761F-4F05-B8E0-B294B9B9D9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9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457200" y="304920"/>
            <a:ext cx="6934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МБДОУ № 89 "КРЕПЫШ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200" name="WordArt 5"/>
          <p:cNvSpPr txBox="1"/>
          <p:nvPr/>
        </p:nvSpPr>
        <p:spPr>
          <a:xfrm>
            <a:off x="263520" y="1598760"/>
            <a:ext cx="7051680" cy="419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Impact"/>
              </a:rPr>
              <a:t>ИСПОЛЬЗОВАНИЕ ИК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Impact"/>
              </a:rPr>
              <a:t>В ЛОГОПЕДИЧЕСКОЙ РАБОТ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Impact"/>
              </a:rPr>
              <a:t>С ДЕТЬ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зирование нагрузки при зрительных нарушениях и невротических расстройств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тивопоказания – эпилепс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нятия детей с компьютером проводят в присутствии  педагог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хорошо проветренном помещ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1523880" y="838080"/>
            <a:ext cx="5029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Impact"/>
              </a:rPr>
              <a:t>кроме этого следует учитывать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151920"/>
            <a:ext cx="747684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 Black"/>
              </a:rPr>
              <a:t>ПРАКТИЧЕСКОЕ ИСПОЛЬЗОВАНИЕ ИКТ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Arial Black"/>
              </a:rPr>
              <a:t>в МБДОУ № 89 «КРЕПЫШ»</a:t>
            </a:r>
            <a:endParaRPr b="0" lang="en-US" sz="2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76320" y="2141640"/>
            <a:ext cx="2376360" cy="1439640"/>
          </a:xfrm>
          <a:prstGeom prst="ellipse">
            <a:avLst/>
          </a:prstGeom>
          <a:solidFill>
            <a:srgbClr val="d9efe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имедийны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595440" y="4732200"/>
            <a:ext cx="2376360" cy="1440000"/>
          </a:xfrm>
          <a:prstGeom prst="ellipse">
            <a:avLst/>
          </a:prstGeom>
          <a:solidFill>
            <a:srgbClr val="d9efe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имедийны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405320" y="4808520"/>
            <a:ext cx="2376360" cy="1440000"/>
          </a:xfrm>
          <a:prstGeom prst="ellipse">
            <a:avLst/>
          </a:prstGeom>
          <a:solidFill>
            <a:srgbClr val="d9efe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ны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/>
          <p:cNvSpPr/>
          <p:nvPr/>
        </p:nvSpPr>
        <p:spPr>
          <a:xfrm>
            <a:off x="5410080" y="2209680"/>
            <a:ext cx="2376720" cy="1440000"/>
          </a:xfrm>
          <a:prstGeom prst="ellipse">
            <a:avLst/>
          </a:prstGeom>
          <a:solidFill>
            <a:srgbClr val="d9efe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"/>
          <p:cNvSpPr/>
          <p:nvPr/>
        </p:nvSpPr>
        <p:spPr>
          <a:xfrm flipH="1">
            <a:off x="1599840" y="990720"/>
            <a:ext cx="1219320" cy="11430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4952880" y="990720"/>
            <a:ext cx="1295640" cy="121896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1828440" y="1066680"/>
            <a:ext cx="1863720" cy="35816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4419720" y="1066680"/>
            <a:ext cx="1218960" cy="3657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6"/>
          <p:cNvSpPr/>
          <p:nvPr/>
        </p:nvSpPr>
        <p:spPr>
          <a:xfrm>
            <a:off x="2666880" y="3208320"/>
            <a:ext cx="2376720" cy="1440000"/>
          </a:xfrm>
          <a:prstGeom prst="ellipse">
            <a:avLst/>
          </a:prstGeom>
          <a:solidFill>
            <a:srgbClr val="d9efe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 flipH="1">
            <a:off x="3886200" y="1066680"/>
            <a:ext cx="76320" cy="20574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4568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 Black"/>
              </a:rPr>
              <a:t>Направления коррекционной работы с использованием ИКТ: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979640"/>
            <a:ext cx="75852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опроизно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ематические процес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о-грамматические навыки и связная реч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к обучению грам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3619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АРТИКУЛЯЦИОННАЯ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ГИМНАСТИК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1_3_for_layer"/>
          <p:cNvPicPr/>
          <p:nvPr/>
        </p:nvPicPr>
        <p:blipFill>
          <a:blip r:embed="rId1"/>
          <a:stretch/>
        </p:blipFill>
        <p:spPr>
          <a:xfrm>
            <a:off x="4800600" y="74520"/>
            <a:ext cx="3048120" cy="23637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233" name="Picture 3" descr="1_1_for_layer"/>
          <p:cNvPicPr/>
          <p:nvPr/>
        </p:nvPicPr>
        <p:blipFill>
          <a:blip r:embed="rId2"/>
          <a:stretch/>
        </p:blipFill>
        <p:spPr>
          <a:xfrm>
            <a:off x="76320" y="76320"/>
            <a:ext cx="3047760" cy="23619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234" name="Picture 6" descr="DSC00150"/>
          <p:cNvPicPr/>
          <p:nvPr/>
        </p:nvPicPr>
        <p:blipFill>
          <a:blip r:embed="rId3"/>
          <a:stretch/>
        </p:blipFill>
        <p:spPr>
          <a:xfrm>
            <a:off x="0" y="417204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DSC00146"/>
          <p:cNvPicPr/>
          <p:nvPr/>
        </p:nvPicPr>
        <p:blipFill>
          <a:blip r:embed="rId4"/>
          <a:stretch/>
        </p:blipFill>
        <p:spPr>
          <a:xfrm>
            <a:off x="4267080" y="417204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"/>
          <p:cNvPicPr/>
          <p:nvPr/>
        </p:nvPicPr>
        <p:blipFill>
          <a:blip r:embed="rId5"/>
          <a:stretch/>
        </p:blipFill>
        <p:spPr>
          <a:xfrm>
            <a:off x="3276720" y="2666880"/>
            <a:ext cx="137160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6665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ЗВУКОПРОИЗНОШЕНИЕ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1" descr="DSC00117"/>
          <p:cNvPicPr/>
          <p:nvPr/>
        </p:nvPicPr>
        <p:blipFill>
          <a:blip r:embed="rId1"/>
          <a:stretch/>
        </p:blipFill>
        <p:spPr>
          <a:xfrm>
            <a:off x="4343400" y="422928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0826973"/>
          <p:cNvPicPr/>
          <p:nvPr/>
        </p:nvPicPr>
        <p:blipFill>
          <a:blip r:embed="rId2"/>
          <a:stretch/>
        </p:blipFill>
        <p:spPr>
          <a:xfrm>
            <a:off x="0" y="422928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DSC00105"/>
          <p:cNvPicPr/>
          <p:nvPr/>
        </p:nvPicPr>
        <p:blipFill>
          <a:blip r:embed="rId3"/>
          <a:stretch/>
        </p:blipFill>
        <p:spPr>
          <a:xfrm>
            <a:off x="0" y="0"/>
            <a:ext cx="3505320" cy="2630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0656131"/>
          <p:cNvPicPr/>
          <p:nvPr/>
        </p:nvPicPr>
        <p:blipFill>
          <a:blip r:embed="rId4"/>
          <a:stretch/>
        </p:blipFill>
        <p:spPr>
          <a:xfrm>
            <a:off x="4343400" y="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64459e56c10d[1]"/>
          <p:cNvPicPr/>
          <p:nvPr/>
        </p:nvPicPr>
        <p:blipFill>
          <a:blip r:embed="rId5"/>
          <a:stretch/>
        </p:blipFill>
        <p:spPr>
          <a:xfrm>
            <a:off x="3429000" y="2971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047760" y="12189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имедийный диск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работы над звуками речи 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ен разде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гласные зв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сные зв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ты род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 – игры “Звуковичок”, “Угадай – ка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вых двух разделах в игровой фор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держится материал, который помог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ть произношение чётки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едставлен подразде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авильная артикуляция звук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готовительные упражнения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становка звук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автоматизация в слогах, словах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ложениях, фразовой реч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есёлые скороговорк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учительные пословицы и поговор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 – игры “Звуковичок”, “Угадай – к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уют навыки прави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ношения звуков, помогают развивать фонематический слу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img4"/>
          <p:cNvPicPr/>
          <p:nvPr/>
        </p:nvPicPr>
        <p:blipFill>
          <a:blip r:embed="rId7"/>
          <a:stretch/>
        </p:blipFill>
        <p:spPr>
          <a:xfrm>
            <a:off x="0" y="1676520"/>
            <a:ext cx="3200400" cy="3276360"/>
          </a:xfrm>
          <a:prstGeom prst="rect">
            <a:avLst/>
          </a:prstGeom>
          <a:ln w="0">
            <a:noFill/>
          </a:ln>
        </p:spPr>
      </p:pic>
      <p:sp>
        <p:nvSpPr>
          <p:cNvPr id="245" name="WordArt 41"/>
          <p:cNvSpPr txBox="1"/>
          <p:nvPr/>
        </p:nvSpPr>
        <p:spPr>
          <a:xfrm>
            <a:off x="1523880" y="419040"/>
            <a:ext cx="5181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й логопе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057400"/>
            <a:ext cx="74768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ФОНЕМАТИЧЕСКИЕ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ПРОЦЕССЫ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68672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Impact"/>
              </a:rPr>
              <a:t>Программно-методический комплекс “Развитие речи”</a:t>
            </a:r>
            <a:endParaRPr b="0" lang="en-US" sz="3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7772400" cy="53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Impact"/>
              </a:rPr>
              <a:t>ЦЕЛЬ РАБОТЫ</a:t>
            </a:r>
            <a:br>
              <a:rPr sz="3600"/>
            </a:b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6747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Impact"/>
              </a:rPr>
              <a:t>показать возможности применения компьютерных программ в практической работе логоп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трелка вниз 3"/>
          <p:cNvSpPr/>
          <p:nvPr/>
        </p:nvSpPr>
        <p:spPr>
          <a:xfrm>
            <a:off x="3657600" y="1828800"/>
            <a:ext cx="457200" cy="1371600"/>
          </a:xfrm>
          <a:prstGeom prst="downArrow">
            <a:avLst>
              <a:gd name="adj1" fmla="val 50000"/>
              <a:gd name="adj2" fmla="val 52458"/>
            </a:avLst>
          </a:prstGeom>
          <a:solidFill>
            <a:srgbClr val="ff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828800"/>
            <a:ext cx="74772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ЛЕКСИКО-ГРАММАТИЧЕСКИЕ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НАВЫКИ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И СВЯЗНАЯ РЕЧЬ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50292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2801880" cy="5047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mic Sans MS"/>
              </a:rPr>
              <a:t>Замени одним словом</a:t>
            </a:r>
            <a:endParaRPr b="0" lang="en-US" sz="1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кан из стекла –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стеклян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а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трюля из металла - …                    кастрю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stakan"/>
          <p:cNvPicPr/>
          <p:nvPr/>
        </p:nvPicPr>
        <p:blipFill>
          <a:blip r:embed="rId2"/>
          <a:stretch/>
        </p:blipFill>
        <p:spPr>
          <a:xfrm>
            <a:off x="3886200" y="685800"/>
            <a:ext cx="9748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4" name="Picture 6" descr="kastryulya"/>
          <p:cNvPicPr/>
          <p:nvPr/>
        </p:nvPicPr>
        <p:blipFill>
          <a:blip r:embed="rId3"/>
          <a:stretch/>
        </p:blipFill>
        <p:spPr>
          <a:xfrm>
            <a:off x="152280" y="1897200"/>
            <a:ext cx="1067040" cy="95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5" name="Text Box 7"/>
          <p:cNvSpPr/>
          <p:nvPr/>
        </p:nvSpPr>
        <p:spPr>
          <a:xfrm>
            <a:off x="4572000" y="601992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2895480" y="3429000"/>
            <a:ext cx="4953240" cy="3429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3" descr="knizhnaya polka"/>
          <p:cNvPicPr/>
          <p:nvPr/>
        </p:nvPicPr>
        <p:blipFill>
          <a:blip r:embed="rId5"/>
          <a:stretch/>
        </p:blipFill>
        <p:spPr>
          <a:xfrm>
            <a:off x="3200400" y="4191120"/>
            <a:ext cx="1981080" cy="190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8" name="Picture 14" descr=""/>
          <p:cNvPicPr/>
          <p:nvPr/>
        </p:nvPicPr>
        <p:blipFill>
          <a:blip r:embed="rId6"/>
          <a:stretch/>
        </p:blipFill>
        <p:spPr>
          <a:xfrm>
            <a:off x="5715000" y="4191120"/>
            <a:ext cx="1905120" cy="193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9" name="Text Box 15"/>
          <p:cNvSpPr/>
          <p:nvPr/>
        </p:nvSpPr>
        <p:spPr>
          <a:xfrm>
            <a:off x="3505320" y="6248520"/>
            <a:ext cx="1295280" cy="398880"/>
          </a:xfrm>
          <a:prstGeom prst="rect">
            <a:avLst/>
          </a:prstGeom>
          <a:solidFill>
            <a:srgbClr val="faf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шка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019920" y="6248520"/>
            <a:ext cx="1295280" cy="398880"/>
          </a:xfrm>
          <a:prstGeom prst="rect">
            <a:avLst/>
          </a:prstGeom>
          <a:solidFill>
            <a:srgbClr val="faf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8"/>
          <p:cNvSpPr/>
          <p:nvPr/>
        </p:nvSpPr>
        <p:spPr>
          <a:xfrm>
            <a:off x="4191120" y="3505320"/>
            <a:ext cx="2801880" cy="5047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mic Sans MS"/>
              </a:rPr>
              <a:t>Один - мно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0" descr="343a7c0e439e[1]"/>
          <p:cNvPicPr/>
          <p:nvPr/>
        </p:nvPicPr>
        <p:blipFill>
          <a:blip r:embed="rId7"/>
          <a:stretch/>
        </p:blipFill>
        <p:spPr>
          <a:xfrm>
            <a:off x="5181480" y="457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6"/>
          <p:cNvSpPr/>
          <p:nvPr/>
        </p:nvSpPr>
        <p:spPr>
          <a:xfrm>
            <a:off x="3276720" y="1671480"/>
            <a:ext cx="449568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а для коррекции ОН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дошкольников и младших школьник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грамме более 50 упражнений, собранных в четыре тематических блока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ЕМАТИКА, ПРОСОДИКА, ЛЕКСИКА, ЗВУКОПРОИЗНОШ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аботы с блоком ПРОСОДИК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уется обычный микрофон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17"/>
          <p:cNvSpPr txBox="1"/>
          <p:nvPr/>
        </p:nvSpPr>
        <p:spPr>
          <a:xfrm>
            <a:off x="1828800" y="304920"/>
            <a:ext cx="52578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ы для Тигр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Picture 39" descr="img3"/>
          <p:cNvPicPr/>
          <p:nvPr/>
        </p:nvPicPr>
        <p:blipFill>
          <a:blip r:embed="rId1"/>
          <a:stretch/>
        </p:blipFill>
        <p:spPr>
          <a:xfrm>
            <a:off x="0" y="1719360"/>
            <a:ext cx="321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7477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ПОДГОТОВК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К ОБУЧЕНИЮ ГРАМОТЕ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F:\картинки всякие разные\кактинкиКОМП\7.jpeg"/>
          <p:cNvPicPr/>
          <p:nvPr/>
        </p:nvPicPr>
        <p:blipFill>
          <a:blip r:embed="rId1"/>
          <a:stretch/>
        </p:blipFill>
        <p:spPr>
          <a:xfrm>
            <a:off x="0" y="1523880"/>
            <a:ext cx="3581280" cy="371484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2"/>
          <p:cNvSpPr/>
          <p:nvPr/>
        </p:nvSpPr>
        <p:spPr>
          <a:xfrm>
            <a:off x="3505320" y="181296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идея этой программы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ать чтение и письмо увлекательной игрой с «живыми», «говорящими» буква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, которые предстоит выполнять ребенку, таков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 букву на экран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ь пропущенную букву в слово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ечатай букву или слово и т.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41"/>
          <p:cNvSpPr txBox="1"/>
          <p:nvPr/>
        </p:nvSpPr>
        <p:spPr>
          <a:xfrm>
            <a:off x="1523880" y="419040"/>
            <a:ext cx="5181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шебный буквар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8" descr="DSC00110"/>
          <p:cNvPicPr/>
          <p:nvPr/>
        </p:nvPicPr>
        <p:blipFill>
          <a:blip r:embed="rId1"/>
          <a:stretch/>
        </p:blipFill>
        <p:spPr>
          <a:xfrm>
            <a:off x="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DSC00112"/>
          <p:cNvPicPr/>
          <p:nvPr/>
        </p:nvPicPr>
        <p:blipFill>
          <a:blip r:embed="rId2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F:\картинки всякие разные\кактинкиКОМП\7.jpeg"/>
          <p:cNvPicPr/>
          <p:nvPr/>
        </p:nvPicPr>
        <p:blipFill>
          <a:blip r:embed="rId3"/>
          <a:stretch/>
        </p:blipFill>
        <p:spPr>
          <a:xfrm>
            <a:off x="3581280" y="1219320"/>
            <a:ext cx="36007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Баба Яга"/>
          <p:cNvPicPr/>
          <p:nvPr/>
        </p:nvPicPr>
        <p:blipFill>
          <a:blip r:embed="rId1"/>
          <a:stretch/>
        </p:blipFill>
        <p:spPr>
          <a:xfrm>
            <a:off x="0" y="1447920"/>
            <a:ext cx="3505320" cy="36576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1"/>
          <p:cNvSpPr/>
          <p:nvPr/>
        </p:nvSpPr>
        <p:spPr>
          <a:xfrm>
            <a:off x="3429000" y="871200"/>
            <a:ext cx="4564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опережающего  обуч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ервые на компьютер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збука в стихах и игра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навыкам чтения на баз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имательных иг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очная мультипликац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анимац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 озвучены известными актера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илактика оптической дисграф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ушки про буквы на би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21"/>
          <p:cNvSpPr txBox="1"/>
          <p:nvPr/>
        </p:nvSpPr>
        <p:spPr>
          <a:xfrm>
            <a:off x="1752480" y="304920"/>
            <a:ext cx="442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ба - Яга учится читат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7" descr="DSC00073"/>
          <p:cNvPicPr/>
          <p:nvPr/>
        </p:nvPicPr>
        <p:blipFill>
          <a:blip r:embed="rId1"/>
          <a:stretch/>
        </p:blipFill>
        <p:spPr>
          <a:xfrm>
            <a:off x="4267080" y="417204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DSC00086"/>
          <p:cNvPicPr/>
          <p:nvPr/>
        </p:nvPicPr>
        <p:blipFill>
          <a:blip r:embed="rId2"/>
          <a:stretch/>
        </p:blipFill>
        <p:spPr>
          <a:xfrm>
            <a:off x="0" y="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Баба Яга"/>
          <p:cNvPicPr/>
          <p:nvPr/>
        </p:nvPicPr>
        <p:blipFill>
          <a:blip r:embed="rId3"/>
          <a:stretch/>
        </p:blipFill>
        <p:spPr>
          <a:xfrm>
            <a:off x="2743200" y="2286000"/>
            <a:ext cx="255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sharik"/>
          <p:cNvPicPr/>
          <p:nvPr/>
        </p:nvPicPr>
        <p:blipFill>
          <a:blip r:embed="rId1"/>
          <a:stretch/>
        </p:blipFill>
        <p:spPr>
          <a:xfrm>
            <a:off x="0" y="2004840"/>
            <a:ext cx="3357720" cy="3405240"/>
          </a:xfrm>
          <a:prstGeom prst="rect">
            <a:avLst/>
          </a:prstGeom>
          <a:ln w="0">
            <a:noFill/>
          </a:ln>
        </p:spPr>
      </p:pic>
      <p:sp>
        <p:nvSpPr>
          <p:cNvPr id="280" name="WordArt 5"/>
          <p:cNvSpPr txBox="1"/>
          <p:nvPr/>
        </p:nvSpPr>
        <p:spPr>
          <a:xfrm>
            <a:off x="838080" y="38088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ое из Простоквашино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арик учит азбуку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429720" y="2343240"/>
            <a:ext cx="448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жестких временных рамок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шающих при обучен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окаивающая музыка, озвученны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ональными актерами диалог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ложные задания, рассчитанные 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апное усвоение материал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мальные системные требова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8" descr="MCj04413620000[1]"/>
          <p:cNvPicPr/>
          <p:nvPr/>
        </p:nvPicPr>
        <p:blipFill>
          <a:blip r:embed="rId2"/>
          <a:stretch/>
        </p:blipFill>
        <p:spPr>
          <a:xfrm>
            <a:off x="3203640" y="4076640"/>
            <a:ext cx="358560" cy="3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luntik"/>
          <p:cNvPicPr/>
          <p:nvPr/>
        </p:nvPicPr>
        <p:blipFill>
          <a:blip r:embed="rId1"/>
          <a:stretch/>
        </p:blipFill>
        <p:spPr>
          <a:xfrm>
            <a:off x="0" y="1828800"/>
            <a:ext cx="3419640" cy="3857760"/>
          </a:xfrm>
          <a:prstGeom prst="rect">
            <a:avLst/>
          </a:prstGeom>
          <a:ln w="0">
            <a:noFill/>
          </a:ln>
        </p:spPr>
      </p:pic>
      <p:sp>
        <p:nvSpPr>
          <p:cNvPr id="284" name="WordArt 5"/>
          <p:cNvSpPr txBox="1"/>
          <p:nvPr/>
        </p:nvSpPr>
        <p:spPr>
          <a:xfrm>
            <a:off x="1066680" y="360360"/>
            <a:ext cx="62485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унтик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готовка к школ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505320" y="2164320"/>
            <a:ext cx="4343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ять обучающих заданий, подобранных специально для дошкольник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ое задание – маленькая забавная история из жизни Лунтика и  его друз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чательная графика и  анимация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4772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Impact"/>
              </a:rPr>
              <a:t>Задачи работы: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Gungsuh"/>
                <a:ea typeface="Gungsuh"/>
              </a:rPr>
              <a:t>Объяснить, как средства ИКТ могут способствовать развитию речевых умений и навыков</a:t>
            </a:r>
            <a:r>
              <a:rPr b="1" lang="ru-RU" sz="2600" spc="-1" strike="noStrike">
                <a:solidFill>
                  <a:srgbClr val="990099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Gungsuh"/>
                <a:ea typeface="Gungsuh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Gungsuh"/>
                <a:ea typeface="Gungsuh"/>
              </a:rPr>
              <a:t>Рассказать, какие умения они развивают</a:t>
            </a:r>
            <a:r>
              <a:rPr b="1" lang="ru-RU" sz="2600" spc="-1" strike="noStrike">
                <a:solidFill>
                  <a:srgbClr val="990099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Gungsuh"/>
                <a:ea typeface="Gungsuh"/>
              </a:rPr>
              <a:t>Показать использование коррекционных программ в практической работе логопе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лунтик"/>
          <p:cNvPicPr/>
          <p:nvPr/>
        </p:nvPicPr>
        <p:blipFill>
          <a:blip r:embed="rId1"/>
          <a:stretch/>
        </p:blipFill>
        <p:spPr>
          <a:xfrm>
            <a:off x="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сканирование0004"/>
          <p:cNvPicPr/>
          <p:nvPr/>
        </p:nvPicPr>
        <p:blipFill>
          <a:blip r:embed="rId1"/>
          <a:stretch/>
        </p:blipFill>
        <p:spPr>
          <a:xfrm>
            <a:off x="0" y="1676520"/>
            <a:ext cx="3962520" cy="38908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3962520" y="1601640"/>
            <a:ext cx="380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специально разработана для дет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3 до 5 л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еб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 тематических задани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ет понятие о гласных и согласных звука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ая мультипликационная графи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вучена профессиональными актерам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68436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13"/>
          <p:cNvSpPr txBox="1"/>
          <p:nvPr/>
        </p:nvSpPr>
        <p:spPr>
          <a:xfrm>
            <a:off x="838080" y="228600"/>
            <a:ext cx="6019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рфилд малышам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чаем реч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nezn"/>
          <p:cNvPicPr/>
          <p:nvPr/>
        </p:nvPicPr>
        <p:blipFill>
          <a:blip r:embed="rId1"/>
          <a:stretch/>
        </p:blipFill>
        <p:spPr>
          <a:xfrm>
            <a:off x="0" y="1523880"/>
            <a:ext cx="3276720" cy="3030480"/>
          </a:xfrm>
          <a:prstGeom prst="rect">
            <a:avLst/>
          </a:prstGeom>
          <a:ln w="0">
            <a:noFill/>
          </a:ln>
        </p:spPr>
      </p:pic>
      <p:sp>
        <p:nvSpPr>
          <p:cNvPr id="292" name="WordArt 6"/>
          <p:cNvSpPr txBox="1"/>
          <p:nvPr/>
        </p:nvSpPr>
        <p:spPr>
          <a:xfrm>
            <a:off x="838080" y="343080"/>
            <a:ext cx="6172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знайкина грамо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Прямоугольник 39"/>
          <p:cNvSpPr/>
          <p:nvPr/>
        </p:nvSpPr>
        <p:spPr>
          <a:xfrm>
            <a:off x="3352680" y="990720"/>
            <a:ext cx="4496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грах используются хорошо знакомые и любимые персонажи, и прежде всего Незнай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ичная графика, выполненна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чательными художниками, озвучивание на студии "Союзмультфильм"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 разнообразных оригинальных игр, в которые приятно и весело игра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словаря по теме «Одежда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мелкой моторик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быстроты реак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alik"/>
          <p:cNvPicPr/>
          <p:nvPr/>
        </p:nvPicPr>
        <p:blipFill>
          <a:blip r:embed="rId1"/>
          <a:stretch/>
        </p:blipFill>
        <p:spPr>
          <a:xfrm>
            <a:off x="0" y="1447920"/>
            <a:ext cx="3657600" cy="3292200"/>
          </a:xfrm>
          <a:prstGeom prst="rect">
            <a:avLst/>
          </a:prstGeom>
          <a:ln w="0">
            <a:noFill/>
          </a:ln>
        </p:spPr>
      </p:pic>
      <p:sp>
        <p:nvSpPr>
          <p:cNvPr id="295" name="WordArt 6"/>
          <p:cNvSpPr txBox="1"/>
          <p:nvPr/>
        </p:nvSpPr>
        <p:spPr>
          <a:xfrm>
            <a:off x="1143000" y="304920"/>
            <a:ext cx="5715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ик. Скоро в школу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Прямоугольник 39"/>
          <p:cNvSpPr/>
          <p:nvPr/>
        </p:nvSpPr>
        <p:spPr>
          <a:xfrm>
            <a:off x="3657600" y="137160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разработан специально дл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я дошколят основны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ям, необходимым для школы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, направл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, разм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числа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логического мышления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elmo"/>
          <p:cNvPicPr/>
          <p:nvPr/>
        </p:nvPicPr>
        <p:blipFill>
          <a:blip r:embed="rId1"/>
          <a:stretch/>
        </p:blipFill>
        <p:spPr>
          <a:xfrm>
            <a:off x="0" y="1609560"/>
            <a:ext cx="3505320" cy="3571920"/>
          </a:xfrm>
          <a:prstGeom prst="rect">
            <a:avLst/>
          </a:prstGeom>
          <a:ln w="0">
            <a:noFill/>
          </a:ln>
        </p:spPr>
      </p:pic>
      <p:sp>
        <p:nvSpPr>
          <p:cNvPr id="298" name="WordArt 5"/>
          <p:cNvSpPr txBox="1"/>
          <p:nvPr/>
        </p:nvSpPr>
        <p:spPr>
          <a:xfrm>
            <a:off x="762120" y="380880"/>
            <a:ext cx="6172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лмо готовит в школу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581280" y="1220760"/>
            <a:ext cx="402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разработана специалистами в области обучающих развлекательных програм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основам техники чт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элементарной арифметик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творчества: музыка, пение, работа с цветами и формам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 и счет на испанском язык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ия по расширению кругозора и эрудиц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7" descr="MCj04413620000[1]"/>
          <p:cNvPicPr/>
          <p:nvPr/>
        </p:nvPicPr>
        <p:blipFill>
          <a:blip r:embed="rId2"/>
          <a:stretch/>
        </p:blipFill>
        <p:spPr>
          <a:xfrm>
            <a:off x="3059280" y="386064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8" descr="MCj04413620000[1]"/>
          <p:cNvPicPr/>
          <p:nvPr/>
        </p:nvPicPr>
        <p:blipFill>
          <a:blip r:embed="rId3"/>
          <a:stretch/>
        </p:blipFill>
        <p:spPr>
          <a:xfrm>
            <a:off x="2700360" y="3860640"/>
            <a:ext cx="358920" cy="3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delfa142"/>
          <p:cNvPicPr/>
          <p:nvPr/>
        </p:nvPicPr>
        <p:blipFill>
          <a:blip r:embed="rId1"/>
          <a:stretch/>
        </p:blipFill>
        <p:spPr>
          <a:xfrm>
            <a:off x="0" y="1447920"/>
            <a:ext cx="3505320" cy="3254400"/>
          </a:xfrm>
          <a:prstGeom prst="rect">
            <a:avLst/>
          </a:prstGeom>
          <a:ln w="0">
            <a:noFill/>
          </a:ln>
        </p:spPr>
      </p:pic>
      <p:sp>
        <p:nvSpPr>
          <p:cNvPr id="303" name="WordArt 5"/>
          <p:cNvSpPr txBox="1"/>
          <p:nvPr/>
        </p:nvSpPr>
        <p:spPr>
          <a:xfrm>
            <a:off x="685800" y="457200"/>
            <a:ext cx="6172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эльфа - 14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3581280" y="1297080"/>
            <a:ext cx="4191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нажер позволяет работать с любыми речевыми единицам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звука до текста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ть  логопедические задачи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коррекции речевого дых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лоса до развития лексико-грамматической стороны речи, многократно дублировать необходимый тип упражнен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ечевой материал, одновременно с логопедической работой осуществлять коррекцию восприятия, внимания, памят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упражнений распределены по блокам: звук, буква, слог, слово, предложение , текс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"/>
          <p:cNvSpPr/>
          <p:nvPr/>
        </p:nvSpPr>
        <p:spPr>
          <a:xfrm>
            <a:off x="3657600" y="1523880"/>
            <a:ext cx="426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ое и текстовое сопровождение 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хотворной форм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вы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ого мышлени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ительной и слуховой памяти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ранственного воображения, зрительного и слухового восприят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вучивание иг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ыми актера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очная мультипликац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flash-анимац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выбора игр в люб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F:\картинки всякие разные\кактинкиКОМП\8.jpeg"/>
          <p:cNvPicPr/>
          <p:nvPr/>
        </p:nvPicPr>
        <p:blipFill>
          <a:blip r:embed="rId1"/>
          <a:stretch/>
        </p:blipFill>
        <p:spPr>
          <a:xfrm>
            <a:off x="0" y="1828800"/>
            <a:ext cx="3657600" cy="3714840"/>
          </a:xfrm>
          <a:prstGeom prst="rect">
            <a:avLst/>
          </a:prstGeom>
          <a:ln w="0">
            <a:noFill/>
          </a:ln>
        </p:spPr>
      </p:pic>
      <p:sp>
        <p:nvSpPr>
          <p:cNvPr id="307" name="WordArt 39"/>
          <p:cNvSpPr txBox="1"/>
          <p:nvPr/>
        </p:nvSpPr>
        <p:spPr>
          <a:xfrm>
            <a:off x="1066680" y="380880"/>
            <a:ext cx="609624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ба-Яга. Пойди туд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знаю куда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F:\картинки всякие разные\кактинкиКОМП\9.jpeg"/>
          <p:cNvPicPr/>
          <p:nvPr/>
        </p:nvPicPr>
        <p:blipFill>
          <a:blip r:embed="rId1"/>
          <a:stretch/>
        </p:blipFill>
        <p:spPr>
          <a:xfrm>
            <a:off x="0" y="1828800"/>
            <a:ext cx="3657600" cy="33526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3"/>
          <p:cNvSpPr/>
          <p:nvPr/>
        </p:nvSpPr>
        <p:spPr>
          <a:xfrm>
            <a:off x="3657600" y="152388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Лёликом  ребенок может узнать много интересного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комится с цифрами и алфавитом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тся определять фор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цвет предметов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грает в игры, развивающие воображение, память и реакцию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т представление о природе, временах года и погод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это ненавязчиво и весело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40"/>
          <p:cNvSpPr txBox="1"/>
          <p:nvPr/>
        </p:nvSpPr>
        <p:spPr>
          <a:xfrm>
            <a:off x="609480" y="457200"/>
            <a:ext cx="6477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лик. Времена год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70c0"/>
                </a:solidFill>
                <a:latin typeface="Impact"/>
              </a:rPr>
              <a:t>«Компьютерный практикум</a:t>
            </a:r>
            <a:br>
              <a:rPr sz="2300"/>
            </a:br>
            <a:r>
              <a:rPr b="0" lang="ru-RU" sz="2300" spc="-1" strike="noStrike">
                <a:solidFill>
                  <a:srgbClr val="0070c0"/>
                </a:solidFill>
                <a:latin typeface="Impact"/>
              </a:rPr>
              <a:t>для логопедических занятий в начальной школе»</a:t>
            </a:r>
            <a:endParaRPr b="0" lang="en-US" sz="23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438280" y="1066320"/>
            <a:ext cx="5639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 предназначен для практической отраб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наний, умений, навыков с детьми 6-10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остав практикума вошло 20 компьюте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 и около 1500 дидактических упраж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актикум включает пять раздел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ель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олнение пробелов в разви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вуковой стороны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олнение пробелов лексико – грамматическо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олнение пробелов в формировании связной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индивидуальных качеств уче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за ходом выполнения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ается звуковыми сигналами.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м действии они более мелодич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неправильном – более тревожные. Но са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ое – это наличие конструктора ур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я которому можно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оить занятие, выбирая только ну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пражнения, задавая длительность каждого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img1"/>
          <p:cNvPicPr/>
          <p:nvPr/>
        </p:nvPicPr>
        <p:blipFill>
          <a:blip r:embed="rId7"/>
          <a:stretch/>
        </p:blipFill>
        <p:spPr>
          <a:xfrm>
            <a:off x="0" y="213372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061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Impact"/>
              </a:rPr>
              <a:t>Компьютерные</a:t>
            </a:r>
            <a:r>
              <a:rPr b="1" lang="ru-RU" sz="4000" spc="-1" strike="noStrike">
                <a:solidFill>
                  <a:srgbClr val="475a8d"/>
                </a:solidFill>
                <a:latin typeface="Impact"/>
              </a:rPr>
              <a:t> </a:t>
            </a:r>
            <a:r>
              <a:rPr b="1" lang="ru-RU" sz="4000" spc="-1" strike="noStrike">
                <a:solidFill>
                  <a:srgbClr val="0066ff"/>
                </a:solidFill>
                <a:latin typeface="Impact"/>
              </a:rPr>
              <a:t>программы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99036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Impact"/>
              </a:rPr>
              <a:t>«Лента времени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может выявить, систематизировать, расширить и обогатить тот опыт впечатлений, который был накоплен самим ребенком на протяжении всего предшествующего периода жизни (от ребёнка требуется рассмотреть фотографии окружающего мира и соотнести их с сезонами г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Impact"/>
              </a:rPr>
              <a:t>«Солнечный замок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рия упражнений для детей от 3 до 6 лет, направленных на коррекцию фонетико-фонематической стороны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2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Impact"/>
              </a:rPr>
              <a:t>«Читаем сами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речи детей с задержкой речев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Impact"/>
              </a:rPr>
              <a:t>«Учимся запоминать» -</a:t>
            </a:r>
            <a:r>
              <a:rPr b="0" lang="ru-RU" sz="1800" spc="-1" strike="noStrike">
                <a:solidFill>
                  <a:srgbClr val="ffc000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словаря по темам: «Домашние животные и птицы», «Животные жарких стран»; формирование представлений о целостности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 Black"/>
                <a:ea typeface="Times New Roman"/>
              </a:rPr>
              <a:t>Принципы реализации информационных технологий на логопедических занятиях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240" y="1598760"/>
            <a:ext cx="74214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полисенсорного подхода к коррекции речевых 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системного подхода к коррекции речевых 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развивающего и дифференцированного обучен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системности и последователь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доступности обу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индивидуального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объективной оценки результатов деятельности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игровой стратегии и введение ребёнка в проблемную ситуац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воспитывающего обу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интерактивности компьютерных средств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0" y="3808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  <a:ea typeface="Arial"/>
              </a:rPr>
              <a:t>“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  <a:ea typeface="Arial"/>
              </a:rPr>
              <a:t>МИР ЗА ТВОИМ ОКНОМ”</a:t>
            </a:r>
            <a:r>
              <a:rPr b="1" lang="ru-RU" sz="2400" spc="-1" strike="noStrike">
                <a:solidFill>
                  <a:srgbClr val="e17b7c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Impact"/>
              </a:rPr>
              <a:t>-</a:t>
            </a:r>
            <a:r>
              <a:rPr b="1" lang="ru-RU" sz="2400" spc="-1" strike="noStrike">
                <a:solidFill>
                  <a:srgbClr val="00b0f0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предназначена для детей, имеющих самые разные проблемы в развитии, обучающихся в специальных школах, специальных классах при массовых школах, подготовительных группах детских садов, реабилитационных центрах. Программа особенно полезна тем детям, которые испытывают трудности в анализе явлений окружающей действительности, общении, систематизации и словесном выражении накопленных впечатлений и предста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Arial"/>
              </a:rPr>
              <a:t>«В  ГОРОДСКОМ ДВОРЕ»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рами создан уникальный инструмент обучения – “Калейдоскоп”, позволяющий собирать десятки вариантов картин жизни обычного городского двора в любой сезон года, экспериментировать с признаками, осмысливать границы допустимых изменений, устанавливать соответствие между образом и сл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Impact"/>
              </a:rPr>
              <a:t>Компьютерный комплекс</a:t>
            </a:r>
            <a:r>
              <a:rPr b="0" lang="ru-RU" sz="3300" spc="-1" strike="noStrike">
                <a:solidFill>
                  <a:srgbClr val="ca7f6a"/>
                </a:solidFill>
                <a:latin typeface="Impact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ca7f6a"/>
                </a:solidFill>
                <a:latin typeface="Impact"/>
              </a:rPr>
              <a:t> </a:t>
            </a:r>
            <a:r>
              <a:rPr b="1" lang="ru-RU" sz="3300" spc="-1" strike="noStrike">
                <a:solidFill>
                  <a:srgbClr val="473fe5"/>
                </a:solidFill>
                <a:latin typeface="Impact"/>
              </a:rPr>
              <a:t>"РЕЧЕВОЙ КАЛЕЙДОСКОП"</a:t>
            </a:r>
            <a:endParaRPr b="0" lang="en-US" sz="33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1523520"/>
            <a:ext cx="7620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программы рассчитано на любой возраст: от дошкольников до взросл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ловно в программе компьютерного комплекса можно выделить 4 группы модулей по своему назначению: I группа предназначена для работы над дыханием и голосом; II группа – для работы над звуками речи; III группа – для работы над произношением в целом; IV группа – для развития слухового восприятия и слухового контроля за собственной реч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"Речевой калейдоскоп" может быть использован: на этапе постановки звука, в ходе коррекции и дифференциации звуков друг от друга и на этапе автоматизации. С этой целью программой предусмотрено почти в каждом модуле по 2 варианта и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889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Impact"/>
              </a:rPr>
              <a:t>Выводы:</a:t>
            </a:r>
            <a:endParaRPr b="0" lang="en-US" sz="4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999720"/>
            <a:ext cx="7238880" cy="5643720"/>
          </a:xfrm>
          <a:prstGeom prst="rect">
            <a:avLst/>
          </a:prstGeom>
          <a:solidFill>
            <a:srgbClr val="d9efe0"/>
          </a:solidFill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11617"/>
                </a:solidFill>
                <a:latin typeface="Arial"/>
              </a:rPr>
              <a:t>Компьютеризированные разработки  повышают мотивационную готовность ребенка, тем самым повышая эффективность логопедического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11617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11617"/>
                </a:solidFill>
                <a:latin typeface="Arial"/>
              </a:rPr>
              <a:t>Во многих случаях они просто революционно меняют возрастные границы, темпы и качество коррекционной работы, способствуют повышению самооценк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11617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611617"/>
                </a:solidFill>
                <a:latin typeface="Arial"/>
              </a:rPr>
              <a:t>Использование компьютера позволяет индивидуализировать коррекционный проце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17524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12.21. Занятия с  использованием  компьютеров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 детей    5-7 лет следует проводить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не более одного в течение дня и не  чаще</a:t>
            </a: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трех    раз в неделю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в дни наиболее высокой работоспособности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во вторник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в среду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и в четверг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9" name="WordArt 6"/>
          <p:cNvSpPr txBox="1"/>
          <p:nvPr/>
        </p:nvSpPr>
        <p:spPr>
          <a:xfrm>
            <a:off x="457200" y="533520"/>
            <a:ext cx="682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ЫПИСКА ИЗ СанП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032640" y="1173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4.1.2660-1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010640" cy="5105520"/>
          </a:xfrm>
          <a:prstGeom prst="rect">
            <a:avLst/>
          </a:prstGeom>
          <a:ln w="0">
            <a:noFill/>
          </a:ln>
        </p:spPr>
      </p:pic>
      <p:sp>
        <p:nvSpPr>
          <p:cNvPr id="212" name="WordArt 5"/>
          <p:cNvSpPr txBox="1"/>
          <p:nvPr/>
        </p:nvSpPr>
        <p:spPr>
          <a:xfrm>
            <a:off x="380880" y="304920"/>
            <a:ext cx="6934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осле зан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с детьми проводя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гимнастику для гла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7848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Непрерывная продолж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работы с компьют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на развивающих  игровых   занят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детей 5 лет не должна превышать 10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детей 6-7  лет  -   15</a:t>
            </a:r>
            <a:r>
              <a:rPr b="1" lang="en-US" sz="2000" spc="-1" strike="noStrike">
                <a:solidFill>
                  <a:srgbClr val="990099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мину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детей, имеющих хроническую патологи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частоболеющих (более   4</a:t>
            </a:r>
            <a:r>
              <a:rPr b="1" lang="en-US" sz="2000" spc="-1" strike="noStrike">
                <a:solidFill>
                  <a:srgbClr val="990099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раз  в  год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после  перенесенных  заболеваний в   т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2-недель продолжительность занятий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компьютером должна быть сокращ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детей 5 лет - до 7 мину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детей 6 лет - до 10 ми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снижения утомляемости  де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на  занятиях  с   использ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компьютерной тех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необходимо  обеспе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гигиенически   рациональную организацию  рабочего  мес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9900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соответствие   мебели   росту     ребен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9900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остаточный уровень освещ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Экран видеомонитора должен   находиться на уровне глаз или чуть ниже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на расстоянии не  ближе  50  с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Ребенок, носящий очки,  должен  заниматься  за  компьютером  в 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63520" y="1598400"/>
            <a:ext cx="7386480" cy="28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Impact"/>
              </a:rPr>
              <a:t>Не допустим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использование одного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одновременного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вух или боле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9-05-06T10:31:42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