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B49-6BF5-4111-ABF6-1459EF14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932-ADCA-4A32-99E1-6F383C24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919-3E36-4785-95A3-C2FBA66F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C03-FC65-4A6B-9C4C-2793DF71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E40-C5E2-4A84-B929-DFFF8E62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7B8-8542-4F5E-8FA9-A0A5744A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BCD-7D60-4071-B779-4365625B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36A-DFA9-466D-ADCF-F8A4C03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E6D-733C-4948-90B0-050B85CD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A39-5C09-4184-9BE3-3B82EA30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AEE-E922-4E7F-AF95-B19DF9EA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DE4-DE40-4B1C-BFF2-C9FACCD7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E9E7-9666-47DB-922E-C68FA6C8D2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резентация для детей 6-7 лет</a:t>
            </a:r>
            <a:br>
              <a:rPr sz="28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«Люблю тебя Петра творенье»</a:t>
            </a:r>
            <a:br>
              <a:rPr sz="36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онкурс чтец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ила  воспитатель ГБДОУ детский сад №80 Примор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АВЛОВА М.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762120" y="3589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Государственное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детский сад №80 Приморского района Санкт-Петербурга общеразвивающего вида с приоритетным осуществлением деятельности по художественно-эстетическому развитию детей Приморского района Санкт-Петербу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АЯ ПЛОЩАД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щадь эта главна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щадь эта славна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бывать на ней все рад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 проводятся парад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ходят демонстрант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ют оркестран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вают здесь гуля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лошадях кат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я она и стара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выглядит, как нова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щадь наша главная по имени... (Дворцова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Содержимое 6" descr="sp12b.jpg"/>
          <p:cNvPicPr/>
          <p:nvPr/>
        </p:nvPicPr>
        <p:blipFill>
          <a:blip r:embed="rId1"/>
          <a:stretch/>
        </p:blipFill>
        <p:spPr>
          <a:xfrm>
            <a:off x="228600" y="2209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ЫЙ МУЗ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ранием сокровищ знаменит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зей со всей земли гостей мани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ртины, вазы, древние гробниц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мумия (ей много тысяч лет!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ульптуры, люстры, дорогой паркет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рвизы, мебель, гардероб царицы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-царски выглядит с фасад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орец-музей главнейший наш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ариже – Лувр, в Мадриде — Прад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в Петербурге –...(Эрмитаж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Содержимое 5" descr="613eaaac05f6.jpg"/>
          <p:cNvPicPr/>
          <p:nvPr/>
        </p:nvPicPr>
        <p:blipFill>
          <a:blip r:embed="rId1"/>
          <a:stretch/>
        </p:blipFill>
        <p:spPr>
          <a:xfrm>
            <a:off x="685800" y="1371600"/>
            <a:ext cx="36115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ЕЛКА ВАСИЛЬЕВСКОГО ОСТРО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трелке откроется вам панорам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ание биржи – торгового хр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ещет вода у ростральных колон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 ансамбля Тома де Том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да проходили фарватер ре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лпа горожан их встречал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на колоннах огни – мая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ели всю ночь и по ним моря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ть находили к причалу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Содержимое 6" descr="St.-Petersburg.jpg"/>
          <p:cNvPicPr/>
          <p:nvPr/>
        </p:nvPicPr>
        <p:blipFill>
          <a:blip r:embed="rId1"/>
          <a:stretch/>
        </p:blipFill>
        <p:spPr>
          <a:xfrm>
            <a:off x="228600" y="1981080"/>
            <a:ext cx="4408560" cy="3124440"/>
          </a:xfrm>
          <a:prstGeom prst="rect">
            <a:avLst/>
          </a:prstGeom>
          <a:ln w="0">
            <a:noFill/>
          </a:ln>
        </p:spPr>
      </p:pic>
      <p:sp>
        <p:nvSpPr>
          <p:cNvPr id="74" name="Содержимое 4"/>
          <p:cNvSpPr/>
          <p:nvPr/>
        </p:nvSpPr>
        <p:spPr>
          <a:xfrm>
            <a:off x="304920" y="3962520"/>
            <a:ext cx="4038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ТЕРБУРГСКИЕ ХРАМЫ</a:t>
            </a:r>
            <a:br>
              <a:rPr sz="40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СААКИЕВСКИЙ СОБОР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ору огромному равного н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го возводили почти сорок лет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й многотрудной должна быть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 встали вокруг 112 колон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купол в лучах засверкал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олото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кто ж архитектор? Известе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м 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роил в столице собор-вели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одчий великий Огюст Монферр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Содержимое 5" descr="Cathédrale_Saint-Isaac.png"/>
          <p:cNvPicPr/>
          <p:nvPr/>
        </p:nvPicPr>
        <p:blipFill>
          <a:blip r:embed="rId1"/>
          <a:stretch/>
        </p:blipFill>
        <p:spPr>
          <a:xfrm>
            <a:off x="228600" y="1981080"/>
            <a:ext cx="43704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ХРАМ ВОСКРЕСЕНИЯ ХРИСТОВА</a:t>
            </a:r>
            <a:br>
              <a:rPr sz="40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(СПАС-НА-КРОВИ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шел из русской сказки к н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ейливый узорный хр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ал у канала – яркий, броски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хожий на собор Московск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Содержимое 5" descr="64824745_20251491.jpg"/>
          <p:cNvPicPr/>
          <p:nvPr/>
        </p:nvPicPr>
        <p:blipFill>
          <a:blip r:embed="rId1"/>
          <a:stretch/>
        </p:blipFill>
        <p:spPr>
          <a:xfrm>
            <a:off x="304920" y="1676520"/>
            <a:ext cx="371448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МОЛЬНЫЙ СОБО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ник о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будто из сказочных снов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ем холод небе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лизна обла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высь устремил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зорный, лепн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йный и легки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душей незем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льный собор пятигла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релли – бессмертье и сл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Содержимое 5" descr="smolny-sobor.jpg"/>
          <p:cNvPicPr/>
          <p:nvPr/>
        </p:nvPicPr>
        <p:blipFill>
          <a:blip r:embed="rId1"/>
          <a:stretch/>
        </p:blipFill>
        <p:spPr>
          <a:xfrm>
            <a:off x="609480" y="1295280"/>
            <a:ext cx="3608640" cy="516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724280" y="1905120"/>
            <a:ext cx="4419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йдя «болоту и канаву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арь осмотрел трофейный са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ладел им много лет подря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вед по фамилии Кона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арь понял: лучше места н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риказал идущим вслед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ускай садовника пришлют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й «огород» отныне тут!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налы вырыли, пруд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ота осушил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был уже не сад — сады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нтаны всюду би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орец построен. Царь был рад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л европейским ...(Летний сад)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Содержимое 7" descr="6f5ca94a4fa0561ac7d368bd9203d4b1.jpg"/>
          <p:cNvPicPr/>
          <p:nvPr/>
        </p:nvPicPr>
        <p:blipFill>
          <a:blip r:embed="rId1"/>
          <a:stretch/>
        </p:blipFill>
        <p:spPr>
          <a:xfrm>
            <a:off x="2286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858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Ш ПЕРВЫЙ САД</a:t>
            </a:r>
            <a:br>
              <a:rPr sz="40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(КАК ВСЕ НАЧИНАЛОСЬ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ЛЕТНИЙ САД В НАШИ ДН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181480" y="1905120"/>
            <a:ext cx="3733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вете много есть чуде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вот прекрасный са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деревьями в одном ря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ульптуры там стоя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вдалеке по глади в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круг пруда больш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а белых лебедя плыву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етствуя люб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рожки чинно Вас веду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доль мраморных богов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тенистом чудном уголк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дит поэт Кры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Содержимое 5" descr="imgpreview.jpeg"/>
          <p:cNvPicPr/>
          <p:nvPr/>
        </p:nvPicPr>
        <p:blipFill>
          <a:blip r:embed="rId1"/>
          <a:stretch/>
        </p:blipFill>
        <p:spPr>
          <a:xfrm>
            <a:off x="228600" y="2057400"/>
            <a:ext cx="4724280" cy="3417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АК ГОРОД СТРОИЛСЯ ПЕТР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24280" y="1371600"/>
            <a:ext cx="44197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 город строился Петром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шло в Российский старый д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ало западных чудес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гонь потешный, полите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лы и ассамбле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ульптуры и музе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ревьев ровные ря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хуже чем в Верс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росвещения плод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ступны русским ста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овый для Европы сти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ник во граде невс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мах российский царь скрест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порядком европейск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в городе с петровских п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личье, строгость и прост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Содержимое 5" descr="Петр-I.jpg"/>
          <p:cNvPicPr/>
          <p:nvPr/>
        </p:nvPicPr>
        <p:blipFill>
          <a:blip r:embed="rId1"/>
          <a:stretch/>
        </p:blipFill>
        <p:spPr>
          <a:xfrm>
            <a:off x="685800" y="1447920"/>
            <a:ext cx="3598920" cy="4925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овательные области с учетом ФГО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1. ОО «Социально-коммуникативное развитие»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- формирование коммуникативных навыков, эмоциональной отзывчивост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- развитие общения и взаимодействия детей со взрослыми и сверстникам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- воспитание любви к родному городу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2. ОО «Познавательное развитие»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- закрепление полученных знаний детей о Санкт-Петербурге, его основных достопримечательностях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3. ОО «Речевое развитие»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- развитие связной речи детей посредством рассказывания стихов;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- обогащение активного словаря детей новыми словами: достопримечательности, собор, шпиль, скульптура и др.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4. ОО «Художественно-эстетическое развитие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- развитие способности видеть красоту родного города, рассматривая его достопримечательности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- развитие понимания красоты стихов о Санкт-Петербурге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- развитие художественных навыков в процессе рисования достопримечательностей родного город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5. ОО «Физическое развитие»:-развитие навыков согласования слова и движения в ходе проведения физкультминутк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ОРОД ПЕТР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648320" y="19051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разливается Н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реки, речки-рука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островки и ост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пятся у зали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топь, болотная тра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в дымке моря синев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 Петр Великий основ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ицу всем на ди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Содержимое 5" descr="911003091.jpg"/>
          <p:cNvPicPr/>
          <p:nvPr/>
        </p:nvPicPr>
        <p:blipFill>
          <a:blip r:embed="rId1"/>
          <a:stretch/>
        </p:blipFill>
        <p:spPr>
          <a:xfrm>
            <a:off x="304920" y="1828800"/>
            <a:ext cx="4468680" cy="375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ВСЕ НАЧИНАЛОС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48320" y="19051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арь остров в устье указа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однялись за валом в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есть бастионов над реко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ышкин, Зотов, Трубецк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овкин, Меньшиков, од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Государев. Шесть кур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вали крепко остров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перь врагов и на поро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пустит русская р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кай смирят свирепос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знав, что встала на 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Петропавловская крепость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Содержимое 5" descr="Petropavlovskaia_Krepost_aerial.jpg"/>
          <p:cNvPicPr/>
          <p:nvPr/>
        </p:nvPicPr>
        <p:blipFill>
          <a:blip r:embed="rId1"/>
          <a:stretch/>
        </p:blipFill>
        <p:spPr>
          <a:xfrm>
            <a:off x="304920" y="2133720"/>
            <a:ext cx="4222800" cy="2921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НГЕЛ НАД ГОРОД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572000" y="1295280"/>
            <a:ext cx="4267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умал, видн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ел улете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от засты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ранства не осиля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у на гор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ело гляде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верши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ропавловского шпиля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 ним теч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авица Нев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оды омыв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яж знакомый,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в невских вод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а сине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все св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в Петербурге –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Содержимое 5" descr="Angel-na-shpile-Petropavlovskogo-sobora.gif"/>
          <p:cNvPicPr/>
          <p:nvPr/>
        </p:nvPicPr>
        <p:blipFill>
          <a:blip r:embed="rId1"/>
          <a:stretch/>
        </p:blipFill>
        <p:spPr>
          <a:xfrm>
            <a:off x="685800" y="1371600"/>
            <a:ext cx="3881520" cy="488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ДМИРАЛТЕЙСТВ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495680" y="1905120"/>
            <a:ext cx="4648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умал Петр: На Балтике войн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рядом с морем верфь ну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ь крепость Питербурх, встав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пко в усть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ужих в Неву теперь уж не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пусти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ужен ей на левом берег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мощник, чтоб давать отпор враг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главное, чтоб строить новый флот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царь приказ немедля отдает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ершилось историческое действ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рфь-крепость возвели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дмиралтей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Содержимое 5" descr="35630_.JPG"/>
          <p:cNvPicPr/>
          <p:nvPr/>
        </p:nvPicPr>
        <p:blipFill>
          <a:blip r:embed="rId1"/>
          <a:stretch/>
        </p:blipFill>
        <p:spPr>
          <a:xfrm>
            <a:off x="457200" y="1447920"/>
            <a:ext cx="3638520" cy="4851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АЛЕНЬКИЙ КОРАБЛИК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724280" y="1905120"/>
            <a:ext cx="4419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енький кора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городе огром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бе над Нево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нем и простор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енький кора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око плыв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имвол город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есь рождался фло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Содержимое 5" descr="element-633163-misc-ad2.jpg"/>
          <p:cNvPicPr/>
          <p:nvPr/>
        </p:nvPicPr>
        <p:blipFill>
          <a:blip r:embed="rId1"/>
          <a:stretch/>
        </p:blipFill>
        <p:spPr>
          <a:xfrm>
            <a:off x="762120" y="1295280"/>
            <a:ext cx="3716280" cy="4948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ЫЙ ДВОРЕЦ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495680" y="1905120"/>
            <a:ext cx="4648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ослушай мой зодчий!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ала царица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дь Санкт-Петербург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все же столиц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оскошном дворце я хочу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елить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 там на балах, на пирах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селить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 теплый построй, чтоб не мерзнуть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етели!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взялся за дело великий Растрел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Содержимое 5" descr="2110.jpg"/>
          <p:cNvPicPr/>
          <p:nvPr/>
        </p:nvPicPr>
        <p:blipFill>
          <a:blip r:embed="rId1"/>
          <a:stretch/>
        </p:blipFill>
        <p:spPr>
          <a:xfrm>
            <a:off x="152280" y="1981080"/>
            <a:ext cx="43117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1</dc:creator>
  <dc:description/>
  <dc:language>en-US</dc:language>
  <cp:lastModifiedBy>User1</cp:lastModifiedBy>
  <dcterms:modified xsi:type="dcterms:W3CDTF">2019-05-06T08:21:1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