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!%20red.wav" ContentType="audio/x-wav"/>
  <Override PartName="/ppt/media/!%20green.wav" ContentType="audio/x-wav"/>
  <Override PartName="/ppt/media/!%20black.wav" ContentType="audio/x-wav"/>
  <Override PartName="/ppt/media/!%20white.wav" ContentType="audio/x-wav"/>
  <Override PartName="/ppt/media/!%20grey.wav" ContentType="audio/x-wav"/>
  <Override PartName="/ppt/media/!%20yellow.wav" ContentType="audio/x-wav"/>
  <Override PartName="/ppt/media/image1.png" ContentType="image/png"/>
  <Override PartName="/ppt/media/!%20brown.wav" ContentType="audio/x-wav"/>
  <Override PartName="/ppt/media/!%20blu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47B-8E3D-41B0-853E-B38CA011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83A-2103-43DD-879D-AB6BB561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EA3-6BA0-4FF8-81B9-D423ECA6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E88-C9B4-4DD8-A2ED-2C8E9BB2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720-6654-416C-AC11-B1B61C5D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B41-AE4D-4F1F-8174-18A75224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121-832C-4A54-8B34-9B2E4705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5ED-CCFA-49AB-9510-7E98E546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1D3-1A6E-4E4D-B583-366CF5EE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885-3C41-46E0-858A-3046EC3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A21-B06D-40D2-A6C4-6A43368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245-6503-44C6-B860-74B3EEB2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2E0A-A92E-4827-96D7-FEACC1DB1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!%20red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!%20green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!%20black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!%20white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!%20yellow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!%20brown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!%20blue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!%20grey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оре, где стоит «Артек», назывется </a:t>
            </a:r>
            <a:br>
              <a:rPr sz="6600"/>
            </a:br>
            <a:r>
              <a:rPr b="1" lang="tr-TR" sz="7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380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Этот цвет зимой бывает, называется он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307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 знамен и побед называется он 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307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 полей пшеницы спелой называется он </a:t>
            </a: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, который я люблю, называется он</a:t>
            </a:r>
            <a:br>
              <a:rPr sz="6600"/>
            </a:b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337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елки цвет один, назывется он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4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3733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А медведь по кличке Бравый, цвет избрал какой он?</a:t>
            </a:r>
            <a:br>
              <a:rPr sz="13600"/>
            </a:br>
            <a:r>
              <a:rPr b="1" lang="tr-TR" sz="7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 волков и цвет мышей, называется он 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Col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96760" y="2097000"/>
            <a:ext cx="278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 елки цвет од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61080" y="1944720"/>
            <a:ext cx="32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знамен и поб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53564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едведь по кличке Бра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избрал какой 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4400" y="4230720"/>
            <a:ext cx="383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ре, где стоит «Арте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Col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1840" y="1944720"/>
            <a:ext cx="37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цвет зимой бы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4040" y="1716120"/>
            <a:ext cx="33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волков и мыш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0440" y="4154400"/>
            <a:ext cx="36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, который я любл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8920" y="4278240"/>
            <a:ext cx="36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полей пшеницы спел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438280"/>
            <a:ext cx="93726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04920" y="2438280"/>
            <a:ext cx="975384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7752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7752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07:14Z</dcterms:created>
  <dc:creator>SIDIKA, OSMAN &amp; MELIH</dc:creator>
  <dc:description/>
  <dc:language>en-US</dc:language>
  <cp:lastModifiedBy>USER</cp:lastModifiedBy>
  <dcterms:modified xsi:type="dcterms:W3CDTF">2010-11-09T15:41:53Z</dcterms:modified>
  <cp:revision>17</cp:revision>
  <dc:subject/>
  <dc:title>COLOURS</dc:title>
</cp:coreProperties>
</file>