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!%20red.wav" ContentType="audio/x-wav"/>
  <Override PartName="/ppt/media/!%20green.wav" ContentType="audio/x-wav"/>
  <Override PartName="/ppt/media/!%20black.wav" ContentType="audio/x-wav"/>
  <Override PartName="/ppt/media/!%20white.wav" ContentType="audio/x-wav"/>
  <Override PartName="/ppt/media/!%20grey.wav" ContentType="audio/x-wav"/>
  <Override PartName="/ppt/media/!%20yellow.wav" ContentType="audio/x-wav"/>
  <Override PartName="/ppt/media/image1.png" ContentType="image/png"/>
  <Override PartName="/ppt/media/!%20brown.wav" ContentType="audio/x-wav"/>
  <Override PartName="/ppt/media/!%20blu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B00-B7C8-41F2-828F-28EB68EB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A54-3B7E-43E7-A18F-59717C84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EE1-980D-4701-BB3A-4A47F333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783-A8CF-4840-9F75-28928BE5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92A-F872-4E14-9513-3720C94D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CAA-104C-4412-974D-5BE5CF5F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6D7-D539-4849-A41C-89B54759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EA4-1034-4068-9FAD-C09A3036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040-53C0-424F-85AC-ECD6875B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673-E66F-41AC-85F3-D4BB520E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3F5-370C-46E8-A91C-DA9CCED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756-8520-41CD-85E5-F8315AA6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819C-E3F1-4C66-A27C-156C53DA7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!%20red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!%20green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!%20black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!%20white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!%20yellow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!%20brown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!%20blue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!%20grey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COLOURS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4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оре, где стоит «Артек», назывется </a:t>
            </a:r>
            <a:br>
              <a:rPr sz="6600"/>
            </a:br>
            <a:r>
              <a:rPr b="1" lang="tr-TR" sz="7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3809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Этот цвет зимой бывает, называется он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307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Цвет знамен и побед называется он 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307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Цвет полей пшеницы спелой называется он </a:t>
            </a:r>
            <a:r>
              <a:rPr b="1" lang="tr-TR" sz="66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038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Цвет, который я люблю, называется он</a:t>
            </a:r>
            <a:br>
              <a:rPr sz="6600"/>
            </a:b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B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337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У елки цвет один, назывется он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6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4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3733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А медведь по кличке Бравый, цвет избрал какой он?</a:t>
            </a:r>
            <a:br>
              <a:rPr sz="13600"/>
            </a:br>
            <a:r>
              <a:rPr b="1" lang="tr-TR" sz="72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Цвет волков и цвет мышей, называется он </a:t>
            </a:r>
            <a:br>
              <a:rPr sz="6600"/>
            </a:br>
            <a:r>
              <a:rPr b="1" lang="tr-TR" sz="6600" spc="-1" strike="noStrike">
                <a:solidFill>
                  <a:srgbClr val="000000"/>
                </a:solidFill>
                <a:latin typeface="Arial"/>
              </a:rPr>
              <a:t>GR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Colou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96760" y="2097000"/>
            <a:ext cx="278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 елки цвет од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61080" y="1944720"/>
            <a:ext cx="326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знамен и побе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53564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медведь по кличке Бра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избрал какой 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4400" y="4230720"/>
            <a:ext cx="383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ре, где стоит «Артек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012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Colou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1840" y="1944720"/>
            <a:ext cx="373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цвет зимой быв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4040" y="1716120"/>
            <a:ext cx="337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волков и мыш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0440" y="4154400"/>
            <a:ext cx="362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, который я любл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8920" y="4278240"/>
            <a:ext cx="368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полей пшеницы спел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438280"/>
            <a:ext cx="93726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012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04920" y="2438280"/>
            <a:ext cx="975384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012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7752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7752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28600" y="2438280"/>
            <a:ext cx="9601200" cy="1470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600" spc="-1" strike="noStrike">
                <a:solidFill>
                  <a:srgbClr val="000000"/>
                </a:solidFill>
                <a:latin typeface="Arial"/>
              </a:rPr>
              <a:t>GREY</a:t>
            </a:r>
            <a:endParaRPr b="0" lang="en-US" sz="1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07:14Z</dcterms:created>
  <dc:creator>SIDIKA, OSMAN &amp; MELIH</dc:creator>
  <dc:description/>
  <dc:language>en-US</dc:language>
  <cp:lastModifiedBy>USER</cp:lastModifiedBy>
  <dcterms:modified xsi:type="dcterms:W3CDTF">2010-11-09T15:41:53Z</dcterms:modified>
  <cp:revision>17</cp:revision>
  <dc:subject/>
  <dc:title>COLOURS</dc:title>
</cp:coreProperties>
</file>