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5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7.wmf" ContentType="image/x-wmf"/>
  <Override PartName="/ppt/media/image18.wmf" ContentType="image/x-wmf"/>
  <Override PartName="/ppt/media/image16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AA44-13BB-41C8-8920-3ED90A97C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D3C2-F82D-4B75-BCA7-7346A6DD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C208-360D-452D-B5F0-963A780A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4D8F-8B45-405E-B1CA-34722B5AB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7133-0495-4714-8F9A-1AE877BB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3862-1D1E-450C-B80D-9DAD083F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93ED-DAD2-4DD0-817F-73645EDE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6CF7-8BA4-4AE1-A250-ECDB0730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F543-643A-46F7-A426-404EFC09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873D-2B32-48D5-8FA3-1D534713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9288-4D8A-4DB4-9116-1D4C5273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6C72-A128-4EB1-8102-B661CAF3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D4E0-4D2E-4059-A098-282A01D5AC7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fmc.hse.ru/5-7forms" TargetMode="External"/><Relationship Id="rId2" Type="http://schemas.openxmlformats.org/officeDocument/2006/relationships/hyperlink" Target="https://fmc.hse.ru/5-7forms" TargetMode="External"/><Relationship Id="rId3" Type="http://schemas.openxmlformats.org/officeDocument/2006/relationships/hyperlink" Target="http://makeyourdays.ru/page/48/" TargetMode="External"/><Relationship Id="rId4" Type="http://schemas.openxmlformats.org/officeDocument/2006/relationships/hyperlink" Target="http://makeyourdays.ru/page/48/" TargetMode="External"/><Relationship Id="rId5" Type="http://schemas.openxmlformats.org/officeDocument/2006/relationships/hyperlink" Target="http://makeyourdays.ru/page/48/" TargetMode="External"/><Relationship Id="rId6" Type="http://schemas.openxmlformats.org/officeDocument/2006/relationships/hyperlink" Target="http://finance.tut.by/news289378.html" TargetMode="External"/><Relationship Id="rId7" Type="http://schemas.openxmlformats.org/officeDocument/2006/relationships/hyperlink" Target="http://finance.tut.by/news289378.html" TargetMode="External"/><Relationship Id="rId8" Type="http://schemas.openxmlformats.org/officeDocument/2006/relationships/hyperlink" Target="http://finance.tut.by/news289378.html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wm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80000" y="1125000"/>
            <a:ext cx="503856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такое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бственный бизнес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4"/>
          <p:cNvSpPr/>
          <p:nvPr/>
        </p:nvSpPr>
        <p:spPr>
          <a:xfrm>
            <a:off x="4427640" y="4797360"/>
            <a:ext cx="4716360" cy="2060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ект выполнен: Рубцова Е.Н. - МБОУ «СОШ №8», директор школы, учитель физики, г. Нефтеюганс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инская И.В. – МБОУ «СШ №30 с УИОП», учитель географии, г. Нижневартовс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зеева Е.С.- МБОУ «СОШ №14», учитель начальных классов, г. Нефтеюганс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рдиевскин Н.Н.- МБОУ «СОШ №14», учитель по шахматам, г. Нефтеюганс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чества предпринимат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77440" y="1088640"/>
            <a:ext cx="810900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емление к успеху, упор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ициативность, бережлив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ие ставить задачи и наход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тандартные ре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елость, способность пойти на рис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ть строгие нравственные устои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честность, порядочность, верность слов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ть управлять, организова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ть эруди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ть щедр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577800" y="1125360"/>
            <a:ext cx="1800360" cy="1872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334800" y="3019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ри Фо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6372360" y="4767120"/>
            <a:ext cx="2328840" cy="131292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6469200" y="60069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лл Гейт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4067280" y="4767120"/>
            <a:ext cx="1512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1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4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7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0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3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6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9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2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5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8" dur="5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64216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.</a:t>
            </a:r>
            <a:br>
              <a:rPr sz="24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обходимо вставить пропущенные слова.</a:t>
            </a:r>
            <a:br>
              <a:rPr sz="22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ЕДО ПРЕДПРИНИМАТЕЛЬСКОЙ ДЕЯТЕЛЬНОСТИ</a:t>
            </a:r>
            <a:r>
              <a:rPr b="0" lang="ru-RU" sz="3200" spc="-1" strike="noStrike">
                <a:solidFill>
                  <a:srgbClr val="c1ecf0"/>
                </a:solidFill>
                <a:latin typeface="Arial"/>
              </a:rPr>
              <a:t>.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39640" y="917280"/>
            <a:ext cx="822960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едо предпринимательской деятельности - __________________________, поскольку предприниматель всегда действует на свой ______ и ______ и на него ложатся все последствия и ____________________ деятельности – как   прибыль, так и _______________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этом предприниматель не обязательно ___________________, в первую очередь – это ____________________________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может использовать как свои средства, так и средства, взятые в ___________ или _________________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0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СЛОВА ДЛЯ СПРАВОК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арендованные, коммерческий успех,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ах, убытки, риск, собственник, долг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тор производства, результа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00"/>
                </a:solidFill>
                <a:latin typeface="Arial"/>
              </a:rPr>
              <a:t>   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7886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r>
              <a:rPr b="1" lang="ru-RU" sz="3000" spc="-1" strike="noStrike">
                <a:solidFill>
                  <a:srgbClr val="c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90040" y="980640"/>
            <a:ext cx="38862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ru-RU" sz="1700" spc="-1" strike="noStrike">
                <a:solidFill>
                  <a:srgbClr val="002060"/>
                </a:solidFill>
                <a:latin typeface="Arial"/>
              </a:rPr>
              <a:t>Предпринимателями не рождаются. Чтобы успешно освоить предпринимательство  и бизнес, необходимо приложить много усилий и быть готовым к преодолению трудностей.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"/>
              </a:rPr>
              <a:t>Организация бизнеса требует конкретных идей, наличие капитала, активных и  продуманных действий, профессиональных менеджеров.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http://my-ivanovo.ru/wp-content/uploads/2010/10/kollag.jpg"/>
          <p:cNvPicPr/>
          <p:nvPr/>
        </p:nvPicPr>
        <p:blipFill>
          <a:blip r:embed="rId1"/>
          <a:stretch/>
        </p:blipFill>
        <p:spPr>
          <a:xfrm>
            <a:off x="4400640" y="3068640"/>
            <a:ext cx="428616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0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2771640" y="3213000"/>
            <a:ext cx="403884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точн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31640" y="1484280"/>
            <a:ext cx="734364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ознание. Учебник для 6 класса.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вченко А.И., Певцова Е.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.: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ая грамот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fmc.hse.ru/5-7forms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ринима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://makeyourdays.ru/page/48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ринимательст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finance.tut.by/news289378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зне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uralzo.ru/biznes-galereja/kak-nachat-svoe-delo/otkroj-svoe-delo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ый бизне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i-news.kz/news/2013/02/02/6863557-v_kostanaiskoi_oblasti_v_ramkah_delovyh_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зан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835280" y="1197000"/>
            <a:ext cx="6408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формировать у учащихся (5-6 класс) знания о бизнесе и предпринимательск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 познакомиться с формами организации бизне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 выявить качества личности предпринимате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 выявить значение предпринимательск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вы думаете, кто такой предприниматель/бизнесме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ую деятельность можно назвать предпринимательств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0" y="2666880"/>
            <a:ext cx="3314880" cy="2005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3581280" y="2743200"/>
            <a:ext cx="2300400" cy="3448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3"/>
          <a:stretch/>
        </p:blipFill>
        <p:spPr>
          <a:xfrm>
            <a:off x="6019920" y="2666880"/>
            <a:ext cx="2361960" cy="177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4"/>
          <a:stretch/>
        </p:blipFill>
        <p:spPr>
          <a:xfrm>
            <a:off x="228600" y="4952880"/>
            <a:ext cx="3124080" cy="1673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"/>
          <p:cNvPicPr/>
          <p:nvPr/>
        </p:nvPicPr>
        <p:blipFill>
          <a:blip r:embed="rId5"/>
          <a:stretch/>
        </p:blipFill>
        <p:spPr>
          <a:xfrm>
            <a:off x="6172200" y="4800600"/>
            <a:ext cx="228600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826560" y="620640"/>
            <a:ext cx="782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Предприниматель, или бизнесмен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— это человек, имеющий своё дело в целях получения прибыли в форме оказания услуг, торговли или производ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Известно, что телеграф,  телефон, радио, компьютер изобрели ученые, но сделали их средствами  массовой коммуникации именно предпринимате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Предприимчивос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черта характера, способ     поведения, которому присущи ловкость, сноровка, умение    выходить из сложных ситуаций, что-то организовывать на         пустом ме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332000" y="1417320"/>
            <a:ext cx="545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омогает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остичь успеха в жизн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обиться материального благополуч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оявить творческие способ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ускорить развитие экономики стр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чем заниматься собственным бизнес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15"/>
          <p:cNvPicPr/>
          <p:nvPr/>
        </p:nvPicPr>
        <p:blipFill>
          <a:blip r:embed="rId1"/>
          <a:stretch/>
        </p:blipFill>
        <p:spPr>
          <a:xfrm>
            <a:off x="6443640" y="1736640"/>
            <a:ext cx="2089080" cy="1389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CAGD6ZW1"/>
          <p:cNvPicPr/>
          <p:nvPr/>
        </p:nvPicPr>
        <p:blipFill>
          <a:blip r:embed="rId2"/>
          <a:stretch/>
        </p:blipFill>
        <p:spPr>
          <a:xfrm>
            <a:off x="6443640" y="4292640"/>
            <a:ext cx="1943280" cy="135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14320" y="42084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иды бизне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12120" y="990720"/>
            <a:ext cx="12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CALSUPTN"/>
          <p:cNvPicPr/>
          <p:nvPr/>
        </p:nvPicPr>
        <p:blipFill>
          <a:blip r:embed="rId1"/>
          <a:stretch/>
        </p:blipFill>
        <p:spPr>
          <a:xfrm>
            <a:off x="1600200" y="914400"/>
            <a:ext cx="2286000" cy="19796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8"/>
          <p:cNvSpPr/>
          <p:nvPr/>
        </p:nvSpPr>
        <p:spPr>
          <a:xfrm>
            <a:off x="233280" y="281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3" descr="9"/>
          <p:cNvPicPr/>
          <p:nvPr/>
        </p:nvPicPr>
        <p:blipFill>
          <a:blip r:embed="rId2"/>
          <a:stretch/>
        </p:blipFill>
        <p:spPr>
          <a:xfrm>
            <a:off x="1600200" y="3048120"/>
            <a:ext cx="2443320" cy="19587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0"/>
          <p:cNvSpPr/>
          <p:nvPr/>
        </p:nvSpPr>
        <p:spPr>
          <a:xfrm>
            <a:off x="6097680" y="914400"/>
            <a:ext cx="270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зводствен-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1" descr="6"/>
          <p:cNvPicPr/>
          <p:nvPr/>
        </p:nvPicPr>
        <p:blipFill>
          <a:blip r:embed="rId3"/>
          <a:stretch/>
        </p:blipFill>
        <p:spPr>
          <a:xfrm>
            <a:off x="3908520" y="917640"/>
            <a:ext cx="2211120" cy="21333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2"/>
          <p:cNvSpPr/>
          <p:nvPr/>
        </p:nvSpPr>
        <p:spPr>
          <a:xfrm>
            <a:off x="6348960" y="301788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рг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2" descr="CAIT47AL"/>
          <p:cNvPicPr/>
          <p:nvPr/>
        </p:nvPicPr>
        <p:blipFill>
          <a:blip r:embed="rId4"/>
          <a:stretch/>
        </p:blipFill>
        <p:spPr>
          <a:xfrm>
            <a:off x="4102200" y="3036960"/>
            <a:ext cx="1995480" cy="19810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4"/>
          <p:cNvSpPr/>
          <p:nvPr/>
        </p:nvSpPr>
        <p:spPr>
          <a:xfrm>
            <a:off x="4114440" y="5562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2"/>
          <p:cNvPicPr/>
          <p:nvPr/>
        </p:nvPicPr>
        <p:blipFill>
          <a:blip r:embed="rId5"/>
          <a:stretch/>
        </p:blipFill>
        <p:spPr>
          <a:xfrm>
            <a:off x="6303960" y="3760920"/>
            <a:ext cx="2289240" cy="2514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рмы предприниматель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TextBox 3"/>
          <p:cNvGrpSpPr/>
          <p:nvPr/>
        </p:nvGrpSpPr>
        <p:grpSpPr>
          <a:xfrm>
            <a:off x="798480" y="1590840"/>
            <a:ext cx="3224160" cy="963360"/>
            <a:chOff x="798480" y="1590840"/>
            <a:chExt cx="3224160" cy="963360"/>
          </a:xfrm>
        </p:grpSpPr>
        <p:pic>
          <p:nvPicPr>
            <p:cNvPr id="70" name="TextBox 3" descr=""/>
            <p:cNvPicPr/>
            <p:nvPr/>
          </p:nvPicPr>
          <p:blipFill>
            <a:blip r:embed="rId1"/>
            <a:stretch/>
          </p:blipFill>
          <p:spPr>
            <a:xfrm>
              <a:off x="798480" y="1590840"/>
              <a:ext cx="322416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900000" y="1700280"/>
              <a:ext cx="302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предприяти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TextBox 4"/>
          <p:cNvGrpSpPr/>
          <p:nvPr/>
        </p:nvGrpSpPr>
        <p:grpSpPr>
          <a:xfrm>
            <a:off x="4535640" y="1603440"/>
            <a:ext cx="4028760" cy="963720"/>
            <a:chOff x="4535640" y="1603440"/>
            <a:chExt cx="4028760" cy="963720"/>
          </a:xfrm>
        </p:grpSpPr>
        <p:pic>
          <p:nvPicPr>
            <p:cNvPr id="73" name="TextBox 4" descr=""/>
            <p:cNvPicPr/>
            <p:nvPr/>
          </p:nvPicPr>
          <p:blipFill>
            <a:blip r:embed="rId2"/>
            <a:stretch/>
          </p:blipFill>
          <p:spPr>
            <a:xfrm>
              <a:off x="4535640" y="1603440"/>
              <a:ext cx="402876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643280" y="1712880"/>
              <a:ext cx="381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индивидуально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Picture 2" descr="C:\Users\Медиазал\AppData\Local\Microsoft\Windows\Temporary Internet Files\Content.IE5\F7NKFZ32\MC900303597[1].wmf"/>
          <p:cNvPicPr/>
          <p:nvPr/>
        </p:nvPicPr>
        <p:blipFill>
          <a:blip r:embed="rId3"/>
          <a:stretch/>
        </p:blipFill>
        <p:spPr>
          <a:xfrm>
            <a:off x="1476360" y="2492280"/>
            <a:ext cx="1943280" cy="1792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C:\Program Files\Microsoft Office\MEDIA\CAGCAT10\j0292020.wmf"/>
          <p:cNvPicPr/>
          <p:nvPr/>
        </p:nvPicPr>
        <p:blipFill>
          <a:blip r:embed="rId4"/>
          <a:stretch/>
        </p:blipFill>
        <p:spPr>
          <a:xfrm>
            <a:off x="5435640" y="2541600"/>
            <a:ext cx="1944720" cy="184608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10"/>
          <p:cNvSpPr/>
          <p:nvPr/>
        </p:nvSpPr>
        <p:spPr>
          <a:xfrm>
            <a:off x="1763640" y="4441680"/>
            <a:ext cx="68580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Л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ЗНЕ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экономическая деятельность, приносящая прибыль н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л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средних предприятиях с численностью работающих менее 500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547280" y="1371240"/>
            <a:ext cx="431964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динолич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рия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вари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ционер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по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Arial"/>
              </a:rPr>
              <a:t>Формы организации бизн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CA7I2T3R"/>
          <p:cNvPicPr/>
          <p:nvPr/>
        </p:nvPicPr>
        <p:blipFill>
          <a:blip r:embed="rId1"/>
          <a:stretch/>
        </p:blipFill>
        <p:spPr>
          <a:xfrm>
            <a:off x="5769000" y="4292640"/>
            <a:ext cx="2284560" cy="1668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C:\Program Files\Microsoft Office\MEDIA\CAGCAT10\j0292020.wmf"/>
          <p:cNvPicPr/>
          <p:nvPr/>
        </p:nvPicPr>
        <p:blipFill>
          <a:blip r:embed="rId2"/>
          <a:stretch/>
        </p:blipFill>
        <p:spPr>
          <a:xfrm>
            <a:off x="395280" y="1100160"/>
            <a:ext cx="1944720" cy="1846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http://mosopora.ru/files/linearticles/361377.jpg"/>
          <p:cNvPicPr/>
          <p:nvPr/>
        </p:nvPicPr>
        <p:blipFill>
          <a:blip r:embed="rId3"/>
          <a:stretch/>
        </p:blipFill>
        <p:spPr>
          <a:xfrm>
            <a:off x="5580000" y="1689120"/>
            <a:ext cx="2448000" cy="197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Содержимое 6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30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Организация бизнеса включает несколько этап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5152680" y="1916280"/>
            <a:ext cx="138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пис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изнес-пл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Родионова И.В</dc:creator>
  <dc:description/>
  <dc:language>en-US</dc:language>
  <cp:lastModifiedBy>Анатолий Солодилов</cp:lastModifiedBy>
  <dcterms:modified xsi:type="dcterms:W3CDTF">2019-05-06T14:09:52Z</dcterms:modified>
  <cp:revision>85</cp:revision>
  <dc:subject/>
  <dc:title>презентация</dc:title>
</cp:coreProperties>
</file>