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7.wmf" ContentType="image/x-wmf"/>
  <Override PartName="/ppt/media/image18.wmf" ContentType="image/x-wmf"/>
  <Override PartName="/ppt/media/image16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CFC-0C33-453C-BA03-FE541A1C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ED9A-1D69-402E-86BB-41DBD150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484-A415-47B7-AB94-BB35BDEF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6ADD-9A89-42F3-BAAC-2C9D3711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7E4-BBA0-4C86-9E30-B7BAC632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B07-7F48-44CC-BAAF-9BFD7F56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9F98-1565-4188-9D2F-D4DE8D6B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8D7-3B86-47CE-A564-CE06C089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C1B6-EA0A-42D1-AA86-4ACFA3F5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A03-3AB1-464B-A742-D89CC830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E1AC-D86C-4CA5-94C0-2899184F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0FF2-A66E-42D7-9227-8BD32638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069B-EE65-46AE-96CF-C12B5B0FB01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fmc.hse.ru/5-7forms" TargetMode="External"/><Relationship Id="rId2" Type="http://schemas.openxmlformats.org/officeDocument/2006/relationships/hyperlink" Target="https://fmc.hse.ru/5-7forms" TargetMode="External"/><Relationship Id="rId3" Type="http://schemas.openxmlformats.org/officeDocument/2006/relationships/hyperlink" Target="http://makeyourdays.ru/page/48/" TargetMode="External"/><Relationship Id="rId4" Type="http://schemas.openxmlformats.org/officeDocument/2006/relationships/hyperlink" Target="http://makeyourdays.ru/page/48/" TargetMode="External"/><Relationship Id="rId5" Type="http://schemas.openxmlformats.org/officeDocument/2006/relationships/hyperlink" Target="http://makeyourdays.ru/page/48/" TargetMode="External"/><Relationship Id="rId6" Type="http://schemas.openxmlformats.org/officeDocument/2006/relationships/hyperlink" Target="http://finance.tut.by/news289378.html" TargetMode="External"/><Relationship Id="rId7" Type="http://schemas.openxmlformats.org/officeDocument/2006/relationships/hyperlink" Target="http://finance.tut.by/news289378.html" TargetMode="External"/><Relationship Id="rId8" Type="http://schemas.openxmlformats.org/officeDocument/2006/relationships/hyperlink" Target="http://finance.tut.by/news289378.html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wm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80000" y="1125000"/>
            <a:ext cx="50385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бственный бизнес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427640" y="4797360"/>
            <a:ext cx="4716360" cy="2060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ект выполнен: Рубцова Е.Н. - МБОУ «СОШ №8», директор школы, учитель физики, г. Нефтеюганс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инская И.В. – МБОУ «СШ №30 с УИОП», учитель географии, г. Нижневартовс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зеева Е.С.- МБОУ «СОШ №14», учитель начальных классов, г. Нефтеюганс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диевскин Н.Н.- МБОУ «СОШ №14», учитель по шахматам, г. Нефтеюганс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чества предпринима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77440" y="1088640"/>
            <a:ext cx="81090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к успеху, упор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ициативность, бережлив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ставить задачи и наход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тандартные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лость, способность пойти на ри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ть строгие нравственные устои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честность, порядочность, верность слов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ть управлять, организ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ь эруди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ь щедр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577800" y="1125360"/>
            <a:ext cx="1800360" cy="1872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334800" y="3019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ри Ф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6372360" y="4767120"/>
            <a:ext cx="2328840" cy="131292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6469200" y="60069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лл Гей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067280" y="4767120"/>
            <a:ext cx="1512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9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2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5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8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421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.</a:t>
            </a:r>
            <a:br>
              <a:rPr sz="24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о вставить пропущенные слова.</a:t>
            </a:r>
            <a:br>
              <a:rPr sz="22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ДО ПРЕДПРИНИМАТЕЛЬСКОЙ ДЕЯТЕЛЬНОСТИ</a:t>
            </a:r>
            <a:r>
              <a:rPr b="0" lang="ru-RU" sz="3200" spc="-1" strike="noStrike">
                <a:solidFill>
                  <a:srgbClr val="c1ecf0"/>
                </a:solidFill>
                <a:latin typeface="Arial"/>
              </a:rPr>
              <a:t>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9640" y="917280"/>
            <a:ext cx="82296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может использовать как свои средства, так и средства, взятые в ___________ или _____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СЛОВА ДЛЯ СПРАВО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арендованные, коммерческий успех,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х, убытки, риск, собственник, дол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тор производства, результ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886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90040" y="980640"/>
            <a:ext cx="38862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1700" spc="-1" strike="noStrike">
                <a:solidFill>
                  <a:srgbClr val="002060"/>
                </a:solidFill>
                <a:latin typeface="Arial"/>
              </a:rPr>
              <a:t>Предпринимателями не рождаются. Чтобы успешно освоить предпринимательство  и бизнес, необходимо приложить много усилий и быть готовым к преодолению трудностей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</a:rPr>
              <a:t>Организация бизнеса требует конкретных идей, наличие капитала, активных и  продуманных действий, профессиональных менеджеров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my-ivanovo.ru/wp-content/uploads/2010/10/kollag.jpg"/>
          <p:cNvPicPr/>
          <p:nvPr/>
        </p:nvPicPr>
        <p:blipFill>
          <a:blip r:embed="rId1"/>
          <a:stretch/>
        </p:blipFill>
        <p:spPr>
          <a:xfrm>
            <a:off x="4400640" y="3068640"/>
            <a:ext cx="4286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2771640" y="3213000"/>
            <a:ext cx="40388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31640" y="1484280"/>
            <a:ext cx="73436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ознание. Учебник для 6 класса.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вченко А.И., Певцова Е.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.: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ая грамот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fmc.hse.ru/5-7forms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нима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makeyourdays.ru/page/48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ниматель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finance.tut.by/news289378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не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uralzo.ru/biznes-galereja/kak-nachat-svoe-delo/otkroj-svoe-delo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й бизне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-news.kz/news/2013/02/02/6863557-v_kostanaiskoi_oblasti_v_ramkah_delovyh_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за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835280" y="1197000"/>
            <a:ext cx="6408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ть у учащихся (5-6 класс) знания о бизнесе и предприниматель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познакомиться с формами организации бизне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выявить качества личности предпринима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выявить значение предприним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 думаете, кто такой предприниматель/бизнесм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ую деятельность можно назвать предпринимательств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2666880"/>
            <a:ext cx="3314880" cy="2005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3581280" y="2743200"/>
            <a:ext cx="2300400" cy="3448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>
            <a:off x="6019920" y="266688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4"/>
          <a:stretch/>
        </p:blipFill>
        <p:spPr>
          <a:xfrm>
            <a:off x="228600" y="4952880"/>
            <a:ext cx="3124080" cy="167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5"/>
          <a:stretch/>
        </p:blipFill>
        <p:spPr>
          <a:xfrm>
            <a:off x="6172200" y="4800600"/>
            <a:ext cx="22860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26560" y="620640"/>
            <a:ext cx="782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редприниматель, или бизнесмен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это человек, имеющий своё дело в целях получения прибыли в форме оказания услуг, торговли или 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звестно, что телеграф,  телефон, радио, компьютер изобрели ученые, но сделали их средствами  массовой коммуникации именно предпринимат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редприимчив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черта характера, способ     поведения, которому присущи ловкость, сноровка, умение    выходить из сложных ситуаций, что-то организовывать на         пусто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332000" y="1417320"/>
            <a:ext cx="545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могае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остичь успеха в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обиться материального благополуч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оявить творческие способ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ускорить развитие экономики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чем заниматься собственным бизнес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15"/>
          <p:cNvPicPr/>
          <p:nvPr/>
        </p:nvPicPr>
        <p:blipFill>
          <a:blip r:embed="rId1"/>
          <a:stretch/>
        </p:blipFill>
        <p:spPr>
          <a:xfrm>
            <a:off x="6443640" y="1736640"/>
            <a:ext cx="2089080" cy="1389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AGD6ZW1"/>
          <p:cNvPicPr/>
          <p:nvPr/>
        </p:nvPicPr>
        <p:blipFill>
          <a:blip r:embed="rId2"/>
          <a:stretch/>
        </p:blipFill>
        <p:spPr>
          <a:xfrm>
            <a:off x="6443640" y="4292640"/>
            <a:ext cx="1943280" cy="135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4320" y="42084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ды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12120" y="99072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CALSUPTN"/>
          <p:cNvPicPr/>
          <p:nvPr/>
        </p:nvPicPr>
        <p:blipFill>
          <a:blip r:embed="rId1"/>
          <a:stretch/>
        </p:blipFill>
        <p:spPr>
          <a:xfrm>
            <a:off x="1600200" y="914400"/>
            <a:ext cx="2286000" cy="19796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8"/>
          <p:cNvSpPr/>
          <p:nvPr/>
        </p:nvSpPr>
        <p:spPr>
          <a:xfrm>
            <a:off x="233280" y="281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9"/>
          <p:cNvPicPr/>
          <p:nvPr/>
        </p:nvPicPr>
        <p:blipFill>
          <a:blip r:embed="rId2"/>
          <a:stretch/>
        </p:blipFill>
        <p:spPr>
          <a:xfrm>
            <a:off x="1600200" y="3048120"/>
            <a:ext cx="2443320" cy="1958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6097680" y="914400"/>
            <a:ext cx="27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ствен-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6"/>
          <p:cNvPicPr/>
          <p:nvPr/>
        </p:nvPicPr>
        <p:blipFill>
          <a:blip r:embed="rId3"/>
          <a:stretch/>
        </p:blipFill>
        <p:spPr>
          <a:xfrm>
            <a:off x="3908520" y="917640"/>
            <a:ext cx="2211120" cy="2133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2"/>
          <p:cNvSpPr/>
          <p:nvPr/>
        </p:nvSpPr>
        <p:spPr>
          <a:xfrm>
            <a:off x="6348960" y="301788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г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CAIT47AL"/>
          <p:cNvPicPr/>
          <p:nvPr/>
        </p:nvPicPr>
        <p:blipFill>
          <a:blip r:embed="rId4"/>
          <a:stretch/>
        </p:blipFill>
        <p:spPr>
          <a:xfrm>
            <a:off x="4102200" y="3036960"/>
            <a:ext cx="1995480" cy="1981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4"/>
          <p:cNvSpPr/>
          <p:nvPr/>
        </p:nvSpPr>
        <p:spPr>
          <a:xfrm>
            <a:off x="4114440" y="5562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2"/>
          <p:cNvPicPr/>
          <p:nvPr/>
        </p:nvPicPr>
        <p:blipFill>
          <a:blip r:embed="rId5"/>
          <a:stretch/>
        </p:blipFill>
        <p:spPr>
          <a:xfrm>
            <a:off x="6303960" y="3760920"/>
            <a:ext cx="2289240" cy="25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предприниматель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TextBox 3"/>
          <p:cNvGrpSpPr/>
          <p:nvPr/>
        </p:nvGrpSpPr>
        <p:grpSpPr>
          <a:xfrm>
            <a:off x="798480" y="1590840"/>
            <a:ext cx="3224160" cy="963360"/>
            <a:chOff x="798480" y="1590840"/>
            <a:chExt cx="3224160" cy="963360"/>
          </a:xfrm>
        </p:grpSpPr>
        <p:pic>
          <p:nvPicPr>
            <p:cNvPr id="70" name="TextBox 3" descr=""/>
            <p:cNvPicPr/>
            <p:nvPr/>
          </p:nvPicPr>
          <p:blipFill>
            <a:blip r:embed="rId1"/>
            <a:stretch/>
          </p:blipFill>
          <p:spPr>
            <a:xfrm>
              <a:off x="798480" y="1590840"/>
              <a:ext cx="322416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900000" y="170028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предприят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TextBox 4"/>
          <p:cNvGrpSpPr/>
          <p:nvPr/>
        </p:nvGrpSpPr>
        <p:grpSpPr>
          <a:xfrm>
            <a:off x="4535640" y="1603440"/>
            <a:ext cx="4028760" cy="963720"/>
            <a:chOff x="4535640" y="1603440"/>
            <a:chExt cx="4028760" cy="963720"/>
          </a:xfrm>
        </p:grpSpPr>
        <p:pic>
          <p:nvPicPr>
            <p:cNvPr id="73" name="TextBox 4" descr=""/>
            <p:cNvPicPr/>
            <p:nvPr/>
          </p:nvPicPr>
          <p:blipFill>
            <a:blip r:embed="rId2"/>
            <a:stretch/>
          </p:blipFill>
          <p:spPr>
            <a:xfrm>
              <a:off x="4535640" y="1603440"/>
              <a:ext cx="402876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643280" y="1712880"/>
              <a:ext cx="38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индивидуаль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2" descr="C:\Users\Медиазал\AppData\Local\Microsoft\Windows\Temporary Internet Files\Content.IE5\F7NKFZ32\MC900303597[1].wmf"/>
          <p:cNvPicPr/>
          <p:nvPr/>
        </p:nvPicPr>
        <p:blipFill>
          <a:blip r:embed="rId3"/>
          <a:stretch/>
        </p:blipFill>
        <p:spPr>
          <a:xfrm>
            <a:off x="1476360" y="2492280"/>
            <a:ext cx="1943280" cy="1792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Program Files\Microsoft Office\MEDIA\CAGCAT10\j0292020.wmf"/>
          <p:cNvPicPr/>
          <p:nvPr/>
        </p:nvPicPr>
        <p:blipFill>
          <a:blip r:embed="rId4"/>
          <a:stretch/>
        </p:blipFill>
        <p:spPr>
          <a:xfrm>
            <a:off x="5435640" y="2541600"/>
            <a:ext cx="1944720" cy="18460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0"/>
          <p:cNvSpPr/>
          <p:nvPr/>
        </p:nvSpPr>
        <p:spPr>
          <a:xfrm>
            <a:off x="1763640" y="4441680"/>
            <a:ext cx="6858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ЗНЕ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кономическая деятельность, приносящая прибыль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редних предприятиях с численностью работающих менее 500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547280" y="1371240"/>
            <a:ext cx="431964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иноли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вари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ционер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по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Arial"/>
              </a:rPr>
              <a:t>Формы организации бизн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CA7I2T3R"/>
          <p:cNvPicPr/>
          <p:nvPr/>
        </p:nvPicPr>
        <p:blipFill>
          <a:blip r:embed="rId1"/>
          <a:stretch/>
        </p:blipFill>
        <p:spPr>
          <a:xfrm>
            <a:off x="5769000" y="4292640"/>
            <a:ext cx="2284560" cy="1668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Program Files\Microsoft Office\MEDIA\CAGCAT10\j0292020.wmf"/>
          <p:cNvPicPr/>
          <p:nvPr/>
        </p:nvPicPr>
        <p:blipFill>
          <a:blip r:embed="rId2"/>
          <a:stretch/>
        </p:blipFill>
        <p:spPr>
          <a:xfrm>
            <a:off x="395280" y="1100160"/>
            <a:ext cx="1944720" cy="1846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http://mosopora.ru/files/linearticles/361377.jpg"/>
          <p:cNvPicPr/>
          <p:nvPr/>
        </p:nvPicPr>
        <p:blipFill>
          <a:blip r:embed="rId3"/>
          <a:stretch/>
        </p:blipFill>
        <p:spPr>
          <a:xfrm>
            <a:off x="5580000" y="1689120"/>
            <a:ext cx="2448000" cy="19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6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3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Организация бизнеса включает несколько эта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5152680" y="1916280"/>
            <a:ext cx="138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ис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изнес-пл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Родионова И.В</dc:creator>
  <dc:description/>
  <dc:language>en-US</dc:language>
  <cp:lastModifiedBy>Анатолий Солодилов</cp:lastModifiedBy>
  <dcterms:modified xsi:type="dcterms:W3CDTF">2019-05-06T14:09:52Z</dcterms:modified>
  <cp:revision>85</cp:revision>
  <dc:subject/>
  <dc:title>презентация</dc:title>
</cp:coreProperties>
</file>