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0B0-E8F1-414E-A6B0-BF761022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17F-263B-45F2-B2EE-D0C90A8D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B1A-67F2-4EEF-AF76-BD97927B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D67-33D7-4099-87C5-06EB37BF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D1A-1F47-41A1-B9C9-F94D6063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3FCB-F9F5-40C1-A461-D7492E9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0197-13EC-48A8-9458-FE2295B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91C9-9C6C-4C8F-AD33-7B00D54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B081-D9D8-40D7-A642-ED3E5E55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7639-114B-4E5E-BEF1-06E65178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A091-B20F-4AF1-B790-9CD13DF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239-66E7-418A-A95B-1CC9C4F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94F8-4E16-462B-9E1D-8C34935E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7724-3320-464A-903F-6E0ACA1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3D93-3159-40E1-B57E-D064C9F4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6F6-55EB-4C68-81E0-0FFBF2F4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2BA1-ECA1-4CDC-A26C-9D080049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96EA-1467-40ED-819E-A74727CF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391D-F785-4119-B7D9-40F36274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6A96-DF46-43C9-B66F-CD43CF88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9DA9-A9BC-4EEA-8E1E-45BDB8F2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3D74B-7323-4A52-BDF0-61B94B86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A9B-EB3B-405B-8E14-81271254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5B454-7B87-4A22-B871-06160927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2240-D413-42E9-AEB0-C60C639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15D7-41FB-4A3B-9D37-BD670B4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993F-E9E7-4044-AE78-655CBD2F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A1D7-15B8-4E8F-B8E9-C9C07AF2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7484-FADB-439D-A78A-18005237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A4DE-466D-4946-9B0A-1C165D77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F70B-A67D-4153-B432-9862B13D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54BB-318E-4153-AE75-CADB15A4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6491-690F-4CB9-9B42-968B5F7D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EA7-1D48-47A2-8248-AAF60FDF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0701-DE4F-43AE-8538-AFEC9E52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0890-139C-49F5-A06E-FD28AB7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11E2-B7AB-4F8D-89F8-029385B1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ECD1-3CC4-4D5D-A56B-6FDC567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093E3-634A-4CB0-B8D4-3C045872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0A27-AFA1-44DF-9372-AD9EC87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B6BA-CC32-4EDE-A8A5-66310B48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98A5-A670-49C0-835D-41602D4F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D869-B1EC-49EA-B504-30AED0F6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2CD0-02EE-4DC9-A7F7-63F82009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15A-DAD3-4B33-8FA7-5BC95548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38139-46F5-4664-8BFE-04A0762C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AE20-DA6A-4BA1-825E-6E1A8356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7F24-8C11-4457-8669-4E25DF46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BB80-441D-4DF8-9341-B64EBCC4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C37F2-30E9-45D1-881F-4C5D3D3E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C7771-AFAE-4DBE-8F8B-603A900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9F74F-C4D7-41FF-9FB2-5D6F75F7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8D74-B69B-4E3E-9D21-4571FCE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3809-FEC9-4093-BDE4-75CBAC0C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1871-D986-4AEE-B7BB-0D7B6690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9A3-CA13-4D21-8FC1-E6835157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B3291-C7BD-4450-936C-0F9C3BFF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973-976E-454E-9002-0247937C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AF7-EA25-404A-BF66-227746B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562-D276-44A4-BE50-019767C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8BB2-273C-4B4F-9E6A-E2FBDC2767F8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B44D-F6BD-4495-8F21-798E934F597E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152-9629-4F82-8184-1A8A42A5E151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0E95-560F-473B-B360-34D0CA787C1B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37D-3341-46F6-82BE-8B9A2D0892F8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8207280" cy="165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Verdana"/>
              </a:rPr>
              <a:t>Из опыта работы мастера производственного обучения:</a:t>
            </a:r>
            <a:br>
              <a:rPr sz="3200"/>
            </a:br>
            <a:r>
              <a:rPr b="1" lang="ru-RU" sz="3200" spc="-1" strike="noStrike">
                <a:solidFill>
                  <a:srgbClr val="262626"/>
                </a:solidFill>
                <a:latin typeface="Verdana"/>
              </a:rPr>
              <a:t>Патриотическое воспитание молодежи, как одно из приоритетных направлений воспитательной работы в группе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142800" y="4714920"/>
            <a:ext cx="5435640" cy="1511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63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Михеева Л.А., мастер производственного обу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ГАОУ АО СТСИ Архангельской облас</a:t>
            </a:r>
            <a:r>
              <a:rPr b="1" lang="ru-RU" sz="2000" spc="-1" strike="noStrike">
                <a:solidFill>
                  <a:srgbClr val="858585"/>
                </a:solidFill>
                <a:latin typeface="Verdana"/>
              </a:rPr>
              <a:t>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13360" y="532080"/>
            <a:ext cx="8117280" cy="1040040"/>
          </a:xfrm>
          <a:prstGeom prst="rect">
            <a:avLst/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патриотического воспит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40360" y="2350440"/>
            <a:ext cx="7918200" cy="4006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ctr">
            <a:normAutofit/>
          </a:bodyPr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формирования патриотических чувств у обучающихся как важнейших духовно – нравственных ценнос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Выгнутая вправо стрелка 5"/>
          <p:cNvSpPr/>
          <p:nvPr/>
        </p:nvSpPr>
        <p:spPr>
          <a:xfrm>
            <a:off x="7308720" y="1197000"/>
            <a:ext cx="1249560" cy="1662120"/>
          </a:xfrm>
          <a:custGeom>
            <a:avLst/>
            <a:gdLst>
              <a:gd name="textAreaLeft" fmla="*/ 167400 w 1249560"/>
              <a:gd name="textAreaRight" fmla="*/ 1082160 w 1249560"/>
              <a:gd name="textAreaTop" fmla="*/ 298440 h 1662120"/>
              <a:gd name="textAreaBottom" fmla="*/ 1207800 h 16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56" stAng="-5400000" swAng="5400000"/>
                <a:lnTo>
                  <a:pt x="21600" y="11816"/>
                </a:lnTo>
                <a:arcTo wR="21600" hR="7756" stAng="0" swAng="3256771"/>
                <a:lnTo>
                  <a:pt x="5400" y="21354"/>
                </a:lnTo>
                <a:lnTo>
                  <a:pt x="0" y="17541"/>
                </a:lnTo>
                <a:lnTo>
                  <a:pt x="5400" y="13236"/>
                </a:lnTo>
                <a:lnTo>
                  <a:pt x="5400" y="15265"/>
                </a:lnTo>
                <a:arcTo wR="21600" hR="7756" stAng="3256771" swAng="-2923068"/>
                <a:lnTo>
                  <a:pt x="20847" y="9786"/>
                </a:lnTo>
                <a:arcTo wR="21600" hR="7756" stAng="-333703" swAng="-5066297"/>
                <a:close/>
              </a:path>
              <a:path fill="darkenLess" w="21600" h="21600">
                <a:moveTo>
                  <a:pt x="0" y="0"/>
                </a:moveTo>
                <a:arcTo wR="21600" hR="7756" stAng="-5400000" swAng="5400000"/>
                <a:lnTo>
                  <a:pt x="21600" y="11816"/>
                </a:lnTo>
                <a:arcTo wR="21600" hR="7756" stAng="0" swAng="-333703"/>
                <a:lnTo>
                  <a:pt x="20847" y="9786"/>
                </a:lnTo>
                <a:arcTo wR="21600" hR="7756" stAng="-333703" swAng="-5066297"/>
                <a:close/>
              </a:path>
            </a:pathLst>
          </a:custGeom>
          <a:solidFill>
            <a:srgbClr val="666666"/>
          </a:solidFill>
          <a:ln w="4248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1e1e1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4920" y="692280"/>
            <a:ext cx="8327880" cy="41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Скругленный прямоугольник 3"/>
          <p:cNvSpPr/>
          <p:nvPr/>
        </p:nvSpPr>
        <p:spPr>
          <a:xfrm>
            <a:off x="324000" y="333360"/>
            <a:ext cx="8496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оритетные направления патриотического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4"/>
          <p:cNvSpPr/>
          <p:nvPr/>
        </p:nvSpPr>
        <p:spPr>
          <a:xfrm>
            <a:off x="324000" y="2276640"/>
            <a:ext cx="8496000" cy="4581360"/>
          </a:xfrm>
          <a:prstGeom prst="roundRect">
            <a:avLst>
              <a:gd name="adj" fmla="val 3361"/>
            </a:avLst>
          </a:prstGeom>
          <a:solidFill>
            <a:srgbClr val="f2f2f2"/>
          </a:solidFill>
          <a:ln w="9360">
            <a:solidFill>
              <a:srgbClr val="0d0d0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зрождение у студентов традиций, чувства гражданской горд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спитание патриотизма, интернационализма, дружбы, веротерпимости, уважения к другим на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ирование готовности к созиданию на благо Отечества к его защ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трелка вниз 7"/>
          <p:cNvSpPr/>
          <p:nvPr/>
        </p:nvSpPr>
        <p:spPr>
          <a:xfrm>
            <a:off x="4140360" y="1484280"/>
            <a:ext cx="720720" cy="7923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666666"/>
          </a:solidFill>
          <a:ln w="4248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69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рганизации, занимающиеся патриотической раб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4"/>
          <p:cNvSpPr/>
          <p:nvPr/>
        </p:nvSpPr>
        <p:spPr>
          <a:xfrm>
            <a:off x="2771640" y="2852640"/>
            <a:ext cx="3888000" cy="1800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АПОУ АО СТ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дагогический коллектив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5"/>
          <p:cNvSpPr/>
          <p:nvPr/>
        </p:nvSpPr>
        <p:spPr>
          <a:xfrm>
            <a:off x="324000" y="1341360"/>
            <a:ext cx="25192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лодеж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6"/>
          <p:cNvSpPr/>
          <p:nvPr/>
        </p:nvSpPr>
        <p:spPr>
          <a:xfrm>
            <a:off x="3492360" y="1341360"/>
            <a:ext cx="244800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В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7"/>
          <p:cNvSpPr/>
          <p:nvPr/>
        </p:nvSpPr>
        <p:spPr>
          <a:xfrm>
            <a:off x="6372360" y="1341360"/>
            <a:ext cx="2520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иблиотеки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8"/>
          <p:cNvSpPr/>
          <p:nvPr/>
        </p:nvSpPr>
        <p:spPr>
          <a:xfrm>
            <a:off x="324000" y="5157720"/>
            <a:ext cx="25192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юз десан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9"/>
          <p:cNvSpPr/>
          <p:nvPr/>
        </p:nvSpPr>
        <p:spPr>
          <a:xfrm>
            <a:off x="3492360" y="5157720"/>
            <a:ext cx="244800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узей исторических реконстру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0"/>
          <p:cNvSpPr/>
          <p:nvPr/>
        </p:nvSpPr>
        <p:spPr>
          <a:xfrm>
            <a:off x="6443640" y="5157720"/>
            <a:ext cx="25210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СА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12"/>
          <p:cNvSpPr/>
          <p:nvPr/>
        </p:nvSpPr>
        <p:spPr>
          <a:xfrm flipV="1">
            <a:off x="4788000" y="2420640"/>
            <a:ext cx="2916000" cy="4316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4"/>
          <p:cNvSpPr/>
          <p:nvPr/>
        </p:nvSpPr>
        <p:spPr>
          <a:xfrm>
            <a:off x="4716360" y="2421000"/>
            <a:ext cx="0" cy="4316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8"/>
          <p:cNvSpPr/>
          <p:nvPr/>
        </p:nvSpPr>
        <p:spPr>
          <a:xfrm flipH="1" flipV="1">
            <a:off x="1584360" y="2420640"/>
            <a:ext cx="3132000" cy="4316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20"/>
          <p:cNvSpPr/>
          <p:nvPr/>
        </p:nvSpPr>
        <p:spPr>
          <a:xfrm>
            <a:off x="4716360" y="4653000"/>
            <a:ext cx="2987640" cy="50472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22"/>
          <p:cNvSpPr/>
          <p:nvPr/>
        </p:nvSpPr>
        <p:spPr>
          <a:xfrm>
            <a:off x="4716360" y="4653000"/>
            <a:ext cx="0" cy="50472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28"/>
          <p:cNvSpPr/>
          <p:nvPr/>
        </p:nvSpPr>
        <p:spPr>
          <a:xfrm flipH="1">
            <a:off x="1584360" y="4653000"/>
            <a:ext cx="3132000" cy="50472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38"/>
          <p:cNvSpPr/>
          <p:nvPr/>
        </p:nvSpPr>
        <p:spPr>
          <a:xfrm>
            <a:off x="2484360" y="3933720"/>
            <a:ext cx="914400" cy="9144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9"/>
          <p:cNvSpPr/>
          <p:nvPr/>
        </p:nvSpPr>
        <p:spPr>
          <a:xfrm flipV="1">
            <a:off x="6659640" y="3645000"/>
            <a:ext cx="0" cy="10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Группа 2"/>
          <p:cNvGrpSpPr/>
          <p:nvPr/>
        </p:nvGrpSpPr>
        <p:grpSpPr>
          <a:xfrm>
            <a:off x="468360" y="1628640"/>
            <a:ext cx="8182080" cy="4872240"/>
            <a:chOff x="468360" y="1628640"/>
            <a:chExt cx="8182080" cy="4872240"/>
          </a:xfrm>
        </p:grpSpPr>
        <p:sp>
          <p:nvSpPr>
            <p:cNvPr id="247" name="Скругленный прямоугольник 3"/>
            <p:cNvSpPr/>
            <p:nvPr/>
          </p:nvSpPr>
          <p:spPr>
            <a:xfrm>
              <a:off x="468360" y="1628640"/>
              <a:ext cx="8182080" cy="48722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1908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Военно – патриотическое воспитание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Спортивно – патриотическое воспитание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Культурно – патриотическое воспитание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Научно – патриотическое воспитание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Историка – патриотическое воспит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Скругленный прямоугольник 4"/>
            <p:cNvSpPr/>
            <p:nvPr/>
          </p:nvSpPr>
          <p:spPr>
            <a:xfrm>
              <a:off x="500040" y="2852640"/>
              <a:ext cx="8123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Скругленный прямоугольник 5"/>
          <p:cNvSpPr/>
          <p:nvPr/>
        </p:nvSpPr>
        <p:spPr>
          <a:xfrm>
            <a:off x="500040" y="476280"/>
            <a:ext cx="814392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42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правления гражданской и военно – патриоти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Выгнутая вправо стрелка 8"/>
          <p:cNvSpPr/>
          <p:nvPr/>
        </p:nvSpPr>
        <p:spPr>
          <a:xfrm>
            <a:off x="7429680" y="1071720"/>
            <a:ext cx="1116000" cy="1504800"/>
          </a:xfrm>
          <a:custGeom>
            <a:avLst/>
            <a:gdLst>
              <a:gd name="textAreaLeft" fmla="*/ 149400 w 1116000"/>
              <a:gd name="textAreaRight" fmla="*/ 966600 w 1116000"/>
              <a:gd name="textAreaTop" fmla="*/ 271440 h 1504800"/>
              <a:gd name="textAreaBottom" fmla="*/ 109368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97" stAng="-5400000" swAng="5400000"/>
                <a:lnTo>
                  <a:pt x="21600" y="11802"/>
                </a:lnTo>
                <a:arcTo wR="21600" hR="7797" stAng="0" swAng="3265356"/>
                <a:lnTo>
                  <a:pt x="5400" y="21352"/>
                </a:lnTo>
                <a:lnTo>
                  <a:pt x="0" y="17596"/>
                </a:lnTo>
                <a:lnTo>
                  <a:pt x="5400" y="13343"/>
                </a:lnTo>
                <a:lnTo>
                  <a:pt x="5400" y="15345"/>
                </a:lnTo>
                <a:arcTo wR="21600" hR="7797" stAng="3265356" swAng="-2936591"/>
                <a:lnTo>
                  <a:pt x="20875" y="9799"/>
                </a:lnTo>
                <a:arcTo wR="21600" hR="7797" stAng="-328765" swAng="-5071235"/>
                <a:close/>
              </a:path>
              <a:path fill="darkenLess" w="21600" h="21600">
                <a:moveTo>
                  <a:pt x="0" y="0"/>
                </a:moveTo>
                <a:arcTo wR="21600" hR="7797" stAng="-5400000" swAng="5400000"/>
                <a:lnTo>
                  <a:pt x="21600" y="11802"/>
                </a:lnTo>
                <a:arcTo wR="21600" hR="7797" stAng="0" swAng="-328765"/>
                <a:lnTo>
                  <a:pt x="20875" y="9799"/>
                </a:lnTo>
                <a:arcTo wR="21600" hR="7797" stAng="-328765" swAng="-5071235"/>
                <a:close/>
              </a:path>
            </a:pathLst>
          </a:custGeom>
          <a:solidFill>
            <a:srgbClr val="0d0d0d"/>
          </a:solidFill>
          <a:ln w="42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856800"/>
            <a:ext cx="822960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e1e1"/>
                </a:solidFill>
                <a:latin typeface="Verdana"/>
              </a:rPr>
              <a:t>Результаты военно – патриотической работы: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2491920"/>
            <a:ext cx="8229600" cy="4008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ение количества  правонаруш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браза Вооруженных Сил государства, готового к выполнению воинского дол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Скругленный прямоугольник 3"/>
          <p:cNvSpPr/>
          <p:nvPr/>
        </p:nvSpPr>
        <p:spPr>
          <a:xfrm flipH="1">
            <a:off x="467640" y="836640"/>
            <a:ext cx="8280360" cy="1440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4248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военно- патриот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5"/>
          <p:cNvSpPr/>
          <p:nvPr/>
        </p:nvSpPr>
        <p:spPr>
          <a:xfrm>
            <a:off x="4211640" y="2276640"/>
            <a:ext cx="484200" cy="7920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424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6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e1e1"/>
                </a:solidFill>
                <a:latin typeface="Verdana"/>
              </a:rPr>
              <a:t>Ожидаемые результаты проводимой работы по военно – патриотической работы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560" y="2205000"/>
            <a:ext cx="8569080" cy="4324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нижение числа правонарушений несовершеннолетни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нижение количества обучающихся, состоящих на различных формах учет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нижение количества пропусков учебных занятий по неуважительной причин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нижение количества обучающихся, употребляющих пиво и нарко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вышение уровня социальной адаптации обучающих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Скругленный прямоугольник 3"/>
          <p:cNvSpPr/>
          <p:nvPr/>
        </p:nvSpPr>
        <p:spPr>
          <a:xfrm>
            <a:off x="324000" y="333360"/>
            <a:ext cx="8424720" cy="1682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4b4b4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жидаемые результаты военно – патриоти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лево стрелка 6"/>
          <p:cNvSpPr/>
          <p:nvPr/>
        </p:nvSpPr>
        <p:spPr>
          <a:xfrm>
            <a:off x="285840" y="1285920"/>
            <a:ext cx="1595520" cy="1000080"/>
          </a:xfrm>
          <a:custGeom>
            <a:avLst/>
            <a:gdLst>
              <a:gd name="textAreaLeft" fmla="*/ 213480 w 1595520"/>
              <a:gd name="textAreaRight" fmla="*/ 1382040 w 159552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84835"/>
                <a:lnTo>
                  <a:pt x="18215" y="21517"/>
                </a:lnTo>
                <a:lnTo>
                  <a:pt x="21600" y="16200"/>
                </a:lnTo>
                <a:lnTo>
                  <a:pt x="18215" y="10717"/>
                </a:lnTo>
                <a:lnTo>
                  <a:pt x="18215" y="13417"/>
                </a:lnTo>
                <a:arcTo wR="21600" hR="6750" stAng="7015165" swAng="331884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595959"/>
          </a:solidFill>
          <a:ln w="424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98864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1" lang="en-US" sz="45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5858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4:37:58Z</dcterms:created>
  <dc:creator>Компьютер Веры</dc:creator>
  <dc:description/>
  <dc:language>en-US</dc:language>
  <cp:lastModifiedBy>User</cp:lastModifiedBy>
  <dcterms:modified xsi:type="dcterms:W3CDTF">2019-04-11T06:15:03Z</dcterms:modified>
  <cp:revision>124</cp:revision>
  <dc:subject/>
  <dc:title>Из опыта работы воспитателя по профилактике безнадзорности и правонарушений</dc:title>
</cp:coreProperties>
</file>