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8B64-25B3-462E-8BD0-F0FC1B543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AC7A-F6BF-4EE2-B599-966B1BBE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7C47-0D05-4394-9506-9936EAFE9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384E-13A3-463B-9845-E05F0F99E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31FB-07AD-4AFE-B33B-360BD872D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13F4-8B1D-4AF2-B40C-D11BE884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0F87-FB5A-44EC-B60F-C01E7EF7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E83D-D6B7-4FB8-AB89-BD7F93A1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3AA0-C622-454C-90D0-BC568479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2976-2B79-4D95-9EA8-2BAD6C1C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DA8E-C127-48C2-970C-8FF6211D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B4DD-C031-4E9F-ABF8-124608A3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F9AD-AB39-4F3C-AF47-5682F7C9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EB63-5237-4BA8-A977-59241007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4C1E-31F6-4C29-8AD0-94744AB6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6229-8644-49BD-BC7C-BAD555815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327B-BCAB-4F8D-94DA-12CF57DF4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A40CB-F733-4CEC-B4B4-33323A0EE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E228A-960B-4B44-B745-FF9FD061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625CE-7385-47F4-ABE0-2C355787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3CA28-B9AA-4C70-8B82-20BF9EC4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BACB8-888A-490B-8B6A-7FE6B944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BF76-9AB4-4889-AC61-02C0E076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C6EC9-98C3-400E-BC8F-07B6B06B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D4E66-85AD-417B-B806-7E2BF56F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CB1A4-4AF7-4DC1-9988-88C3CC2A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E572F-2839-49A6-B2AF-FB854EB9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FE3F1-4F7D-4AF6-A0A9-B587AC37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163F5-013F-48BC-B043-B50EF5F79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093AA-D0D5-4BB2-B519-F35B5E732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DA2D5-8319-4B8E-94BF-75FDFF12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339EF-BA06-4822-89CC-C80BABB8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45361-0408-47FD-B3FA-C0A0AC19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4E1A-A640-48C4-B592-C1342472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74B72-FAC3-4DCF-B65A-B5C9FF0C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7B4FB-D1BC-47A9-8B5F-24D4D5CC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73DEA-D5B2-4120-8425-A1C1FE3E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7293E-8950-41E0-A5BA-B116E15F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3B4D0-5440-4FAD-9B85-AAFB9C83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51D75-3AD7-44BB-90B6-1A7F05AD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4A30A-633B-40AB-BD0E-D8BC6A37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36C21-B6E4-4080-BAA3-598112CF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980CA-85FF-4C27-8657-6D970A0C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48593-3064-4105-9980-0ECC96FA7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D6A6-2C42-4EAA-AB9C-540FA22B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20DA2-2D74-4D0E-96D6-EB53FDA7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9B2DA-DEAD-4ED6-B11C-A9C01FF0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A1C6B-D008-406A-94E4-F26E3E63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6A7A2-47BF-4600-8DBC-15089AFE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751C1-BABF-4115-B065-F178547A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99054-D594-41F1-9956-06B69C56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3D40C-B810-438F-9898-1E8EB246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934B4-900D-4523-BA2F-8DE94C7A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F4145-6EDE-4152-9E7D-A120FA7C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AB8CA-1892-4F39-B8DC-68A62C2A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9824-C0AD-40A8-B18D-8A1FB329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5BAC8-2400-453B-89CD-1803AD6E6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282D-D4B1-4F16-8C43-D83FACD3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24B4-6DC7-40EA-BC38-6C6B6794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ED52-B24C-48EA-8A1F-A2349F66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3d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3d39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beff4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0974-203A-42F1-95FA-737C9925E0D0}" type="slidenum"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3d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3d39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beff4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31BE-5C8B-47AB-A067-D072F9FF8DA9}" type="slidenum"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3d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3d39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beff4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AF66-0586-470B-8BF8-703C0FFA4693}" type="slidenum"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3d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3d39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beff4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E06B-B358-47FF-A9E2-EDBEE0FBCACF}" type="slidenum"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3d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3d39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beff4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F6BB-20A4-41D1-AF15-8B2C8FC86620}" type="slidenum">
              <a:rPr b="0" lang="ru-RU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8207280" cy="165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Verdana"/>
              </a:rPr>
              <a:t>Из опыта работы мастера производственного обучения:</a:t>
            </a:r>
            <a:br>
              <a:rPr sz="3200"/>
            </a:br>
            <a:r>
              <a:rPr b="1" lang="ru-RU" sz="3200" spc="-1" strike="noStrike">
                <a:solidFill>
                  <a:srgbClr val="262626"/>
                </a:solidFill>
                <a:latin typeface="Verdana"/>
              </a:rPr>
              <a:t>Патриотическое воспитание молодежи, как одно из приоритетных направлений воспитательной работы в группе</a:t>
            </a:r>
            <a:endParaRPr b="1" lang="en-US" sz="32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142800" y="4714920"/>
            <a:ext cx="5435640" cy="1511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63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Verdana"/>
              </a:rPr>
              <a:t>Михеева Л.А., мастер производственного обуч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Verdana"/>
              </a:rPr>
              <a:t>ГАОУ АО СТСИ Архангельской облас</a:t>
            </a:r>
            <a:r>
              <a:rPr b="1" lang="ru-RU" sz="2000" spc="-1" strike="noStrike">
                <a:solidFill>
                  <a:srgbClr val="858585"/>
                </a:solidFill>
                <a:latin typeface="Verdana"/>
              </a:rPr>
              <a:t>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3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13360" y="532080"/>
            <a:ext cx="8117280" cy="1040040"/>
          </a:xfrm>
          <a:prstGeom prst="rect">
            <a:avLst/>
          </a:prstGeom>
          <a:gradFill rotWithShape="0">
            <a:gsLst>
              <a:gs pos="0">
                <a:srgbClr val="a0a0a0"/>
              </a:gs>
              <a:gs pos="100000">
                <a:srgbClr val="dbdbdb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Цель патриотического воспитан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40360" y="2350440"/>
            <a:ext cx="7918200" cy="40068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182880" tIns="91440" anchor="ctr">
            <a:normAutofit/>
          </a:bodyPr>
          <a:p>
            <a:pPr marL="365040" indent="-2556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оздание условий для формирования патриотических чувств у обучающихся как важнейших духовно – нравственных ценносте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Выгнутая вправо стрелка 5"/>
          <p:cNvSpPr/>
          <p:nvPr/>
        </p:nvSpPr>
        <p:spPr>
          <a:xfrm>
            <a:off x="7308720" y="1197000"/>
            <a:ext cx="1249560" cy="1662120"/>
          </a:xfrm>
          <a:custGeom>
            <a:avLst/>
            <a:gdLst>
              <a:gd name="textAreaLeft" fmla="*/ 167400 w 1249560"/>
              <a:gd name="textAreaRight" fmla="*/ 1082160 w 1249560"/>
              <a:gd name="textAreaTop" fmla="*/ 298440 h 1662120"/>
              <a:gd name="textAreaBottom" fmla="*/ 1207800 h 16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56" stAng="-5400000" swAng="5400000"/>
                <a:lnTo>
                  <a:pt x="21600" y="11816"/>
                </a:lnTo>
                <a:arcTo wR="21600" hR="7756" stAng="0" swAng="3256771"/>
                <a:lnTo>
                  <a:pt x="5400" y="21354"/>
                </a:lnTo>
                <a:lnTo>
                  <a:pt x="0" y="17541"/>
                </a:lnTo>
                <a:lnTo>
                  <a:pt x="5400" y="13236"/>
                </a:lnTo>
                <a:lnTo>
                  <a:pt x="5400" y="15265"/>
                </a:lnTo>
                <a:arcTo wR="21600" hR="7756" stAng="3256771" swAng="-2923068"/>
                <a:lnTo>
                  <a:pt x="20847" y="9786"/>
                </a:lnTo>
                <a:arcTo wR="21600" hR="7756" stAng="-333703" swAng="-5066297"/>
                <a:close/>
              </a:path>
              <a:path fill="darkenLess" w="21600" h="21600">
                <a:moveTo>
                  <a:pt x="0" y="0"/>
                </a:moveTo>
                <a:arcTo wR="21600" hR="7756" stAng="-5400000" swAng="5400000"/>
                <a:lnTo>
                  <a:pt x="21600" y="11816"/>
                </a:lnTo>
                <a:arcTo wR="21600" hR="7756" stAng="0" swAng="-333703"/>
                <a:lnTo>
                  <a:pt x="20847" y="9786"/>
                </a:lnTo>
                <a:arcTo wR="21600" hR="7756" stAng="-333703" swAng="-5066297"/>
                <a:close/>
              </a:path>
            </a:pathLst>
          </a:custGeom>
          <a:solidFill>
            <a:srgbClr val="666666"/>
          </a:solidFill>
          <a:ln w="4248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e1e1e1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94920" y="692280"/>
            <a:ext cx="8327880" cy="4176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Скругленный прямоугольник 3"/>
          <p:cNvSpPr/>
          <p:nvPr/>
        </p:nvSpPr>
        <p:spPr>
          <a:xfrm>
            <a:off x="324000" y="333360"/>
            <a:ext cx="8496000" cy="115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a0a0"/>
              </a:gs>
              <a:gs pos="100000">
                <a:srgbClr val="dbdbdb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оритетные направления патриотического воспит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кругленный прямоугольник 4"/>
          <p:cNvSpPr/>
          <p:nvPr/>
        </p:nvSpPr>
        <p:spPr>
          <a:xfrm>
            <a:off x="324000" y="2276640"/>
            <a:ext cx="8496000" cy="4581360"/>
          </a:xfrm>
          <a:prstGeom prst="roundRect">
            <a:avLst>
              <a:gd name="adj" fmla="val 3361"/>
            </a:avLst>
          </a:prstGeom>
          <a:solidFill>
            <a:srgbClr val="f2f2f2"/>
          </a:solidFill>
          <a:ln w="9360">
            <a:solidFill>
              <a:srgbClr val="0d0d0d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зрождение у студентов традиций, чувства гражданской горд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спитание патриотизма, интернационализма, дружбы, веротерпимости, уважения к другим народа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Формирование готовности к созиданию на благо Отечества к его защ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трелка вниз 7"/>
          <p:cNvSpPr/>
          <p:nvPr/>
        </p:nvSpPr>
        <p:spPr>
          <a:xfrm>
            <a:off x="4140360" y="1484280"/>
            <a:ext cx="720720" cy="79236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666666"/>
          </a:solidFill>
          <a:ln w="4248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0" y="692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рганизации, занимающиеся патриотической рабо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кругленный прямоугольник 4"/>
          <p:cNvSpPr/>
          <p:nvPr/>
        </p:nvSpPr>
        <p:spPr>
          <a:xfrm>
            <a:off x="2771640" y="2852640"/>
            <a:ext cx="3888000" cy="180036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АПОУ АО СТ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едагогический коллектив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кругленный прямоугольник 5"/>
          <p:cNvSpPr/>
          <p:nvPr/>
        </p:nvSpPr>
        <p:spPr>
          <a:xfrm>
            <a:off x="324000" y="1341360"/>
            <a:ext cx="251928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a0a0"/>
              </a:gs>
              <a:gs pos="100000">
                <a:srgbClr val="dbdbdb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олодежные 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кругленный прямоугольник 6"/>
          <p:cNvSpPr/>
          <p:nvPr/>
        </p:nvSpPr>
        <p:spPr>
          <a:xfrm>
            <a:off x="3492360" y="1341360"/>
            <a:ext cx="244800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a0a0"/>
              </a:gs>
              <a:gs pos="100000">
                <a:srgbClr val="dbdbdb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В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кругленный прямоугольник 7"/>
          <p:cNvSpPr/>
          <p:nvPr/>
        </p:nvSpPr>
        <p:spPr>
          <a:xfrm>
            <a:off x="6372360" y="1341360"/>
            <a:ext cx="252072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a0a0"/>
              </a:gs>
              <a:gs pos="100000">
                <a:srgbClr val="dbdbdb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иблиотеки го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кругленный прямоугольник 8"/>
          <p:cNvSpPr/>
          <p:nvPr/>
        </p:nvSpPr>
        <p:spPr>
          <a:xfrm>
            <a:off x="324000" y="5157720"/>
            <a:ext cx="251928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a0a0"/>
              </a:gs>
              <a:gs pos="100000">
                <a:srgbClr val="dbdbdb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юз десант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ый прямоугольник 9"/>
          <p:cNvSpPr/>
          <p:nvPr/>
        </p:nvSpPr>
        <p:spPr>
          <a:xfrm>
            <a:off x="3492360" y="5157720"/>
            <a:ext cx="244800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a0a0"/>
              </a:gs>
              <a:gs pos="100000">
                <a:srgbClr val="dbdbdb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узей исторических реконструк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кругленный прямоугольник 10"/>
          <p:cNvSpPr/>
          <p:nvPr/>
        </p:nvSpPr>
        <p:spPr>
          <a:xfrm>
            <a:off x="6443640" y="5157720"/>
            <a:ext cx="252108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a0a0"/>
              </a:gs>
              <a:gs pos="100000">
                <a:srgbClr val="dbdbdb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ОСА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ая соединительная линия 12"/>
          <p:cNvSpPr/>
          <p:nvPr/>
        </p:nvSpPr>
        <p:spPr>
          <a:xfrm flipV="1">
            <a:off x="4788000" y="2420640"/>
            <a:ext cx="2916000" cy="431640"/>
          </a:xfrm>
          <a:prstGeom prst="line">
            <a:avLst/>
          </a:prstGeom>
          <a:ln w="2844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ая соединительная линия 14"/>
          <p:cNvSpPr/>
          <p:nvPr/>
        </p:nvSpPr>
        <p:spPr>
          <a:xfrm>
            <a:off x="4716360" y="2421000"/>
            <a:ext cx="0" cy="431640"/>
          </a:xfrm>
          <a:prstGeom prst="line">
            <a:avLst/>
          </a:prstGeom>
          <a:ln w="2844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18"/>
          <p:cNvSpPr/>
          <p:nvPr/>
        </p:nvSpPr>
        <p:spPr>
          <a:xfrm flipH="1" flipV="1">
            <a:off x="1584360" y="2420640"/>
            <a:ext cx="3132000" cy="431640"/>
          </a:xfrm>
          <a:prstGeom prst="line">
            <a:avLst/>
          </a:prstGeom>
          <a:ln w="2844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ая соединительная линия 20"/>
          <p:cNvSpPr/>
          <p:nvPr/>
        </p:nvSpPr>
        <p:spPr>
          <a:xfrm>
            <a:off x="4716360" y="4653000"/>
            <a:ext cx="2987640" cy="504720"/>
          </a:xfrm>
          <a:prstGeom prst="line">
            <a:avLst/>
          </a:prstGeom>
          <a:ln w="2844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ая соединительная линия 22"/>
          <p:cNvSpPr/>
          <p:nvPr/>
        </p:nvSpPr>
        <p:spPr>
          <a:xfrm>
            <a:off x="4716360" y="4653000"/>
            <a:ext cx="0" cy="504720"/>
          </a:xfrm>
          <a:prstGeom prst="line">
            <a:avLst/>
          </a:prstGeom>
          <a:ln w="2844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ая соединительная линия 28"/>
          <p:cNvSpPr/>
          <p:nvPr/>
        </p:nvSpPr>
        <p:spPr>
          <a:xfrm flipH="1">
            <a:off x="1584360" y="4653000"/>
            <a:ext cx="3132000" cy="504720"/>
          </a:xfrm>
          <a:prstGeom prst="line">
            <a:avLst/>
          </a:prstGeom>
          <a:ln w="28440">
            <a:solidFill>
              <a:srgbClr val="6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ая соединительная линия 38"/>
          <p:cNvSpPr/>
          <p:nvPr/>
        </p:nvSpPr>
        <p:spPr>
          <a:xfrm>
            <a:off x="2484360" y="3933720"/>
            <a:ext cx="914400" cy="9144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ая соединительная линия 49"/>
          <p:cNvSpPr/>
          <p:nvPr/>
        </p:nvSpPr>
        <p:spPr>
          <a:xfrm flipV="1">
            <a:off x="6659640" y="3645000"/>
            <a:ext cx="0" cy="108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Группа 2"/>
          <p:cNvGrpSpPr/>
          <p:nvPr/>
        </p:nvGrpSpPr>
        <p:grpSpPr>
          <a:xfrm>
            <a:off x="468360" y="1628640"/>
            <a:ext cx="8182080" cy="4872240"/>
            <a:chOff x="468360" y="1628640"/>
            <a:chExt cx="8182080" cy="4872240"/>
          </a:xfrm>
        </p:grpSpPr>
        <p:sp>
          <p:nvSpPr>
            <p:cNvPr id="247" name="Скругленный прямоугольник 3"/>
            <p:cNvSpPr/>
            <p:nvPr/>
          </p:nvSpPr>
          <p:spPr>
            <a:xfrm>
              <a:off x="468360" y="1628640"/>
              <a:ext cx="8182080" cy="4872240"/>
            </a:xfrm>
            <a:prstGeom prst="roundRect">
              <a:avLst>
                <a:gd name="adj" fmla="val 16667"/>
              </a:avLst>
            </a:prstGeom>
            <a:solidFill>
              <a:srgbClr val="d9d9d9"/>
            </a:solidFill>
            <a:ln w="19080">
              <a:solidFill>
                <a:srgbClr val="40404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Военно – патриотическое воспитание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Спортивно – патриотическое воспитание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Культурно – патриотическое воспитание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Научно – патриотическое воспитание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Историка – патриотическое воспит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Скругленный прямоугольник 4"/>
            <p:cNvSpPr/>
            <p:nvPr/>
          </p:nvSpPr>
          <p:spPr>
            <a:xfrm>
              <a:off x="500040" y="2852640"/>
              <a:ext cx="81234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95400" bIns="95400" anchor="ctr">
              <a:noAutofit/>
            </a:bodyPr>
            <a:p>
              <a:pPr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Скругленный прямоугольник 5"/>
          <p:cNvSpPr/>
          <p:nvPr/>
        </p:nvSpPr>
        <p:spPr>
          <a:xfrm>
            <a:off x="500040" y="476280"/>
            <a:ext cx="8143920" cy="9144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42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правления гражданской и военно – патриотическ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Выгнутая вправо стрелка 8"/>
          <p:cNvSpPr/>
          <p:nvPr/>
        </p:nvSpPr>
        <p:spPr>
          <a:xfrm>
            <a:off x="7429680" y="1071720"/>
            <a:ext cx="1116000" cy="1504800"/>
          </a:xfrm>
          <a:custGeom>
            <a:avLst/>
            <a:gdLst>
              <a:gd name="textAreaLeft" fmla="*/ 149400 w 1116000"/>
              <a:gd name="textAreaRight" fmla="*/ 966600 w 1116000"/>
              <a:gd name="textAreaTop" fmla="*/ 271440 h 1504800"/>
              <a:gd name="textAreaBottom" fmla="*/ 1093680 h 150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97" stAng="-5400000" swAng="5400000"/>
                <a:lnTo>
                  <a:pt x="21600" y="11802"/>
                </a:lnTo>
                <a:arcTo wR="21600" hR="7797" stAng="0" swAng="3265356"/>
                <a:lnTo>
                  <a:pt x="5400" y="21352"/>
                </a:lnTo>
                <a:lnTo>
                  <a:pt x="0" y="17596"/>
                </a:lnTo>
                <a:lnTo>
                  <a:pt x="5400" y="13343"/>
                </a:lnTo>
                <a:lnTo>
                  <a:pt x="5400" y="15345"/>
                </a:lnTo>
                <a:arcTo wR="21600" hR="7797" stAng="3265356" swAng="-2936591"/>
                <a:lnTo>
                  <a:pt x="20875" y="9799"/>
                </a:lnTo>
                <a:arcTo wR="21600" hR="7797" stAng="-328765" swAng="-5071235"/>
                <a:close/>
              </a:path>
              <a:path fill="darkenLess" w="21600" h="21600">
                <a:moveTo>
                  <a:pt x="0" y="0"/>
                </a:moveTo>
                <a:arcTo wR="21600" hR="7797" stAng="-5400000" swAng="5400000"/>
                <a:lnTo>
                  <a:pt x="21600" y="11802"/>
                </a:lnTo>
                <a:arcTo wR="21600" hR="7797" stAng="0" swAng="-328765"/>
                <a:lnTo>
                  <a:pt x="20875" y="9799"/>
                </a:lnTo>
                <a:arcTo wR="21600" hR="7797" stAng="-328765" swAng="-5071235"/>
                <a:close/>
              </a:path>
            </a:pathLst>
          </a:custGeom>
          <a:solidFill>
            <a:srgbClr val="0d0d0d"/>
          </a:solidFill>
          <a:ln w="42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856800"/>
            <a:ext cx="8229600" cy="13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1e1e1"/>
                </a:solidFill>
                <a:latin typeface="Verdana"/>
              </a:rPr>
              <a:t>Результаты военно – патриотической работы: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8360" y="2491920"/>
            <a:ext cx="8229600" cy="4008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ьшение количества  правонарушен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Формирование позитивного образа Вооруженных Сил государства, готового к выполнению воинского долг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Скругленный прямоугольник 3"/>
          <p:cNvSpPr/>
          <p:nvPr/>
        </p:nvSpPr>
        <p:spPr>
          <a:xfrm flipH="1">
            <a:off x="467640" y="836640"/>
            <a:ext cx="8280360" cy="14400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4248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езультаты военно- патриотическ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трелка вниз 5"/>
          <p:cNvSpPr/>
          <p:nvPr/>
        </p:nvSpPr>
        <p:spPr>
          <a:xfrm>
            <a:off x="4211640" y="2276640"/>
            <a:ext cx="484200" cy="79200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000000"/>
          </a:solidFill>
          <a:ln w="424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66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1e1e1"/>
                </a:solidFill>
                <a:latin typeface="Verdana"/>
              </a:rPr>
              <a:t>Ожидаемые результаты проводимой работы по военно – патриотической работы</a:t>
            </a:r>
            <a:endParaRPr b="1" lang="en-US" sz="32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50560" y="2205000"/>
            <a:ext cx="8569080" cy="4324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365040" indent="-255600">
              <a:spcBef>
                <a:spcPts val="249"/>
              </a:spcBef>
              <a:buClr>
                <a:srgbClr val="969696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нижение числа правонарушений несовершеннолетним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969696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нижение количества обучающихся, состоящих на различных формах учет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969696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нижение количества пропусков учебных занятий по неуважительной причин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969696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нижение количества обучающихся, употребляющих пиво и наркот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buClr>
                <a:srgbClr val="96969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вышение уровня социальной адаптации обучающих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556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Скругленный прямоугольник 3"/>
          <p:cNvSpPr/>
          <p:nvPr/>
        </p:nvSpPr>
        <p:spPr>
          <a:xfrm>
            <a:off x="324000" y="333360"/>
            <a:ext cx="8424720" cy="1682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2600">
            <a:solidFill>
              <a:srgbClr val="4b4b4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жидаемые результаты военно – патриотическ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Выгнутая влево стрелка 6"/>
          <p:cNvSpPr/>
          <p:nvPr/>
        </p:nvSpPr>
        <p:spPr>
          <a:xfrm>
            <a:off x="285840" y="1285920"/>
            <a:ext cx="1595520" cy="1000080"/>
          </a:xfrm>
          <a:custGeom>
            <a:avLst/>
            <a:gdLst>
              <a:gd name="textAreaLeft" fmla="*/ 213480 w 1595520"/>
              <a:gd name="textAreaRight" fmla="*/ 1382040 w 1595520"/>
              <a:gd name="textAreaTop" fmla="*/ 156240 h 1000080"/>
              <a:gd name="textAreaBottom" fmla="*/ 71892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784835"/>
                <a:lnTo>
                  <a:pt x="18215" y="21517"/>
                </a:lnTo>
                <a:lnTo>
                  <a:pt x="21600" y="16200"/>
                </a:lnTo>
                <a:lnTo>
                  <a:pt x="18215" y="10717"/>
                </a:lnTo>
                <a:lnTo>
                  <a:pt x="18215" y="13417"/>
                </a:lnTo>
                <a:arcTo wR="21600" hR="6750" stAng="7015165" swAng="3318849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595959"/>
          </a:solidFill>
          <a:ln w="424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988640"/>
            <a:ext cx="8458200" cy="129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Verdana"/>
              </a:rPr>
              <a:t>Спасибо за внимание!</a:t>
            </a:r>
            <a:endParaRPr b="1" lang="en-US" sz="45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58585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4:37:58Z</dcterms:created>
  <dc:creator>Компьютер Веры</dc:creator>
  <dc:description/>
  <dc:language>en-US</dc:language>
  <cp:lastModifiedBy>User</cp:lastModifiedBy>
  <dcterms:modified xsi:type="dcterms:W3CDTF">2019-04-11T06:15:03Z</dcterms:modified>
  <cp:revision>124</cp:revision>
  <dc:subject/>
  <dc:title>Из опыта работы воспитателя по профилактике безнадзорности и правонарушений</dc:title>
</cp:coreProperties>
</file>