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1.wmf" ContentType="image/x-wmf"/>
  <Override PartName="/ppt/media/image1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C2E1-7BAD-499A-802E-BC37227A1B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информация дополняет памят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B2C5-18B9-4FE0-96B0-BFFF7B0325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EF15-B6E5-4703-B396-1E77962B80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. Пр. 1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00F8-2294-4F45-A349-A3E1D3D1C3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C6A-33B7-43A5-B238-4BFC993E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A2E-B1F8-4EB5-94D9-8176B303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078-3188-4016-BDD7-52910123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D39-025A-4FB8-98F8-2832E895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332-BA6F-4EB7-A019-3873458C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462D-59D7-4355-9CA3-3AFA10E8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B0C-060D-4875-8951-83B955EF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4EE-9640-4B8D-8412-168325CA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FB4-014E-4273-8C59-3EAFAE80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7C9-AA80-445F-A2CA-E8555B6C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46F-0044-425F-BE21-5B6BE20A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492-0131-45BD-BA09-B82BF8EB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85DE-99D9-4075-A20B-B68978F5CE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tandart.edu.ru/" TargetMode="External"/><Relationship Id="rId2" Type="http://schemas.openxmlformats.org/officeDocument/2006/relationships/hyperlink" Target="http://pedsovet.su/" TargetMode="External"/><Relationship Id="rId3" Type="http://schemas.openxmlformats.org/officeDocument/2006/relationships/hyperlink" Target="http://pedsovet.su/" TargetMode="External"/><Relationship Id="rId4" Type="http://schemas.openxmlformats.org/officeDocument/2006/relationships/hyperlink" Target="http://wiki.iot.ru/index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375480" y="-71280"/>
            <a:ext cx="85104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ru-RU" sz="2000" spc="-1" strike="noStrike">
                <a:solidFill>
                  <a:srgbClr val="58267e"/>
                </a:solidFill>
                <a:latin typeface="Calibri"/>
              </a:rPr>
              <a:t>Департамент образования города Москв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ru-RU" sz="2000" spc="-1" strike="noStrike">
                <a:solidFill>
                  <a:srgbClr val="58267e"/>
                </a:solidFill>
                <a:latin typeface="Calibri"/>
              </a:rPr>
              <a:t>Северное Окружное Управление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ru-RU" sz="2000" spc="-1" strike="noStrike">
                <a:solidFill>
                  <a:srgbClr val="58267e"/>
                </a:solidFill>
                <a:latin typeface="Calibri"/>
              </a:rPr>
              <a:t>Частное учреждение средняя общеобразовательная школа «Первая Школ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1school"/>
          <p:cNvPicPr/>
          <p:nvPr/>
        </p:nvPicPr>
        <p:blipFill>
          <a:blip r:embed="rId1"/>
          <a:srcRect l="21712" t="36219" r="47180" b="34892"/>
          <a:stretch/>
        </p:blipFill>
        <p:spPr>
          <a:xfrm>
            <a:off x="1143000" y="1500120"/>
            <a:ext cx="7151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хнология проблемного диалог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3"/>
          <p:cNvSpPr/>
          <p:nvPr/>
        </p:nvSpPr>
        <p:spPr>
          <a:xfrm>
            <a:off x="642960" y="1785960"/>
            <a:ext cx="2643120" cy="1357200"/>
          </a:xfrm>
          <a:prstGeom prst="roundRect">
            <a:avLst>
              <a:gd name="adj" fmla="val 16667"/>
            </a:avLst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учебной пробл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77640" y="1919880"/>
            <a:ext cx="2718000" cy="116064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её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642960" y="3500280"/>
            <a:ext cx="2414520" cy="214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этап формулирования темы урока или вопроса для 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6000840" y="3357720"/>
            <a:ext cx="2414520" cy="214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 формулирования нового зн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Стрелка вниз 9"/>
          <p:cNvSpPr/>
          <p:nvPr/>
        </p:nvSpPr>
        <p:spPr>
          <a:xfrm>
            <a:off x="6929280" y="2857680"/>
            <a:ext cx="484200" cy="78552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Стрелка вниз 10"/>
          <p:cNvSpPr/>
          <p:nvPr/>
        </p:nvSpPr>
        <p:spPr>
          <a:xfrm>
            <a:off x="1643040" y="3000240"/>
            <a:ext cx="484200" cy="7146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Стрелка вниз 11"/>
          <p:cNvSpPr/>
          <p:nvPr/>
        </p:nvSpPr>
        <p:spPr>
          <a:xfrm rot="2200200">
            <a:off x="3428640" y="1214280"/>
            <a:ext cx="484200" cy="7146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Стрелка вниз 12"/>
          <p:cNvSpPr/>
          <p:nvPr/>
        </p:nvSpPr>
        <p:spPr>
          <a:xfrm rot="18678600">
            <a:off x="5206680" y="1194840"/>
            <a:ext cx="484200" cy="7668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Group 14" descr=""/>
          <p:cNvPicPr/>
          <p:nvPr/>
        </p:nvPicPr>
        <p:blipFill>
          <a:blip r:embed="rId1"/>
          <a:stretch/>
        </p:blipFill>
        <p:spPr>
          <a:xfrm>
            <a:off x="798480" y="3365640"/>
            <a:ext cx="2139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87" name="Oval 4"/>
          <p:cNvGrpSpPr/>
          <p:nvPr/>
        </p:nvGrpSpPr>
        <p:grpSpPr>
          <a:xfrm>
            <a:off x="3029040" y="2682720"/>
            <a:ext cx="4005000" cy="1737000"/>
            <a:chOff x="3029040" y="2682720"/>
            <a:chExt cx="4005000" cy="1737000"/>
          </a:xfrm>
        </p:grpSpPr>
        <p:pic>
          <p:nvPicPr>
            <p:cNvPr id="88" name="Oval 4" descr=""/>
            <p:cNvPicPr/>
            <p:nvPr/>
          </p:nvPicPr>
          <p:blipFill>
            <a:blip r:embed="rId2"/>
            <a:stretch/>
          </p:blipFill>
          <p:spPr>
            <a:xfrm>
              <a:off x="3029040" y="2682720"/>
              <a:ext cx="4005000" cy="17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660840" y="2952720"/>
              <a:ext cx="27478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Регулятивные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          </a:t>
              </a:r>
              <a:r>
                <a:rPr b="1" lang="ru-RU" sz="28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УУ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Rectangle 5"/>
          <p:cNvGrpSpPr/>
          <p:nvPr/>
        </p:nvGrpSpPr>
        <p:grpSpPr>
          <a:xfrm>
            <a:off x="549360" y="652320"/>
            <a:ext cx="3174840" cy="1560600"/>
            <a:chOff x="549360" y="652320"/>
            <a:chExt cx="3174840" cy="1560600"/>
          </a:xfrm>
        </p:grpSpPr>
        <p:pic>
          <p:nvPicPr>
            <p:cNvPr id="91" name="Rectangle 5" descr=""/>
            <p:cNvPicPr/>
            <p:nvPr/>
          </p:nvPicPr>
          <p:blipFill>
            <a:blip r:embed="rId3"/>
            <a:stretch/>
          </p:blipFill>
          <p:spPr>
            <a:xfrm>
              <a:off x="549360" y="652320"/>
              <a:ext cx="317484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09480" y="685800"/>
              <a:ext cx="30607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 осознан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л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Rectangle 7"/>
          <p:cNvGrpSpPr/>
          <p:nvPr/>
        </p:nvGrpSpPr>
        <p:grpSpPr>
          <a:xfrm>
            <a:off x="5705640" y="573120"/>
            <a:ext cx="3462120" cy="1560600"/>
            <a:chOff x="5705640" y="573120"/>
            <a:chExt cx="3462120" cy="1560600"/>
          </a:xfrm>
        </p:grpSpPr>
        <p:pic>
          <p:nvPicPr>
            <p:cNvPr id="94" name="Rectangle 7" descr=""/>
            <p:cNvPicPr/>
            <p:nvPr/>
          </p:nvPicPr>
          <p:blipFill>
            <a:blip r:embed="rId4"/>
            <a:stretch/>
          </p:blipFill>
          <p:spPr>
            <a:xfrm>
              <a:off x="5705640" y="573120"/>
              <a:ext cx="346212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867280" y="609480"/>
              <a:ext cx="30607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рез планирование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йствий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Rectangle 8"/>
          <p:cNvGrpSpPr/>
          <p:nvPr/>
        </p:nvGrpSpPr>
        <p:grpSpPr>
          <a:xfrm>
            <a:off x="5705640" y="5010120"/>
            <a:ext cx="3273120" cy="1738440"/>
            <a:chOff x="5705640" y="5010120"/>
            <a:chExt cx="3273120" cy="1738440"/>
          </a:xfrm>
        </p:grpSpPr>
        <p:pic>
          <p:nvPicPr>
            <p:cNvPr id="97" name="Rectangle 8" descr=""/>
            <p:cNvPicPr/>
            <p:nvPr/>
          </p:nvPicPr>
          <p:blipFill>
            <a:blip r:embed="rId5"/>
            <a:stretch/>
          </p:blipFill>
          <p:spPr>
            <a:xfrm>
              <a:off x="5705640" y="5010120"/>
              <a:ext cx="327312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867280" y="5181480"/>
              <a:ext cx="30607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 реализации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меченного,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контролю и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оценке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Group 14" descr=""/>
          <p:cNvPicPr/>
          <p:nvPr/>
        </p:nvPicPr>
        <p:blipFill>
          <a:blip r:embed="rId6"/>
          <a:stretch/>
        </p:blipFill>
        <p:spPr>
          <a:xfrm>
            <a:off x="3468600" y="774720"/>
            <a:ext cx="2189160" cy="1292040"/>
          </a:xfrm>
          <a:prstGeom prst="rect">
            <a:avLst/>
          </a:prstGeom>
          <a:ln w="0">
            <a:noFill/>
          </a:ln>
        </p:spPr>
      </p:pic>
      <p:pic>
        <p:nvPicPr>
          <p:cNvPr id="100" name="Group 19" descr=""/>
          <p:cNvPicPr/>
          <p:nvPr/>
        </p:nvPicPr>
        <p:blipFill>
          <a:blip r:embed="rId7"/>
          <a:stretch/>
        </p:blipFill>
        <p:spPr>
          <a:xfrm>
            <a:off x="6692760" y="2639880"/>
            <a:ext cx="1292400" cy="2151360"/>
          </a:xfrm>
          <a:prstGeom prst="rect">
            <a:avLst/>
          </a:prstGeom>
          <a:ln w="0">
            <a:noFill/>
          </a:ln>
        </p:spPr>
      </p:pic>
      <p:pic>
        <p:nvPicPr>
          <p:cNvPr id="101" name="Group 9" descr=""/>
          <p:cNvPicPr/>
          <p:nvPr/>
        </p:nvPicPr>
        <p:blipFill>
          <a:blip r:embed="rId8"/>
          <a:stretch/>
        </p:blipFill>
        <p:spPr>
          <a:xfrm>
            <a:off x="3975120" y="5132520"/>
            <a:ext cx="1938240" cy="1444320"/>
          </a:xfrm>
          <a:prstGeom prst="rect">
            <a:avLst/>
          </a:prstGeom>
          <a:ln w="0">
            <a:noFill/>
          </a:ln>
        </p:spPr>
      </p:pic>
      <p:grpSp>
        <p:nvGrpSpPr>
          <p:cNvPr id="102" name="Rectangle 8"/>
          <p:cNvGrpSpPr/>
          <p:nvPr/>
        </p:nvGrpSpPr>
        <p:grpSpPr>
          <a:xfrm>
            <a:off x="603360" y="5072040"/>
            <a:ext cx="3273480" cy="1560600"/>
            <a:chOff x="603360" y="5072040"/>
            <a:chExt cx="3273480" cy="1560600"/>
          </a:xfrm>
        </p:grpSpPr>
        <p:pic>
          <p:nvPicPr>
            <p:cNvPr id="103" name="Rectangle 8" descr=""/>
            <p:cNvPicPr/>
            <p:nvPr/>
          </p:nvPicPr>
          <p:blipFill>
            <a:blip r:embed="rId9"/>
            <a:stretch/>
          </p:blipFill>
          <p:spPr>
            <a:xfrm>
              <a:off x="603360" y="5072040"/>
              <a:ext cx="32734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62120" y="5105520"/>
              <a:ext cx="30607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</a:rPr>
                <a:t>к проведению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Times New Roman"/>
                </a:rPr>
                <a:t>коррекции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Заголовок 1"/>
          <p:cNvGrpSpPr/>
          <p:nvPr/>
        </p:nvGrpSpPr>
        <p:grpSpPr>
          <a:xfrm>
            <a:off x="407880" y="1627200"/>
            <a:ext cx="8528040" cy="2695680"/>
            <a:chOff x="407880" y="1627200"/>
            <a:chExt cx="8528040" cy="2695680"/>
          </a:xfrm>
        </p:grpSpPr>
        <p:pic>
          <p:nvPicPr>
            <p:cNvPr id="10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07880" y="1627200"/>
              <a:ext cx="852804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28760" y="1643040"/>
              <a:ext cx="849600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5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ru-RU" sz="4900" spc="-1" strike="noStrike">
                  <a:solidFill>
                    <a:srgbClr val="002060"/>
                  </a:solidFill>
                  <a:latin typeface="Arial"/>
                </a:rPr>
                <a:t>Технология проблемного диалога </a:t>
              </a:r>
              <a:br>
                <a:rPr sz="4900"/>
              </a:b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ы постановки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учебной проблем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99720" y="1642680"/>
            <a:ext cx="771516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ая проблема существует в двух основных формах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к тема урок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к не совпадающий с темой урока вопрос, ответом на который является новое зна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 постановки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мотивацию дея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лечь внимание уче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ать единомышленни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ть интригу урока, его зач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Windows.old\Users\Пользователь\Desktop\3 класс\Фото, 3 класс\день толерантности\IMG_0543.JPG"/>
          <p:cNvPicPr/>
          <p:nvPr/>
        </p:nvPicPr>
        <p:blipFill>
          <a:blip r:embed="rId1"/>
          <a:stretch/>
        </p:blipFill>
        <p:spPr>
          <a:xfrm>
            <a:off x="5261040" y="420840"/>
            <a:ext cx="363852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14200" y="2286000"/>
            <a:ext cx="2643480" cy="4506120"/>
          </a:xfrm>
          <a:prstGeom prst="rect">
            <a:avLst/>
          </a:prstGeom>
          <a:solidFill>
            <a:srgbClr val="d8f4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учителя, побуждающие детей высказывать различные версии решения пробл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ет творческое мыш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о близок к жизненным ситуац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ки могут увести в сторону от т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озможно рассчитать время на уро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00240" y="2286000"/>
            <a:ext cx="2928960" cy="3957480"/>
          </a:xfrm>
          <a:prstGeom prst="rect">
            <a:avLst/>
          </a:prstGeom>
          <a:solidFill>
            <a:srgbClr val="d8f4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почка вопросов, последовательно приводящих к правильному ответу, запланированному учител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вает логическое мыш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читывается по 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дет к нужному результату коротким пу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03dd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ньше творче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ществуют три основных метода постановки учебной проблемы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214200" y="1285920"/>
            <a:ext cx="2143080" cy="57132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ждающий диа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7"/>
          <p:cNvSpPr/>
          <p:nvPr/>
        </p:nvSpPr>
        <p:spPr>
          <a:xfrm>
            <a:off x="3143160" y="1285920"/>
            <a:ext cx="2143080" cy="57132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одящий диа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Заголовок 4"/>
          <p:cNvSpPr/>
          <p:nvPr/>
        </p:nvSpPr>
        <p:spPr>
          <a:xfrm>
            <a:off x="6215040" y="2143080"/>
            <a:ext cx="2500200" cy="1071720"/>
          </a:xfrm>
          <a:prstGeom prst="rect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с мотивирующим прием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72120" y="3500280"/>
            <a:ext cx="2857680" cy="1587600"/>
          </a:xfrm>
          <a:prstGeom prst="rect">
            <a:avLst/>
          </a:prstGeom>
          <a:solidFill>
            <a:srgbClr val="d8f4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бщение темы с мотивирующим приемом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ём «яркое пятно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актуальность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2440" y="410760"/>
            <a:ext cx="76438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поставить учебную проблему?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особ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буждающий диалог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6760" y="1571400"/>
            <a:ext cx="2592360" cy="47149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емы создания проблемной ситу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Столкновение мнений учен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дание можно выполнить по-разном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новый материа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ключив его в состав ранее изученног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15040" y="1571400"/>
            <a:ext cx="2519280" cy="47862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буждение к формулированию пробле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вопро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? (Сформулируйте проблемный вопро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286080" y="1571760"/>
            <a:ext cx="2508120" cy="480636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Побуждение к осознанию противореч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ак вы выполнили задан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чему так получилось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Чего ещё не знае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акое противоречие   заметил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 чем затруднен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Что вас удивило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1f497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2643120" y="2071800"/>
            <a:ext cx="62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м, что сначала цена товара была равна А. Затем цена повысилась на 10%, а в новом году снизилась на 10%. Изменилась ли первоначальная цена на товар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4572000" y="357120"/>
            <a:ext cx="3714840" cy="17398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40" indent="1425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ая ситуация, содержащая противоречие,  которое вызовет у детей удивление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отиворечие между двумя фактами,  столкновение мнени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428760" y="357120"/>
            <a:ext cx="3571920" cy="121464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 урок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Задачи на процент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285840" y="1857240"/>
            <a:ext cx="914400" cy="91440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285840" y="2857680"/>
            <a:ext cx="914400" cy="91440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9"/>
          <p:cNvSpPr/>
          <p:nvPr/>
        </p:nvSpPr>
        <p:spPr>
          <a:xfrm>
            <a:off x="1285920" y="2428920"/>
            <a:ext cx="914400" cy="91440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2357280" y="3286080"/>
            <a:ext cx="628668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Тема: «Умножение на однозначное число или  двузначное числ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500040" y="45007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4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2768040" y="5072040"/>
            <a:ext cx="14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6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∙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4572000" y="4500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∙ 20 + 6 ∙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= 1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6 ∙ 20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56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∙ 1 = 117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ая соединительная линия 15"/>
          <p:cNvSpPr/>
          <p:nvPr/>
        </p:nvSpPr>
        <p:spPr>
          <a:xfrm>
            <a:off x="4786200" y="4714920"/>
            <a:ext cx="41436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142920"/>
            <a:ext cx="7772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Ситуации на уроке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ри побуждающем диалог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1153800" y="2000160"/>
            <a:ext cx="5145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успех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моциональное удовлетворе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1143000" y="3286080"/>
            <a:ext cx="7572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 «интеллектуального разрыв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моциональное переживание всеобщего неуспех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1143000" y="46432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учебной задачи вмест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ител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знание дефицита своих способност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поставить учебную проблему?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особ –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одящий диалог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14200" y="2500200"/>
            <a:ext cx="84963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читай (прослушай, отгадай, запиши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анализируй (найди, определи,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одчеркни, выдели, обозначь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равни (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опоставь, найди отлич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делай вывод о теме, проблеме уро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www.1school.ru/assets/images/site/791.jpg"/>
          <p:cNvPicPr/>
          <p:nvPr/>
        </p:nvPicPr>
        <p:blipFill>
          <a:blip r:embed="rId1"/>
          <a:stretch/>
        </p:blipFill>
        <p:spPr>
          <a:xfrm>
            <a:off x="428760" y="4000680"/>
            <a:ext cx="1500120" cy="2349360"/>
          </a:xfrm>
          <a:prstGeom prst="rect">
            <a:avLst/>
          </a:prstGeom>
          <a:ln w="38160">
            <a:solidFill>
              <a:srgbClr val="d99694"/>
            </a:solidFill>
            <a:miter/>
          </a:ln>
        </p:spPr>
      </p:pic>
      <p:sp>
        <p:nvSpPr>
          <p:cNvPr id="51" name="Прямоугольник 3"/>
          <p:cNvSpPr/>
          <p:nvPr/>
        </p:nvSpPr>
        <p:spPr>
          <a:xfrm>
            <a:off x="3500280" y="557208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    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иротинская  Галина Геннад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Заголовок 3"/>
          <p:cNvSpPr/>
          <p:nvPr/>
        </p:nvSpPr>
        <p:spPr>
          <a:xfrm>
            <a:off x="214200" y="500040"/>
            <a:ext cx="6286680" cy="1857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ёт по теме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образов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Содержимое 6"/>
          <p:cNvSpPr/>
          <p:nvPr/>
        </p:nvSpPr>
        <p:spPr>
          <a:xfrm>
            <a:off x="2357280" y="2143080"/>
            <a:ext cx="6282000" cy="3000600"/>
          </a:xfrm>
          <a:prstGeom prst="rect">
            <a:avLst/>
          </a:prstGeom>
          <a:solidFill>
            <a:srgbClr val="f8aa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Формирование умения видеть учебную проблему и решать её посредством технологии проблемного диалога у учащихся начальной школы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( средствами учебного предмета «Математика»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3" descr="новый логотип - Влад финал вырез.JPG"/>
          <p:cNvPicPr/>
          <p:nvPr/>
        </p:nvPicPr>
        <p:blipFill>
          <a:blip r:embed="rId2"/>
          <a:stretch/>
        </p:blipFill>
        <p:spPr>
          <a:xfrm>
            <a:off x="7072200" y="214200"/>
            <a:ext cx="18795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5715000" y="1571760"/>
          <a:ext cx="3168720" cy="1825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0560"/>
                <a:gridCol w="793800"/>
              </a:tblGrid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643720" y="1071720"/>
          <a:ext cx="3168360" cy="182520"/>
        </p:xfrm>
        <a:graphic>
          <a:graphicData uri="http://schemas.openxmlformats.org/drawingml/2006/table">
            <a:tbl>
              <a:tblPr/>
              <a:tblGrid>
                <a:gridCol w="395280"/>
                <a:gridCol w="395280"/>
                <a:gridCol w="396720"/>
                <a:gridCol w="395280"/>
                <a:gridCol w="396720"/>
                <a:gridCol w="395640"/>
                <a:gridCol w="396720"/>
                <a:gridCol w="396720"/>
              </a:tblGrid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1"/>
          <p:cNvSpPr/>
          <p:nvPr/>
        </p:nvSpPr>
        <p:spPr>
          <a:xfrm>
            <a:off x="357120" y="2146680"/>
            <a:ext cx="864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/9 * 8/9     11/23* 6/23    4/13* 9/13   3/4* 3/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428760" y="357120"/>
            <a:ext cx="3571920" cy="121464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 урок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Сравнение  доле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поставить учебную проблему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пособ –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тивирующий при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3178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0" lang="ru-RU" sz="3400" spc="-1" strike="noStrike">
                <a:solidFill>
                  <a:srgbClr val="0000cc"/>
                </a:solidFill>
                <a:latin typeface="Calibri"/>
              </a:rPr>
              <a:t>Приемы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ркое пя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79720" y="2147760"/>
            <a:ext cx="4896000" cy="44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Разновид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рагменты из художественной литературы, сказки, прит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чаи из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-то необычное: загадки, шутки, кроссворды, парадок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чем это нужно зна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ему это важн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ую роль играет в нашей жизн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214200" y="1879920"/>
            <a:ext cx="8572680" cy="484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мы начинаем новую тему, а какую вы легко догадаете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, потому что с этим термином мы сталкиваемся буквально на каждом шаг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риходите в магазин и видите объявл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дневные часы у нас скидка 10 …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о? Верно, процентов. Выбираете молоко, а на пачке написа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рность 3,5…». По телевизору идёт реклама, и вы слышит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нашей стране самый низкий налог на доходы. Он составляет всего 13…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идите, термин «процент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 вошёл в нашу жизнь. Это и есть тема нашего ур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571680" y="357120"/>
            <a:ext cx="6143400" cy="1214640"/>
          </a:xfrm>
          <a:prstGeom prst="rect">
            <a:avLst/>
          </a:prstGeom>
          <a:solidFill>
            <a:srgbClr val="d8f4f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 урока: « Процент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0" y="277560"/>
            <a:ext cx="55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имущества ТП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56800" y="1428840"/>
            <a:ext cx="7929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вышается интерес учащихся к учёб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ивается развивающий эффек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ётся атмосфера сотрудни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исходит развитие речи, логического мыш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рабатывается активная позиция де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нкетирование по выявлению школьной мотивации Н.Г. Лускан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1428840"/>
          <a:ext cx="9144000" cy="5429160"/>
        </p:xfrm>
        <a:graphic>
          <a:graphicData uri="http://schemas.openxmlformats.org/drawingml/2006/table">
            <a:tbl>
              <a:tblPr/>
              <a:tblGrid>
                <a:gridCol w="571680"/>
                <a:gridCol w="4552920"/>
                <a:gridCol w="2982600"/>
                <a:gridCol w="1036800"/>
              </a:tblGrid>
              <a:tr h="60012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года (сентяб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ц года (мар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rowSpan="5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ится ли тебе учиться в школ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не все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не 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rowSpan="5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но ли тебе дается учеб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не все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не 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rowSpan="5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ют ли у тебя трудности усвоении нового материал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не все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не знаю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955880"/>
                <a:gridCol w="3062160"/>
                <a:gridCol w="3062160"/>
                <a:gridCol w="1063800"/>
              </a:tblGrid>
              <a:tr h="576360">
                <a:tc rowSpan="6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трудности возникали, то какие они? (возможен выбор нескольких вариант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но сразу понять новую те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но самостоятельно выполнять задания по новой тем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овых темах всегда сложны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интересно изучать новый матер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боюсь трудностей на уро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rowSpan="5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равится ли тебе преодолевать трудности, искать пути решения сложных задач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ино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не 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rowSpan="5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ты относишься к новым сложным задания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интерес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их бою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неохотой выполняю 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требуется помощь в их выполн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71280" y="0"/>
          <a:ext cx="9072720" cy="7027920"/>
        </p:xfrm>
        <a:graphic>
          <a:graphicData uri="http://schemas.openxmlformats.org/drawingml/2006/table">
            <a:tbl>
              <a:tblPr/>
              <a:tblGrid>
                <a:gridCol w="468360"/>
                <a:gridCol w="7675560"/>
                <a:gridCol w="928800"/>
              </a:tblGrid>
              <a:tr h="380880">
                <a:tc rowSpan="5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илось ли твое отношение к изучению новых те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немного изменило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не зн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 rowSpan="9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изменилось, то как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интереснее изучать новые 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сложнее изучать новые 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о интереснее учить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телось узнать много нов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чез интерес к уче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телось преодолевать трудности на уро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отелось самостоятельно искать пути решения трудных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ерестал бояться трудностей на уро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 rowSpan="7"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ты теперь относишься к новым сложным заданиям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стало интересно их разбир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не хочется их выполня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хочется искать пути ре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хочется самостоятельно искать пути решения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▪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е нравится искать разные способы решения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43080" y="213840"/>
            <a:ext cx="64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учение личности учащих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Object 3"/>
          <p:cNvGraphicFramePr/>
          <p:nvPr/>
        </p:nvGraphicFramePr>
        <p:xfrm>
          <a:off x="1285920" y="2071800"/>
          <a:ext cx="715320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071800"/>
                    <a:ext cx="715320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Box 8"/>
          <p:cNvSpPr/>
          <p:nvPr/>
        </p:nvSpPr>
        <p:spPr>
          <a:xfrm>
            <a:off x="1643040" y="178596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тодика Р.С.Немова «Какой Я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воды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7760" y="750960"/>
            <a:ext cx="870588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885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 диалог стимулирует интеллектуальное развитие учеников. Он активно задействует всю познавательную сферу: внимание, память, мышление и особенно ре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ет активную личность, так как для диалога с одноклассником или учителем ученику нужны и смелость, и решительность.         Таким образом, проблемный диалог сначала накрывает ученика волной интереса к новому материалу, а затем дарит ему острую радость самостоятельного открытия зн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3" descr="новый логотип - Влад финал вырез.JPG"/>
          <p:cNvPicPr/>
          <p:nvPr/>
        </p:nvPicPr>
        <p:blipFill>
          <a:blip r:embed="rId1"/>
          <a:stretch/>
        </p:blipFill>
        <p:spPr>
          <a:xfrm>
            <a:off x="7658280" y="6021360"/>
            <a:ext cx="1252440" cy="64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точники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28760" y="928800"/>
            <a:ext cx="8304120" cy="58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смолов А.Г. Как проектировать универсальные учебные действия в начальной школе. От действия к мысли. Пособие для учителя - М., 200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Гальперин П.Я. Методы обучения и умственное развитие ребенка. – М, 198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аркова А.К. Формирование мотивации учения. – М.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Мельникова Е.Л. Проблемно_диалогическое обучение: понят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, предметная специфика // Образователь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2100». Сб. программ. Основная школа. Старшая школа. – М.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сс, 2008. С. 272–28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окарева З.А. Постановка целей и задач с позиции педагогической  технологии. //Источник. – 2002 – №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standart.edu.r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ttp://pedsovet.su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iki.iot.ru/index.ph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560520" y="2578680"/>
            <a:ext cx="789912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3" descr="новый логотип - Влад финал вырез.JPG"/>
          <p:cNvPicPr/>
          <p:nvPr/>
        </p:nvPicPr>
        <p:blipFill>
          <a:blip r:embed="rId1"/>
          <a:stretch/>
        </p:blipFill>
        <p:spPr>
          <a:xfrm>
            <a:off x="7718400" y="6086520"/>
            <a:ext cx="1128600" cy="5824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785880" y="71424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туальность</a:t>
            </a:r>
            <a:r>
              <a:rPr b="1" lang="ru-RU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я данной проблемы связана с тем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 Федеральном государственном образовательном стандарте начального общего образовани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ом названо формирование универсальных учебных действий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3868560" cy="757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3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4300" spc="-1" strike="noStrike">
                <a:solidFill>
                  <a:srgbClr val="0070c0"/>
                </a:solidFill>
                <a:latin typeface="Times New Roman"/>
              </a:rPr>
              <a:t>Проблема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71320" y="2143080"/>
            <a:ext cx="77864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наиболее эффективного подхода к формированию РУУД младших школьник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0160" y="21384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педагогической деятельности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42800" y="1571760"/>
            <a:ext cx="56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оздание условий для формирования умения видеть учебную проблему и решать её посредством использования технологии проблемного диал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C:\Windows.old\Users\Пользователь\Desktop\3 класс\Фото, 3 класс\день толерантности\IMG_0556.JPG"/>
          <p:cNvPicPr/>
          <p:nvPr/>
        </p:nvPicPr>
        <p:blipFill>
          <a:blip r:embed="rId1"/>
          <a:stretch/>
        </p:blipFill>
        <p:spPr>
          <a:xfrm>
            <a:off x="549360" y="1279440"/>
            <a:ext cx="2985840" cy="78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2"/>
          <p:cNvSpPr/>
          <p:nvPr/>
        </p:nvSpPr>
        <p:spPr>
          <a:xfrm>
            <a:off x="0" y="-11160"/>
            <a:ext cx="2048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205200" y="1382400"/>
            <a:ext cx="876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3" descr="новый логотип - Влад финал вырез.JPG"/>
          <p:cNvPicPr/>
          <p:nvPr/>
        </p:nvPicPr>
        <p:blipFill>
          <a:blip r:embed="rId1"/>
          <a:stretch/>
        </p:blipFill>
        <p:spPr>
          <a:xfrm>
            <a:off x="7718400" y="6021360"/>
            <a:ext cx="1233360" cy="646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4"/>
          <p:cNvSpPr/>
          <p:nvPr/>
        </p:nvSpPr>
        <p:spPr>
          <a:xfrm>
            <a:off x="285840" y="3492360"/>
            <a:ext cx="85010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214200" y="357120"/>
            <a:ext cx="8643960" cy="60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и проанализировать технологию проблемно-диалогического об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Выявить особенности технологии создания проблемного диалога на уро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обировать на практике  технологии  деятельностного тип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провести анкетирование по выявлению школьной мотивации Н.Г. Лускановой, модифицировав его для учащихся начальной школ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зработать и провести серию уроков с использованием ТД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зработать и внедрить дидактические материалы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карточки, тесты, блок-схемы для групповой рабо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746280" y="642960"/>
            <a:ext cx="8397720" cy="58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проблемный диалог становится фактором, реализующим возможности проблемного обучения, ес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- он создаётся систематически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- учитывает индивидуальные особенности обучающихся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ведёт к развитию мотивации к учению и познавательных интересов младших школьник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ъект:</a:t>
            </a:r>
            <a:r>
              <a:rPr b="1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учителя по формированию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умения видеть учебную проблему и решать её посредством технологии проблемного диалога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мет:</a:t>
            </a:r>
            <a:r>
              <a:rPr b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 умения видеть учебную проблему и решать её  посредством ТПД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252360" y="555480"/>
            <a:ext cx="8521920" cy="172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полагаем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3" descr="новый логотип - Влад финал вырез.JPG"/>
          <p:cNvPicPr/>
          <p:nvPr/>
        </p:nvPicPr>
        <p:blipFill>
          <a:blip r:embed="rId1"/>
          <a:stretch/>
        </p:blipFill>
        <p:spPr>
          <a:xfrm>
            <a:off x="7718400" y="6021360"/>
            <a:ext cx="1233360" cy="646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357120" y="2643120"/>
            <a:ext cx="832968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ехнология будет мотивировать учеников к усвоению нового материала (постановка проблемы происходит в форме диалога и в работу включается практически весь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тие речевой и личностной актив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" descr="C:\Windows.old\Users\Пользователь\Desktop\3 класс\Фото, 3 класс\Экологический КВН\IMG_0584.JPG"/>
          <p:cNvPicPr/>
          <p:nvPr/>
        </p:nvPicPr>
        <p:blipFill>
          <a:blip r:embed="rId2"/>
          <a:stretch/>
        </p:blipFill>
        <p:spPr>
          <a:xfrm>
            <a:off x="5357880" y="285840"/>
            <a:ext cx="3251160" cy="243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Заголовок 1"/>
          <p:cNvGrpSpPr/>
          <p:nvPr/>
        </p:nvGrpSpPr>
        <p:grpSpPr>
          <a:xfrm>
            <a:off x="811080" y="2627280"/>
            <a:ext cx="7985160" cy="3816360"/>
            <a:chOff x="811080" y="2627280"/>
            <a:chExt cx="7985160" cy="3816360"/>
          </a:xfrm>
        </p:grpSpPr>
        <p:pic>
          <p:nvPicPr>
            <p:cNvPr id="7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811080" y="2627280"/>
              <a:ext cx="798516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26920" y="2643120"/>
              <a:ext cx="7959960" cy="37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2060"/>
                  </a:solidFill>
                  <a:latin typeface="Calibri"/>
                </a:rPr>
                <a:t>Образовательные технологии ОС «Школа 2100»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Прямоугольник 2"/>
          <p:cNvSpPr/>
          <p:nvPr/>
        </p:nvSpPr>
        <p:spPr>
          <a:xfrm>
            <a:off x="2357280" y="0"/>
            <a:ext cx="678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Ставьте ребёнку вопросы, доступные его пониманию и предоставьте ему решать их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усть он узнает не потому, что вы сказали,  а что сам понял»,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ранцузский философ Ж.Ж.Русс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3 klass</cp:lastModifiedBy>
  <dcterms:modified xsi:type="dcterms:W3CDTF">2016-05-31T06:09:44Z</dcterms:modified>
  <cp:revision>166</cp:revision>
  <dc:subject/>
  <dc:title>Слайд 1</dc:title>
</cp:coreProperties>
</file>