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0.wmf" ContentType="image/x-wmf"/>
  <Override PartName="/ppt/media/image25.jpeg" ContentType="image/jpeg"/>
  <Override PartName="/ppt/media/image2.png" ContentType="image/png"/>
  <Override PartName="/ppt/media/image5.wmf" ContentType="image/x-wmf"/>
  <Override PartName="/ppt/media/image30.wmf" ContentType="image/x-wmf"/>
  <Override PartName="/ppt/media/image7.jpeg" ContentType="image/jpeg"/>
  <Override PartName="/ppt/media/image18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jpeg" ContentType="image/jpeg"/>
  <Override PartName="/ppt/media/image3.jpeg" ContentType="image/jpeg"/>
  <Override PartName="/ppt/media/image15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.jpeg" ContentType="image/jpeg"/>
  <Override PartName="/ppt/media/image22.jpeg" ContentType="image/jpeg"/>
  <Override PartName="/ppt/media/image14.png" ContentType="image/png"/>
  <Override PartName="/ppt/media/image16.png" ContentType="image/png"/>
  <Override PartName="/ppt/media/image19.png" ContentType="image/png"/>
  <Override PartName="/ppt/media/image17.png" ContentType="image/png"/>
  <Override PartName="/ppt/media/image20.wmf" ContentType="image/x-wmf"/>
  <Override PartName="/ppt/media/image26.jpeg" ContentType="image/jpeg"/>
  <Override PartName="/ppt/media/image21.jpeg" ContentType="image/jpe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DCA-9609-4250-AD15-EA4986C7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E94-2B3C-4DE7-8897-C8FA8B91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873-57BD-44D1-A3BF-E48A39AC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5AD-B956-4DA1-8893-F4122488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9AF-1F90-4FD3-A147-C58B60C7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F49-EC2E-4D5A-ACE2-7D6C121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FBC-1772-4B2E-87BF-875D187D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7A2-F816-41F7-8848-2CED0E2C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623-3E15-433F-BB2E-814C980A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D70-0344-4131-BF15-51AEEFBE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60A-4B38-43DB-B6A8-CC94F17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384-F80D-4A0B-B8D3-5E643B9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274F-BAFD-49D6-A3BD-25A097674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75480" y="-71280"/>
            <a:ext cx="85104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640" rIns="80640" tIns="40320" bIns="4032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Департамент образования города Москв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Северное Окружное Управлени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ru-RU" sz="2000" spc="-1" strike="noStrike">
                <a:solidFill>
                  <a:srgbClr val="58267e"/>
                </a:solidFill>
                <a:latin typeface="Calibri"/>
              </a:rPr>
              <a:t>Частное учреждение средняя общеобразовательная школа «Перв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school"/>
          <p:cNvPicPr/>
          <p:nvPr/>
        </p:nvPicPr>
        <p:blipFill>
          <a:blip r:embed="rId1"/>
          <a:srcRect l="21712" t="36219" r="47180" b="34892"/>
          <a:stretch/>
        </p:blipFill>
        <p:spPr>
          <a:xfrm>
            <a:off x="1143000" y="1500120"/>
            <a:ext cx="71517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ЭЙД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началу слово «эйдетика» кажется страшным термином. Но на поверку оказалось, что все очень просто и даже вес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ubOvalCallout">
            <a:hlinkClick r:id="rId1" action="ppaction://hlinksldjump"/>
          </p:cNvPr>
          <p:cNvSpPr/>
          <p:nvPr/>
        </p:nvSpPr>
        <p:spPr>
          <a:xfrm rot="20991000">
            <a:off x="684360" y="3500280"/>
            <a:ext cx="3709800" cy="21607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то такое «эйдетика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ubOvalCallout">
            <a:hlinkClick r:id="rId2" action="ppaction://hlinksldjump"/>
          </p:cNvPr>
          <p:cNvSpPr/>
          <p:nvPr/>
        </p:nvSpPr>
        <p:spPr>
          <a:xfrm rot="21122400">
            <a:off x="5506920" y="3357360"/>
            <a:ext cx="3637080" cy="2016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у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ubOvalCallout">
            <a:hlinkClick r:id="rId3" action="ppaction://hlinksldjump"/>
          </p:cNvPr>
          <p:cNvSpPr/>
          <p:nvPr/>
        </p:nvSpPr>
        <p:spPr>
          <a:xfrm rot="962400">
            <a:off x="3348000" y="4696920"/>
            <a:ext cx="3673440" cy="216072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ёмы запоминания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Что такое эйдети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греч. eidos образ, вид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эйдетика — это методика запоминания информации с помощью умения представлять и фантазиров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132000" y="3068640"/>
            <a:ext cx="3672000" cy="647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640" y="4797360"/>
            <a:ext cx="3888000" cy="1584360"/>
          </a:xfrm>
          <a:prstGeom prst="rect">
            <a:avLst/>
          </a:prstGeom>
          <a:solidFill>
            <a:srgbClr val="baa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вербально-лог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ш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5219640" y="4797360"/>
            <a:ext cx="3529080" cy="1584360"/>
          </a:xfrm>
          <a:prstGeom prst="rect">
            <a:avLst/>
          </a:prstGeom>
          <a:solidFill>
            <a:srgbClr val="baae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йдотех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конкретно-образ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ышл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195640" y="3573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7020000" y="3500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309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йдетика включает в себя систему игровых упражнений, направленных на развитие памяти, внимания, воображ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1680" y="1785960"/>
            <a:ext cx="8229600" cy="25160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грах и упражнениях используется присущая каждому ребенку способность к воображению. Дети быстро и с энтузиазмом входят в игру со своим воображением, даже не подозревая о том, какие сложные задания они порой выполняю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571680" y="4429080"/>
            <a:ext cx="8215200" cy="2143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нешней развлекательности упражнения основаны на современных научных представлениях о структуре внимания и памят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ы эйдетики можно использовать во внеклассной работе и непосредственно на уро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Суть мет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857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этого метода в том, чтобы с помощью рисунка-ассоциограммы, слова-подсказки или мини-сказки придумать такой образ, чтобы трудное в написании слово легко вспоминалось, и дети были уверены, какую именно букву в нем надо пис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я придуманную ими же опору, дети ошибок в таких словах не делают. Со временем навык сокращается, и запоминаемое слово легко вспоминается уже без придуманного образ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чему важно применять эйдетику при первом же знакомстве со словарным слов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ринципы работы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о системе эйдетик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ая, весёлая атмосфе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бильность и доступность игров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ение информации в соответствии с особенностями каждого ребё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иемы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и методы запоминания слов можно разделить на несколько групп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нетические ассоциации (по схожести звуч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   Занимательные четверостиш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ове спряталось другое слов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ческие ассоциации (по схожести изображ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графы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ысловые ассоци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хождение проверочного сло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одкрепление слов», которые трудно провери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звучат слова в других язык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ребус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1.  Фонетические ассоциации</a:t>
            </a: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(по схожести звучания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3276360" cy="4526280"/>
          </a:xfrm>
          <a:prstGeom prst="rect">
            <a:avLst/>
          </a:prstGeom>
          <a:solidFill>
            <a:srgbClr val="baaeb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дачном подборе созвучных ассоциаций к запоминаемому слов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т сопровождаться ярким рисунком, подкрепляющим обра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35280" y="1484280"/>
            <a:ext cx="5508720" cy="511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рез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лет – автобус сигналит:           “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и-б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купи билет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рой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ревня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елезо – ж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ел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о реж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еле-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ад – на за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солнц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женер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 – ин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пуста – дождик поливае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ту: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а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 к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ната – ком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опат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о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оп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9152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бель – ме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ь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ссажир – п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с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р берет билет в к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с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ук – у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к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нал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 мо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бят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ята реша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апоги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а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ака – жила-был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а, она любила спать, ее прозв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релк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т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лка-это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та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лица – на у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и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 встречаю знакомы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ли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увство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у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жай чужие ч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у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2. Занимательные четверостиш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280360" cy="1008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в подборе слов-помощников, но для облегчения запоминания, подсказки оформлены в виде занимательных четверостиш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-360" y="2421000"/>
            <a:ext cx="4506840" cy="32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я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у домой принес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елепрограмму в г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е  нашл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там, в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те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Г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я не зна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лиш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лепрограмм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та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211640" y="4581360"/>
            <a:ext cx="4427640" cy="208764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а-был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к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любила спа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е прозв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лю я с ней игра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284720" y="2421000"/>
            <a:ext cx="4643280" cy="203364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к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х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к и морковь. Мама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Г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ховый суп нам готов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Отчёт по теме                  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самообразования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68360" y="2013120"/>
            <a:ext cx="8358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спользование приемов эйдетики для формирования орфографической грамотности младших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итель начальных классов     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Сиротинская  Галина Геннад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4038480" cy="262116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ушке Мороз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 в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бр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товят дружно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реч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елки во двор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000" y="4508280"/>
            <a:ext cx="6553080" cy="187164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ли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д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ые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дой залили пол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дром в футбол играл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то забили гол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859280" y="189000"/>
            <a:ext cx="4038480" cy="262080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, 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ТО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помощь иди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рядок, 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ктор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езде навед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84360" y="3068640"/>
            <a:ext cx="8208720" cy="129528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КВ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ТИРУ не хочу», – кв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ет лягушка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Мне болото – лучший дом!  Где моя подушка?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3.В слове спряталось другое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7607160" cy="20894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ки – ва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енк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е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ор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он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– на об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357280" y="3909960"/>
            <a:ext cx="6500880" cy="2376720"/>
          </a:xfrm>
          <a:prstGeom prst="rect">
            <a:avLst/>
          </a:prstGeom>
          <a:solidFill>
            <a:srgbClr val="d8f4f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ета – в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е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ей -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й поет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л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ин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ж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. Графические ассоциации /по схожести изображения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92360" cy="4443480"/>
          </a:xfrm>
          <a:prstGeom prst="rect">
            <a:avLst/>
          </a:prstGeom>
          <a:solidFill>
            <a:srgbClr val="a0e4e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ть – увидеть сходство формы буквы и предмета. Дети должны сами делать рисунки, можно прямо в тетради на уроке или в индивидуальных словарика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rcRect l="0" t="4461" r="0" b="0"/>
          <a:stretch/>
        </p:blipFill>
        <p:spPr>
          <a:xfrm>
            <a:off x="3635280" y="1557360"/>
            <a:ext cx="2521080" cy="504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>
            <a:lum bright="12000"/>
          </a:blip>
          <a:srcRect l="7276" t="48614" r="23872" b="1343"/>
          <a:stretch/>
        </p:blipFill>
        <p:spPr>
          <a:xfrm>
            <a:off x="6408720" y="1557360"/>
            <a:ext cx="2735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"/>
          <p:cNvPicPr/>
          <p:nvPr/>
        </p:nvPicPr>
        <p:blipFill>
          <a:blip r:embed="rId1">
            <a:lum bright="30000"/>
          </a:blip>
          <a:srcRect l="5611" t="30631" r="8253" b="51389"/>
          <a:stretch/>
        </p:blipFill>
        <p:spPr>
          <a:xfrm>
            <a:off x="611280" y="1700280"/>
            <a:ext cx="37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4"/>
          <p:cNvPicPr/>
          <p:nvPr/>
        </p:nvPicPr>
        <p:blipFill>
          <a:blip r:embed="rId2"/>
          <a:stretch/>
        </p:blipFill>
        <p:spPr>
          <a:xfrm>
            <a:off x="5435640" y="3500280"/>
            <a:ext cx="3168720" cy="101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6"/>
          <p:cNvPicPr/>
          <p:nvPr/>
        </p:nvPicPr>
        <p:blipFill>
          <a:blip r:embed="rId3"/>
          <a:stretch/>
        </p:blipFill>
        <p:spPr>
          <a:xfrm>
            <a:off x="5364000" y="1341360"/>
            <a:ext cx="323856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8"/>
          <p:cNvPicPr/>
          <p:nvPr/>
        </p:nvPicPr>
        <p:blipFill>
          <a:blip r:embed="rId4"/>
          <a:stretch/>
        </p:blipFill>
        <p:spPr>
          <a:xfrm>
            <a:off x="5364000" y="2276640"/>
            <a:ext cx="324036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611280" y="260280"/>
            <a:ext cx="7993080" cy="94716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, подкреплённая эмоция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ксируется в памяти луч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5"/>
          <a:stretch/>
        </p:blipFill>
        <p:spPr>
          <a:xfrm>
            <a:off x="250920" y="3789360"/>
            <a:ext cx="4002120" cy="1305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"/>
          <p:cNvPicPr/>
          <p:nvPr/>
        </p:nvPicPr>
        <p:blipFill>
          <a:blip r:embed="rId6"/>
          <a:stretch/>
        </p:blipFill>
        <p:spPr>
          <a:xfrm>
            <a:off x="5940360" y="4869000"/>
            <a:ext cx="219564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7"/>
          <a:stretch/>
        </p:blipFill>
        <p:spPr>
          <a:xfrm>
            <a:off x="250920" y="5229360"/>
            <a:ext cx="3889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5. Изограф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038480" cy="294804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ографы - это картинки, на которых слово зашифровано буквами, расположение которых близко или отдалённо напоминает предмет, о котором идёт ре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1"/>
          <p:cNvPicPr/>
          <p:nvPr/>
        </p:nvPicPr>
        <p:blipFill>
          <a:blip r:embed="rId1"/>
          <a:stretch/>
        </p:blipFill>
        <p:spPr>
          <a:xfrm>
            <a:off x="6443640" y="189000"/>
            <a:ext cx="2519280" cy="2390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твет: автомобиль."/>
          <p:cNvPicPr/>
          <p:nvPr/>
        </p:nvPicPr>
        <p:blipFill>
          <a:blip r:embed="rId2"/>
          <a:srcRect l="2494" t="4918" r="1726" b="2980"/>
          <a:stretch/>
        </p:blipFill>
        <p:spPr>
          <a:xfrm>
            <a:off x="3924360" y="2708280"/>
            <a:ext cx="2808360" cy="1405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Рисунок12"/>
          <p:cNvPicPr/>
          <p:nvPr/>
        </p:nvPicPr>
        <p:blipFill>
          <a:blip r:embed="rId3"/>
          <a:stretch/>
        </p:blipFill>
        <p:spPr>
          <a:xfrm>
            <a:off x="179280" y="4221000"/>
            <a:ext cx="259092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Рисунок19"/>
          <p:cNvPicPr/>
          <p:nvPr/>
        </p:nvPicPr>
        <p:blipFill>
          <a:blip r:embed="rId4"/>
          <a:stretch/>
        </p:blipFill>
        <p:spPr>
          <a:xfrm>
            <a:off x="3059280" y="4508640"/>
            <a:ext cx="2016000" cy="215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Рисунок5"/>
          <p:cNvPicPr/>
          <p:nvPr/>
        </p:nvPicPr>
        <p:blipFill>
          <a:blip r:embed="rId5"/>
          <a:stretch/>
        </p:blipFill>
        <p:spPr>
          <a:xfrm>
            <a:off x="7451640" y="4508640"/>
            <a:ext cx="1692360" cy="215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Рисунок7"/>
          <p:cNvPicPr/>
          <p:nvPr/>
        </p:nvPicPr>
        <p:blipFill>
          <a:blip r:embed="rId6"/>
          <a:stretch/>
        </p:blipFill>
        <p:spPr>
          <a:xfrm>
            <a:off x="5219640" y="4581360"/>
            <a:ext cx="20383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Ответ: трамвай."/>
          <p:cNvPicPr/>
          <p:nvPr/>
        </p:nvPicPr>
        <p:blipFill>
          <a:blip r:embed="rId7"/>
          <a:srcRect l="2557" t="4089" r="1726" b="5019"/>
          <a:stretch/>
        </p:blipFill>
        <p:spPr>
          <a:xfrm>
            <a:off x="6838920" y="2924280"/>
            <a:ext cx="230508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6. Смысловые ассоци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137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этого приема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ъяснение лексического смысла слова, углубление в этимологию сл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000" y="2997360"/>
            <a:ext cx="8424720" cy="273528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год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о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наблюдаю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по го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асибо – значит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пас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/спас/ теб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ог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блиотека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биб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–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сего д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при Петре 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жай – земля 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о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ет у</a:t>
            </a:r>
            <a:r>
              <a:rPr b="1" lang="ru-RU" sz="2800" spc="-1" strike="noStrike">
                <a:solidFill>
                  <a:srgbClr val="1f497d"/>
                </a:solidFill>
                <a:latin typeface="Times New Roman"/>
              </a:rPr>
              <a:t>ро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7. Нахождение проверочного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рег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брег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/у Пушкина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исица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л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отинки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бот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скресенье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воскре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еди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ере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ере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шеница – </a:t>
            </a:r>
            <a:r>
              <a:rPr b="0" lang="ru-RU" sz="3600" spc="-1" strike="noStrike">
                <a:solidFill>
                  <a:srgbClr val="1f497d"/>
                </a:solidFill>
                <a:latin typeface="Times New Roman"/>
              </a:rPr>
              <a:t>пшё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5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8. «Подкрепление слов», которые трудно провер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d5cdd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– подкрепить словами- подсказками те слова, которые можно проверить родственными словами. Но в силу различных обстоятельств дети затрудняются в подборе таких проверочных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олько проблем со словом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шё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другими родственными словами с этой же буквой ё. С помощью эйдетики можно решить эту проблему раз и навсегд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Шё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шедший – можно так, но дети забывают это проверочное слово. А можно иначе. Букву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Ё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вернее ее точки, запомним как следы от обуви, напоминающие кругляшки точек или как две снеж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rcRect l="0" t="9558" r="0" b="4724"/>
          <a:stretch/>
        </p:blipFill>
        <p:spPr>
          <a:xfrm>
            <a:off x="395280" y="4797360"/>
            <a:ext cx="389088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rcRect l="0" t="9558" r="0" b="4724"/>
          <a:stretch/>
        </p:blipFill>
        <p:spPr>
          <a:xfrm>
            <a:off x="4500720" y="5562720"/>
            <a:ext cx="389088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972013-75064"/>
          <p:cNvPicPr/>
          <p:nvPr/>
        </p:nvPicPr>
        <p:blipFill>
          <a:blip r:embed="rId3"/>
          <a:stretch/>
        </p:blipFill>
        <p:spPr>
          <a:xfrm>
            <a:off x="5867280" y="5661000"/>
            <a:ext cx="792360" cy="52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972013-75064"/>
          <p:cNvPicPr/>
          <p:nvPr/>
        </p:nvPicPr>
        <p:blipFill>
          <a:blip r:embed="rId4"/>
          <a:stretch/>
        </p:blipFill>
        <p:spPr>
          <a:xfrm>
            <a:off x="6443640" y="5661000"/>
            <a:ext cx="792360" cy="5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9. Как звучат слова в других языках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буз –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буз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рковь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ква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чера – вч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ё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 /укр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лл /англ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сква – М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у /англ.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8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8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8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8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8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8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10. Составление ребу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11439" t="7054" r="8632" b="6312"/>
          <a:stretch/>
        </p:blipFill>
        <p:spPr>
          <a:xfrm>
            <a:off x="4859280" y="1268280"/>
            <a:ext cx="3960720" cy="303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rcRect l="21721" t="15086" r="19524" b="12217"/>
          <a:stretch/>
        </p:blipFill>
        <p:spPr>
          <a:xfrm>
            <a:off x="250920" y="1268280"/>
            <a:ext cx="4321080" cy="2256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2411280" y="5084640"/>
            <a:ext cx="1873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932360" y="4566600"/>
            <a:ext cx="33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0004-004-"/>
          <p:cNvPicPr/>
          <p:nvPr/>
        </p:nvPicPr>
        <p:blipFill>
          <a:blip r:embed="rId3"/>
          <a:stretch/>
        </p:blipFill>
        <p:spPr>
          <a:xfrm>
            <a:off x="971640" y="3789360"/>
            <a:ext cx="3108240" cy="237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011"/>
          <p:cNvPicPr/>
          <p:nvPr/>
        </p:nvPicPr>
        <p:blipFill>
          <a:blip r:embed="rId4"/>
          <a:stretch/>
        </p:blipFill>
        <p:spPr>
          <a:xfrm>
            <a:off x="4427640" y="4581360"/>
            <a:ext cx="357480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Актуальность опыта.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нет на дереве двух одинаковых листьев, так нет двух школьников, обладающих одинаковым набором способностей, умений, поведенческих реакций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364464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ые дети мало читают. Книге трудно соперничать с компьютерными играми. В лексику современного школьника приходят новые трудные для написания слова. Одним из способов решения проблемы является изобретение вместе с детьми схем, опор для запомин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2168640" y="274680"/>
            <a:ext cx="480528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м на помощь приходит рисунок и сказ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ла-была собака, она люб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о спать, поэтому её прозвали Сон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5" descr=""/>
          <p:cNvPicPr/>
          <p:nvPr/>
        </p:nvPicPr>
        <p:blipFill>
          <a:blip r:embed="rId1"/>
          <a:stretch/>
        </p:blipFill>
        <p:spPr>
          <a:xfrm>
            <a:off x="3276720" y="404640"/>
            <a:ext cx="3563640" cy="1855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л-был заяц-хваста. Он очень любил хвастаться и всегда говорил: «Я - самый храбрый, Я- самый быстрый, Я - самый умный! Я, Я, Я…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у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hello_html_5cb7d091"/>
          <p:cNvPicPr/>
          <p:nvPr/>
        </p:nvPicPr>
        <p:blipFill>
          <a:blip r:embed="rId2"/>
          <a:stretch/>
        </p:blipFill>
        <p:spPr>
          <a:xfrm>
            <a:off x="4716360" y="4365720"/>
            <a:ext cx="4105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Алгоритм по составлению ассоциограмм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одобрать к слову созвучное слово, где проверяемая буква стоит в сильной (чётко слышимой) позиции и сочинить мини-сказку к придуманному об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Если это невозможно, то, используя схожесть данной буквы с каким-нибудь предметом, придумать яркий рисунок – ассоциограм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о трудное запомнить нам эйдетика помож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ове кофта ф – опасное место, подбирается созвучное словосочетание: кофта – цвета кофе или буква ф сама похожа на коф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4572000" y="3068640"/>
            <a:ext cx="4327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Адресная направленность опы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й опыт по этой теме может быть успешно использован учителями в любой общеобразовательной школе, где имеется компьютерный класс и соответствующие мультимедийные продукты и программы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82556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Ведущая педагогическая идея опыта (проблем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ключается в создании условий, содействующих повышению орфографической грамотности младших школьников на основе использования в учебном процессе приемов моделирования, необходимых для хранения получаемой информаци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Новизна опы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ование приемов учебного моделирования для формирования у младших школьников умений кодировать и хранить информаци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Цель педагогической деятельности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здание условий для формирования прочного орфографического навыка на основе использования приемов учебного моделирования для наиболее эффективного средства запоминания и хранен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ершенствовать орфографический навык учащихся с помощью различных приемов моделирования, направленных на эффективное запоминание изучаемого материа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условия для самостоятельного творческого поиска  графических и фонетических ассоциаций для запоминания словарных и трудно проверяемы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Times New Roman"/>
              </a:rPr>
              <a:t>Предполаг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ёмы будут мотивировать учеников  к более успешному усво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ого 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Теоретическая база опы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своей работе я рассмотрела оригинальную научную методику, разработанную учёными-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сихологами  И.Ю.Матюгиным,  Е.В.Антощуком, Е.И.Чекаберия, И.К.Рыбниковой,  Т.Б.Слоненко,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.Н.Мазиной., Л.С. Выготски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admin</cp:lastModifiedBy>
  <dcterms:modified xsi:type="dcterms:W3CDTF">2018-06-04T05:52:48Z</dcterms:modified>
  <cp:revision>140</cp:revision>
  <dc:subject/>
  <dc:title>Слайд 1</dc:title>
</cp:coreProperties>
</file>