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1DCB-AE92-4637-A673-1F9DC2AB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964D-4824-44F8-A397-47DC9F88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C5D9-3505-406A-B581-36CE9588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5C49-F578-44F5-B9F6-7C17A0BC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D1F6-3DFB-45E7-A3EF-CAE1FE4E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7B81-EC91-4F15-9DE0-A52379AB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2ACA-550F-4215-8219-47DEA6DC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6641-3791-40A0-87DC-5447F31C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458F-5398-4113-923E-EE9A6E02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AFBE-0C37-4ABE-AE38-03788FFF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7689-FDF4-4E21-B42A-A692BB06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B970-7393-411C-B5E0-13586BBA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0298-43E6-431F-AD83-CC98B205FE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ТОД КООРДИНАТ В ПРОСТРАН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63640" y="5877000"/>
            <a:ext cx="540072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«СШ № 18» Чепиль Н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6912000" cy="4024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1332000" y="4508640"/>
            <a:ext cx="6912000" cy="9460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7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0" y="250020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8"/>
          <p:cNvSpPr/>
          <p:nvPr/>
        </p:nvSpPr>
        <p:spPr>
          <a:xfrm>
            <a:off x="1800" y="30888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2852640"/>
            <a:ext cx="8229600" cy="200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векторы раскладываются по формуле сложения, учитывая направление век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459640" cy="13906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6360" cy="32414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калярное произведение векто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496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угол между векторами равен 90°, то векторы называются перпендикулярн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лярным произведением двух векторов называется произведение их длин  на косинус угла между н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лярное произведение ненулевых векторов равно нулю тогда, когда эти векторы перпендикуляр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лярный квадрат вектора равен квадрату его дл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лярное произведение векторо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х1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выражается формуло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ab = x1x2 + y1y2 + z1z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461440" cy="27111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8388360" y="1916280"/>
            <a:ext cx="431640" cy="1225440"/>
          </a:xfrm>
          <a:prstGeom prst="rect">
            <a:avLst/>
          </a:prstGeom>
          <a:solidFill>
            <a:srgbClr val="f7f7f7"/>
          </a:solidFill>
          <a:ln w="9360">
            <a:solidFill>
              <a:srgbClr val="f7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116000" y="765000"/>
            <a:ext cx="763272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нулевой вектор называется направляющим вектором прямой а, если он лежит либо на прямой а, либо на прямой, параллельной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2987640" y="2852640"/>
            <a:ext cx="4033800" cy="25783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03280" y="1052280"/>
            <a:ext cx="7128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76000" y="2420640"/>
            <a:ext cx="70563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вижение пространст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отображение пространства на себя, сохраняющее расстояние между точ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Organization Chart 6"/>
          <p:cNvGrpSpPr/>
          <p:nvPr/>
        </p:nvGrpSpPr>
        <p:grpSpPr>
          <a:xfrm>
            <a:off x="1042920" y="333360"/>
            <a:ext cx="7776000" cy="6118920"/>
            <a:chOff x="1042920" y="333360"/>
            <a:chExt cx="7776000" cy="6118920"/>
          </a:xfrm>
        </p:grpSpPr>
        <p:cxnSp>
          <p:nvCxnSpPr>
            <p:cNvPr id="84" name="_s1028"/>
            <p:cNvCxnSpPr>
              <a:stCxn id="85" idx="0"/>
              <a:endCxn id="86" idx="2"/>
            </p:cNvCxnSpPr>
            <p:nvPr/>
          </p:nvCxnSpPr>
          <p:spPr>
            <a:xfrm flipV="1">
              <a:off x="2836800" y="4783320"/>
              <a:ext cx="5400" cy="556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1029"/>
            <p:cNvCxnSpPr>
              <a:stCxn id="86" idx="0"/>
              <a:endCxn id="88" idx="2"/>
            </p:cNvCxnSpPr>
            <p:nvPr/>
          </p:nvCxnSpPr>
          <p:spPr>
            <a:xfrm flipV="1">
              <a:off x="2836800" y="3114360"/>
              <a:ext cx="5400" cy="556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1030"/>
            <p:cNvCxnSpPr>
              <a:stCxn id="90" idx="0"/>
              <a:endCxn id="91" idx="2"/>
            </p:cNvCxnSpPr>
            <p:nvPr/>
          </p:nvCxnSpPr>
          <p:spPr>
            <a:xfrm flipV="1" rot="16200000">
              <a:off x="5699880" y="676440"/>
              <a:ext cx="556560" cy="2093760"/>
            </a:xfrm>
            <a:prstGeom prst="bentConnector3">
              <a:avLst>
                <a:gd name="adj1" fmla="val 215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1031"/>
            <p:cNvCxnSpPr>
              <a:stCxn id="88" idx="0"/>
              <a:endCxn id="91" idx="2"/>
            </p:cNvCxnSpPr>
            <p:nvPr/>
          </p:nvCxnSpPr>
          <p:spPr>
            <a:xfrm flipH="1" flipV="1" rot="5400000">
              <a:off x="3605760" y="676080"/>
              <a:ext cx="556560" cy="2094840"/>
            </a:xfrm>
            <a:prstGeom prst="bentConnector3">
              <a:avLst>
                <a:gd name="adj1" fmla="val 215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1" name="_s1032"/>
            <p:cNvSpPr/>
            <p:nvPr/>
          </p:nvSpPr>
          <p:spPr>
            <a:xfrm>
              <a:off x="3137040" y="333360"/>
              <a:ext cx="3588840" cy="1112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Движения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033"/>
            <p:cNvSpPr/>
            <p:nvPr/>
          </p:nvSpPr>
          <p:spPr>
            <a:xfrm>
              <a:off x="1042920" y="2001960"/>
              <a:ext cx="3588840" cy="1112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Центральная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симметрия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34"/>
            <p:cNvSpPr/>
            <p:nvPr/>
          </p:nvSpPr>
          <p:spPr>
            <a:xfrm>
              <a:off x="1042920" y="3670920"/>
              <a:ext cx="3588840" cy="1112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Осевая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симметрия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35"/>
            <p:cNvSpPr/>
            <p:nvPr/>
          </p:nvSpPr>
          <p:spPr>
            <a:xfrm>
              <a:off x="1042920" y="5339880"/>
              <a:ext cx="3588840" cy="1112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Зеркальная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симметрия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36"/>
            <p:cNvSpPr/>
            <p:nvPr/>
          </p:nvSpPr>
          <p:spPr>
            <a:xfrm>
              <a:off x="5230080" y="2001960"/>
              <a:ext cx="3588840" cy="1112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Параллельный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перенос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9"/>
          <p:cNvSpPr/>
          <p:nvPr/>
        </p:nvSpPr>
        <p:spPr>
          <a:xfrm>
            <a:off x="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1604880"/>
          <a:ext cx="208080" cy="2732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73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Rectangle 30"/>
          <p:cNvSpPr/>
          <p:nvPr/>
        </p:nvSpPr>
        <p:spPr>
          <a:xfrm>
            <a:off x="1800" y="43365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2"/>
          <p:cNvSpPr/>
          <p:nvPr/>
        </p:nvSpPr>
        <p:spPr>
          <a:xfrm>
            <a:off x="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1604880"/>
          <a:ext cx="208080" cy="2732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73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Rectangle 43"/>
          <p:cNvSpPr/>
          <p:nvPr/>
        </p:nvSpPr>
        <p:spPr>
          <a:xfrm>
            <a:off x="1800" y="43365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4" descr=""/>
          <p:cNvPicPr/>
          <p:nvPr/>
        </p:nvPicPr>
        <p:blipFill>
          <a:blip r:embed="rId1"/>
          <a:stretch/>
        </p:blipFill>
        <p:spPr>
          <a:xfrm>
            <a:off x="6156360" y="3213000"/>
            <a:ext cx="1731960" cy="33116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395280" y="836640"/>
            <a:ext cx="8353440" cy="49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7920000" cy="45464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ординаты точки и координаты вект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99640" y="907920"/>
            <a:ext cx="7417080" cy="496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698508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826920" y="836640"/>
            <a:ext cx="7632720" cy="504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7201080" cy="47102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50920" y="549360"/>
            <a:ext cx="8497800" cy="525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064360" cy="4824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ямоугольная система координ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284720" y="170028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задана, если через точку пространства проведены три попарно перпендикулярные прямые, на каждой из которых выбрано направление и единица измерения отрез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1258920" y="2565360"/>
            <a:ext cx="2808360" cy="23446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ка О разделяет каждую из осей на 2 луча – полуос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ительные, если направление данного луча совпадет с направлением о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рицательные – лучи с противоположным направлен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5148360" y="3645000"/>
            <a:ext cx="2879640" cy="24033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ординаты вект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бой вектор а можно разложить по координатным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векторам, т.е. представить в вид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=xi + yj + z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чем коэффициенты разложения    определяются единственным образ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ординаты равных векторов соответственно рав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ая координата суммы двух или более векторов равна сумме соответствующих координат этих векто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ая координата разности двух век­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ров равна разности соответствующих координат этих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кто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ая координата произведения век­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ра на число равна произведению соответствующе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ординаты вектора на это число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ординаты любой точки равны соответствующим координатам ее радиус-вектор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диус-вект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вектор, конец которого совпадает с данной точкой, а начало – с началом коорди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1"/>
          <a:stretch/>
        </p:blipFill>
        <p:spPr>
          <a:xfrm>
            <a:off x="2916360" y="3933720"/>
            <a:ext cx="3095640" cy="25131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ейшие задачи в координа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ая координата середины отрезка равна полусумме соответствующих координат его конц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ина вектора а {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} вычисляется по формул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тояние между двумя точками М1 (х1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и М2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вычисляется по форму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203640" y="3573360"/>
            <a:ext cx="2735280" cy="719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2556000" y="6021360"/>
            <a:ext cx="4392360" cy="5698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8605800" cy="1374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13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Коллинеарны ли векторы: а  { 3; 6; 8 } и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{ 6; 12; 16 }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3:55:08Z</dcterms:created>
  <dc:creator>Home</dc:creator>
  <dc:description/>
  <dc:language>en-US</dc:language>
  <cp:lastModifiedBy>Учитель</cp:lastModifiedBy>
  <dcterms:modified xsi:type="dcterms:W3CDTF">2019-05-07T03:00:30Z</dcterms:modified>
  <cp:revision>12</cp:revision>
  <dc:subject/>
  <dc:title>Слайд 1</dc:title>
</cp:coreProperties>
</file>