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77B-7B9B-4993-B599-272FA2E1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011-9383-4AFE-99B0-B2CC5D8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C90-AA28-4408-9DC1-7BAEABB4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075-32C2-46E2-98B5-E0A4E475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6AF-4F23-4A56-B3C2-350D8147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DEE-7806-48FF-9733-B89D70A0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5E0-24A2-4063-8700-4C65C514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A07-CFFD-4947-A0EB-23A0DFD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81D-7614-4EE8-B01B-9DEA603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4E5-C4B5-4859-B7D5-0439F6F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232-A3E8-4740-B137-15BD307F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DB7-9F80-4283-8A99-73D5C627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91DE-C7D4-4874-8A88-30FA9D26D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 КООРДИНАТ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877000"/>
            <a:ext cx="540072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Ш № 18» Чепи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912000" cy="402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6912000" cy="946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5002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8"/>
          <p:cNvSpPr/>
          <p:nvPr/>
        </p:nvSpPr>
        <p:spPr>
          <a:xfrm>
            <a:off x="1800" y="3088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векторы раскладываются по формуле сложения, учитывая направление ве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45964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6360" cy="324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49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угол между векторами равен 90°, то векторы называются перпендикуляр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ым произведением двух векторов называется произведение их длин  на косинус угла между н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ненулевых векторов равно нулю тогда, когда эти векторы перпендикуляр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ый квадрат вектора равен квадрату его д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ое произведение вектор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х1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выражается формул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ab = x1x2 + y1y2 + z1z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61440" cy="2711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8388360" y="1916280"/>
            <a:ext cx="431640" cy="12254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6327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улевой вектор называется направляющим вектором прямой а, если он лежит либо на прямой а, либо на прямой, параллельной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4033800" cy="2578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7128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7600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вижение простран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тображение пространства на себя, сохраняющее расстояние между то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6"/>
          <p:cNvGrpSpPr/>
          <p:nvPr/>
        </p:nvGrpSpPr>
        <p:grpSpPr>
          <a:xfrm>
            <a:off x="1042920" y="333360"/>
            <a:ext cx="7776000" cy="6118920"/>
            <a:chOff x="1042920" y="333360"/>
            <a:chExt cx="7776000" cy="6118920"/>
          </a:xfrm>
        </p:grpSpPr>
        <p:cxnSp>
          <p:nvCxnSpPr>
            <p:cNvPr id="84" name="_s1028"/>
            <p:cNvCxnSpPr>
              <a:stCxn id="85" idx="0"/>
              <a:endCxn id="86" idx="2"/>
            </p:cNvCxnSpPr>
            <p:nvPr/>
          </p:nvCxnSpPr>
          <p:spPr>
            <a:xfrm flipV="1">
              <a:off x="2836800" y="4783320"/>
              <a:ext cx="5400" cy="5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6" idx="0"/>
              <a:endCxn id="88" idx="2"/>
            </p:cNvCxnSpPr>
            <p:nvPr/>
          </p:nvCxnSpPr>
          <p:spPr>
            <a:xfrm flipV="1">
              <a:off x="2836800" y="3114360"/>
              <a:ext cx="5400" cy="55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91" idx="2"/>
            </p:cNvCxnSpPr>
            <p:nvPr/>
          </p:nvCxnSpPr>
          <p:spPr>
            <a:xfrm flipV="1" rot="16200000">
              <a:off x="5699880" y="676440"/>
              <a:ext cx="556560" cy="2093760"/>
            </a:xfrm>
            <a:prstGeom prst="bentConnector3">
              <a:avLst>
                <a:gd name="adj1" fmla="val 215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1031"/>
            <p:cNvCxnSpPr>
              <a:stCxn id="88" idx="0"/>
              <a:endCxn id="91" idx="2"/>
            </p:cNvCxnSpPr>
            <p:nvPr/>
          </p:nvCxnSpPr>
          <p:spPr>
            <a:xfrm flipH="1" flipV="1" rot="5400000">
              <a:off x="3605760" y="676080"/>
              <a:ext cx="556560" cy="2094840"/>
            </a:xfrm>
            <a:prstGeom prst="bentConnector3">
              <a:avLst>
                <a:gd name="adj1" fmla="val 215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032"/>
            <p:cNvSpPr/>
            <p:nvPr/>
          </p:nvSpPr>
          <p:spPr>
            <a:xfrm>
              <a:off x="3137040" y="3333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Движен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3"/>
            <p:cNvSpPr/>
            <p:nvPr/>
          </p:nvSpPr>
          <p:spPr>
            <a:xfrm>
              <a:off x="1042920" y="20019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Центральная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4"/>
            <p:cNvSpPr/>
            <p:nvPr/>
          </p:nvSpPr>
          <p:spPr>
            <a:xfrm>
              <a:off x="1042920" y="367092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Осев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5"/>
            <p:cNvSpPr/>
            <p:nvPr/>
          </p:nvSpPr>
          <p:spPr>
            <a:xfrm>
              <a:off x="1042920" y="533988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Зеркальна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6"/>
            <p:cNvSpPr/>
            <p:nvPr/>
          </p:nvSpPr>
          <p:spPr>
            <a:xfrm>
              <a:off x="5230080" y="2001960"/>
              <a:ext cx="3588840" cy="1112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Параллельный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9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04880"/>
          <a:ext cx="208080" cy="2732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30"/>
          <p:cNvSpPr/>
          <p:nvPr/>
        </p:nvSpPr>
        <p:spPr>
          <a:xfrm>
            <a:off x="1800" y="4336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604880"/>
          <a:ext cx="208080" cy="2732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43"/>
          <p:cNvSpPr/>
          <p:nvPr/>
        </p:nvSpPr>
        <p:spPr>
          <a:xfrm>
            <a:off x="1800" y="4336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4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1731960" cy="331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95280" y="836640"/>
            <a:ext cx="8353440" cy="49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20000" cy="4546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ы точки и координаты в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907920"/>
            <a:ext cx="7417080" cy="49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26920" y="836640"/>
            <a:ext cx="7632720" cy="504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20108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549360"/>
            <a:ext cx="8497800" cy="52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6436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оугольная система коорд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дана, если через точку пространства проведены три попарно перпендикулярные прямые, на каждой из которых выбрано направление и единица измерения отрез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280836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О разделяет каждую из осей на 2 луча – полуо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льные, если направление данного луча совпадет с направлением 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ицательные – лучи с противоположным направл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5148360" y="3645000"/>
            <a:ext cx="287964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ординаты век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ой вектор а можно разложить по координатным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екторам, т.е. представить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xi + yj + z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ем коэффициенты разложения    определяются единственным образ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ы равных векторов соответственно рав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суммы двух или более векторов равна сумме соответствующих координат этих ве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разности двух век­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ов равна разности соответствующих координат этих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координата произведения век­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ра на число равна произведению соответствующе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ты вектора на это число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ы любой точки равны соответствующим координатам ее радиус-векто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диус-век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ектор, конец которого совпадает с данной точкой, а начало – с началом коорд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2916360" y="3933720"/>
            <a:ext cx="3095640" cy="2513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ейшие задачи в координа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координата середины отрезка равна полусумме соответствующих координат его конц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а вектора а {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} вычисляется по форму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ояние между двумя точками М1 (х1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и М2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вычисляется по форм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203640" y="3573360"/>
            <a:ext cx="2735280" cy="7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2556000" y="6021360"/>
            <a:ext cx="439236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605800" cy="1374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1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Коллинеарны ли векторы: а  { 3; 6; 8 } 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{ 6; 12; 16 }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3:55:08Z</dcterms:created>
  <dc:creator>Home</dc:creator>
  <dc:description/>
  <dc:language>en-US</dc:language>
  <cp:lastModifiedBy>Учитель</cp:lastModifiedBy>
  <dcterms:modified xsi:type="dcterms:W3CDTF">2019-05-07T03:00:30Z</dcterms:modified>
  <cp:revision>12</cp:revision>
  <dc:subject/>
  <dc:title>Слайд 1</dc:title>
</cp:coreProperties>
</file>