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FE5-E8A5-42EE-B9B1-2EF1AAD4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9A2-E3AB-47EB-93CD-640D059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520-802A-49CF-900D-D7C26BFC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E6F-0722-4F45-846C-A8B96B9F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2161-EE21-4647-8A67-5EE13750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B76-1032-4283-AFE8-5831F431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99F-A7B1-4E93-BB5E-FE7E17D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FA81-C232-4807-88BB-3789ECBF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D6E-F962-4BEC-B38C-18CDE7D1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FFD-D9B1-4E62-8074-29E96C2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07B-DE11-4313-94DC-925F71D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D65-759A-4190-880A-C31C453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209-20D4-4C37-96A5-EF6CA4C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AEF-97CE-417D-A3CA-DABF8A0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B15A-A850-46FF-A644-3B8AF8A6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C316-C625-4A96-8E86-28AB87AC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7BF6-F780-42D0-9932-9BD7C78F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E35-8A52-44F2-83C1-5EF2C36D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A2E-B076-4BBD-86E3-EF59DFD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940-FFE7-417F-B0A9-F877A169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B8E-80BB-4734-A6B4-6C9F3FB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6F5-5512-48AA-9F8E-4919F25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6D1-A5B2-4E63-9A86-D11B7D7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E94-E062-4F65-975C-86B65AD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BB38-9344-4D13-B5CA-D67E7F4308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2099-FA8C-4429-B05D-DB222FA5B7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5819.vkontakte.ru/u140715036/-14/x_4363c4a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stur.ru/files/old_images/pixs/1292008162-1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59.radikal.ru/i166/1105/e0/d4708e7eb58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7-10.photosight.ru/10/23478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59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АРОДНОГО ЕДИНСТВА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лассный час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ерть Бориса Годун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605 году умер русский царь Борис Году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начался трагический период её истории, получивший название «Смутное врем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006271_PH08083"/>
          <p:cNvPicPr/>
          <p:nvPr/>
        </p:nvPicPr>
        <p:blipFill>
          <a:blip r:embed="rId1"/>
          <a:stretch/>
        </p:blipFill>
        <p:spPr>
          <a:xfrm>
            <a:off x="395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inin2"/>
          <p:cNvPicPr/>
          <p:nvPr/>
        </p:nvPicPr>
        <p:blipFill>
          <a:blip r:embed="rId1"/>
          <a:stretch/>
        </p:blipFill>
        <p:spPr>
          <a:xfrm>
            <a:off x="324000" y="274680"/>
            <a:ext cx="84247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утное время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 называли тревожное время неурожаев, голода, беспорядков и восста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инин на площади Нижнего Новгорода, призывающий народ к пожертвования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0_443c_e217a00c_XL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н Кузь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харь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розванью Сухор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освободителей   Отечества» от поляков в 161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inin"/>
          <p:cNvPicPr/>
          <p:nvPr/>
        </p:nvPicPr>
        <p:blipFill>
          <a:blip r:embed="rId1"/>
          <a:stretch/>
        </p:blipFill>
        <p:spPr>
          <a:xfrm>
            <a:off x="5062680" y="1600200"/>
            <a:ext cx="3830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ь, воев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Второго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олч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613 года боярин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старинного обедневшего 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ей Стародубск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726cd798c2e2"/>
          <p:cNvPicPr/>
          <p:nvPr/>
        </p:nvPicPr>
        <p:blipFill>
          <a:blip r:embed="rId1"/>
          <a:stretch/>
        </p:blipFill>
        <p:spPr>
          <a:xfrm>
            <a:off x="250920" y="1600200"/>
            <a:ext cx="37940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права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жар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организаторы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о-освободительной борьбы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1261371240_7337863_imgb"/>
          <p:cNvPicPr/>
          <p:nvPr/>
        </p:nvPicPr>
        <p:blipFill>
          <a:blip r:embed="rId1"/>
          <a:stretch/>
        </p:blipFill>
        <p:spPr>
          <a:xfrm>
            <a:off x="826920" y="274680"/>
            <a:ext cx="7490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Мои документы\Мои рисунки\единство\edinsnvo2.jpg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kazanskaya3"/>
          <p:cNvPicPr/>
          <p:nvPr/>
        </p:nvPicPr>
        <p:blipFill>
          <a:blip r:embed="rId1"/>
          <a:stretch/>
        </p:blipFill>
        <p:spPr>
          <a:xfrm>
            <a:off x="684360" y="274680"/>
            <a:ext cx="77752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бы там ни было, Минин и Пожарский всё же выгнали из Москвы поляк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0_6d4c8_af2ce2e1_XL"/>
          <p:cNvPicPr/>
          <p:nvPr/>
        </p:nvPicPr>
        <p:blipFill>
          <a:blip r:embed="rId1"/>
          <a:stretch/>
        </p:blipFill>
        <p:spPr>
          <a:xfrm>
            <a:off x="395280" y="274680"/>
            <a:ext cx="8424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x_4363c4a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око ты, Русь, по лицу земл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расе царственной развернулас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нин и Пожарский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Земли Русс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12" descr="726cd798c2e2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inin"/>
          <p:cNvPicPr/>
          <p:nvPr/>
        </p:nvPicPr>
        <p:blipFill>
          <a:blip r:embed="rId2"/>
          <a:stretch/>
        </p:blipFill>
        <p:spPr>
          <a:xfrm>
            <a:off x="5062680" y="16002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амятник Кузьме Минину и Дмитрию Пожарскому в Москв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8" descr="770528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ажданину Минину и князю Пожарско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ная Россия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400px-Monument_to_Minin_and_Pozharsky_and_St_Basils_Cthedral2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занский собор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img-wPC9X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же такое 4 Ноября для русского народа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ДЕНЬ НАРОДНОГО ЕДИНСТВА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ь глубокого уважения к тем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менательным страница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истории, когд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триотизм и гражданственность помог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ему народу объединиться и защи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у от захватчиков. Преодоле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ена безвластия и укрепи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ое госуд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динства всех российских народ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спасения Росси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от самой большой опасности, которая когда-либо ей грозила;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возрожденный праздник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со своей историей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еальных дел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а не сомнительных маршей. 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памяти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Казанской иконы Божией Матер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помните это чувство единения и сохраните его на всю жизнь. Будьте достойны своих славных предк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Ч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вмес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др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с сердцем горящим в груд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равнодушие не н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бу, обиду прочь г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2563"/>
          <p:cNvPicPr/>
          <p:nvPr/>
        </p:nvPicPr>
        <p:blipFill>
          <a:blip r:embed="rId1"/>
          <a:stretch/>
        </p:blipFill>
        <p:spPr>
          <a:xfrm>
            <a:off x="539640" y="274680"/>
            <a:ext cx="8136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4noaybr"/>
          <p:cNvPicPr/>
          <p:nvPr/>
        </p:nvPicPr>
        <p:blipFill>
          <a:blip r:embed="rId1"/>
          <a:stretch/>
        </p:blipFill>
        <p:spPr>
          <a:xfrm>
            <a:off x="684360" y="274680"/>
            <a:ext cx="770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ne"/>
          <p:cNvPicPr/>
          <p:nvPr/>
        </p:nvPicPr>
        <p:blipFill>
          <a:blip r:embed="rId1"/>
          <a:stretch/>
        </p:blipFill>
        <p:spPr>
          <a:xfrm>
            <a:off x="324000" y="274680"/>
            <a:ext cx="8351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словленная молит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1292008162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4680"/>
            <a:ext cx="8351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 и есть за что, Русь могуч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d4708e7eb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4978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юбить теб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2347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642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ЕНЬ НАРОДНОГО ЕДИНСТ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не спорят, 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живу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а объединяет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На подвиг и на труд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Едино государство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един народ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великой силой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 движется впере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рага он побе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бъединившись в 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Русь освобо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жертвует соб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о славу тех героев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Живем одной судь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егодня День единства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Мы празднуем с тобой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den_narod_edinstva"/>
          <p:cNvPicPr/>
          <p:nvPr/>
        </p:nvPicPr>
        <p:blipFill>
          <a:blip r:embed="rId1"/>
          <a:stretch/>
        </p:blipFill>
        <p:spPr>
          <a:xfrm>
            <a:off x="324000" y="26028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448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2005 год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н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ого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– день Казанской иконы Божией Матери с 161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zanskaya3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 теперь перенесемс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 400 лет назад в начало XVII века, когда в России началась Смута велика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0:37:01Z</dcterms:created>
  <dc:creator>Admin</dc:creator>
  <dc:description/>
  <dc:language>en-US</dc:language>
  <cp:lastModifiedBy>Лачинова</cp:lastModifiedBy>
  <dcterms:modified xsi:type="dcterms:W3CDTF">2017-11-25T07:50:13Z</dcterms:modified>
  <cp:revision>10</cp:revision>
  <dc:subject/>
  <dc:title>ДЕНЬ  НАРОДНОГО ЕДИНСТВА  классный час        Разработала  учитель начальных классов:  Медведева Т.Н.  МБОУ «Афанасовская СОШ» </dc:title>
</cp:coreProperties>
</file>