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E52-A532-46E0-A056-6EAD3D2F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87F-DB9E-4A23-987C-0500C35C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091-27E2-4D49-8DBA-700B9624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446-7BB0-4E90-98DE-D883D609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D57B-16E3-4E63-B227-3E7F7C0E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8733-7486-483A-BE4C-86A691C9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A459-AA0E-443D-A03D-4C986BF9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E6E3-B615-4652-A4CB-8EF73357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637-F014-4EF6-AD31-C7722A50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A844-8432-4018-9DE5-F48F0E8D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09D4-6ED1-4502-99B5-DCDD897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AA9-DC42-4DF8-AD3A-033A2909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0D41-4A64-441C-8D2D-CFC8938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FAD5-005B-4C93-A092-D8A0681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05E-CBF5-42F2-B845-CA216966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BC14-BDA0-4952-9EDD-1E8BF45A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CF66-8570-49D9-B084-F2BAE0CD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11A-AD6E-487B-BAF7-D9C47700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DC6-14ED-4E64-BB43-69847484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429-51B6-4934-A2EB-533FAD7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F81-1683-428F-9C1D-EB564B1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BDB-1556-446A-B5DA-F9E611D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8E1-1659-455F-A1E3-87197F6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BFC-82C4-48C5-9E5D-71B8C70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B1B9-6FCB-4F88-88AB-0606ED3309E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B399-BC44-4BC6-A72A-5EACFEC1E8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5819.vkontakte.ru/u140715036/-14/x_4363c4a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stur.ru/files/old_images/pixs/1292008162-1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59.radikal.ru/i166/1105/e0/d4708e7eb58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7-10.photosight.ru/10/234780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759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ДЕНЬ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АРОДНОГО ЕДИНСТВА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лассный час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ерть Бориса Годун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605 году умер русский царь Борис Году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оссии начался трагический период её истории, получивший название «Смутное врем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1006271_PH08083"/>
          <p:cNvPicPr/>
          <p:nvPr/>
        </p:nvPicPr>
        <p:blipFill>
          <a:blip r:embed="rId1"/>
          <a:stretch/>
        </p:blipFill>
        <p:spPr>
          <a:xfrm>
            <a:off x="395280" y="148428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inin2"/>
          <p:cNvPicPr/>
          <p:nvPr/>
        </p:nvPicPr>
        <p:blipFill>
          <a:blip r:embed="rId1"/>
          <a:stretch/>
        </p:blipFill>
        <p:spPr>
          <a:xfrm>
            <a:off x="324000" y="274680"/>
            <a:ext cx="84247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утное время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 называли тревожное время неурожаев, голода, беспорядков и восста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Минин на площади Нижнего Новгорода, призывающий народ к пожертвования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0_443c_e217a00c_XL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н Кузь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харьевич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розванью Сухору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освободителей   Отечества» от поляков в 161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inin"/>
          <p:cNvPicPr/>
          <p:nvPr/>
        </p:nvPicPr>
        <p:blipFill>
          <a:blip r:embed="rId1"/>
          <a:stretch/>
        </p:blipFill>
        <p:spPr>
          <a:xfrm>
            <a:off x="5062680" y="1600200"/>
            <a:ext cx="3830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митрий Пожарск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ь, воево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а Второго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олч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613 года боярин.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старинного обедневшего 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ей Стародубск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726cd798c2e2"/>
          <p:cNvPicPr/>
          <p:nvPr/>
        </p:nvPicPr>
        <p:blipFill>
          <a:blip r:embed="rId1"/>
          <a:stretch/>
        </p:blipFill>
        <p:spPr>
          <a:xfrm>
            <a:off x="250920" y="1600200"/>
            <a:ext cx="37940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н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справа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жар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организаторы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ционально-освободительной борьбы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1261371240_7337863_imgb"/>
          <p:cNvPicPr/>
          <p:nvPr/>
        </p:nvPicPr>
        <p:blipFill>
          <a:blip r:embed="rId1"/>
          <a:stretch/>
        </p:blipFill>
        <p:spPr>
          <a:xfrm>
            <a:off x="826920" y="274680"/>
            <a:ext cx="7490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User\Мои документы\Мои рисунки\единство\edinsnvo2.jpg"/>
          <p:cNvPicPr/>
          <p:nvPr/>
        </p:nvPicPr>
        <p:blipFill>
          <a:blip r:embed="rId1"/>
          <a:stretch/>
        </p:blipFill>
        <p:spPr>
          <a:xfrm>
            <a:off x="1403280" y="620640"/>
            <a:ext cx="64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kazanskaya3"/>
          <p:cNvPicPr/>
          <p:nvPr/>
        </p:nvPicPr>
        <p:blipFill>
          <a:blip r:embed="rId1"/>
          <a:stretch/>
        </p:blipFill>
        <p:spPr>
          <a:xfrm>
            <a:off x="684360" y="274680"/>
            <a:ext cx="77752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876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бы там ни было, Минин и Пожарский всё же выгнали из Москвы поляк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0_6d4c8_af2ce2e1_XL"/>
          <p:cNvPicPr/>
          <p:nvPr/>
        </p:nvPicPr>
        <p:blipFill>
          <a:blip r:embed="rId1"/>
          <a:stretch/>
        </p:blipFill>
        <p:spPr>
          <a:xfrm>
            <a:off x="395280" y="274680"/>
            <a:ext cx="8424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x_4363c4a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око ты, Русь, по лицу земл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расе царственной развернулас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инин и Пожарский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Земли Русско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12" descr="726cd798c2e2"/>
          <p:cNvPicPr/>
          <p:nvPr/>
        </p:nvPicPr>
        <p:blipFill>
          <a:blip r:embed="rId1"/>
          <a:stretch/>
        </p:blipFill>
        <p:spPr>
          <a:xfrm>
            <a:off x="906480" y="1600200"/>
            <a:ext cx="31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inin"/>
          <p:cNvPicPr/>
          <p:nvPr/>
        </p:nvPicPr>
        <p:blipFill>
          <a:blip r:embed="rId2"/>
          <a:stretch/>
        </p:blipFill>
        <p:spPr>
          <a:xfrm>
            <a:off x="5062680" y="16002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амятник Кузьме Минину и Дмитрию Пожарскому в Москв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8" descr="770528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ражданину Минину и князю Пожарско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дарная Россия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400px-Monument_to_Minin_and_Pozharsky_and_St_Basils_Cthedral2"/>
          <p:cNvPicPr/>
          <p:nvPr/>
        </p:nvPicPr>
        <p:blipFill>
          <a:blip r:embed="rId1"/>
          <a:stretch/>
        </p:blipFill>
        <p:spPr>
          <a:xfrm>
            <a:off x="1258920" y="189000"/>
            <a:ext cx="63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занский собор в Моск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4" descr="img-wPC9X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же такое 4 Ноября для русского народа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ДЕНЬ НАРОДНОГО ЕДИНСТВА -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ь глубокого уважения к тем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менательным страница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ественной истории, когд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триотизм и гражданственность помог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ему народу объединиться и защи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у от захватчиков. Преодоле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ена безвластия и укрепи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ое государ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единства всех российских народов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спасения Росси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от самой большой опасности, которая когда-либо ей грозила;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возрожденный праздник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со своей историей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реальных дел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а не сомнительных маршей. 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памяти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Казанской иконы Божией Матер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помните это чувство единения и сохраните его на всю жизнь. Будьте достойны своих славных предков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Ч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вмест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др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с сердцем горящим в груд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м равнодушие не н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бу, обиду прочь го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2563"/>
          <p:cNvPicPr/>
          <p:nvPr/>
        </p:nvPicPr>
        <p:blipFill>
          <a:blip r:embed="rId1"/>
          <a:stretch/>
        </p:blipFill>
        <p:spPr>
          <a:xfrm>
            <a:off x="539640" y="274680"/>
            <a:ext cx="8136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4noaybr"/>
          <p:cNvPicPr/>
          <p:nvPr/>
        </p:nvPicPr>
        <p:blipFill>
          <a:blip r:embed="rId1"/>
          <a:stretch/>
        </p:blipFill>
        <p:spPr>
          <a:xfrm>
            <a:off x="684360" y="274680"/>
            <a:ext cx="770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ne"/>
          <p:cNvPicPr/>
          <p:nvPr/>
        </p:nvPicPr>
        <p:blipFill>
          <a:blip r:embed="rId1"/>
          <a:stretch/>
        </p:blipFill>
        <p:spPr>
          <a:xfrm>
            <a:off x="324000" y="274680"/>
            <a:ext cx="835164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агословленная молит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1292008162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74680"/>
            <a:ext cx="83516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80536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 и есть за что, Русь могуча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d4708e7eb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74680"/>
            <a:ext cx="84978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5949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юбить тебя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2347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74680"/>
            <a:ext cx="8642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ДЕНЬ НАРОДНОГО ЕДИНСТВ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не спорят, 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живу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а объединяет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На подвиг и на труд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Едино государство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един народ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великой силой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 движется впере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рага он побе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бъединившись в 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Русь освобо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жертвует собо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о славу тех героев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Живем одной судь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егодня День единства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Мы празднуем с тобой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den_narod_edinstva"/>
          <p:cNvPicPr/>
          <p:nvPr/>
        </p:nvPicPr>
        <p:blipFill>
          <a:blip r:embed="rId1"/>
          <a:stretch/>
        </p:blipFill>
        <p:spPr>
          <a:xfrm>
            <a:off x="324000" y="260280"/>
            <a:ext cx="4608360" cy="640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2448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2005 года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ен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ого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– день Казанской иконы Божией Матери с 161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zanskaya3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 теперь перенесемс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 400 лет назад в начало XVII века, когда в России началась Смута велика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0:37:01Z</dcterms:created>
  <dc:creator>Admin</dc:creator>
  <dc:description/>
  <dc:language>en-US</dc:language>
  <cp:lastModifiedBy>Лачинова</cp:lastModifiedBy>
  <dcterms:modified xsi:type="dcterms:W3CDTF">2017-11-25T07:50:13Z</dcterms:modified>
  <cp:revision>10</cp:revision>
  <dc:subject/>
  <dc:title>ДЕНЬ  НАРОДНОГО ЕДИНСТВА  классный час        Разработала  учитель начальных классов:  Медведева Т.Н.  МБОУ «Афанасовская СОШ» </dc:title>
</cp:coreProperties>
</file>