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C23-D4E1-4562-9C2F-8B51A59B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0B6-97E5-4AFD-B004-BDE8F914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3E7-BCFD-449C-823F-3BAC8F80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D53-9499-4D25-B809-188B913F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13FF-0EE3-4803-8744-23900163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99B6-0643-407B-A8C3-CB6C9A7A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9A65-9BC9-43C3-B34F-18210EF0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709A-AFFD-4A2A-9E02-B78E3210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2D1B-7D62-44C5-B235-D459ED78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4B1A-9608-4C72-A4AA-76403DDD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81EC-0BFD-4480-AABB-28FF910A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874-492A-4F0E-9F53-E8EEFEDE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8BEC-4FBF-467D-8C14-A40E81A3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911C-0806-4DD8-8435-046E94CC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6199-A7FC-4FE2-AD80-70C1755D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035A-ACFB-49D7-A793-E56D7A0D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4328-0CDF-4AB3-98A3-1550BA80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0D1-AE4B-4EF2-8FF0-2AA0A1C4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402-DF0C-40F2-A780-CC79290E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618-D7A7-4A31-8DD9-2194B46D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AF2-8789-4961-8330-538FD582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55E-7AB6-406D-9001-CD1BB8CC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BE2-3726-486E-B274-43CB2D83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28A-69AD-4679-832F-E3FDC0ED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2D45-2406-4B4C-9CD0-8425D8D77F1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EB26-EF84-4C8F-A77E-A34F54AE946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s5819.vkontakte.ru/u140715036/-14/x_4363c4a7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stur.ru/files/old_images/pixs/1292008162-16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59.radikal.ru/i166/1105/e0/d4708e7eb58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2007-10.photosight.ru/10/234780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759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ДЕНЬ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НАРОДНОГО ЕДИНСТВА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лассный час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мерть Бориса Годун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605 году умер русский царь Борис Году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оссии начался трагический период её истории, получивший название «Смутное врем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1006271_PH08083"/>
          <p:cNvPicPr/>
          <p:nvPr/>
        </p:nvPicPr>
        <p:blipFill>
          <a:blip r:embed="rId1"/>
          <a:stretch/>
        </p:blipFill>
        <p:spPr>
          <a:xfrm>
            <a:off x="395280" y="1484280"/>
            <a:ext cx="403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minin2"/>
          <p:cNvPicPr/>
          <p:nvPr/>
        </p:nvPicPr>
        <p:blipFill>
          <a:blip r:embed="rId1"/>
          <a:stretch/>
        </p:blipFill>
        <p:spPr>
          <a:xfrm>
            <a:off x="324000" y="274680"/>
            <a:ext cx="84247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мутное время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к называли тревожное время неурожаев, голода, беспорядков и восстан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Минин на площади Нижнего Новгорода, призывающий народ к пожертвованиям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4" descr="0_443c_e217a00c_XL"/>
          <p:cNvPicPr/>
          <p:nvPr/>
        </p:nvPicPr>
        <p:blipFill>
          <a:blip r:embed="rId1"/>
          <a:stretch/>
        </p:blipFill>
        <p:spPr>
          <a:xfrm>
            <a:off x="324000" y="1197000"/>
            <a:ext cx="8569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узьма Мини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ин Кузь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харьевич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прозванью Сухору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освободителей   Отечества» от поляков в 161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Minin"/>
          <p:cNvPicPr/>
          <p:nvPr/>
        </p:nvPicPr>
        <p:blipFill>
          <a:blip r:embed="rId1"/>
          <a:stretch/>
        </p:blipFill>
        <p:spPr>
          <a:xfrm>
            <a:off x="5062680" y="1600200"/>
            <a:ext cx="38304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митрий Пожарск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язь, воевод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а Второго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олч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1613 года боярин.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сходи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старинного обедневшего р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язей Стародубск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726cd798c2e2"/>
          <p:cNvPicPr/>
          <p:nvPr/>
        </p:nvPicPr>
        <p:blipFill>
          <a:blip r:embed="rId1"/>
          <a:stretch/>
        </p:blipFill>
        <p:spPr>
          <a:xfrm>
            <a:off x="250920" y="1600200"/>
            <a:ext cx="37940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ин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справа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жарски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организаторы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ционально-освободительной борьбы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1261371240_7337863_imgb"/>
          <p:cNvPicPr/>
          <p:nvPr/>
        </p:nvPicPr>
        <p:blipFill>
          <a:blip r:embed="rId1"/>
          <a:stretch/>
        </p:blipFill>
        <p:spPr>
          <a:xfrm>
            <a:off x="826920" y="274680"/>
            <a:ext cx="74901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User\Мои документы\Мои рисунки\единство\edinsnvo2.jpg"/>
          <p:cNvPicPr/>
          <p:nvPr/>
        </p:nvPicPr>
        <p:blipFill>
          <a:blip r:embed="rId1"/>
          <a:stretch/>
        </p:blipFill>
        <p:spPr>
          <a:xfrm>
            <a:off x="1403280" y="620640"/>
            <a:ext cx="640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kazanskaya3"/>
          <p:cNvPicPr/>
          <p:nvPr/>
        </p:nvPicPr>
        <p:blipFill>
          <a:blip r:embed="rId1"/>
          <a:stretch/>
        </p:blipFill>
        <p:spPr>
          <a:xfrm>
            <a:off x="684360" y="274680"/>
            <a:ext cx="777528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5876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бы там ни было, Минин и Пожарский всё же выгнали из Москвы поляк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0_6d4c8_af2ce2e1_XL"/>
          <p:cNvPicPr/>
          <p:nvPr/>
        </p:nvPicPr>
        <p:blipFill>
          <a:blip r:embed="rId1"/>
          <a:stretch/>
        </p:blipFill>
        <p:spPr>
          <a:xfrm>
            <a:off x="395280" y="274680"/>
            <a:ext cx="842472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x_4363c4a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8569080" cy="5111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03280" y="5516640"/>
            <a:ext cx="64008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ироко ты, Русь, по лицу земл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расе царственной развернулася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инин и Пожарский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ои Земли Русско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12" descr="726cd798c2e2"/>
          <p:cNvPicPr/>
          <p:nvPr/>
        </p:nvPicPr>
        <p:blipFill>
          <a:blip r:embed="rId1"/>
          <a:stretch/>
        </p:blipFill>
        <p:spPr>
          <a:xfrm>
            <a:off x="906480" y="1600200"/>
            <a:ext cx="31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inin"/>
          <p:cNvPicPr/>
          <p:nvPr/>
        </p:nvPicPr>
        <p:blipFill>
          <a:blip r:embed="rId2"/>
          <a:stretch/>
        </p:blipFill>
        <p:spPr>
          <a:xfrm>
            <a:off x="5062680" y="160020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амятник Кузьме Минину и Дмитрию Пожарскому в Москв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8" descr="770528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Гражданину Минину и князю Пожарском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дарная Россия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400px-Monument_to_Minin_and_Pozharsky_and_St_Basils_Cthedral2"/>
          <p:cNvPicPr/>
          <p:nvPr/>
        </p:nvPicPr>
        <p:blipFill>
          <a:blip r:embed="rId1"/>
          <a:stretch/>
        </p:blipFill>
        <p:spPr>
          <a:xfrm>
            <a:off x="1258920" y="189000"/>
            <a:ext cx="633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занский собор в Москв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4" descr="img-wPC9Xp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то же такое 4 Ноября для русского народа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здник ДЕНЬ НАРОДНОГО ЕДИНСТВА -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ь глубокого уважения к тем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менательным страница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чественной истории, когд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триотизм и гражданственность помог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шему народу объединиться и защити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ну от захватчиков. Преодолет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мена безвластия и укрепит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ое государств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единства всех российских народов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спасения России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от самой большой опасности, которая когда-либо ей грозила;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возрожденный праздник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со своей историей;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 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реальных дел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, а не сомнительных маршей. 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 памяти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Казанской иконы Божией Матери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Запомните это чувство единения и сохраните его на всю жизнь. Будьте достойны своих славных предков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ЕЧ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е - вмест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е - друж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е - с сердцем горящим в груд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м равнодушие не нуж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лобу, обиду прочь гон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2563"/>
          <p:cNvPicPr/>
          <p:nvPr/>
        </p:nvPicPr>
        <p:blipFill>
          <a:blip r:embed="rId1"/>
          <a:stretch/>
        </p:blipFill>
        <p:spPr>
          <a:xfrm>
            <a:off x="539640" y="274680"/>
            <a:ext cx="81360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4noaybr"/>
          <p:cNvPicPr/>
          <p:nvPr/>
        </p:nvPicPr>
        <p:blipFill>
          <a:blip r:embed="rId1"/>
          <a:stretch/>
        </p:blipFill>
        <p:spPr>
          <a:xfrm>
            <a:off x="684360" y="274680"/>
            <a:ext cx="7704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dne"/>
          <p:cNvPicPr/>
          <p:nvPr/>
        </p:nvPicPr>
        <p:blipFill>
          <a:blip r:embed="rId1"/>
          <a:stretch/>
        </p:blipFill>
        <p:spPr>
          <a:xfrm>
            <a:off x="324000" y="274680"/>
            <a:ext cx="835164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805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лагословленная молит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1292008162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74680"/>
            <a:ext cx="835164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580536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ж и есть за что, Русь могуча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d4708e7eb5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74680"/>
            <a:ext cx="84978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5949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юбить тебя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2347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74680"/>
            <a:ext cx="86421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ДЕНЬ НАРОДНОГО ЕДИНСТВ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С историей не спорят, 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С историей живут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Она объединяет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На подвиг и на труд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Едино государство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Когда един народ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Когда великой силой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Он движется впере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Врага он побеждает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Объединившись в бой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И Русь освобождает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И жертвует собо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Во славу тех героев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Живем одной судьбой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Сегодня День единства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Мы празднуем с тобой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den_narod_edinstva"/>
          <p:cNvPicPr/>
          <p:nvPr/>
        </p:nvPicPr>
        <p:blipFill>
          <a:blip r:embed="rId1"/>
          <a:stretch/>
        </p:blipFill>
        <p:spPr>
          <a:xfrm>
            <a:off x="324000" y="260280"/>
            <a:ext cx="4608360" cy="6408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24480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2005 года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ударственный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здни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Ден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одного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динств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 – день Казанской иконы Божией Матери с 1612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kazanskaya3"/>
          <p:cNvPicPr/>
          <p:nvPr/>
        </p:nvPicPr>
        <p:blipFill>
          <a:blip r:embed="rId1"/>
          <a:stretch/>
        </p:blipFill>
        <p:spPr>
          <a:xfrm>
            <a:off x="1403280" y="189000"/>
            <a:ext cx="6193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 теперь перенесемс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 400 лет назад в начало XVII века, когда в России началась Смута велика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0:37:01Z</dcterms:created>
  <dc:creator>Admin</dc:creator>
  <dc:description/>
  <dc:language>en-US</dc:language>
  <cp:lastModifiedBy>Лачинова</cp:lastModifiedBy>
  <dcterms:modified xsi:type="dcterms:W3CDTF">2017-11-25T07:50:13Z</dcterms:modified>
  <cp:revision>10</cp:revision>
  <dc:subject/>
  <dc:title>ДЕНЬ  НАРОДНОГО ЕДИНСТВА  классный час        Разработала  учитель начальных классов:  Медведева Т.Н.  МБОУ «Афанасовская СОШ» </dc:title>
</cp:coreProperties>
</file>