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png" ContentType="image/png"/>
  <Override PartName="/ppt/media/image25.gif" ContentType="image/gif"/>
  <Override PartName="/ppt/media/image6.jpeg" ContentType="image/jpeg"/>
  <Override PartName="/ppt/media/image16.png" ContentType="image/png"/>
  <Override PartName="/ppt/media/image23.gif" ContentType="image/gif"/>
  <Override PartName="/ppt/media/image29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35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19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15.png" ContentType="image/png"/>
  <Override PartName="/ppt/media/image22.gif" ContentType="image/gif"/>
  <Override PartName="/ppt/media/image1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DBF-A076-4C6F-B4A1-E84B6BBA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7E6-EE91-418A-A1E4-FA96509A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181-320F-4B9F-98E4-B18D419F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87A-A895-432C-BD8F-92CE504B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5F08-A47F-4BF8-80C0-3FB5C620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0D2D-362F-4325-8FD1-A776279D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3546-E0E8-4B2F-8F69-0F83BE67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B103-2D72-4CD6-8362-DF9CC6B2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7C3C-7B9A-4C2C-8EBC-557CE17B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A357-9219-489E-BF9D-D3174119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1C94-C85F-402E-9C5E-16B343D4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1CA-0BF3-4662-B9D9-E9AEE41E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96A8-942A-49E9-9BD2-973A07FF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23BF-3ED3-4BC4-8814-3997AE7A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18F2-6957-4274-820A-D1A7D034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7188-8CCD-4916-9564-863B0678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0E34-DFC1-41C5-BCC1-7C04F9EF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84CBB-9DE6-4A46-9AB0-1345C79A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7115B-CCC8-470B-BDCC-A91770F9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5DFF-F6CB-414C-BC73-890ACB29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38ABA-E19F-4D10-8073-0F10B44F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E77D4-1CCB-478B-AFC5-3E4F9E6C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DAB-3DE8-45C6-878F-95791329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8D363-BCDD-4489-91A9-837A427F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A9495-20D8-4A13-8D11-63AA11EF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1FA20-0E02-4F3B-85AF-70DE9D60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ACFEF-F461-44D3-B1E2-4A0E9BAC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E7EA-366F-40FF-9B6E-B4E1C642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3190A-E180-4BD0-952F-6D59BE28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D38FC-0402-4324-A61E-4E21B3DE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B7B37-DAAD-4654-A119-1FDB1653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3489E-A2D7-4F43-80BE-CCABFABC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D0341-1605-4A45-BF6A-86BCD1C8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9BE-DC98-47A7-82E6-F071EEFC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7C5E7-0AAE-4CB4-8631-B73ADCAE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C0F76-2AFB-4048-B7BC-B586E9EE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5DEA8-8F75-47DB-9FD3-5BFE9E71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BB513-E66E-404C-8555-7AE4CC93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266DE-8742-4ACF-8222-9EA352BE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FBD16-6B03-4E93-9965-2A9212D9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B6437-88B4-492B-B1AC-AC782D7D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97AA9-4E00-4EB9-97AD-9821188D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ACEAB-28ED-468C-B59F-799D589C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98F2B-61E9-4E80-84F4-89DBBC30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C5D-1297-4DE6-83E3-16D91689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C8E29-F9B1-4BF0-BF0D-85D13438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8B6DD-F6A9-4B8F-98DC-3FB14148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E67BC-3664-4CC2-AF5C-1AF4E0FC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FF111-F4A8-4184-A633-994A3F42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BA46F-78D6-4889-9237-50C956DF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F115E-E094-4839-9238-0B347EAE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27D08-17D9-4197-94F9-98D3B769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618A2-FADB-4157-A20C-31581F32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18FB4-3564-4097-8F70-CCADFE49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2573D-46CE-4465-B238-9D00C059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3EC-EAF8-45D2-B1A6-3EC7C9F6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66D0E-138F-4337-B6B8-532005EE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F94F3-B0FA-46AE-9E0D-3BE8458D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55F98-48DD-40F3-91F6-EED33CBE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DCC84-D999-4931-9966-8AC283CC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56D2B-B791-4079-B4DC-DD053DBF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A1A4F-834C-4FF6-B0CA-099CC56E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D2983-CF83-4C33-BDDF-7EF4A216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CB15E-C55F-4E8B-81BB-CF690267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3B486-176E-410F-A553-B7957A6F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F2FA1-246B-4543-8082-C85FF527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3AF5-D055-4C8E-8F73-DB62B89E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63EA1-B9C8-4F7A-8EA7-CE828A79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76C7C-7B17-4417-B102-1E89B39D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B1A6C-D457-4B9B-8C85-868FDFEA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7441-BB5E-4D94-B6E2-47F63C12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55D-851B-4690-BF4D-E58DDC3E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FACB-D4D9-413C-8E78-DA0B0ABE7322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C74F-B46C-4C45-95C5-18BA15CB4D82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CFB8-355B-429C-86DD-208B141F30CC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55AF-CA59-438E-9E69-EE035E38EBB2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8CE6-C06F-4ABB-A48C-5758E5B2256C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991E-8D7F-4C8B-B311-10E0FCCB1DA6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2" descr=""/>
          <p:cNvPicPr/>
          <p:nvPr/>
        </p:nvPicPr>
        <p:blipFill>
          <a:blip r:embed="rId1"/>
          <a:stretch/>
        </p:blipFill>
        <p:spPr>
          <a:xfrm>
            <a:off x="7000920" y="21420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3" descr=""/>
          <p:cNvPicPr/>
          <p:nvPr/>
        </p:nvPicPr>
        <p:blipFill>
          <a:blip r:embed="rId2"/>
          <a:stretch/>
        </p:blipFill>
        <p:spPr>
          <a:xfrm>
            <a:off x="785880" y="4857840"/>
            <a:ext cx="5038560" cy="11001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"/>
          <p:cNvPicPr/>
          <p:nvPr/>
        </p:nvPicPr>
        <p:blipFill>
          <a:blip r:embed="rId3"/>
          <a:stretch/>
        </p:blipFill>
        <p:spPr>
          <a:xfrm>
            <a:off x="5214960" y="14292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0"/>
          <p:cNvSpPr/>
          <p:nvPr/>
        </p:nvSpPr>
        <p:spPr>
          <a:xfrm>
            <a:off x="215280" y="1042200"/>
            <a:ext cx="89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f1919"/>
                </a:solidFill>
                <a:latin typeface="Calibri"/>
              </a:rPr>
              <a:t>Трезвость – норма жизн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0" y="250668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Трезвый человек — счастливая семья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Трезвые дети — здоровое общество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Трезвый народ — светлое будуще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3" descr="пиво"/>
          <p:cNvPicPr/>
          <p:nvPr/>
        </p:nvPicPr>
        <p:blipFill>
          <a:blip r:embed="rId4"/>
          <a:stretch/>
        </p:blipFill>
        <p:spPr>
          <a:xfrm>
            <a:off x="7380360" y="522936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7" descr="000044"/>
          <p:cNvPicPr/>
          <p:nvPr/>
        </p:nvPicPr>
        <p:blipFill>
          <a:blip r:embed="rId1"/>
          <a:stretch/>
        </p:blipFill>
        <p:spPr>
          <a:xfrm>
            <a:off x="6000840" y="785880"/>
            <a:ext cx="3389400" cy="3571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149138_image_large"/>
          <p:cNvPicPr/>
          <p:nvPr/>
        </p:nvPicPr>
        <p:blipFill>
          <a:blip r:embed="rId2"/>
          <a:stretch/>
        </p:blipFill>
        <p:spPr>
          <a:xfrm>
            <a:off x="571680" y="1857240"/>
            <a:ext cx="5786280" cy="3506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3" descr="пиво"/>
          <p:cNvPicPr/>
          <p:nvPr/>
        </p:nvPicPr>
        <p:blipFill>
          <a:blip r:embed="rId3"/>
          <a:stretch/>
        </p:blipFill>
        <p:spPr>
          <a:xfrm>
            <a:off x="7572240" y="5214960"/>
            <a:ext cx="143532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Прямоугольник 2" descr=""/>
          <p:cNvPicPr/>
          <p:nvPr/>
        </p:nvPicPr>
        <p:blipFill>
          <a:blip r:embed="rId1"/>
          <a:stretch/>
        </p:blipFill>
        <p:spPr>
          <a:xfrm>
            <a:off x="420840" y="262080"/>
            <a:ext cx="8515080" cy="749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пиво"/>
          <p:cNvPicPr/>
          <p:nvPr/>
        </p:nvPicPr>
        <p:blipFill>
          <a:blip r:embed="rId2"/>
          <a:stretch/>
        </p:blipFill>
        <p:spPr>
          <a:xfrm>
            <a:off x="7380360" y="522936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03" name="Прямоугольник 4"/>
          <p:cNvSpPr/>
          <p:nvPr/>
        </p:nvSpPr>
        <p:spPr>
          <a:xfrm>
            <a:off x="500040" y="1214280"/>
            <a:ext cx="8429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тоит ругать ребенка, кричать на него и, уж тем более, физически наказы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ратьте силы на разговор  просто помогите ребенку прийти в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говор необходим на свежую гол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ьте честны. Объясните, почему алкоголь может быть опасным, и какие проблемы он может вызвать у подрост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говор может быть трудным, как для Вас, так и для ребёнка, попытайтесь остаться спокойными и устойчи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йте поступки подрос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е его лич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515520" cy="938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3" descr="пиво"/>
          <p:cNvPicPr/>
          <p:nvPr/>
        </p:nvPicPr>
        <p:blipFill>
          <a:blip r:embed="rId2"/>
          <a:stretch/>
        </p:blipFill>
        <p:spPr>
          <a:xfrm>
            <a:off x="7572240" y="5214960"/>
            <a:ext cx="143532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06" name="Прямоугольник 5"/>
          <p:cNvSpPr/>
          <p:nvPr/>
        </p:nvSpPr>
        <p:spPr>
          <a:xfrm>
            <a:off x="317520" y="1500120"/>
            <a:ext cx="7986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с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 о собственном прим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советы, но не давите совет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задавайте вопросы дет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сохранить открытость в общении с ребё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е ребёнка говорить: не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ЗОЖ"/>
          <p:cNvPicPr/>
          <p:nvPr/>
        </p:nvPicPr>
        <p:blipFill>
          <a:blip r:embed="rId1"/>
          <a:stretch/>
        </p:blipFill>
        <p:spPr>
          <a:xfrm>
            <a:off x="1500120" y="2286000"/>
            <a:ext cx="6357960" cy="437508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308" name="Прямоугольник 5"/>
          <p:cNvSpPr/>
          <p:nvPr/>
        </p:nvSpPr>
        <p:spPr>
          <a:xfrm>
            <a:off x="642960" y="0"/>
            <a:ext cx="82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1919"/>
                </a:solidFill>
                <a:latin typeface="Arial Black"/>
              </a:rPr>
              <a:t>« Путь России от разорения к достатку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1919"/>
                </a:solidFill>
                <a:latin typeface="Arial Black"/>
              </a:rPr>
              <a:t>это путь трезвой России ».</a:t>
            </a:r>
            <a:r>
              <a:rPr b="1" lang="ru-RU" sz="3600" spc="-1" strike="noStrike">
                <a:solidFill>
                  <a:srgbClr val="4f1919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1919"/>
                </a:solidFill>
                <a:latin typeface="Arial Black"/>
              </a:rPr>
              <a:t>                            </a:t>
            </a:r>
            <a:r>
              <a:rPr b="1" lang="ru-RU" sz="3600" spc="-1" strike="noStrike">
                <a:solidFill>
                  <a:srgbClr val="4f1919"/>
                </a:solidFill>
                <a:latin typeface="Arial Black"/>
              </a:rPr>
              <a:t>А. Нечвол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285840" y="219240"/>
            <a:ext cx="4000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В. Белинск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Пьют и едят все люди, но пьюнствуют и обжорствуют только дика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14200" y="4429080"/>
            <a:ext cx="4857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Л. Толстой. </a:t>
            </a:r>
            <a:r>
              <a:rPr b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ьянство заглушает голос совести. В этом главная причина самоодурманивания людей. Спирт так же консервирует душу и ум пьяницы, как он консервирует анатомические препа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3214800" y="3071880"/>
            <a:ext cx="550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А. Чех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одка белая, но краснит нос и чернит репут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4714920" y="142920"/>
            <a:ext cx="2571840" cy="285732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  <p:pic>
        <p:nvPicPr>
          <p:cNvPr id="313" name="Picture 3" descr=""/>
          <p:cNvPicPr/>
          <p:nvPr/>
        </p:nvPicPr>
        <p:blipFill>
          <a:blip r:embed="rId2"/>
          <a:stretch/>
        </p:blipFill>
        <p:spPr>
          <a:xfrm>
            <a:off x="357120" y="1357200"/>
            <a:ext cx="2643120" cy="29289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14" name="Picture 4" descr=""/>
          <p:cNvPicPr/>
          <p:nvPr/>
        </p:nvPicPr>
        <p:blipFill>
          <a:blip r:embed="rId3"/>
          <a:stretch/>
        </p:blipFill>
        <p:spPr>
          <a:xfrm>
            <a:off x="5572080" y="3857760"/>
            <a:ext cx="2571840" cy="28573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3"/>
          <p:cNvSpPr/>
          <p:nvPr/>
        </p:nvSpPr>
        <p:spPr>
          <a:xfrm>
            <a:off x="142920" y="285840"/>
            <a:ext cx="3714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Феодосий Печерский</a:t>
            </a:r>
            <a:r>
              <a:rPr b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сноватый страдает по неволе и может удостоится  жизни вечной, а пьяный страдает по собственной воле и предан на вечную м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4"/>
          <p:cNvSpPr/>
          <p:nvPr/>
        </p:nvSpPr>
        <p:spPr>
          <a:xfrm>
            <a:off x="5286240" y="542916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Н. Семашк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Можно сказать, что сколько мужья выпили водки, столько их жены и дети пролили сл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5"/>
          <p:cNvSpPr/>
          <p:nvPr/>
        </p:nvSpPr>
        <p:spPr>
          <a:xfrm>
            <a:off x="214200" y="271476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К. Ушинский</a:t>
            </a:r>
            <a:r>
              <a:rPr b="1" lang="ru-RU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ьяному на  светлой улице тем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6"/>
          <p:cNvSpPr/>
          <p:nvPr/>
        </p:nvSpPr>
        <p:spPr>
          <a:xfrm>
            <a:off x="5286240" y="421488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И. Ефимов</a:t>
            </a:r>
            <a:r>
              <a:rPr b="1" lang="ru-RU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 крепких вин, есть слабые голов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4214880" y="214200"/>
            <a:ext cx="2071800" cy="25718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6000840" y="1714680"/>
            <a:ext cx="2043000" cy="22860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21" name="Picture 4" descr=""/>
          <p:cNvPicPr/>
          <p:nvPr/>
        </p:nvPicPr>
        <p:blipFill>
          <a:blip r:embed="rId3"/>
          <a:stretch/>
        </p:blipFill>
        <p:spPr>
          <a:xfrm>
            <a:off x="2214720" y="3429000"/>
            <a:ext cx="2857320" cy="19051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22" name="Picture 5" descr=""/>
          <p:cNvPicPr/>
          <p:nvPr/>
        </p:nvPicPr>
        <p:blipFill>
          <a:blip r:embed="rId4"/>
          <a:stretch/>
        </p:blipFill>
        <p:spPr>
          <a:xfrm>
            <a:off x="428760" y="4071960"/>
            <a:ext cx="2071440" cy="25718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sp>
        <p:nvSpPr>
          <p:cNvPr id="323" name="AutoShape 11"/>
          <p:cNvSpPr/>
          <p:nvPr/>
        </p:nvSpPr>
        <p:spPr>
          <a:xfrm>
            <a:off x="3419640" y="6165720"/>
            <a:ext cx="1223640" cy="503280"/>
          </a:xfrm>
          <a:custGeom>
            <a:avLst/>
            <a:gdLst>
              <a:gd name="textAreaLeft" fmla="*/ 32400 w 1223640"/>
              <a:gd name="textAreaRight" fmla="*/ 1191240 w 122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2495" h="21600">
                <a:moveTo>
                  <a:pt x="0" y="0"/>
                </a:moveTo>
                <a:lnTo>
                  <a:pt x="52495" y="0"/>
                </a:lnTo>
                <a:lnTo>
                  <a:pt x="52495" y="21600"/>
                </a:lnTo>
                <a:lnTo>
                  <a:pt x="0" y="21600"/>
                </a:lnTo>
                <a:close/>
              </a:path>
              <a:path fill="lightenLess" w="52495" h="21600">
                <a:moveTo>
                  <a:pt x="0" y="0"/>
                </a:moveTo>
                <a:lnTo>
                  <a:pt x="52495" y="0"/>
                </a:lnTo>
                <a:lnTo>
                  <a:pt x="51095" y="1400"/>
                </a:lnTo>
                <a:lnTo>
                  <a:pt x="1400" y="1400"/>
                </a:lnTo>
                <a:close/>
              </a:path>
              <a:path fill="darken" w="52495" h="21600">
                <a:moveTo>
                  <a:pt x="52495" y="0"/>
                </a:moveTo>
                <a:lnTo>
                  <a:pt x="52495" y="21600"/>
                </a:lnTo>
                <a:lnTo>
                  <a:pt x="51095" y="20200"/>
                </a:lnTo>
                <a:lnTo>
                  <a:pt x="51095" y="1400"/>
                </a:lnTo>
                <a:close/>
              </a:path>
              <a:path fill="darkenLess" w="52495" h="21600">
                <a:moveTo>
                  <a:pt x="5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95" y="20200"/>
                </a:lnTo>
                <a:close/>
              </a:path>
              <a:path fill="lighten" w="5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495" h="21600">
                <a:moveTo>
                  <a:pt x="26247" y="3837"/>
                </a:moveTo>
                <a:lnTo>
                  <a:pt x="28824" y="6448"/>
                </a:lnTo>
                <a:lnTo>
                  <a:pt x="28824" y="4707"/>
                </a:lnTo>
                <a:lnTo>
                  <a:pt x="30599" y="4707"/>
                </a:lnTo>
                <a:lnTo>
                  <a:pt x="30599" y="8224"/>
                </a:lnTo>
                <a:lnTo>
                  <a:pt x="33210" y="10800"/>
                </a:lnTo>
                <a:lnTo>
                  <a:pt x="31557" y="10800"/>
                </a:lnTo>
                <a:lnTo>
                  <a:pt x="31557" y="17989"/>
                </a:lnTo>
                <a:lnTo>
                  <a:pt x="20938" y="17989"/>
                </a:lnTo>
                <a:lnTo>
                  <a:pt x="20938" y="10800"/>
                </a:lnTo>
                <a:lnTo>
                  <a:pt x="19284" y="10800"/>
                </a:lnTo>
                <a:close/>
              </a:path>
              <a:path fill="darkenLess" w="52495" h="21600">
                <a:moveTo>
                  <a:pt x="28824" y="6448"/>
                </a:moveTo>
                <a:lnTo>
                  <a:pt x="28824" y="4707"/>
                </a:lnTo>
                <a:lnTo>
                  <a:pt x="30599" y="4707"/>
                </a:lnTo>
                <a:lnTo>
                  <a:pt x="30599" y="8224"/>
                </a:lnTo>
                <a:close/>
              </a:path>
              <a:path fill="darkenLess" w="52495" h="21600">
                <a:moveTo>
                  <a:pt x="25325" y="14299"/>
                </a:moveTo>
                <a:lnTo>
                  <a:pt x="27170" y="14299"/>
                </a:lnTo>
                <a:lnTo>
                  <a:pt x="27170" y="17989"/>
                </a:lnTo>
                <a:lnTo>
                  <a:pt x="31557" y="17989"/>
                </a:lnTo>
                <a:lnTo>
                  <a:pt x="31557" y="10800"/>
                </a:lnTo>
                <a:lnTo>
                  <a:pt x="20938" y="10800"/>
                </a:lnTo>
                <a:lnTo>
                  <a:pt x="20938" y="17989"/>
                </a:lnTo>
                <a:lnTo>
                  <a:pt x="25325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компания"/>
          <p:cNvPicPr/>
          <p:nvPr/>
        </p:nvPicPr>
        <p:blipFill>
          <a:blip r:embed="rId1"/>
          <a:stretch/>
        </p:blipFill>
        <p:spPr>
          <a:xfrm>
            <a:off x="428760" y="285840"/>
            <a:ext cx="8210520" cy="61592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263" name="Picture 13" descr="пиво"/>
          <p:cNvPicPr/>
          <p:nvPr/>
        </p:nvPicPr>
        <p:blipFill>
          <a:blip r:embed="rId2"/>
          <a:stretch/>
        </p:blipFill>
        <p:spPr>
          <a:xfrm>
            <a:off x="7572240" y="5286240"/>
            <a:ext cx="1435320" cy="1454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57120" y="9288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49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               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ализ те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1.Алкоголь–это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о, зло, вред для здоровь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елье, расслабл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2.Употребляли ли вы алкоголь?</a:t>
            </a:r>
            <a:r>
              <a:rPr b="1" i="1" lang="ru-RU" sz="1800" spc="-1" strike="noStrike">
                <a:solidFill>
                  <a:srgbClr val="4f1919"/>
                </a:solidFill>
                <a:latin typeface="Arial"/>
              </a:rPr>
              <a:t> 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С какого возрас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гда не пробовали –   с17лет –</a:t>
            </a:r>
            <a:br>
              <a:rPr sz="1800"/>
            </a:br>
            <a:r>
              <a:rPr b="1" i="1" lang="ru-RU" sz="1800" spc="-1" strike="noStrike">
                <a:solidFill>
                  <a:srgbClr val="4f1919"/>
                </a:solidFill>
                <a:latin typeface="Arial"/>
              </a:rPr>
              <a:t>3.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Кто  тебе его предложи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зья –; сам – ; заставила подруга -;; знакомые –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1919"/>
                </a:solidFill>
                <a:latin typeface="Arial"/>
              </a:rPr>
              <a:t>4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. Как ты отнесся к этому предложени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о – ; положительно – ; никак –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знаю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5.Выпивают ли ваши друзь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; нет; некотор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Прямоугольник 4" descr=""/>
          <p:cNvPicPr/>
          <p:nvPr/>
        </p:nvPicPr>
        <p:blipFill>
          <a:blip r:embed="rId1"/>
          <a:stretch/>
        </p:blipFill>
        <p:spPr>
          <a:xfrm>
            <a:off x="298440" y="274680"/>
            <a:ext cx="8802720" cy="676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3" descr="пиво"/>
          <p:cNvPicPr/>
          <p:nvPr/>
        </p:nvPicPr>
        <p:blipFill>
          <a:blip r:embed="rId2"/>
          <a:stretch/>
        </p:blipFill>
        <p:spPr>
          <a:xfrm>
            <a:off x="7358040" y="514368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7" name="Picture 10" descr=""/>
          <p:cNvPicPr/>
          <p:nvPr/>
        </p:nvPicPr>
        <p:blipFill>
          <a:blip r:embed="rId3"/>
          <a:stretch/>
        </p:blipFill>
        <p:spPr>
          <a:xfrm>
            <a:off x="6715080" y="957240"/>
            <a:ext cx="19861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71320" y="7142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6. Ругают ли тебя за употребление спиртных напитков родите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–, нет -; не знают –;  не пью вот и не ругают –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7.Предлагают ли тебе твои родные спиртные напит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–; нет –; иногда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1919"/>
                </a:solidFill>
                <a:latin typeface="Arial"/>
              </a:rPr>
              <a:t>8.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Тянет ли тебя к употреблению спиртных напит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–; нет – ; иногда –; не очень –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3" descr="пиво"/>
          <p:cNvPicPr/>
          <p:nvPr/>
        </p:nvPicPr>
        <p:blipFill>
          <a:blip r:embed="rId1"/>
          <a:stretch/>
        </p:blipFill>
        <p:spPr>
          <a:xfrm>
            <a:off x="7358040" y="514368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70" name="Рисунок 4" descr=""/>
          <p:cNvPicPr/>
          <p:nvPr/>
        </p:nvPicPr>
        <p:blipFill>
          <a:blip r:embed="rId2"/>
          <a:stretch/>
        </p:blipFill>
        <p:spPr>
          <a:xfrm>
            <a:off x="1214280" y="3571920"/>
            <a:ext cx="4754880" cy="29782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6"/>
          <p:cNvSpPr/>
          <p:nvPr/>
        </p:nvSpPr>
        <p:spPr>
          <a:xfrm>
            <a:off x="357120" y="1571760"/>
            <a:ext cx="4786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пыт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 старш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старше себя почувств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быть среди друзей «круты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сслаб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ск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равится вкус п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5715000" y="785880"/>
            <a:ext cx="3000240" cy="2857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Прямоугольник 8" descr=""/>
          <p:cNvPicPr/>
          <p:nvPr/>
        </p:nvPicPr>
        <p:blipFill>
          <a:blip r:embed="rId2"/>
          <a:stretch/>
        </p:blipFill>
        <p:spPr>
          <a:xfrm>
            <a:off x="-19080" y="49320"/>
            <a:ext cx="9182160" cy="7426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4286160" y="3286080"/>
            <a:ext cx="3571920" cy="285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3" descr="пиво"/>
          <p:cNvPicPr/>
          <p:nvPr/>
        </p:nvPicPr>
        <p:blipFill>
          <a:blip r:embed="rId4"/>
          <a:stretch/>
        </p:blipFill>
        <p:spPr>
          <a:xfrm>
            <a:off x="7572240" y="5214960"/>
            <a:ext cx="143532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7" descr="компания"/>
          <p:cNvPicPr/>
          <p:nvPr/>
        </p:nvPicPr>
        <p:blipFill>
          <a:blip r:embed="rId1"/>
          <a:stretch/>
        </p:blipFill>
        <p:spPr>
          <a:xfrm>
            <a:off x="428760" y="285840"/>
            <a:ext cx="8210520" cy="61592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277" name="Picture 13" descr="пиво"/>
          <p:cNvPicPr/>
          <p:nvPr/>
        </p:nvPicPr>
        <p:blipFill>
          <a:blip r:embed="rId2"/>
          <a:stretch/>
        </p:blipFill>
        <p:spPr>
          <a:xfrm>
            <a:off x="7572240" y="5286240"/>
            <a:ext cx="1435320" cy="1454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дедушка и внук"/>
          <p:cNvPicPr/>
          <p:nvPr/>
        </p:nvPicPr>
        <p:blipFill>
          <a:blip r:embed="rId1"/>
          <a:stretch/>
        </p:blipFill>
        <p:spPr>
          <a:xfrm>
            <a:off x="285840" y="4429080"/>
            <a:ext cx="3429000" cy="20718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279" name="Picture 7" descr="ребенок к пиву"/>
          <p:cNvPicPr/>
          <p:nvPr/>
        </p:nvPicPr>
        <p:blipFill>
          <a:blip r:embed="rId2"/>
          <a:stretch/>
        </p:blipFill>
        <p:spPr>
          <a:xfrm>
            <a:off x="4572000" y="2143080"/>
            <a:ext cx="2736720" cy="3591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280" name="Прямоугольник 5" descr=""/>
          <p:cNvPicPr/>
          <p:nvPr/>
        </p:nvPicPr>
        <p:blipFill>
          <a:blip r:embed="rId3"/>
          <a:stretch/>
        </p:blipFill>
        <p:spPr>
          <a:xfrm>
            <a:off x="2011320" y="2962440"/>
            <a:ext cx="390600" cy="933120"/>
          </a:xfrm>
          <a:prstGeom prst="rect">
            <a:avLst/>
          </a:prstGeom>
          <a:ln w="0">
            <a:noFill/>
          </a:ln>
        </p:spPr>
      </p:pic>
      <p:pic>
        <p:nvPicPr>
          <p:cNvPr id="281" name="Прямоугольник 7" descr=""/>
          <p:cNvPicPr/>
          <p:nvPr/>
        </p:nvPicPr>
        <p:blipFill>
          <a:blip r:embed="rId4"/>
          <a:stretch/>
        </p:blipFill>
        <p:spPr>
          <a:xfrm>
            <a:off x="-6480" y="176040"/>
            <a:ext cx="9156960" cy="18720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5"/>
          <p:cNvSpPr/>
          <p:nvPr/>
        </p:nvSpPr>
        <p:spPr>
          <a:xfrm>
            <a:off x="1785960" y="2071800"/>
            <a:ext cx="2500200" cy="2286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3" descr="пиво"/>
          <p:cNvPicPr/>
          <p:nvPr/>
        </p:nvPicPr>
        <p:blipFill>
          <a:blip r:embed="rId6"/>
          <a:stretch/>
        </p:blipFill>
        <p:spPr>
          <a:xfrm>
            <a:off x="7572240" y="5214960"/>
            <a:ext cx="143532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2a37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2a376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42920" y="1214280"/>
            <a:ext cx="435456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День р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Красные даты календа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Приход знакомых и сосе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Приезд родствен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Получение зарпл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0" y="1142640"/>
            <a:ext cx="4284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Плохое настро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Неприятности на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Выходно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Повышение по служ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Без по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 ; часто -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–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Прямоугольник 3" descr=""/>
          <p:cNvPicPr/>
          <p:nvPr/>
        </p:nvPicPr>
        <p:blipFill>
          <a:blip r:embed="rId1"/>
          <a:stretch/>
        </p:blipFill>
        <p:spPr>
          <a:xfrm>
            <a:off x="407880" y="189000"/>
            <a:ext cx="7120080" cy="749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3" descr="пиво"/>
          <p:cNvPicPr/>
          <p:nvPr/>
        </p:nvPicPr>
        <p:blipFill>
          <a:blip r:embed="rId2"/>
          <a:stretch/>
        </p:blipFill>
        <p:spPr>
          <a:xfrm>
            <a:off x="7572240" y="5214960"/>
            <a:ext cx="143532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плакат"/>
          <p:cNvPicPr/>
          <p:nvPr/>
        </p:nvPicPr>
        <p:blipFill>
          <a:blip r:embed="rId1"/>
          <a:stretch/>
        </p:blipFill>
        <p:spPr>
          <a:xfrm>
            <a:off x="2484360" y="260280"/>
            <a:ext cx="4321080" cy="5545080"/>
          </a:xfrm>
          <a:prstGeom prst="rect">
            <a:avLst/>
          </a:prstGeom>
          <a:ln w="0">
            <a:noFill/>
          </a:ln>
        </p:spPr>
      </p:pic>
      <p:sp>
        <p:nvSpPr>
          <p:cNvPr id="291" name="Oval 6"/>
          <p:cNvSpPr/>
          <p:nvPr/>
        </p:nvSpPr>
        <p:spPr>
          <a:xfrm>
            <a:off x="324000" y="404640"/>
            <a:ext cx="1850760" cy="187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7"/>
          <p:cNvSpPr/>
          <p:nvPr/>
        </p:nvSpPr>
        <p:spPr>
          <a:xfrm>
            <a:off x="7020000" y="476280"/>
            <a:ext cx="1851120" cy="1871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sm4"/>
          <p:cNvPicPr/>
          <p:nvPr/>
        </p:nvPicPr>
        <p:blipFill>
          <a:blip r:embed="rId4"/>
          <a:stretch/>
        </p:blipFill>
        <p:spPr>
          <a:xfrm>
            <a:off x="900000" y="2492280"/>
            <a:ext cx="608040" cy="692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" descr="sm3"/>
          <p:cNvPicPr/>
          <p:nvPr/>
        </p:nvPicPr>
        <p:blipFill>
          <a:blip r:embed="rId5"/>
          <a:stretch/>
        </p:blipFill>
        <p:spPr>
          <a:xfrm>
            <a:off x="7667640" y="2492280"/>
            <a:ext cx="609480" cy="6922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4"/>
          <p:cNvSpPr/>
          <p:nvPr/>
        </p:nvSpPr>
        <p:spPr>
          <a:xfrm>
            <a:off x="2000160" y="5943600"/>
            <a:ext cx="5184720" cy="9144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15"/>
          <p:cNvSpPr txBox="1"/>
          <p:nvPr/>
        </p:nvSpPr>
        <p:spPr>
          <a:xfrm>
            <a:off x="2195640" y="6021360"/>
            <a:ext cx="4824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Задумайтесь 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97" name="Picture 18" descr="страх онкологии"/>
          <p:cNvPicPr/>
          <p:nvPr/>
        </p:nvPicPr>
        <p:blipFill>
          <a:blip r:embed="rId6"/>
          <a:stretch/>
        </p:blipFill>
        <p:spPr>
          <a:xfrm>
            <a:off x="2700360" y="1197000"/>
            <a:ext cx="3740040" cy="4464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50:03Z</dcterms:created>
  <dc:creator>Марианна</dc:creator>
  <dc:description/>
  <dc:language>en-US</dc:language>
  <cp:lastModifiedBy>АДМИН</cp:lastModifiedBy>
  <dcterms:modified xsi:type="dcterms:W3CDTF">2017-09-08T07:02:14Z</dcterms:modified>
  <cp:revision>101</cp:revision>
  <dc:subject/>
  <dc:title>ВЛИЯНИЕ АЛКОГОЛЯ НА ОРГАНИЗМ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23000000000001023620</vt:lpwstr>
  </property>
</Properties>
</file>