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16.png" ContentType="image/png"/>
  <Override PartName="/ppt/media/image23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74A-3389-4557-9E2F-A3CB4402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080-B9D0-4D43-A0E8-874241E4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6C6-13F1-4838-AC64-632992A2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D1F-C59D-473A-B081-0FD21A3A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12DD-876C-4850-B47E-07D4B091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9FA1-4814-42C6-AE61-A99F888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D64D-6416-46FD-9FFA-F746E5C1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542F-EA4B-4B1C-98C8-39B96A6D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09E6-071B-4CBC-9C9B-9C4173EA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894-EC6C-48B5-9F43-6441A6FE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9533-F83F-4FEC-8E70-A34CA8A0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792-5162-4C07-BA8F-0382039B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A4AF-12AC-4E1B-8B7E-0F35022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C6A0-49BD-4C22-BDEA-4E44F84F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3FCC-39B5-4C86-ABD8-3C3B516B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8DE1-CA37-43B8-9C06-40082B7F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7D91-818D-4E0A-A4B3-EC0E08D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9FF9-2B3B-46FC-8345-B05E39A1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6DD2-6527-408E-BF86-CB46DEA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BD8AF-4C2C-469C-B1B1-5D4503BD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5EA2-EB51-4FE2-8843-107CBC3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B2B6-DF3E-4429-8BF3-D5DD4BE5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5D5-0164-4F24-8A53-85E59190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40F0-5BCB-4452-BB07-7C3A7EB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8D4A-9ECF-4738-BD3F-33117D2C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9C42-C4A1-4FC2-B971-4C1787A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4793-3212-4EBE-AF3D-C54B881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3CEB-8F92-4C44-AD8A-712C300C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F2BC-1CB6-4171-81AE-614BBC71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605F-A613-4C44-A102-C5E2E39E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4D94-63C0-4F2E-BE2B-7A250715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6622C-3A01-4CCA-8D52-2893CAB7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8BEC-3883-4DD3-88E6-502B54F6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384-E550-4DE6-BA7F-FF696438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FD420-39ED-41C0-8BAB-988A5366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4A1A-CE23-4EDA-85C3-43F6C45D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51D8-D85C-468D-AB24-7C52F472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934F-AE2A-4B99-93B4-B809AD1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87C6D-CCF4-4835-9933-AB9484A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2929C-5E86-4478-93CC-913DE45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952B-C0F6-4FA4-A089-AF6F95C0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689B-EE1F-487A-ACAB-D07B111A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48C00-0375-490E-8B39-AFC7ADB3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2427-4359-46BA-BDB9-F478AE49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82F-1EAC-4C6B-8014-CA9CC614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4554-7138-4719-9FD0-45069C6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84F31-A06D-4ABF-959C-A99FB1F3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E658D-621D-4D4E-8F23-7A0C308F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40FBB-A697-458E-B3DB-91D09D39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DFE94-E676-4426-829D-DBC209F0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A2C31-BFB8-4623-BFA1-747DF56E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9210D-A988-4CC4-A8C1-2D5BABA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24CC0-58D9-4ADF-95E6-0DF28AAD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C1FF1-E68B-4CE8-B777-244B03D2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CBE4-5713-4474-AF41-285765B0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F43-35DC-4D3A-8E5E-465B558C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FC9D-2D0B-4C1C-B9ED-4C6469ED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91E8-DFBF-4252-9D5F-CACE23BB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E761-2081-4D3E-B8B8-C1815C28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618F-7726-4774-BF86-7DFF5CE6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CF174-47CA-4B91-8908-A1CCD3B2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A205-A5CC-4382-95A7-62ACFE38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F674B-46FC-4AC7-971B-CF501115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0C18-BF68-4A02-B759-58BFD59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4B10-897C-4C2D-BE0D-C764209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56BBA-6314-4B3D-95A5-F240548A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90E-9B59-46E7-8B29-109CE48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2CE0D-3967-4E2D-8E53-D5499D4F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B25D-5767-4A37-9B84-CC730C5D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333C2-9CC3-44B6-861F-03E01A36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184-477D-4A2D-9AC0-37BD1702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8FB-B476-414C-AB4D-B2A43BFD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8A6B-8B08-494B-BA96-006B2D7D282D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9D6B-DFE7-4AED-87B9-79C47A8C71CA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694A-D83C-4D20-A2DC-52EB9502955A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5DF9-C8A4-419C-97B3-1A16D27AF0E6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0EE-4EE1-483A-AE89-1F16D17A991D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A83B-94AC-412C-99D9-E8BDDEDA9D8D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" descr=""/>
          <p:cNvPicPr/>
          <p:nvPr/>
        </p:nvPicPr>
        <p:blipFill>
          <a:blip r:embed="rId2"/>
          <a:stretch/>
        </p:blipFill>
        <p:spPr>
          <a:xfrm>
            <a:off x="785880" y="4857840"/>
            <a:ext cx="5038560" cy="11001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3"/>
          <a:stretch/>
        </p:blipFill>
        <p:spPr>
          <a:xfrm>
            <a:off x="5214960" y="1429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0"/>
          <p:cNvSpPr/>
          <p:nvPr/>
        </p:nvSpPr>
        <p:spPr>
          <a:xfrm>
            <a:off x="215280" y="1042200"/>
            <a:ext cx="89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1919"/>
                </a:solidFill>
                <a:latin typeface="Calibri"/>
              </a:rPr>
              <a:t>Трезвость – норма жизн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0" y="250668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Трезвый человек — счастливая семь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Трезвые дети — здоровое обществ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Трезвый народ — светлое будуще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3" descr="пиво"/>
          <p:cNvPicPr/>
          <p:nvPr/>
        </p:nvPicPr>
        <p:blipFill>
          <a:blip r:embed="rId4"/>
          <a:stretch/>
        </p:blipFill>
        <p:spPr>
          <a:xfrm>
            <a:off x="738036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7" descr="000044"/>
          <p:cNvPicPr/>
          <p:nvPr/>
        </p:nvPicPr>
        <p:blipFill>
          <a:blip r:embed="rId1"/>
          <a:stretch/>
        </p:blipFill>
        <p:spPr>
          <a:xfrm>
            <a:off x="6000840" y="785880"/>
            <a:ext cx="3389400" cy="3571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149138_image_large"/>
          <p:cNvPicPr/>
          <p:nvPr/>
        </p:nvPicPr>
        <p:blipFill>
          <a:blip r:embed="rId2"/>
          <a:stretch/>
        </p:blipFill>
        <p:spPr>
          <a:xfrm>
            <a:off x="571680" y="1857240"/>
            <a:ext cx="5786280" cy="3506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пиво"/>
          <p:cNvPicPr/>
          <p:nvPr/>
        </p:nvPicPr>
        <p:blipFill>
          <a:blip r:embed="rId3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2" descr=""/>
          <p:cNvPicPr/>
          <p:nvPr/>
        </p:nvPicPr>
        <p:blipFill>
          <a:blip r:embed="rId1"/>
          <a:stretch/>
        </p:blipFill>
        <p:spPr>
          <a:xfrm>
            <a:off x="420840" y="262080"/>
            <a:ext cx="8515080" cy="749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пиво"/>
          <p:cNvPicPr/>
          <p:nvPr/>
        </p:nvPicPr>
        <p:blipFill>
          <a:blip r:embed="rId2"/>
          <a:stretch/>
        </p:blipFill>
        <p:spPr>
          <a:xfrm>
            <a:off x="738036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3" name="Прямоугольник 4"/>
          <p:cNvSpPr/>
          <p:nvPr/>
        </p:nvSpPr>
        <p:spPr>
          <a:xfrm>
            <a:off x="500040" y="1214280"/>
            <a:ext cx="842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тоит ругать ребенка, кричать на него и, уж тем более, физически наказ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ратьте силы на разговор  просто помогите ребенку прийти в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ор необходим на свежую гол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честны. Объясните, почему алкоголь может быть опасным, и какие проблемы он может вызвать у подрост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ор может быть трудным, как для Вас, так и для ребёнка, попытайтесь остаться спокойными и устойчи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йте поступки подрос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е его лич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515520" cy="938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пиво"/>
          <p:cNvPicPr/>
          <p:nvPr/>
        </p:nvPicPr>
        <p:blipFill>
          <a:blip r:embed="rId2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6" name="Прямоугольник 5"/>
          <p:cNvSpPr/>
          <p:nvPr/>
        </p:nvSpPr>
        <p:spPr>
          <a:xfrm>
            <a:off x="317520" y="1500120"/>
            <a:ext cx="798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о собственном при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советы, но не давите сове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задавайте вопросы дет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сохранить открытость в общении с ребё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ребёнка говорить: н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ЗОЖ"/>
          <p:cNvPicPr/>
          <p:nvPr/>
        </p:nvPicPr>
        <p:blipFill>
          <a:blip r:embed="rId1"/>
          <a:stretch/>
        </p:blipFill>
        <p:spPr>
          <a:xfrm>
            <a:off x="1500120" y="2286000"/>
            <a:ext cx="6357960" cy="43750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308" name="Прямоугольник 5"/>
          <p:cNvSpPr/>
          <p:nvPr/>
        </p:nvSpPr>
        <p:spPr>
          <a:xfrm>
            <a:off x="642960" y="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1919"/>
                </a:solidFill>
                <a:latin typeface="Arial Black"/>
              </a:rPr>
              <a:t>« Путь России от разорения к достатку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1919"/>
                </a:solidFill>
                <a:latin typeface="Arial Black"/>
              </a:rPr>
              <a:t>это путь трезвой России ».</a:t>
            </a:r>
            <a:r>
              <a:rPr b="1" lang="ru-RU" sz="3600" spc="-1" strike="noStrike">
                <a:solidFill>
                  <a:srgbClr val="4f1919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1919"/>
                </a:solidFill>
                <a:latin typeface="Arial Black"/>
              </a:rPr>
              <a:t>                            </a:t>
            </a:r>
            <a:r>
              <a:rPr b="1" lang="ru-RU" sz="3600" spc="-1" strike="noStrike">
                <a:solidFill>
                  <a:srgbClr val="4f1919"/>
                </a:solidFill>
                <a:latin typeface="Arial Black"/>
              </a:rPr>
              <a:t>А. Нечвол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285840" y="21924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В. Белинс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ьют и едят все люди, но пьюнствуют и обжорствуют только дик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14200" y="442908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Л. Толстой. </a:t>
            </a:r>
            <a:r>
              <a:rPr b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ство заглушает голос совести. В этом главная причина самоодурманивания людей. Спирт так же консервирует душу и ум пьяницы, как он консервирует анатомические препа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3214800" y="3071880"/>
            <a:ext cx="55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А. Чех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одка белая, но краснит нос и чернит репу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4714920" y="142920"/>
            <a:ext cx="2571840" cy="285732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313" name="Picture 3" descr=""/>
          <p:cNvPicPr/>
          <p:nvPr/>
        </p:nvPicPr>
        <p:blipFill>
          <a:blip r:embed="rId2"/>
          <a:stretch/>
        </p:blipFill>
        <p:spPr>
          <a:xfrm>
            <a:off x="357120" y="1357200"/>
            <a:ext cx="2643120" cy="29289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4" name="Picture 4" descr=""/>
          <p:cNvPicPr/>
          <p:nvPr/>
        </p:nvPicPr>
        <p:blipFill>
          <a:blip r:embed="rId3"/>
          <a:stretch/>
        </p:blipFill>
        <p:spPr>
          <a:xfrm>
            <a:off x="5572080" y="3857760"/>
            <a:ext cx="2571840" cy="2857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142920" y="28584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Феодосий Печерский</a:t>
            </a:r>
            <a:r>
              <a:rPr b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сноватый страдает по неволе и может удостоится  жизни вечной, а пьяный страдает по собственной воле и предан на вечную м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5286240" y="54291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Н. Семашк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Можно сказать, что сколько мужья выпили водки, столько их жены и дети пролили сл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214200" y="271476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К. Ушинский</a:t>
            </a:r>
            <a:r>
              <a:rPr b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ому на  светлой улице те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6"/>
          <p:cNvSpPr/>
          <p:nvPr/>
        </p:nvSpPr>
        <p:spPr>
          <a:xfrm>
            <a:off x="5286240" y="42148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И. Ефимов</a:t>
            </a:r>
            <a:r>
              <a:rPr b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крепких вин, есть слабые голов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214880" y="214200"/>
            <a:ext cx="207180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6000840" y="1714680"/>
            <a:ext cx="2043000" cy="2286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1" name="Picture 4" descr=""/>
          <p:cNvPicPr/>
          <p:nvPr/>
        </p:nvPicPr>
        <p:blipFill>
          <a:blip r:embed="rId3"/>
          <a:stretch/>
        </p:blipFill>
        <p:spPr>
          <a:xfrm>
            <a:off x="2214720" y="3429000"/>
            <a:ext cx="2857320" cy="1905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2" name="Picture 5" descr=""/>
          <p:cNvPicPr/>
          <p:nvPr/>
        </p:nvPicPr>
        <p:blipFill>
          <a:blip r:embed="rId4"/>
          <a:stretch/>
        </p:blipFill>
        <p:spPr>
          <a:xfrm>
            <a:off x="428760" y="4071960"/>
            <a:ext cx="207144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323" name="AutoShape 11"/>
          <p:cNvSpPr/>
          <p:nvPr/>
        </p:nvSpPr>
        <p:spPr>
          <a:xfrm>
            <a:off x="3419640" y="6165720"/>
            <a:ext cx="1223640" cy="503280"/>
          </a:xfrm>
          <a:custGeom>
            <a:avLst/>
            <a:gdLst>
              <a:gd name="textAreaLeft" fmla="*/ 32400 w 1223640"/>
              <a:gd name="textAreaRight" fmla="*/ 1191240 w 122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495" h="21600">
                <a:moveTo>
                  <a:pt x="0" y="0"/>
                </a:moveTo>
                <a:lnTo>
                  <a:pt x="52495" y="0"/>
                </a:lnTo>
                <a:lnTo>
                  <a:pt x="52495" y="21600"/>
                </a:lnTo>
                <a:lnTo>
                  <a:pt x="0" y="21600"/>
                </a:lnTo>
                <a:close/>
              </a:path>
              <a:path fill="lightenLess" w="52495" h="21600">
                <a:moveTo>
                  <a:pt x="0" y="0"/>
                </a:moveTo>
                <a:lnTo>
                  <a:pt x="52495" y="0"/>
                </a:lnTo>
                <a:lnTo>
                  <a:pt x="51095" y="1400"/>
                </a:lnTo>
                <a:lnTo>
                  <a:pt x="1400" y="1400"/>
                </a:lnTo>
                <a:close/>
              </a:path>
              <a:path fill="darken" w="52495" h="21600">
                <a:moveTo>
                  <a:pt x="52495" y="0"/>
                </a:moveTo>
                <a:lnTo>
                  <a:pt x="52495" y="21600"/>
                </a:lnTo>
                <a:lnTo>
                  <a:pt x="51095" y="20200"/>
                </a:lnTo>
                <a:lnTo>
                  <a:pt x="51095" y="1400"/>
                </a:lnTo>
                <a:close/>
              </a:path>
              <a:path fill="darkenLess" w="52495" h="21600">
                <a:moveTo>
                  <a:pt x="5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95" y="20200"/>
                </a:lnTo>
                <a:close/>
              </a:path>
              <a:path fill="lighten" w="5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95" h="21600">
                <a:moveTo>
                  <a:pt x="26247" y="3837"/>
                </a:moveTo>
                <a:lnTo>
                  <a:pt x="28824" y="6448"/>
                </a:lnTo>
                <a:lnTo>
                  <a:pt x="28824" y="4707"/>
                </a:lnTo>
                <a:lnTo>
                  <a:pt x="30599" y="4707"/>
                </a:lnTo>
                <a:lnTo>
                  <a:pt x="30599" y="8224"/>
                </a:lnTo>
                <a:lnTo>
                  <a:pt x="33210" y="10800"/>
                </a:lnTo>
                <a:lnTo>
                  <a:pt x="31557" y="10800"/>
                </a:lnTo>
                <a:lnTo>
                  <a:pt x="31557" y="17989"/>
                </a:lnTo>
                <a:lnTo>
                  <a:pt x="20938" y="17989"/>
                </a:lnTo>
                <a:lnTo>
                  <a:pt x="20938" y="10800"/>
                </a:lnTo>
                <a:lnTo>
                  <a:pt x="19284" y="10800"/>
                </a:lnTo>
                <a:close/>
              </a:path>
              <a:path fill="darkenLess" w="52495" h="21600">
                <a:moveTo>
                  <a:pt x="28824" y="6448"/>
                </a:moveTo>
                <a:lnTo>
                  <a:pt x="28824" y="4707"/>
                </a:lnTo>
                <a:lnTo>
                  <a:pt x="30599" y="4707"/>
                </a:lnTo>
                <a:lnTo>
                  <a:pt x="30599" y="8224"/>
                </a:lnTo>
                <a:close/>
              </a:path>
              <a:path fill="darkenLess" w="52495" h="21600">
                <a:moveTo>
                  <a:pt x="25325" y="14299"/>
                </a:moveTo>
                <a:lnTo>
                  <a:pt x="27170" y="14299"/>
                </a:lnTo>
                <a:lnTo>
                  <a:pt x="27170" y="17989"/>
                </a:lnTo>
                <a:lnTo>
                  <a:pt x="31557" y="17989"/>
                </a:lnTo>
                <a:lnTo>
                  <a:pt x="31557" y="10800"/>
                </a:lnTo>
                <a:lnTo>
                  <a:pt x="20938" y="10800"/>
                </a:lnTo>
                <a:lnTo>
                  <a:pt x="20938" y="17989"/>
                </a:lnTo>
                <a:lnTo>
                  <a:pt x="25325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компания"/>
          <p:cNvPicPr/>
          <p:nvPr/>
        </p:nvPicPr>
        <p:blipFill>
          <a:blip r:embed="rId1"/>
          <a:stretch/>
        </p:blipFill>
        <p:spPr>
          <a:xfrm>
            <a:off x="428760" y="285840"/>
            <a:ext cx="8210520" cy="61592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63" name="Picture 13" descr="пиво"/>
          <p:cNvPicPr/>
          <p:nvPr/>
        </p:nvPicPr>
        <p:blipFill>
          <a:blip r:embed="rId2"/>
          <a:stretch/>
        </p:blipFill>
        <p:spPr>
          <a:xfrm>
            <a:off x="7572240" y="5286240"/>
            <a:ext cx="1435320" cy="14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57120" y="9288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4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з т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1.Алкоголь–это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, зло, вред для здоровь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ье, расслаб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2.Употребляли ли вы алкоголь?</a:t>
            </a: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 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С какого возрас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не пробовали –   с17лет –</a:t>
            </a:r>
            <a:br>
              <a:rPr sz="1800"/>
            </a:b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3.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Кто  тебе его предлож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зья –; сам – ; заставила подруга -;; знакомые –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4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. Как ты отнесся к этому предложе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 – ; положительно – ; никак –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наю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5.Выпивают ли ваши друзь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; нет; некотор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Прямоугольник 4" descr=""/>
          <p:cNvPicPr/>
          <p:nvPr/>
        </p:nvPicPr>
        <p:blipFill>
          <a:blip r:embed="rId1"/>
          <a:stretch/>
        </p:blipFill>
        <p:spPr>
          <a:xfrm>
            <a:off x="298440" y="274680"/>
            <a:ext cx="8802720" cy="676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пиво"/>
          <p:cNvPicPr/>
          <p:nvPr/>
        </p:nvPicPr>
        <p:blipFill>
          <a:blip r:embed="rId2"/>
          <a:stretch/>
        </p:blipFill>
        <p:spPr>
          <a:xfrm>
            <a:off x="7358040" y="514368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7" name="Picture 10" descr=""/>
          <p:cNvPicPr/>
          <p:nvPr/>
        </p:nvPicPr>
        <p:blipFill>
          <a:blip r:embed="rId3"/>
          <a:stretch/>
        </p:blipFill>
        <p:spPr>
          <a:xfrm>
            <a:off x="6715080" y="957240"/>
            <a:ext cx="1986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71320" y="7142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6. Ругают ли тебя за употребление спиртных напитков родит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–, нет -; не знают –;  не пью вот и не ругают 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7.Предлагают ли тебе твои родные спиртные напи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–; нет –; иногда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8.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Тянет ли тебя к употреблению спиртных напит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–; нет – ; иногда –; не очень 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3" descr="пиво"/>
          <p:cNvPicPr/>
          <p:nvPr/>
        </p:nvPicPr>
        <p:blipFill>
          <a:blip r:embed="rId1"/>
          <a:stretch/>
        </p:blipFill>
        <p:spPr>
          <a:xfrm>
            <a:off x="7358040" y="514368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70" name="Рисунок 4" descr=""/>
          <p:cNvPicPr/>
          <p:nvPr/>
        </p:nvPicPr>
        <p:blipFill>
          <a:blip r:embed="rId2"/>
          <a:stretch/>
        </p:blipFill>
        <p:spPr>
          <a:xfrm>
            <a:off x="1214280" y="3571920"/>
            <a:ext cx="4754880" cy="29782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6"/>
          <p:cNvSpPr/>
          <p:nvPr/>
        </p:nvSpPr>
        <p:spPr>
          <a:xfrm>
            <a:off x="357120" y="1571760"/>
            <a:ext cx="4786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пыт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стар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старше себя почувств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быть среди друзей «круты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сла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ск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равится вкус 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5715000" y="785880"/>
            <a:ext cx="3000240" cy="2857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Прямоугольник 8" descr=""/>
          <p:cNvPicPr/>
          <p:nvPr/>
        </p:nvPicPr>
        <p:blipFill>
          <a:blip r:embed="rId2"/>
          <a:stretch/>
        </p:blipFill>
        <p:spPr>
          <a:xfrm>
            <a:off x="-19080" y="49320"/>
            <a:ext cx="9182160" cy="742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4286160" y="3286080"/>
            <a:ext cx="3571920" cy="285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3" descr="пиво"/>
          <p:cNvPicPr/>
          <p:nvPr/>
        </p:nvPicPr>
        <p:blipFill>
          <a:blip r:embed="rId4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7" descr="компания"/>
          <p:cNvPicPr/>
          <p:nvPr/>
        </p:nvPicPr>
        <p:blipFill>
          <a:blip r:embed="rId1"/>
          <a:stretch/>
        </p:blipFill>
        <p:spPr>
          <a:xfrm>
            <a:off x="428760" y="285840"/>
            <a:ext cx="8210520" cy="61592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77" name="Picture 13" descr="пиво"/>
          <p:cNvPicPr/>
          <p:nvPr/>
        </p:nvPicPr>
        <p:blipFill>
          <a:blip r:embed="rId2"/>
          <a:stretch/>
        </p:blipFill>
        <p:spPr>
          <a:xfrm>
            <a:off x="7572240" y="5286240"/>
            <a:ext cx="1435320" cy="14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дедушка и внук"/>
          <p:cNvPicPr/>
          <p:nvPr/>
        </p:nvPicPr>
        <p:blipFill>
          <a:blip r:embed="rId1"/>
          <a:stretch/>
        </p:blipFill>
        <p:spPr>
          <a:xfrm>
            <a:off x="285840" y="4429080"/>
            <a:ext cx="3429000" cy="20718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79" name="Picture 7" descr="ребенок к пиву"/>
          <p:cNvPicPr/>
          <p:nvPr/>
        </p:nvPicPr>
        <p:blipFill>
          <a:blip r:embed="rId2"/>
          <a:stretch/>
        </p:blipFill>
        <p:spPr>
          <a:xfrm>
            <a:off x="4572000" y="2143080"/>
            <a:ext cx="2736720" cy="3591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80" name="Прямоугольник 5" descr=""/>
          <p:cNvPicPr/>
          <p:nvPr/>
        </p:nvPicPr>
        <p:blipFill>
          <a:blip r:embed="rId3"/>
          <a:stretch/>
        </p:blipFill>
        <p:spPr>
          <a:xfrm>
            <a:off x="2011320" y="2962440"/>
            <a:ext cx="390600" cy="93312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оугольник 7" descr=""/>
          <p:cNvPicPr/>
          <p:nvPr/>
        </p:nvPicPr>
        <p:blipFill>
          <a:blip r:embed="rId4"/>
          <a:stretch/>
        </p:blipFill>
        <p:spPr>
          <a:xfrm>
            <a:off x="-6480" y="176040"/>
            <a:ext cx="9156960" cy="1872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5"/>
          <p:cNvSpPr/>
          <p:nvPr/>
        </p:nvSpPr>
        <p:spPr>
          <a:xfrm>
            <a:off x="1785960" y="2071800"/>
            <a:ext cx="2500200" cy="228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3" descr="пиво"/>
          <p:cNvPicPr/>
          <p:nvPr/>
        </p:nvPicPr>
        <p:blipFill>
          <a:blip r:embed="rId6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2a37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2a376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2920" y="1214280"/>
            <a:ext cx="435456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День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Красные даты календ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риход знакомых и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риезд родстве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олучение зарпл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0" y="1142640"/>
            <a:ext cx="4284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лохое на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Неприятности на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Выходно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овышение по служ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Без по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 ; часто 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Прямоугольник 3" descr=""/>
          <p:cNvPicPr/>
          <p:nvPr/>
        </p:nvPicPr>
        <p:blipFill>
          <a:blip r:embed="rId1"/>
          <a:stretch/>
        </p:blipFill>
        <p:spPr>
          <a:xfrm>
            <a:off x="407880" y="189000"/>
            <a:ext cx="7120080" cy="749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пиво"/>
          <p:cNvPicPr/>
          <p:nvPr/>
        </p:nvPicPr>
        <p:blipFill>
          <a:blip r:embed="rId2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плакат"/>
          <p:cNvPicPr/>
          <p:nvPr/>
        </p:nvPicPr>
        <p:blipFill>
          <a:blip r:embed="rId1"/>
          <a:stretch/>
        </p:blipFill>
        <p:spPr>
          <a:xfrm>
            <a:off x="2484360" y="260280"/>
            <a:ext cx="4321080" cy="5545080"/>
          </a:xfrm>
          <a:prstGeom prst="rect">
            <a:avLst/>
          </a:prstGeom>
          <a:ln w="0">
            <a:noFill/>
          </a:ln>
        </p:spPr>
      </p:pic>
      <p:sp>
        <p:nvSpPr>
          <p:cNvPr id="291" name="Oval 6"/>
          <p:cNvSpPr/>
          <p:nvPr/>
        </p:nvSpPr>
        <p:spPr>
          <a:xfrm>
            <a:off x="324000" y="404640"/>
            <a:ext cx="1850760" cy="18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7020000" y="476280"/>
            <a:ext cx="185112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sm4"/>
          <p:cNvPicPr/>
          <p:nvPr/>
        </p:nvPicPr>
        <p:blipFill>
          <a:blip r:embed="rId4"/>
          <a:stretch/>
        </p:blipFill>
        <p:spPr>
          <a:xfrm>
            <a:off x="900000" y="2492280"/>
            <a:ext cx="608040" cy="692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sm3"/>
          <p:cNvPicPr/>
          <p:nvPr/>
        </p:nvPicPr>
        <p:blipFill>
          <a:blip r:embed="rId5"/>
          <a:stretch/>
        </p:blipFill>
        <p:spPr>
          <a:xfrm>
            <a:off x="7667640" y="2492280"/>
            <a:ext cx="609480" cy="692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4"/>
          <p:cNvSpPr/>
          <p:nvPr/>
        </p:nvSpPr>
        <p:spPr>
          <a:xfrm>
            <a:off x="2000160" y="5943600"/>
            <a:ext cx="518472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15"/>
          <p:cNvSpPr txBox="1"/>
          <p:nvPr/>
        </p:nvSpPr>
        <p:spPr>
          <a:xfrm>
            <a:off x="2195640" y="6021360"/>
            <a:ext cx="4824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Задумайтесь 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97" name="Picture 18" descr="страх онкологии"/>
          <p:cNvPicPr/>
          <p:nvPr/>
        </p:nvPicPr>
        <p:blipFill>
          <a:blip r:embed="rId6"/>
          <a:stretch/>
        </p:blipFill>
        <p:spPr>
          <a:xfrm>
            <a:off x="2700360" y="1197000"/>
            <a:ext cx="3740040" cy="4464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50:03Z</dcterms:created>
  <dc:creator>Марианна</dc:creator>
  <dc:description/>
  <dc:language>en-US</dc:language>
  <cp:lastModifiedBy>АДМИН</cp:lastModifiedBy>
  <dcterms:modified xsi:type="dcterms:W3CDTF">2017-09-08T07:02:14Z</dcterms:modified>
  <cp:revision>101</cp:revision>
  <dc:subject/>
  <dc:title>ВЛИЯНИЕ АЛКОГОЛЯ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3000000000001023620</vt:lpwstr>
  </property>
</Properties>
</file>