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6.png" ContentType="image/png"/>
  <Override PartName="/ppt/media/image23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9A7-29BC-4E86-9918-0F4CA341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814-B804-448F-A650-A4EF5A5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02A-28EE-4D98-9D74-BBEBE019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2F4-613E-4518-B02A-6B3B267C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612-D104-40F1-A2F8-F6E81A5E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799-A1AA-4E93-B89C-3BE4AB8B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A1A-D3AA-418B-B814-67870D3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8951-038A-4146-917C-0BB775B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ED9-ED14-4BE9-9419-F9566A1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7519-E023-4BFD-A299-FF5ACE23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93F-AE3B-4B96-B779-DEEBED3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5F8-CE19-4474-9B81-E968EBA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CAA3-E35B-41D9-B517-580CCD1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4D31-F798-4B9F-9752-9EF4001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5DC-C838-4D79-81B9-8ADDA31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4239-4664-4AAE-B406-202B0AD6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03FF-31D9-46A5-8F34-3BC354EA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A9CE-254D-4777-837D-FCBF1818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C6CF-6BF8-44CF-AF4A-7D7CAB42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863A-9B55-4E53-9EFE-7D261BD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23F6-D7E8-4672-8848-E5302A0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B387-B0A5-4A84-91A4-1D2B0112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1BB-F06A-4DA9-BAA0-436B7FB0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73E2-1689-40B7-95C5-F91EEAE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7CCA-BBFE-481C-BA62-4A32A8F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7D31-33A3-4219-AC87-B81419F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8CD4-9E51-42D9-993A-89D593D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466D-3EF2-4ACF-B814-8DF06ABC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08D8-BF60-4FA2-8A4E-92484683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B3FC-A05E-47AB-9762-A2962B1C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D096-D7EE-4C35-BF60-972021F4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18F9-77D6-4094-BDAC-054D6924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8979-8512-46AF-B9CE-D94EEA0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132-3D7A-45D0-ABB6-8F5E237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3FF3-1E43-49DD-8FCC-3ACB8EE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A082-686E-40F1-AF55-0C3A1F42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4ABF-0B39-4CEA-B7A1-A881941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E2B5-505E-440D-839C-EFCE977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4582-8523-428A-A932-F5BF904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7A29A-9198-4D99-BAD6-BDA22BA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B73C-D38D-4D6B-AA0E-2BA23A9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41D6-8FAD-4C53-A9DE-08A217A5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E33B-E288-4231-9356-7E71EFF5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EEEE-478B-4EDC-98D3-BE86C89E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D29-3A6A-4653-B77C-23574F8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AFE3-3B52-4FAF-9CEA-775BCB4D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E570-A78A-41F1-99A6-DC1F365A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8A63-E079-47C4-B07C-CD5EE944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2651-D020-4B2D-980A-D96C0656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BBC0-83CE-427D-8E70-E6A6660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1ADD-E3FC-41BC-88A1-D0C7FA1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0A44-C432-4B2D-8DA8-4B260B3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6200-FD65-4D72-8F5C-08659EA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FC02-3815-4E0F-8EDD-DC964D5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0A7B-720A-45DB-AF32-B735C34C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872-029B-4016-887C-9017FEE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7B0C-D9E9-417E-AB7B-AEE44AB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2931-1E6C-4B8B-A7CF-117883F1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4BF8A-19BB-4B89-AE28-2866B66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8F77-CC9A-4F8B-96C5-79D9A95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21CE-55C7-4014-91E8-DED44A9F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3611-8ABA-4CEE-AD96-8D6DC01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A20C6-FA7A-4C9E-AE04-466788D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2D4D-DBC6-4D91-A5B3-F7C5131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7565-A9A1-4583-B192-A06E4CA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241DF-373F-4C89-80CC-520A31F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13D-BC9F-4384-BC4A-7C78CC9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99368-BA82-4EA8-B36E-A4B3EAD5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BE20-7251-4011-A3EE-F2DED1E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04BC-1E14-4CFE-944B-8C981C0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A65-ED74-4AED-83BC-53D7873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DA1-250E-40A3-ACD5-9646976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E7B-000E-473C-8B3D-16163681CE90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A39-4C72-41D1-8E95-23B6406D42D6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AF8-C17B-4D6F-9C55-10BAD478282F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3ED-EF63-43BD-A45F-5CBB6A9896DC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FE87-A559-4E44-A987-EF2DC0C9C68B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439-E34F-4F23-9693-91732E8FF2AA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"/>
          <p:cNvPicPr/>
          <p:nvPr/>
        </p:nvPicPr>
        <p:blipFill>
          <a:blip r:embed="rId2"/>
          <a:stretch/>
        </p:blipFill>
        <p:spPr>
          <a:xfrm>
            <a:off x="785880" y="4857840"/>
            <a:ext cx="5038560" cy="11001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5214960" y="1429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215280" y="1042200"/>
            <a:ext cx="89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1919"/>
                </a:solidFill>
                <a:latin typeface="Calibri"/>
              </a:rPr>
              <a:t>Трезвость – норма жизн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2506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резвый человек — счастливая семь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е дети — здоровое обществ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Трезвый народ — светлое будуще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7" descr="000044"/>
          <p:cNvPicPr/>
          <p:nvPr/>
        </p:nvPicPr>
        <p:blipFill>
          <a:blip r:embed="rId1"/>
          <a:stretch/>
        </p:blipFill>
        <p:spPr>
          <a:xfrm>
            <a:off x="6000840" y="785880"/>
            <a:ext cx="3389400" cy="3571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149138_image_large"/>
          <p:cNvPicPr/>
          <p:nvPr/>
        </p:nvPicPr>
        <p:blipFill>
          <a:blip r:embed="rId2"/>
          <a:stretch/>
        </p:blipFill>
        <p:spPr>
          <a:xfrm>
            <a:off x="571680" y="1857240"/>
            <a:ext cx="5786280" cy="3506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пиво"/>
          <p:cNvPicPr/>
          <p:nvPr/>
        </p:nvPicPr>
        <p:blipFill>
          <a:blip r:embed="rId3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262080"/>
            <a:ext cx="8515080" cy="749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пиво"/>
          <p:cNvPicPr/>
          <p:nvPr/>
        </p:nvPicPr>
        <p:blipFill>
          <a:blip r:embed="rId2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3" name="Прямоугольник 4"/>
          <p:cNvSpPr/>
          <p:nvPr/>
        </p:nvSpPr>
        <p:spPr>
          <a:xfrm>
            <a:off x="500040" y="1214280"/>
            <a:ext cx="842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тоит ругать ребенка, кричать на него и, уж тем более, физически наказ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атьте силы на разговор  просто помогите ребенку прийти 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необходим на свежую гол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честны. Объясните, почему алкоголь может быть опасным, и какие проблемы он может вызвать у подрос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 может быть трудным, как для Вас, так и для ребёнка, попытайтесь остаться спокойными и устойчи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йте поступки подрос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е его л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515520" cy="938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6" name="Прямоугольник 5"/>
          <p:cNvSpPr/>
          <p:nvPr/>
        </p:nvSpPr>
        <p:spPr>
          <a:xfrm>
            <a:off x="317520" y="1500120"/>
            <a:ext cx="79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о собственном при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оветы, но не давите сове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задавайте вопросы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сохранить открытость в общении с ребё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ребёнка говорить: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ЗОЖ"/>
          <p:cNvPicPr/>
          <p:nvPr/>
        </p:nvPicPr>
        <p:blipFill>
          <a:blip r:embed="rId1"/>
          <a:stretch/>
        </p:blipFill>
        <p:spPr>
          <a:xfrm>
            <a:off x="1500120" y="2286000"/>
            <a:ext cx="6357960" cy="43750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308" name="Прямоугольник 5"/>
          <p:cNvSpPr/>
          <p:nvPr/>
        </p:nvSpPr>
        <p:spPr>
          <a:xfrm>
            <a:off x="642960" y="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« Путь России от разорения к достатк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1919"/>
                </a:solidFill>
                <a:latin typeface="Arial Black"/>
              </a:rPr>
              <a:t>это путь трезвой России ».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                            </a:t>
            </a:r>
            <a:r>
              <a:rPr b="1" lang="ru-RU" sz="3600" spc="-1" strike="noStrike">
                <a:solidFill>
                  <a:srgbClr val="4f1919"/>
                </a:solidFill>
                <a:latin typeface="Arial Black"/>
              </a:rPr>
              <a:t>А. Нечвол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28584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В. Белинс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ьют и едят все люди, но пьюнствуют и обжорствуют только дик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14200" y="442908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Л. Толстой. 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ство заглушает голос совести. В этом главная причина самоодурманивания людей. Спирт так же консервирует душу и ум пьяницы, как он консервирует анатомические пре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3214800" y="3071880"/>
            <a:ext cx="55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А. Чех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дка белая, но краснит нос и чернит репу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4714920" y="142920"/>
            <a:ext cx="2571840" cy="285732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2643120" cy="29289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4" name="Picture 4" descr=""/>
          <p:cNvPicPr/>
          <p:nvPr/>
        </p:nvPicPr>
        <p:blipFill>
          <a:blip r:embed="rId3"/>
          <a:stretch/>
        </p:blipFill>
        <p:spPr>
          <a:xfrm>
            <a:off x="5572080" y="3857760"/>
            <a:ext cx="2571840" cy="2857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142920" y="28584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Феодосий Печерский</a:t>
            </a:r>
            <a:r>
              <a:rPr b="1" lang="ru-RU" sz="20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новатый страдает по неволе и может удостоится  жизни вечной, а пьяный страдает по собственной воле и предан на вечную м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5286240" y="54291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Н. Семашк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Можно сказать, что сколько мужья выпили водки, столько их жены и дети пролили сл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14200" y="27147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К. Ушинский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5286240" y="42148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И. Ефимов</a:t>
            </a:r>
            <a:r>
              <a:rPr b="1" lang="ru-RU" sz="1800" spc="-1" strike="noStrike">
                <a:solidFill>
                  <a:srgbClr val="375439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207180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000840" y="1714680"/>
            <a:ext cx="204300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2214720" y="3429000"/>
            <a:ext cx="2857320" cy="1905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2" name="Picture 5" descr="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23" name="AutoShape 11"/>
          <p:cNvSpPr/>
          <p:nvPr/>
        </p:nvSpPr>
        <p:spPr>
          <a:xfrm>
            <a:off x="3419640" y="6165720"/>
            <a:ext cx="1223640" cy="503280"/>
          </a:xfrm>
          <a:custGeom>
            <a:avLst/>
            <a:gdLst>
              <a:gd name="textAreaLeft" fmla="*/ 32400 w 1223640"/>
              <a:gd name="textAreaRight" fmla="*/ 1191240 w 122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495" h="21600">
                <a:moveTo>
                  <a:pt x="0" y="0"/>
                </a:moveTo>
                <a:lnTo>
                  <a:pt x="52495" y="0"/>
                </a:lnTo>
                <a:lnTo>
                  <a:pt x="52495" y="21600"/>
                </a:lnTo>
                <a:lnTo>
                  <a:pt x="0" y="21600"/>
                </a:lnTo>
                <a:close/>
              </a:path>
              <a:path fill="lightenLess" w="52495" h="21600">
                <a:moveTo>
                  <a:pt x="0" y="0"/>
                </a:moveTo>
                <a:lnTo>
                  <a:pt x="52495" y="0"/>
                </a:lnTo>
                <a:lnTo>
                  <a:pt x="51095" y="1400"/>
                </a:lnTo>
                <a:lnTo>
                  <a:pt x="1400" y="1400"/>
                </a:lnTo>
                <a:close/>
              </a:path>
              <a:path fill="darken" w="52495" h="21600">
                <a:moveTo>
                  <a:pt x="52495" y="0"/>
                </a:moveTo>
                <a:lnTo>
                  <a:pt x="52495" y="21600"/>
                </a:lnTo>
                <a:lnTo>
                  <a:pt x="51095" y="20200"/>
                </a:lnTo>
                <a:lnTo>
                  <a:pt x="51095" y="1400"/>
                </a:lnTo>
                <a:close/>
              </a:path>
              <a:path fill="darkenLess" w="52495" h="21600">
                <a:moveTo>
                  <a:pt x="5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95" y="20200"/>
                </a:lnTo>
                <a:close/>
              </a:path>
              <a:path fill="lighten" w="5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95" h="21600">
                <a:moveTo>
                  <a:pt x="26247" y="3837"/>
                </a:moveTo>
                <a:lnTo>
                  <a:pt x="28824" y="6448"/>
                </a:ln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lnTo>
                  <a:pt x="33210" y="10800"/>
                </a:lnTo>
                <a:lnTo>
                  <a:pt x="31557" y="10800"/>
                </a:lnTo>
                <a:lnTo>
                  <a:pt x="31557" y="17989"/>
                </a:lnTo>
                <a:lnTo>
                  <a:pt x="20938" y="17989"/>
                </a:lnTo>
                <a:lnTo>
                  <a:pt x="20938" y="10800"/>
                </a:lnTo>
                <a:lnTo>
                  <a:pt x="19284" y="10800"/>
                </a:lnTo>
                <a:close/>
              </a:path>
              <a:path fill="darkenLess" w="52495" h="21600">
                <a:moveTo>
                  <a:pt x="28824" y="6448"/>
                </a:moveTo>
                <a:lnTo>
                  <a:pt x="28824" y="4707"/>
                </a:lnTo>
                <a:lnTo>
                  <a:pt x="30599" y="4707"/>
                </a:lnTo>
                <a:lnTo>
                  <a:pt x="30599" y="8224"/>
                </a:lnTo>
                <a:close/>
              </a:path>
              <a:path fill="darkenLess" w="52495" h="21600">
                <a:moveTo>
                  <a:pt x="25325" y="14299"/>
                </a:moveTo>
                <a:lnTo>
                  <a:pt x="27170" y="14299"/>
                </a:lnTo>
                <a:lnTo>
                  <a:pt x="27170" y="17989"/>
                </a:lnTo>
                <a:lnTo>
                  <a:pt x="31557" y="17989"/>
                </a:lnTo>
                <a:lnTo>
                  <a:pt x="31557" y="10800"/>
                </a:lnTo>
                <a:lnTo>
                  <a:pt x="20938" y="10800"/>
                </a:lnTo>
                <a:lnTo>
                  <a:pt x="20938" y="17989"/>
                </a:lnTo>
                <a:lnTo>
                  <a:pt x="25325" y="17989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63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57120" y="9288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4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з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1.Алкоголь–это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, зло, вред для здоровь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ье, расслаб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2.Употребляли ли вы алкоголь?</a:t>
            </a: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 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С какого возра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пробовали –   с17лет –</a:t>
            </a:r>
            <a:br>
              <a:rPr sz="1800"/>
            </a:b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3.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то  тебе его предлож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ья –; сам – ; заставила подруга -;; знакомые –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4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. Как ты отнесся к этому предложе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 – ; положительно – ; никак –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на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5.Выпивают ли ваши друзь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400" indent="-37476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; нет; некотор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4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802720" cy="67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пиво"/>
          <p:cNvPicPr/>
          <p:nvPr/>
        </p:nvPicPr>
        <p:blipFill>
          <a:blip r:embed="rId2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7" name="Picture 10" descr=""/>
          <p:cNvPicPr/>
          <p:nvPr/>
        </p:nvPicPr>
        <p:blipFill>
          <a:blip r:embed="rId3"/>
          <a:stretch/>
        </p:blipFill>
        <p:spPr>
          <a:xfrm>
            <a:off x="6715080" y="957240"/>
            <a:ext cx="1986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71320" y="714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6. Ругают ли тебя за употребление спиртных напитков родит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, нет -; не знают –;  не пью вот и не ругают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7.Предлагают ли тебе твои родные спиртные напи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; иногда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f1919"/>
                </a:solidFill>
                <a:latin typeface="Arial"/>
              </a:rPr>
              <a:t>8.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Тянет ли тебя к употреблению спиртных напит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–; нет – ; иногда –; не очень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пиво"/>
          <p:cNvPicPr/>
          <p:nvPr/>
        </p:nvPicPr>
        <p:blipFill>
          <a:blip r:embed="rId1"/>
          <a:stretch/>
        </p:blipFill>
        <p:spPr>
          <a:xfrm>
            <a:off x="7358040" y="514368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0" name="Рисунок 4" descr=""/>
          <p:cNvPicPr/>
          <p:nvPr/>
        </p:nvPicPr>
        <p:blipFill>
          <a:blip r:embed="rId2"/>
          <a:stretch/>
        </p:blipFill>
        <p:spPr>
          <a:xfrm>
            <a:off x="1214280" y="3571920"/>
            <a:ext cx="4754880" cy="29782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6"/>
          <p:cNvSpPr/>
          <p:nvPr/>
        </p:nvSpPr>
        <p:spPr>
          <a:xfrm>
            <a:off x="357120" y="1571760"/>
            <a:ext cx="4786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пы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тарше себя почувст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быть среди друзей «крут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сла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к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ится вкус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5715000" y="785880"/>
            <a:ext cx="3000240" cy="285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8" descr=""/>
          <p:cNvPicPr/>
          <p:nvPr/>
        </p:nvPicPr>
        <p:blipFill>
          <a:blip r:embed="rId2"/>
          <a:stretch/>
        </p:blipFill>
        <p:spPr>
          <a:xfrm>
            <a:off x="-19080" y="49320"/>
            <a:ext cx="9182160" cy="74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4286160" y="3286080"/>
            <a:ext cx="3571920" cy="28576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3" descr="пиво"/>
          <p:cNvPicPr/>
          <p:nvPr/>
        </p:nvPicPr>
        <p:blipFill>
          <a:blip r:embed="rId4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компания"/>
          <p:cNvPicPr/>
          <p:nvPr/>
        </p:nvPicPr>
        <p:blipFill>
          <a:blip r:embed="rId1"/>
          <a:stretch/>
        </p:blipFill>
        <p:spPr>
          <a:xfrm>
            <a:off x="428760" y="285840"/>
            <a:ext cx="8210520" cy="6159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7" name="Picture 13" descr="пиво"/>
          <p:cNvPicPr/>
          <p:nvPr/>
        </p:nvPicPr>
        <p:blipFill>
          <a:blip r:embed="rId2"/>
          <a:stretch/>
        </p:blipFill>
        <p:spPr>
          <a:xfrm>
            <a:off x="7572240" y="5286240"/>
            <a:ext cx="1435320" cy="14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285840" y="4429080"/>
            <a:ext cx="3429000" cy="2071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79" name="Picture 7" descr="ребенок к пиву"/>
          <p:cNvPicPr/>
          <p:nvPr/>
        </p:nvPicPr>
        <p:blipFill>
          <a:blip r:embed="rId2"/>
          <a:stretch/>
        </p:blipFill>
        <p:spPr>
          <a:xfrm>
            <a:off x="4572000" y="2143080"/>
            <a:ext cx="273672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80" name="Прямоугольник 5" descr=""/>
          <p:cNvPicPr/>
          <p:nvPr/>
        </p:nvPicPr>
        <p:blipFill>
          <a:blip r:embed="rId3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176040"/>
            <a:ext cx="9156960" cy="1872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5"/>
          <p:cNvSpPr/>
          <p:nvPr/>
        </p:nvSpPr>
        <p:spPr>
          <a:xfrm>
            <a:off x="1785960" y="2071800"/>
            <a:ext cx="250020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пиво"/>
          <p:cNvPicPr/>
          <p:nvPr/>
        </p:nvPicPr>
        <p:blipFill>
          <a:blip r:embed="rId6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5486400"/>
            <a:ext cx="404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2a37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1214280"/>
            <a:ext cx="43545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День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Красные даты календ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ход знакомых и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риезд родств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лучение зарпл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29844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0" y="1142640"/>
            <a:ext cx="4284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лохое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Неприятности на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Выходно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Повышение по служ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; часто -; 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 ; 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– </a:t>
            </a:r>
            <a:r>
              <a:rPr b="1" i="1" lang="ru-RU" sz="1800" spc="-1" strike="noStrike" u="sng">
                <a:solidFill>
                  <a:srgbClr val="4f1919"/>
                </a:solidFill>
                <a:uFillTx/>
                <a:latin typeface="Arial"/>
              </a:rPr>
              <a:t>Без п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- ; часто 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–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ко –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63880">
              <a:spcBef>
                <a:spcPts val="4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рямоугольник 3" descr=""/>
          <p:cNvPicPr/>
          <p:nvPr/>
        </p:nvPicPr>
        <p:blipFill>
          <a:blip r:embed="rId1"/>
          <a:stretch/>
        </p:blipFill>
        <p:spPr>
          <a:xfrm>
            <a:off x="407880" y="189000"/>
            <a:ext cx="7120080" cy="749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пиво"/>
          <p:cNvPicPr/>
          <p:nvPr/>
        </p:nvPicPr>
        <p:blipFill>
          <a:blip r:embed="rId2"/>
          <a:stretch/>
        </p:blipFill>
        <p:spPr>
          <a:xfrm>
            <a:off x="7572240" y="5214960"/>
            <a:ext cx="143532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291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4"/>
          <p:cNvSpPr/>
          <p:nvPr/>
        </p:nvSpPr>
        <p:spPr>
          <a:xfrm>
            <a:off x="2000160" y="5943600"/>
            <a:ext cx="518472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97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АДМИН</cp:lastModifiedBy>
  <dcterms:modified xsi:type="dcterms:W3CDTF">2017-09-08T07:02:14Z</dcterms:modified>
  <cp:revision>101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