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4.png" ContentType="image/pn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F0A-D741-4C0F-856C-74DB6062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071-1054-4170-A12B-6F05D446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0B6-4BBB-4270-9673-6FB5164E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523-10A4-4760-8E82-EABC9E80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40B9-54C1-4C70-8B30-5CD1A3EC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674D-6184-447A-882D-D64BE781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295E-968B-4DEC-89C4-E40E868A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5D25-FF86-4A4B-85A9-6485249C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D220-F655-4ACF-A9BD-1D5B019E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A9D2-3647-4254-87DB-1BCBDBDC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A421-6895-440C-808C-AEF2C014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834-549B-48E5-B43F-2CC2358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B3E3-E887-41D3-810D-9E93570C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A5A1-3CFF-40E8-93E6-73CEF5C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7143-E596-44FE-B025-4C9709A4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4CA8-EB49-42CF-82A9-6983FABD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FFC6-9B65-4DB8-A255-15B9DCC1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5BC-AD47-44E0-9D80-95856CEC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049-7296-4A6A-8DF2-EB9EADE6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A45-7637-42C8-AD11-D1208672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DB6-CF39-476C-A052-7F8A6B5F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2AD-3D02-47C2-B15E-95C56B0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715-E09A-4BC2-8E17-8D4ADCE5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0E2-9D14-4070-8AC6-00D1F913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AA79-8BA1-47B8-8CBE-46308D4016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FCFC-E357-4C32-975E-D18AA12429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7" descr=""/>
          <p:cNvPicPr/>
          <p:nvPr/>
        </p:nvPicPr>
        <p:blipFill>
          <a:blip r:embed="rId1"/>
          <a:stretch/>
        </p:blipFill>
        <p:spPr>
          <a:xfrm>
            <a:off x="2590920" y="993600"/>
            <a:ext cx="769932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2538720" y="762120"/>
            <a:ext cx="777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уки по возможности должны быть свободны, старайтесь не нос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яжелые сумки, не держите руки в карманах — это увели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сть п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4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3762360" cy="28242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2"/>
          <a:stretch/>
        </p:blipFill>
        <p:spPr>
          <a:xfrm>
            <a:off x="6248520" y="2666880"/>
            <a:ext cx="3468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1962000" y="971640"/>
            <a:ext cx="466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лед - это слой плотного льда, образующийся на земле и на любых открытых поверхностях при намерзании переохлажденных капель дождя, выпавших при моро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9" descr=""/>
          <p:cNvPicPr/>
          <p:nvPr/>
        </p:nvPicPr>
        <p:blipFill>
          <a:blip r:embed="rId1"/>
          <a:stretch/>
        </p:blipFill>
        <p:spPr>
          <a:xfrm>
            <a:off x="6408720" y="2727360"/>
            <a:ext cx="34844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308240" y="1587240"/>
            <a:ext cx="4952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ледица - это лед на дорогах, который образуется после оттепели или дождя при внезапном похолод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6526080" y="2654280"/>
            <a:ext cx="3905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6181560" y="1038240"/>
            <a:ext cx="357696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2114640" y="584280"/>
            <a:ext cx="3733560" cy="2106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6181560" y="3497400"/>
            <a:ext cx="3576960" cy="2341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4019040" y="217656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лед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967160" y="25066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лед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8377200" y="52578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лё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"/>
          <p:cNvPicPr/>
          <p:nvPr/>
        </p:nvPicPr>
        <p:blipFill>
          <a:blip r:embed="rId4"/>
          <a:stretch/>
        </p:blipFill>
        <p:spPr>
          <a:xfrm>
            <a:off x="2187720" y="3133800"/>
            <a:ext cx="3449520" cy="23000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3954240" y="49309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лё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87280"/>
            <a:ext cx="5943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м опасна гололедица?</a:t>
            </a:r>
            <a:endParaRPr b="0" lang="en-US" sz="2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2389320" y="229536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6248520" y="3209760"/>
            <a:ext cx="37386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76280" y="380520"/>
            <a:ext cx="40388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делать если вы упали?</a:t>
            </a:r>
            <a:endParaRPr b="0" lang="en-US" sz="2000" spc="-1" strike="noStrike">
              <a:solidFill>
                <a:srgbClr val="000000"/>
              </a:solidFill>
              <a:latin typeface="Majestic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1492200" y="2048040"/>
            <a:ext cx="3557520" cy="2523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"/>
          <p:cNvPicPr/>
          <p:nvPr/>
        </p:nvPicPr>
        <p:blipFill>
          <a:blip r:embed="rId2"/>
          <a:stretch/>
        </p:blipFill>
        <p:spPr>
          <a:xfrm>
            <a:off x="6929280" y="2214720"/>
            <a:ext cx="26672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124080" y="7621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ледица является причиной  не только травм и ушибов у пешеходов, но и причиной аварий на дорог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"/>
          <p:cNvPicPr/>
          <p:nvPr/>
        </p:nvPicPr>
        <p:blipFill>
          <a:blip r:embed="rId1"/>
          <a:stretch/>
        </p:blipFill>
        <p:spPr>
          <a:xfrm>
            <a:off x="2286000" y="182556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2"/>
          <a:stretch/>
        </p:blipFill>
        <p:spPr>
          <a:xfrm>
            <a:off x="6095880" y="3044880"/>
            <a:ext cx="3810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8640" y="69660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тобы уменьшить вероятность падения, необходимо соблюдать следующие  правила поведения при гололедиц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2317320" y="1546200"/>
            <a:ext cx="69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и внимание на свою обувь. Передвигайся осторож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пая на всю подош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6" descr=""/>
          <p:cNvPicPr/>
          <p:nvPr/>
        </p:nvPicPr>
        <p:blipFill>
          <a:blip r:embed="rId2"/>
          <a:stretch/>
        </p:blipFill>
        <p:spPr>
          <a:xfrm>
            <a:off x="6684840" y="3654360"/>
            <a:ext cx="1892520" cy="1258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"/>
          <p:cNvPicPr/>
          <p:nvPr/>
        </p:nvPicPr>
        <p:blipFill>
          <a:blip r:embed="rId3"/>
          <a:stretch/>
        </p:blipFill>
        <p:spPr>
          <a:xfrm>
            <a:off x="2297160" y="3048120"/>
            <a:ext cx="258120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2223720" y="114300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е торопись, смотри себе под ноги, старайся обходить опасные ме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2305080" y="2333520"/>
            <a:ext cx="3638520" cy="20480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"/>
          <p:cNvPicPr/>
          <p:nvPr/>
        </p:nvPicPr>
        <p:blipFill>
          <a:blip r:embed="rId2"/>
          <a:stretch/>
        </p:blipFill>
        <p:spPr>
          <a:xfrm>
            <a:off x="8099280" y="3024360"/>
            <a:ext cx="23814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0T17:58:09Z</dcterms:created>
  <dc:creator>Анастасия I</dc:creator>
  <dc:description/>
  <dc:language>en-US</dc:language>
  <cp:lastModifiedBy>Анастасия I</cp:lastModifiedBy>
  <dcterms:modified xsi:type="dcterms:W3CDTF">2017-02-10T18:19:56Z</dcterms:modified>
  <cp:revision>9</cp:revision>
  <dc:subject/>
  <dc:title>Презентация PowerPoint</dc:title>
</cp:coreProperties>
</file>