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4.png" ContentType="image/pn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DD5-F0E2-4E4E-BF28-B4E9C3AE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07B-9047-44CC-8AE5-5819EB6B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709-399E-43CE-A6FF-01C44DB1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9C7-B19A-49E3-80B5-033FBBCE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1A21-4A0B-425B-9C1C-3CFD3441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50D3-3780-45EA-817C-049F930F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0463-7B8B-4C04-8630-E39D4117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49DE-418D-47EC-AE5E-84FC6B8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00DC-AC8D-476C-ADD1-6303775D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1249-85F6-4681-B5F1-251402DB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76DA-EB21-4FE8-8899-F857E5F6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859-2D46-403E-8BC1-4B0321A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ADFA-46A0-47ED-9DFF-A8C2B53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BD6F-BB25-426D-A8B5-D5CC7E9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7CFB-1BCD-4FEB-8234-E3EBF19B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D6C-4EE9-4456-AE53-DC0A181D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2F42-D36D-45C2-8DD5-AC3A92D1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E16-555C-4374-BB90-BAD730E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8E6-CB33-4F22-AB44-D141982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AB5-F9C9-4B9E-843B-8774F72D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B7A-FA9C-4A02-8E05-55521FBB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93A-A289-4867-97BE-872B3AF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677-72F5-4502-B9D2-C3652F9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E72-C0F2-4C76-B945-38EB288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543-A57B-4F59-928B-8BC1B75AC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3800-FFEE-4E1A-A9AF-77093C64F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7" descr=""/>
          <p:cNvPicPr/>
          <p:nvPr/>
        </p:nvPicPr>
        <p:blipFill>
          <a:blip r:embed="rId1"/>
          <a:stretch/>
        </p:blipFill>
        <p:spPr>
          <a:xfrm>
            <a:off x="2590920" y="993600"/>
            <a:ext cx="769932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2538720" y="762120"/>
            <a:ext cx="77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уки по возможности должны быть свободны, старайтесь не но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ые сумки, не держите руки в карманах — это увели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3762360" cy="2824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2"/>
          <a:stretch/>
        </p:blipFill>
        <p:spPr>
          <a:xfrm>
            <a:off x="6248520" y="2666880"/>
            <a:ext cx="346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1962000" y="971640"/>
            <a:ext cx="466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лед - это слой плотного льда, образующийся на земле и на любых открытых поверхностях при намерзании переохлажденных капель дождя, выпавших при моро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"/>
          <p:cNvPicPr/>
          <p:nvPr/>
        </p:nvPicPr>
        <p:blipFill>
          <a:blip r:embed="rId1"/>
          <a:stretch/>
        </p:blipFill>
        <p:spPr>
          <a:xfrm>
            <a:off x="6408720" y="2727360"/>
            <a:ext cx="34844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308240" y="158724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ледица - это лед на дорогах, который образуется после оттепели или дождя при внезапном похолод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6526080" y="2654280"/>
            <a:ext cx="390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6181560" y="1038240"/>
            <a:ext cx="357696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2114640" y="584280"/>
            <a:ext cx="3733560" cy="210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6181560" y="3497400"/>
            <a:ext cx="3576960" cy="2341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4019040" y="21765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ед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967160" y="25066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ед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8377200" y="52578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"/>
          <p:cNvPicPr/>
          <p:nvPr/>
        </p:nvPicPr>
        <p:blipFill>
          <a:blip r:embed="rId4"/>
          <a:stretch/>
        </p:blipFill>
        <p:spPr>
          <a:xfrm>
            <a:off x="2187720" y="3133800"/>
            <a:ext cx="3449520" cy="23000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3954240" y="49309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87280"/>
            <a:ext cx="5943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м опасна гололедица?</a:t>
            </a:r>
            <a:endParaRPr b="0" lang="en-US" sz="2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2389320" y="229536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6248520" y="3209760"/>
            <a:ext cx="3738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76280" y="380520"/>
            <a:ext cx="4038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делать если вы упали?</a:t>
            </a:r>
            <a:endParaRPr b="0" lang="en-US" sz="2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1492200" y="2048040"/>
            <a:ext cx="3557520" cy="2523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"/>
          <p:cNvPicPr/>
          <p:nvPr/>
        </p:nvPicPr>
        <p:blipFill>
          <a:blip r:embed="rId2"/>
          <a:stretch/>
        </p:blipFill>
        <p:spPr>
          <a:xfrm>
            <a:off x="6929280" y="2214720"/>
            <a:ext cx="26672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124080" y="762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ледица является причиной  не только травм и ушибов у пешеходов, но и причиной аварий на дор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2286000" y="182556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2"/>
          <a:stretch/>
        </p:blipFill>
        <p:spPr>
          <a:xfrm>
            <a:off x="6095880" y="3044880"/>
            <a:ext cx="3810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8640" y="6966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тобы уменьшить вероятность падения, необходимо соблюдать следующие  правила поведения при гололедиц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2317320" y="1546200"/>
            <a:ext cx="69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 внимание на свою обувь. Передвигайся осторо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пая на всю подош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6" descr=""/>
          <p:cNvPicPr/>
          <p:nvPr/>
        </p:nvPicPr>
        <p:blipFill>
          <a:blip r:embed="rId2"/>
          <a:stretch/>
        </p:blipFill>
        <p:spPr>
          <a:xfrm>
            <a:off x="6684840" y="3654360"/>
            <a:ext cx="1892520" cy="1258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"/>
          <p:cNvPicPr/>
          <p:nvPr/>
        </p:nvPicPr>
        <p:blipFill>
          <a:blip r:embed="rId3"/>
          <a:stretch/>
        </p:blipFill>
        <p:spPr>
          <a:xfrm>
            <a:off x="2297160" y="3048120"/>
            <a:ext cx="25812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2223720" y="114300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е торопись, смотри себе под ноги, старайся обходить опасн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2305080" y="233352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"/>
          <p:cNvPicPr/>
          <p:nvPr/>
        </p:nvPicPr>
        <p:blipFill>
          <a:blip r:embed="rId2"/>
          <a:stretch/>
        </p:blipFill>
        <p:spPr>
          <a:xfrm>
            <a:off x="8099280" y="3024360"/>
            <a:ext cx="2381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7:58:09Z</dcterms:created>
  <dc:creator>Анастасия I</dc:creator>
  <dc:description/>
  <dc:language>en-US</dc:language>
  <cp:lastModifiedBy>Анастасия I</cp:lastModifiedBy>
  <dcterms:modified xsi:type="dcterms:W3CDTF">2017-02-10T18:19:56Z</dcterms:modified>
  <cp:revision>9</cp:revision>
  <dc:subject/>
  <dc:title>Презентация PowerPoint</dc:title>
</cp:coreProperties>
</file>