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EE81-B2C5-488E-A630-8E392D5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9EB-68AD-42D2-B409-7DE2DCA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500-3B09-4E69-A931-C224BB7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BB2-86B1-4174-8576-8C35039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885-1ECE-4D24-9312-13B60266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BEB7-4947-4C7C-8845-D92614C2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9754-CF25-43AD-B98A-ACB6F020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CDD6-894E-4DAA-A72A-EEA7933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7F4A-4305-479B-92E0-1C04CF6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CEAB-758E-45BA-B5F0-DC05B744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D73-1A23-440F-955C-BA7C467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C3B-5E54-43A9-A252-E53EC6C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2CDC-4B24-48BF-90F9-EB06E5D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F3D9-EB08-4270-9DFE-D3E2292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36E7-D91B-4AE9-9E7C-323532DB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09E5-CCC4-4627-8534-0CCB6676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D4D-AD0D-45EC-A674-DEACED20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605-115B-4367-9524-EE309FD8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C31-8CDE-4E90-AF1E-248C2CF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D36-40E5-439E-AD99-A88F2914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378-01F5-4793-99D0-7766E483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625-6837-46BC-99FD-6EF196A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FE0-765C-414B-8169-638B13C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1D4-F0FC-42F2-963D-A906DBAE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C21E-0508-4C1E-99C1-B401F16EC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8909-7DF2-49C6-B479-81E596CF7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600280" y="91440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удь предельно внимательным на проезжей части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"/>
          <p:cNvPicPr/>
          <p:nvPr/>
        </p:nvPicPr>
        <p:blipFill>
          <a:blip r:embed="rId1"/>
          <a:stretch/>
        </p:blipFill>
        <p:spPr>
          <a:xfrm>
            <a:off x="3600360" y="1876320"/>
            <a:ext cx="41148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4"/>
          <p:cNvSpPr/>
          <p:nvPr/>
        </p:nvSpPr>
        <p:spPr>
          <a:xfrm>
            <a:off x="2362320" y="4395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аучись падать! Если ты поскользнулся, сразу присядь, чтобы снизить высоту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>
            <a:off x="1752480" y="1068480"/>
            <a:ext cx="4708800" cy="274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2"/>
          <a:stretch/>
        </p:blipFill>
        <p:spPr>
          <a:xfrm>
            <a:off x="5638680" y="3505320"/>
            <a:ext cx="4881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362320" y="685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то нам ещё помогает при гололедиц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6" descr=""/>
          <p:cNvPicPr/>
          <p:nvPr/>
        </p:nvPicPr>
        <p:blipFill>
          <a:blip r:embed="rId1"/>
          <a:stretch/>
        </p:blipFill>
        <p:spPr>
          <a:xfrm>
            <a:off x="6767640" y="1619280"/>
            <a:ext cx="3552840" cy="20476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2214720" y="2000160"/>
            <a:ext cx="3789360" cy="2841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9" descr=""/>
          <p:cNvPicPr/>
          <p:nvPr/>
        </p:nvPicPr>
        <p:blipFill>
          <a:blip r:embed="rId3"/>
          <a:stretch/>
        </p:blipFill>
        <p:spPr>
          <a:xfrm>
            <a:off x="6767640" y="4384800"/>
            <a:ext cx="336996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8:00:24Z</dcterms:created>
  <dc:creator>Анастасия I</dc:creator>
  <dc:description/>
  <dc:language>en-US</dc:language>
  <cp:lastModifiedBy>Анастасия I</cp:lastModifiedBy>
  <dcterms:modified xsi:type="dcterms:W3CDTF">2017-02-10T18:21:00Z</dcterms:modified>
  <cp:revision>6</cp:revision>
  <dc:subject/>
  <dc:title>Презентация PowerPoint</dc:title>
</cp:coreProperties>
</file>