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845-8D83-4069-BE95-BC58E8F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714-20A2-4DEE-B1D2-0183C39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F64-D7BD-48D3-AFFD-0B5028E1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349-E520-487C-BE3A-8140555E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0BE7-BA8E-49BF-AF6E-F1B4FBDA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5A5-4FCE-40E0-9E5C-7278A9F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9BD1-5447-433B-AD87-7712CB08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AE55-CC50-427B-AE73-7A91736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5DBB-3F02-4D3F-9721-0F3851D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479-505D-4E93-A4BE-419F476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704D-DE43-4D99-BC92-62D022E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1F3-CFA5-41C4-80CB-06E4273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3244-234C-4A59-B80C-23C1E98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82DC-0F55-4C0A-914E-736F4CCC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1718-628B-4368-8909-4CD282C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A5F0-7564-4E88-9D16-FABE5966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BEF-2431-4A09-9123-95EE5136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312-D77A-4F32-8399-7125854A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132-9A9E-4146-9C97-B2BC161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18C-4CD9-4530-880F-156E01B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EB7-8393-4623-A4A1-5BF2AF2C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760-B68B-4988-BD14-F4A7176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C74-93B5-4252-9499-86AEE89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53A-5563-419F-A149-5828159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1280-B8A8-4404-9735-59FC1F09A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EB9-5BEB-4629-A964-2CEEF5C5C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600280" y="91440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удь предельно внимательным на проезжей части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tretch/>
        </p:blipFill>
        <p:spPr>
          <a:xfrm>
            <a:off x="3600360" y="1876320"/>
            <a:ext cx="4114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2362320" y="4395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аучись падать! Если ты поскользнулся, сразу присядь, чтобы снизить высоту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>
            <a:off x="1752480" y="1068480"/>
            <a:ext cx="4708800" cy="274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4881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362320" y="685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то нам ещё помогает при гололеди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"/>
          <p:cNvPicPr/>
          <p:nvPr/>
        </p:nvPicPr>
        <p:blipFill>
          <a:blip r:embed="rId1"/>
          <a:stretch/>
        </p:blipFill>
        <p:spPr>
          <a:xfrm>
            <a:off x="6767640" y="1619280"/>
            <a:ext cx="3552840" cy="2047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2214720" y="2000160"/>
            <a:ext cx="3789360" cy="2841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"/>
          <p:cNvPicPr/>
          <p:nvPr/>
        </p:nvPicPr>
        <p:blipFill>
          <a:blip r:embed="rId3"/>
          <a:stretch/>
        </p:blipFill>
        <p:spPr>
          <a:xfrm>
            <a:off x="6767640" y="4384800"/>
            <a:ext cx="33699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8:00:24Z</dcterms:created>
  <dc:creator>Анастасия I</dc:creator>
  <dc:description/>
  <dc:language>en-US</dc:language>
  <cp:lastModifiedBy>Анастасия I</cp:lastModifiedBy>
  <dcterms:modified xsi:type="dcterms:W3CDTF">2017-02-10T18:21:00Z</dcterms:modified>
  <cp:revision>6</cp:revision>
  <dc:subject/>
  <dc:title>Презентация PowerPoint</dc:title>
</cp:coreProperties>
</file>